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F20-FA3D-4211-B4C1-F7D4EA50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AD8-24EF-49EF-B06C-007EA8F7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5D9-2A37-4790-AD38-584A400B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952-6805-47E8-A53E-254F98A2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FB6-90F0-436D-A844-2888C470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9B3-7890-43E1-9197-42FE4428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B76-5EB8-4D69-9FDA-F51CC586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9CB-1914-4154-BF66-CF46AF44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7F5-E77B-4EA9-AA50-BB38CA90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8F8-94FE-43A2-B1E1-B6D654E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762-722F-463B-9E0A-7F4BEC4C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A83-55E8-42EB-912A-43B7BF2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1034-E588-4EEF-B9F0-3833C91BE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MTORRES</cp:lastModifiedBy>
  <dcterms:modified xsi:type="dcterms:W3CDTF">2004-09-03T19:23:00Z</dcterms:modified>
  <cp:revision>13</cp:revision>
  <dc:subject/>
  <dc:title>Gestión de Empresas de Telecomunicaciones EL 65J Apunte 3 Gestión Comercial</dc:title>
</cp:coreProperties>
</file>