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DFD-5ACB-43EC-802F-1F2B222C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44F-70AA-474C-A543-C1DD424A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A69-55F4-48F3-96BC-AEE01B0B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D23-966E-4900-9AE8-7727392A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9E9-9DE6-4A63-A954-34412A01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E0A-3984-4C35-A247-F426A0CC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037-973F-487D-BA37-4AC8179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E5C-8AF9-4717-AB08-B196466A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5D0-DCEC-41C8-85AF-E0472F5A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D9F-814F-4412-9040-52A86B3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928-991D-4CF8-A262-29120BB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6E8-31E5-415A-8CF7-5C0A092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965B-CC52-4D52-B088-80CCA60C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4-09-03T19:23:00Z</dcterms:modified>
  <cp:revision>13</cp:revision>
  <dc:subject/>
  <dc:title>Gestión de Empresas de Telecomunicaciones EL 65J Apunte 3 Gestión Comercial</dc:title>
</cp:coreProperties>
</file>