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34F-4BA5-47FA-86ED-42E7C915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30B-BE96-49D4-B8CC-A2E72DA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BC0-1525-4FE8-96F6-5B1ABCD7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9A0-E0F5-41D6-BC69-105C4814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20B-08D0-45D3-98B0-A8AD21A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E33-CBD0-4E8D-974B-B1C1EF0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935-B772-41B6-85B9-87F465A2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EC7-F8F9-47EC-9645-9B539AF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BCA-0BDB-4DF4-B977-B0EF25E5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F60-3B6E-4EB8-B3A5-00F4EE4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1EF-97F2-4AEC-ACCE-EC5841E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97C-D49C-4375-A6ED-ABE0159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ED5D-1EDD-4832-8A3F-21AA98F0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4-08-17T17:09:38Z</dcterms:modified>
  <cp:revision>4</cp:revision>
  <dc:subject/>
  <dc:title>Gestión de Empresas de Telecomunicaciones EL 65J Apunte 3 Gestión Comercial</dc:title>
</cp:coreProperties>
</file>