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504-908A-4EE7-8085-EB43F323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B18-63EE-4E4E-996C-2AD54DE2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4C5-C70C-4084-A2C5-01F3AAD8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A82-253C-47EE-86DB-2A6AE423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813-97D4-44D9-9A92-940096C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8D8-FCB3-4B27-AD64-A6E04135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55E-0617-4A0C-AD9A-4290680D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DB0-81EA-4B02-A79B-CF34FAC1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7C5-38F1-499A-B7CA-BF56D62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03A-46F1-43AE-A79A-A42C675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B52-9EB8-48A8-A519-CACB554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646-9F9D-45BC-98EC-2525BAB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B76-B125-43A2-A5B3-1EC061EBB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4-08-17T17:09:38Z</dcterms:modified>
  <cp:revision>4</cp:revision>
  <dc:subject/>
  <dc:title>Gestión de Empresas de Telecomunicaciones EL 65J Apunte 3 Gestión Comercial</dc:title>
</cp:coreProperties>
</file>