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C5563-A944-49BF-AD4C-FC1D9F389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F3EC6-E36F-4E71-96BE-875E05090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2C4A8-6E38-43CC-A65F-8AE6DCBFB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7BAE-6649-45C1-A995-D7AC9A241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306B3-01F1-44C8-BF08-D3FB93922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0C13-87C9-4573-8AE9-D9EA4E584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E3AB4-BC07-49D2-AA72-6C266C03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E110-4960-4B95-8031-A60466F6D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C4CB-B413-4C6C-B9F4-364673B6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2DA1-4E6A-460F-8AE8-8856C0F06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27F93-860B-4236-9AF3-66D3DF88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700F-68A5-490C-B521-8031EC8B4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71C0-5468-498D-815E-EE6C4D0FD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mtorres@bellsouth.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2"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BE0284-6347-4188-A4CB-0F7A3012C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60"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A18D94-C3D0-4630-B6C5-58B9965D7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62" name="PlaceHolder 2"/>
          <p:cNvSpPr>
            <a:spLocks noGrp="1"/>
          </p:cNvSpPr>
          <p:nvPr>
            <p:ph/>
          </p:nvPr>
        </p:nvSpPr>
        <p:spPr>
          <a:xfrm>
            <a:off x="609120" y="1218960"/>
            <a:ext cx="8458200" cy="1785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63"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81728A-F0D9-4743-B782-FE4DDA340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3)</a:t>
            </a:r>
            <a:endParaRPr b="0" lang="en-US" sz="4000" spc="-1" strike="noStrike">
              <a:solidFill>
                <a:srgbClr val="000000"/>
              </a:solidFill>
              <a:latin typeface="Times New Roman"/>
            </a:endParaRPr>
          </a:p>
        </p:txBody>
      </p:sp>
      <p:graphicFrame>
        <p:nvGraphicFramePr>
          <p:cNvPr id="65" name=""/>
          <p:cNvGraphicFramePr/>
          <p:nvPr/>
        </p:nvGraphicFramePr>
        <p:xfrm>
          <a:off x="304920" y="1523880"/>
          <a:ext cx="8534160" cy="2314800"/>
        </p:xfrm>
        <a:graphic>
          <a:graphicData uri="http://schemas.openxmlformats.org/presentationml/2006/ole">
            <p:oleObj progId="Excel.Sheet.12" r:id="rId1" spid="">
              <p:embed/>
              <p:pic>
                <p:nvPicPr>
                  <p:cNvPr id="66" name="" descr=""/>
                  <p:cNvPicPr/>
                  <p:nvPr/>
                </p:nvPicPr>
                <p:blipFill>
                  <a:blip r:embed="rId2"/>
                  <a:stretch/>
                </p:blipFill>
                <p:spPr>
                  <a:xfrm>
                    <a:off x="304920" y="1523880"/>
                    <a:ext cx="8534160" cy="2314800"/>
                  </a:xfrm>
                  <a:prstGeom prst="rect">
                    <a:avLst/>
                  </a:prstGeom>
                  <a:ln w="0">
                    <a:noFill/>
                  </a:ln>
                </p:spPr>
              </p:pic>
            </p:oleObj>
          </a:graphicData>
        </a:graphic>
      </p:graphicFrame>
      <p:sp>
        <p:nvSpPr>
          <p:cNvPr id="67" name="PlaceHolder 2"/>
          <p:cNvSpPr>
            <a:spLocks noGrp="1"/>
          </p:cNvSpPr>
          <p:nvPr>
            <p:ph/>
          </p:nvPr>
        </p:nvSpPr>
        <p:spPr>
          <a:xfrm>
            <a:off x="533160" y="4114800"/>
            <a:ext cx="8458200" cy="2372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tedes deben complementar estas cifras con el Informe Estadístico actual de la Subte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os dat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elefonía Móvil supero los 8.000.000 client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Telefonía Fija sigue decreciendo (menos de 3.200.000)</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nda ancha debe superar los 400.000 accesos el 200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1E56B6-334D-4BF6-AB33-29E9CC55B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71"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72"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73"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7DA08-40E6-4776-A80A-36012CBA9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75"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76"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78"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79"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72C118-8BB6-4DF5-A0B7-66C318C87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12880A-F159-4AF4-9933-E29792ECEC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4"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71ED56-6CB0-46BF-9EA7-9A0B73B62F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86"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87"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3C2B7B5-529A-4090-9D6F-33F71BEC6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95"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96"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13"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14"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15"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6"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8"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19"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0"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21"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22"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3"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4"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29"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0"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36"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37"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A44FCBE-4A8E-4746-B818-899A318AB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44"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45"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2"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4"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65"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66"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67"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68"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69"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0"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3"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84"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86"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87"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88"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90"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191"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D8C565-5DF2-495C-8952-A4611BF122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94715</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Jmtorres@bellsouth.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P de lectur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C25CA8-503D-463E-A946-F21F1810EC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194"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99"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00"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17"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18"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19"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1"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2"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3"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24"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25"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6"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27"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31"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8"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40"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2E6899-60C9-4E44-8F50-C5CA19B35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42"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9"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50"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51"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53"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4"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5"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7"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9"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61"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62"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562109-249D-46DE-BF19-6CFE34B4DD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8.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65"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2"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3"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74"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6"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7"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8"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0"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85"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86" name=""/>
          <p:cNvGraphicFramePr/>
          <p:nvPr/>
        </p:nvGraphicFramePr>
        <p:xfrm>
          <a:off x="4267080" y="3562200"/>
          <a:ext cx="4648320" cy="857520"/>
        </p:xfrm>
        <a:graphic>
          <a:graphicData uri="http://schemas.openxmlformats.org/presentationml/2006/ole">
            <p:oleObj progId="Excel.Sheet.12" r:id="rId1" spid="">
              <p:embed/>
              <p:pic>
                <p:nvPicPr>
                  <p:cNvPr id="287"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3"/>
          </p:nvPr>
        </p:nvSpPr>
        <p:spPr/>
        <p:txBody>
          <a:bodyPr/>
          <a:p>
            <a:fld id="{13C91D64-A3F3-45EB-BCE7-ED084F261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289"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294"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95"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96"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298"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760EE2-4C5E-43DF-AF2E-AD2C6B98E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00"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04"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6"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08"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0"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2"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19"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22"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25"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26"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27"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A8DF6F0-9422-4839-9645-F710A7251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29"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34"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36"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38"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39"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45"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46"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47"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8"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49"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50"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51"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47E56C-99BC-4218-9BF8-15A7242B5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53"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B6E45F-151B-4601-A7DD-8A4F66C65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55"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56"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2FA4A0-94A7-45E7-85EE-40CA0B6F5B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63"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73"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74"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75"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76"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77"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78"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79"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80"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81"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84"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85"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388"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9C0993B-D495-4971-943E-E7D6143FA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391"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85EC64-FA29-4AAD-B313-AB6142DC5E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914400" y="98280"/>
          <a:ext cx="7315200" cy="6661440"/>
        </p:xfrm>
        <a:graphic>
          <a:graphicData uri="http://schemas.openxmlformats.org/presentationml/2006/ole">
            <p:oleObj progId="Excel.Sheet.12" r:id="rId1" spid="">
              <p:embed/>
              <p:pic>
                <p:nvPicPr>
                  <p:cNvPr id="46" name="" descr=""/>
                  <p:cNvPicPr/>
                  <p:nvPr/>
                </p:nvPicPr>
                <p:blipFill>
                  <a:blip r:embed="rId2"/>
                  <a:stretch/>
                </p:blipFill>
                <p:spPr>
                  <a:xfrm>
                    <a:off x="914400" y="98280"/>
                    <a:ext cx="7315200" cy="6661440"/>
                  </a:xfrm>
                  <a:prstGeom prst="rect">
                    <a:avLst/>
                  </a:prstGeom>
                  <a:ln w="0">
                    <a:noFill/>
                  </a:ln>
                </p:spPr>
              </p:pic>
            </p:oleObj>
          </a:graphicData>
        </a:graphic>
      </p:graphicFrame>
      <p:sp>
        <p:nvSpPr>
          <p:cNvPr id="2" name="PlaceHolder 1"/>
          <p:cNvSpPr>
            <a:spLocks noGrp="1"/>
          </p:cNvSpPr>
          <p:nvPr>
            <p:ph type="sldNum" idx="3"/>
          </p:nvPr>
        </p:nvSpPr>
        <p:spPr/>
        <p:txBody>
          <a:bodyPr/>
          <a:p>
            <a:fld id="{EFAA7AB3-C667-4618-82FA-DB8FFE2DB0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393"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E759C0A-3651-45CC-85F6-7F86B64F53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00"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B7AD0B-C438-45C3-83DB-7371098DC1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04"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05"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06"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07"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08"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09"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8A2D65E4-EDA3-47C4-A6F0-1E4873AE7F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16" name="PE02097_" descr=""/>
          <p:cNvPicPr/>
          <p:nvPr/>
        </p:nvPicPr>
        <p:blipFill>
          <a:blip r:embed="rId1"/>
          <a:stretch/>
        </p:blipFill>
        <p:spPr>
          <a:xfrm>
            <a:off x="3657600" y="4575240"/>
            <a:ext cx="2282760" cy="1825560"/>
          </a:xfrm>
          <a:prstGeom prst="rect">
            <a:avLst/>
          </a:prstGeom>
          <a:ln w="0">
            <a:noFill/>
          </a:ln>
        </p:spPr>
      </p:pic>
      <p:sp>
        <p:nvSpPr>
          <p:cNvPr id="417"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ADD3395E-FC8F-40A9-B7BF-11D655E134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19"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22"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23"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24"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7086600" y="3371400"/>
            <a:ext cx="1371600" cy="1219680"/>
            <a:chOff x="7086600" y="3371400"/>
            <a:chExt cx="1371600" cy="1219680"/>
          </a:xfrm>
        </p:grpSpPr>
        <p:sp>
          <p:nvSpPr>
            <p:cNvPr id="430"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7124760" y="1847520"/>
            <a:ext cx="1371600" cy="1219680"/>
            <a:chOff x="7124760" y="1847520"/>
            <a:chExt cx="1371600" cy="1219680"/>
          </a:xfrm>
        </p:grpSpPr>
        <p:sp>
          <p:nvSpPr>
            <p:cNvPr id="434"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38"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39"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40"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41"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9E6664B-7DB8-4B69-B380-C7D3E3A80A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50"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51"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52"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53"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54"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55" name=""/>
          <p:cNvGrpSpPr/>
          <p:nvPr/>
        </p:nvGrpSpPr>
        <p:grpSpPr>
          <a:xfrm>
            <a:off x="2629080" y="2457360"/>
            <a:ext cx="1828800" cy="1600200"/>
            <a:chOff x="2629080" y="2457360"/>
            <a:chExt cx="1828800" cy="1600200"/>
          </a:xfrm>
        </p:grpSpPr>
        <p:sp>
          <p:nvSpPr>
            <p:cNvPr id="456"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57"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58"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59" name=""/>
          <p:cNvGrpSpPr/>
          <p:nvPr/>
        </p:nvGrpSpPr>
        <p:grpSpPr>
          <a:xfrm>
            <a:off x="4952880" y="1104840"/>
            <a:ext cx="1828800" cy="1067040"/>
            <a:chOff x="4952880" y="1104840"/>
            <a:chExt cx="1828800" cy="1067040"/>
          </a:xfrm>
        </p:grpSpPr>
        <p:sp>
          <p:nvSpPr>
            <p:cNvPr id="460"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61"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62" name=""/>
          <p:cNvGrpSpPr/>
          <p:nvPr/>
        </p:nvGrpSpPr>
        <p:grpSpPr>
          <a:xfrm>
            <a:off x="7010280" y="1104840"/>
            <a:ext cx="1828800" cy="1066680"/>
            <a:chOff x="7010280" y="1104840"/>
            <a:chExt cx="1828800" cy="1066680"/>
          </a:xfrm>
        </p:grpSpPr>
        <p:sp>
          <p:nvSpPr>
            <p:cNvPr id="463"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64"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65" name=""/>
          <p:cNvGrpSpPr/>
          <p:nvPr/>
        </p:nvGrpSpPr>
        <p:grpSpPr>
          <a:xfrm>
            <a:off x="304920" y="1104840"/>
            <a:ext cx="1828800" cy="1371600"/>
            <a:chOff x="304920" y="1104840"/>
            <a:chExt cx="1828800" cy="1371600"/>
          </a:xfrm>
        </p:grpSpPr>
        <p:sp>
          <p:nvSpPr>
            <p:cNvPr id="466"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67"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68"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74"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75"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A20F85-E823-41DF-9297-EC43F3CDD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6C4C75-BDFA-43A0-B523-AA2D33FEBB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82"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83"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84"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85"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322810-1DDC-41A8-A4EF-441D8FABA3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488"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3304C5-DADA-4623-972F-DB0DD38281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0"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4D3DE4-1B66-483B-AB3B-BC4DD64354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rcado de Telecomunicacion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tuación en Chi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endencias competitivas y tecnológica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Herramientas de administración de empres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estratég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comerci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rección financier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aboración de un plan de negocios para proyecto de telecomunicacion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87D0BE-0972-4C92-A65A-EAE6ECB9F0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2"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499"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16"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17"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18"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19"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1"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2"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3"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24"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25"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6"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27"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33"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34"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E0159F5-F803-43F3-8F32-CF5FAA800D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36"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1"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2"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43"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4"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6"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1"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2"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53"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5"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6"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3606BA-D989-4160-B55F-E39254F71A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61"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62"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63" name=""/>
          <p:cNvSpPr/>
          <p:nvPr/>
        </p:nvSpPr>
        <p:spPr>
          <a:xfrm>
            <a:off x="2514600" y="18288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4" name=""/>
          <p:cNvSpPr/>
          <p:nvPr/>
        </p:nvSpPr>
        <p:spPr>
          <a:xfrm>
            <a:off x="2514600" y="3200400"/>
            <a:ext cx="190512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5" name=""/>
          <p:cNvSpPr/>
          <p:nvPr/>
        </p:nvSpPr>
        <p:spPr>
          <a:xfrm>
            <a:off x="4838760" y="18288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6" name=""/>
          <p:cNvSpPr/>
          <p:nvPr/>
        </p:nvSpPr>
        <p:spPr>
          <a:xfrm>
            <a:off x="4838760" y="3200400"/>
            <a:ext cx="190512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7" name=""/>
          <p:cNvSpPr/>
          <p:nvPr/>
        </p:nvSpPr>
        <p:spPr>
          <a:xfrm>
            <a:off x="7143840" y="18288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68" name=""/>
          <p:cNvSpPr/>
          <p:nvPr/>
        </p:nvSpPr>
        <p:spPr>
          <a:xfrm>
            <a:off x="7143840" y="3200400"/>
            <a:ext cx="1904760" cy="12952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Objetivos</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 </a:t>
            </a:r>
            <a:r>
              <a:rPr b="0" lang="es-CL" sz="2200" spc="-1" strike="noStrike">
                <a:solidFill>
                  <a:srgbClr val="000000"/>
                </a:solidFill>
                <a:latin typeface="Times New Roman"/>
              </a:rPr>
              <a:t>Política</a:t>
            </a:r>
            <a:endParaRPr b="0" lang="en-US" sz="2200" spc="-1" strike="noStrike">
              <a:solidFill>
                <a:srgbClr val="000000"/>
              </a:solidFill>
              <a:latin typeface="Times New Roman"/>
            </a:endParaRPr>
          </a:p>
        </p:txBody>
      </p:sp>
      <p:sp>
        <p:nvSpPr>
          <p:cNvPr id="569"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C162F2-5FB8-47E5-A0B0-155DABED56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74"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E1491442-A60D-4561-BA25-0EE2B57CCE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76"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86"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87"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88"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89"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0"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91"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592"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593"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594"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595"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596"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597"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42FDA768-00EB-4C2D-AF8B-5E0645AF8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599"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48A48E-164E-4BA1-9816-C48E24EEC1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ellSou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7B9CC-BB0E-4517-B9DD-646A149DE7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3"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09498-5B6A-4CB1-A067-1B37D2B059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5"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60053-FD8C-45C1-941A-80A2BB3E6A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689E4D-86D5-4838-8F55-35EF786397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6F6B79-0CA0-4244-B2EC-4EB0BEE48C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09" name=""/>
          <p:cNvGraphicFramePr/>
          <p:nvPr/>
        </p:nvGraphicFramePr>
        <p:xfrm>
          <a:off x="914400" y="977760"/>
          <a:ext cx="4162320" cy="5639040"/>
        </p:xfrm>
        <a:graphic>
          <a:graphicData uri="http://schemas.openxmlformats.org/presentationml/2006/ole">
            <p:oleObj progId="Excel.Sheet.12" r:id="rId1" spid="">
              <p:embed/>
              <p:pic>
                <p:nvPicPr>
                  <p:cNvPr id="610" name="" descr=""/>
                  <p:cNvPicPr/>
                  <p:nvPr/>
                </p:nvPicPr>
                <p:blipFill>
                  <a:blip r:embed="rId2"/>
                  <a:stretch/>
                </p:blipFill>
                <p:spPr>
                  <a:xfrm>
                    <a:off x="914400" y="977760"/>
                    <a:ext cx="4162320" cy="5639040"/>
                  </a:xfrm>
                  <a:prstGeom prst="rect">
                    <a:avLst/>
                  </a:prstGeom>
                  <a:ln w="0">
                    <a:noFill/>
                  </a:ln>
                </p:spPr>
              </p:pic>
            </p:oleObj>
          </a:graphicData>
        </a:graphic>
      </p:graphicFrame>
      <p:sp>
        <p:nvSpPr>
          <p:cNvPr id="611"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464021-AF63-4BFA-AA11-48D7328D7C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13"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15"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17"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19"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21"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3"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A801F-2ADC-4580-846C-0478D83962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29"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1"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3"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5"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7"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38"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0"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EC180F-DF7C-40B4-827A-5286124F2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49"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B89173-C0A5-4BC4-BD66-0CB44569E4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51" name=""/>
          <p:cNvGrpSpPr/>
          <p:nvPr/>
        </p:nvGrpSpPr>
        <p:grpSpPr>
          <a:xfrm>
            <a:off x="914400" y="1447920"/>
            <a:ext cx="3429000" cy="2743200"/>
            <a:chOff x="914400" y="1447920"/>
            <a:chExt cx="3429000" cy="2743200"/>
          </a:xfrm>
        </p:grpSpPr>
        <p:sp>
          <p:nvSpPr>
            <p:cNvPr id="652"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5181480" y="1447920"/>
            <a:ext cx="3429000" cy="2743200"/>
            <a:chOff x="5181480" y="1447920"/>
            <a:chExt cx="3429000" cy="2743200"/>
          </a:xfrm>
        </p:grpSpPr>
        <p:sp>
          <p:nvSpPr>
            <p:cNvPr id="656"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0"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1"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2"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67"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68"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69"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0"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1"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72"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7"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8"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0"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5"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6"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7"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8"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87329-6161-4FEA-B735-0D6D1D28D6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3DBC13-4BE6-442F-BCB3-F162E0E8E2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696"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697"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698"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699"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0"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07"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08"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09"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0"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2BAE93-8716-4E9E-84A8-0D489E61A8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14"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18"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19"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0"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1"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A5578-B0B5-4CE8-8157-4EBA6074DF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90F756-A9F3-499F-A525-0C859EC7E8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25"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E07974-C967-4D13-B301-6194E60E87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799C2-21A9-4DB4-AE47-E8598FEF19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28"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35"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36"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37"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38"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39"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0"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E18328-6C5C-45E0-B52B-71C0BD5DD7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42"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43"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47"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48"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49"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0"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51"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52"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EB75B-0037-4142-B172-84A604534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5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0BA173C-D605-4A1D-BEDA-9F83B159DC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58"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97DF32-0975-4274-8F6C-9DD7805708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61"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7C9909-8C25-4CAE-BC90-54642CF5F3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63"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69"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0"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71"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72"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73"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98DFC0-1301-49D8-82A0-DEF6E39E97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3AFDEE-E4D6-41A8-BDBA-2406AB8925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708C22-3CB5-43B5-9A04-EA01C14BDB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82"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9B4095-2A9D-4174-9C04-B457E8BA68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8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839806-D094-4299-8111-AD1EBC5847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54"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DFC0A-580C-4C85-9EEC-FA85AF0B68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272EE5A-1DEC-48CB-BA76-C439D77363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1E49A9-AB0D-47BE-83D9-1B06291C7C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0"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4"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795"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796"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7"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798"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799"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0"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1"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02"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03"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B30725-7B90-4E1B-BBB6-2BD34EEE5D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05" name=""/>
          <p:cNvGraphicFramePr/>
          <p:nvPr/>
        </p:nvGraphicFramePr>
        <p:xfrm>
          <a:off x="304920" y="1828800"/>
          <a:ext cx="8610480" cy="2149560"/>
        </p:xfrm>
        <a:graphic>
          <a:graphicData uri="http://schemas.openxmlformats.org/presentationml/2006/ole">
            <p:oleObj progId="Excel.Sheet.12" r:id="rId1" spid="">
              <p:embed/>
              <p:pic>
                <p:nvPicPr>
                  <p:cNvPr id="806"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07"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F53C88E8-5510-4F6C-94CA-DA551010CFBD}"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56"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9D054F-7EDE-4036-A64C-57A809C20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58"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7685DA-E223-4A22-BCC0-E0B21564AA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MTORRES</cp:lastModifiedBy>
  <dcterms:modified xsi:type="dcterms:W3CDTF">2004-07-27T17:02:38Z</dcterms:modified>
  <cp:revision>64</cp:revision>
  <dc:subject/>
  <dc:title>Gestión de Empresas de Telecomunicaciones</dc:title>
</cp:coreProperties>
</file>