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5B9B-F2C4-4D73-9F55-7305C202689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industries such as on-line auctions but it mainly has caused existing industries to reconfigure the way they are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ase of WB – the industry of gathering data has been there but the internet provides another way of gaining that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any companies the internet has changed the front end process – such as in the catalog business.  People can now order products on-line where in the past they may have used a catalog or phone number.  It didn’t eliminate the need for the catalog or the phone line but gave consumers another means of accessing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Jcrew is a store I like to purchase items from but the closest store was in Denver.  In order to access their product I would get their catalog but I didn’t care to call in my orders or send in a mail order form.  The internet makes it much easier for me to order.  I can still browse through the catalog but then I can log onto their site and place my order at my convenience.  I can find out if an item is available right then and there not when my order comes back or when I am on the phone placing an ord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atter is this is a new internet industry or an existing industry that uses the internet – the five forces of competition still have an impact and can change how an industry is structu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sitive impacts in this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lose that edge due to easier access to information and an over abundance of data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find an item on five websites – price can be the deciding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increases the reach of your market but as your market increases so does the compet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ce discounting becomes a big concern and often once you do that it is hard to recover from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sitive imp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provides companies with limited resources to reach a vast number of people that if they were doing in via the traditional means they would need a large sales force or established channel relationship which are not easy to establish for a new entrant.  Plus the internet in many cases requires few physical ass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as said before proprietary information is difficult to keep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net because of the need for fewer resources has enticed many new entrants in all indus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yers are more informed due to the information available to them via the internet – i.e. a car pur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ussion we had regarding ebay vs yahoo – may have more suppliers but also have more custo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ed for a middle man to sell your goods and act as mediator – many buyers are happy to deal directly with the sup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ility of a supplier to create value is tougher – many goods now become more like commod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 the final statement correct?  Pulled from article – should it be buy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buyer a lot more choices and ways to bu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user can now pick and choose in many cases and since the cost to switch is low – loyalty is not a strong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ases when this is not true – if I am shopping only to get the best price then yes, I have limited loyalty to any supplier – but if I am shopping due to the convenience the internet provides – I will use the suppliers who I like based not only on price but quality and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r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panies made the mistake of creating a separate internet strategy that was separate from the overall company strategy – in order to use the internet to its potential is to integrate it into the strategy of the company not treat it as a separate issue.  The basic rules of competition haven’t changed at all – but the playing field does look a bit different than it did.  There are more options – not less – it reminds me of the game called XXX, by adding a three dimensional spin on the game – you have changed the strategy people use to win but the basic rules stay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CBA-5DE9-4685-811B-A717DE32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F62-127C-48B5-8FB6-9A8F446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008-32BF-4E64-B940-A82FBDBC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8AD-804B-4BD6-A1EB-F419C0CB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9AC1-B814-41CE-8683-9B034A63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862A-6426-4EBD-B920-E0FE003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C07F-385C-4AAD-BFE2-40286B64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7CBA-FEA4-479A-8E6C-1AB6D24A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D39B-8BB3-4892-99A1-B7FBEA05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A249-CAEB-46D4-B8EB-D676B1E3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8EC9-9305-4842-B9AF-190B25C5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B62-A847-4207-B2E6-2EF3E731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E84-6CC8-45D5-92F9-73C2BB8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E5A8-4384-4037-B33E-618D91E6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E231-7BA8-4159-8753-C07C03FB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51CD-49DA-4FDD-860D-2A69FBA8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7016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40200" y="152352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7016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40200" y="3986640"/>
            <a:ext cx="24472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DA13-9B76-4053-9B9B-A3A526BE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F25-9C58-4059-A4E1-C5645CEC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818-0A66-4860-884E-67D8AE72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D2C-5DC3-4B42-A682-670DDD4F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60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E00-6C47-4182-BB40-B617B6EE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310-3511-4009-A3F0-D78D18D0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94960" y="398664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9A2-681C-469E-BF1A-4065E3B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94960" y="1523520"/>
            <a:ext cx="370908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6010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FE7-3717-444B-9B94-BDF16B0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6696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01A1-8669-4F53-86FF-03E879AEEB32}" type="datetime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4242960" y="6342120"/>
            <a:ext cx="2019240" cy="49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C7C-4AA8-4BA8-A85D-304032798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FA1A-F517-4308-B4D6-9EE1DE1F43EC}" type="datetime">
              <a:rPr b="1" lang="en-US" sz="3200" spc="-1" strike="noStrike">
                <a:solidFill>
                  <a:srgbClr val="333300"/>
                </a:solidFill>
                <a:latin typeface="Arial"/>
              </a:rPr>
              <a:t>07/28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8FFA-E18F-4C3E-BC15-2641E5882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6" name=""/>
            <p:cNvSpPr/>
            <p:nvPr/>
          </p:nvSpPr>
          <p:spPr>
            <a:xfrm>
              <a:off x="719280" y="342432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42432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342432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00000" y="343836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419400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4626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033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2440" y="5438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58467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2440" y="37656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2440" y="342432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716944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7984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120636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16128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2440" y="201924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440" y="344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716944"/>
                </a:gs>
                <a:gs pos="50000">
                  <a:srgbClr val="e5d58a"/>
                </a:gs>
                <a:gs pos="100000">
                  <a:srgbClr val="7169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e7e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71694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16944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6" y="21600"/>
                        </a:lnTo>
                        <a:lnTo>
                          <a:pt x="2644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71694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6" y="21600"/>
                        </a:lnTo>
                        <a:lnTo>
                          <a:pt x="2644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16944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305360" y="22384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31436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80" y="21595"/>
                      </a:moveTo>
                      <a:arcTo wR="10800" hR="10800" stAng="5501787" swAng="106982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80" y="21595"/>
                      </a:moveTo>
                      <a:arcTo wR="10800" hR="10800" stAng="5501787" swAng="10698213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1"/>
                  </a:avLst>
                </a:prstGeom>
                <a:gradFill rotWithShape="0">
                  <a:gsLst>
                    <a:gs pos="0">
                      <a:srgbClr val="716944"/>
                    </a:gs>
                    <a:gs pos="50000">
                      <a:srgbClr val="e5d58a"/>
                    </a:gs>
                    <a:gs pos="100000">
                      <a:srgbClr val="716944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6944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and the Interne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hael E. Por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637018-A6C3-498C-9758-9EC5ED7596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A Return to Fundamentals</a:t>
            </a: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wo conclusions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Many Internet businesses are artificial businesses competing by artificial means and propped up by capital that was readily availabl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During periods of transition there appears to be new rules but as market forces play out the old rules regain their currenc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F608B-D2E4-4BAB-8333-B4F52472F4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o generate revenues, reduce expenses or simply do something useful by deploying Internet technology is not sufficient evidence that value has been created.  Nor is a companies current stock price necessarily an indicator of economic value, Shareholder value is a reliable measure of economic value over the long ru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C4DFE-ADEC-4530-BFF5-987421552D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o how can the Internet create economic valu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We need to look at two factors of profitability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Industry Structure  (Which determines the profitability of the average competitor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ustainable Competitive Advantage  (which allows a company to outperform the average competitor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9EA24-3B0E-411E-812F-7A3F56D3FC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and Industry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s created “some” new indust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configuration of existing indust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ernet changes the front end proces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ether new or old industry – structure is still impacted by five forces of compet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5ABFA-EFA6-4F88-BA62-C2D5EC4EDA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ve Forces Impacting Structural Attra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9D0E5-F42F-434D-A0F0-E061EA425C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valry among existing compet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600200" y="2437920"/>
            <a:ext cx="750096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kes differentiating more difficult – proprietary information difficult to maintai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Competition becomes more price drive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reases number of competitors by enlarging geography of mark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creased price discounting due to lower variable costs relative to fixed cos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E6573-B1B8-4B57-ADC2-07FB2A53F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iers to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263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47560" y="2514600"/>
            <a:ext cx="738180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kes it easier for competitors to enter marketplace if previous limitations were items such as sales force, access to channels, or physical asse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arder to keep proprietary information proprietar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ternet has enticed many new entrants into many industrie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F9336-0761-479F-A2B3-43509ABF43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t of substitute products or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99760" y="1523880"/>
            <a:ext cx="7263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fficiency gained – can expand the marke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roliferation of internet approaches creates new substitute threa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B3EF3-E9ED-4F84-8C05-3FC9668FA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 power of suppl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rchasing over the internet gives the supplier access to more custome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urchasing over the internet give the buyer more power due to more informa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Get rid of the middlema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tion of differentiation – standardization of produc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ed barriers to entry and a greater number of competitors shifts power to supplier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91689-204C-4348-B811-646D7F5779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 power of buyers (channels and end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Posi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Eliminates powerful channels or improves power over existing channe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47560" y="3048120"/>
            <a:ext cx="7381800" cy="34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egative Impact ~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Shifts bargaining power to the end us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Reduces switching cost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DEE03-927A-496F-AE5B-227980F806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Does the internet change ever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atural reaction is yes, but that is a dangerous on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has led companies (dot-coms and incumbents) to make bad decisio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have shifted focus from quality, features and service to pri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70316-77C7-46D6-A281-79E049210F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yth of the First M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witching cos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 network effec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ternet brand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rtnering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CB8D5-551E-4DDC-B9B1-819F300597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igher or Lower on the Interne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re certain sites really that “sticky”?  Amazon? Yahoo? Eba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35ED9-ABD5-40EA-A405-B41CA319AE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twork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at are the important applications on the Internet?  E-mail? IM? Auctions? Cha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o they create barriers to entr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minishing retur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OL is the excep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83FF4-B3B2-404B-BCF8-D3E269D722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tes lack a physical presen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uge outlays hoping to build a bran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ave any approached the power of established brands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odest impact on loyalty and barriers to entr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35116-6D06-4303-9D1D-9F5019050A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n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it really a win-win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lements - have proliferated as companies have sought to offer broader arrays of products, services and information. (quickly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utsourcing - purchased inputs become more homogeneous, eroding company distinctiveness and increasing price competi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18BB9-F827-40F7-A3A9-F7E5715DDE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66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BEED0-8C92-4947-8C75-21AA0C78F5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any dot-coms are going out of business and reducing rivalr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ee internet provid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ts.com/Petwarehouse.co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ech Savvy customers will decrease loyal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iceline.co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maz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0E4E2-F146-4FFD-9F9E-3C1B2189D2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ew technology can increase profitability (Increased Bandwidth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n-line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New market niches (Net Meeting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creasing of market size for buyer and selle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vors the seller in specialized ite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avors the buyer in commodit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BEC0C-506F-4BD4-8EF4-4598EF4285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Internet Com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emove Intermediar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scount Stores/Factory Outle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moving levels of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eneral Predic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ragmented markets lead to profitabil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centers will suff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923F8-D585-4E82-872E-96A331C138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3276720"/>
            <a:ext cx="2280960" cy="1218960"/>
          </a:xfrm>
          <a:custGeom>
            <a:avLst/>
            <a:gdLst>
              <a:gd name="textAreaLeft" fmla="*/ 570240 w 2280960"/>
              <a:gd name="textAreaRight" fmla="*/ 1710720 w 228096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3124080"/>
            <a:ext cx="1371600" cy="1524240"/>
          </a:xfrm>
          <a:prstGeom prst="rightArrowCallout">
            <a:avLst>
              <a:gd name="adj1" fmla="val 27785"/>
              <a:gd name="adj2" fmla="val 27782"/>
              <a:gd name="adj3" fmla="val 16667"/>
              <a:gd name="adj4" fmla="val 66667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3048120"/>
            <a:ext cx="1295280" cy="1600200"/>
          </a:xfrm>
          <a:prstGeom prst="leftArrowCallout">
            <a:avLst>
              <a:gd name="adj1" fmla="val 30888"/>
              <a:gd name="adj2" fmla="val 30885"/>
              <a:gd name="adj3" fmla="val 16667"/>
              <a:gd name="adj4" fmla="val 66673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38480" y="4952880"/>
            <a:ext cx="1828800" cy="1067040"/>
          </a:xfrm>
          <a:prstGeom prst="upArrowCallout">
            <a:avLst>
              <a:gd name="adj1" fmla="val 42851"/>
              <a:gd name="adj2" fmla="val 42848"/>
              <a:gd name="adj3" fmla="val 16667"/>
              <a:gd name="adj4" fmla="val 66660"/>
            </a:avLst>
          </a:prstGeom>
          <a:solidFill>
            <a:srgbClr val="e5d58a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1600200"/>
            <a:ext cx="1828800" cy="1143000"/>
          </a:xfrm>
          <a:prstGeom prst="downArrowCallout">
            <a:avLst>
              <a:gd name="adj1" fmla="val 40004"/>
              <a:gd name="adj2" fmla="val 40000"/>
              <a:gd name="adj3" fmla="val 16667"/>
              <a:gd name="adj4" fmla="val 66667"/>
            </a:avLst>
          </a:prstGeom>
          <a:solidFill>
            <a:srgbClr val="66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352680"/>
            <a:ext cx="9144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19720" y="3352680"/>
            <a:ext cx="9903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val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etito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4320" y="304812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uy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Channel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gaining Power of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End User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167652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reat of Substitut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ducts or Services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5486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Barriers to Entry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EE4D3-A170-4590-89BE-F59ED22347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net - An enabling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owerful set of tools that can be used, wisely or unwisely, in almost any industry and as part of almost any strateg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D2B18-9CD7-46AC-879C-25D53E7EB1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fitability is under attack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y imitato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Low cost of en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fferentiato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erational Effectivenes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rategic Position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22841-B521-4641-8B96-DAD602A78D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est of Breed advantages are rar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mitation is eas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nvergence of technology leads to a commod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modity leads to a lower pri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vie Ticket Sel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arch Engin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89A5E-653E-45C3-A794-CB219A18B2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st Create Protected Efficienc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hizBang for Dun and Bradstree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oDahs for searching for compani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ncreasing Spe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y not produce an advantage but may be required to stay in the gam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reater levels of integration produce larger barriers/advantag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2F1FF-EDFF-464D-9F44-807FEB5AC7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Right Goa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al to make money not own market sh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Make it up in Volum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Value Propositio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ifferentiation creates profitabili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FlipDo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EFEBE-71E6-4E6F-A7F9-77FAE703D4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istinctive Value Cha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erform the same job better of do the job different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Del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rade-off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iving up something creates differenc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outhwest cut out the Travel Ag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155B6-0C3F-457D-B106-1A906EEB63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/Competitive Advant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c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lex fits prevent imitation and promote valu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PS Tracking Numb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tinuit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ower is in the focu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p Ques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03679-29DA-438B-A91C-AA7C511ECC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sence of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ot-Coms - What is their strategy?  Does it align with The Goa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ell-Established Companies - What were they thinking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C3BDC-9AE0-4773-AE14-5232FEF1B8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-C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300400" y="1527120"/>
          <a:ext cx="5798880" cy="45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0" y="1527120"/>
                    <a:ext cx="579888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B2839-91D0-4DCB-B54C-6611B4F5B6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-Established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320920" y="1843200"/>
          <a:ext cx="613728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843200"/>
                    <a:ext cx="613728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CA8CC-6A75-40FB-B4E0-79493629FC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The Internet as Comp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It has widely assumed that the Internet is cannibalistic, and it will overturn all traditional advantag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are trade off’s but this is an exaggeration. 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 risk of channel conflict is also been overstated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81D9C-AC58-49AF-8444-3700F25CE4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Key question - How to deploy it?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that succeed will be ones that use the Internet as a complement to traditional ways of competing, not those that set their Internet initiatives apart from their established operation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F9615-5D93-489A-B587-AF2982D55C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The Internet addresses activities that are necessary but not decisive in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forming custom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ocessing transaction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procuring inpu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49CE2-5B2A-4AFB-AABD-F672206D91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Example - Walgre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xtensive information allows Walgreens customers to order prescriptions on line and this has underscored their valu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Web orders increase the value of their physical locations.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t is more efficient to take orders over the Internet than traditional methods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2046B-0D61-42F9-89DF-573759A061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stablishing Internet operations as a stand-alone unit has often undermined the company’s ability to gain competitive advantages. 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ternet strategy should be integrated into the overall strategy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A47FA-250A-4B17-A5EA-79777D4C9D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 of the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mpanies shouldn’t have an “internet strategy” but integrate the internet into their strateg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undamentals of competition are unchange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ere is not a new economy but an old economy with access to a “new technology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39F60-1AFA-4415-A2FB-BB72EAF75F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gam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Distorted Market Signa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Return to Fundamental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nd Industry Structur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Myth of the First Move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Future of Internet Competition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nd Competitive Advantag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Absence of Strateg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Internet as Complemen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End of the New Econom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1383C-D387-40F5-A9BD-59A93D777A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Distorted Market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n the early stages of the rollout of any important technology,  market signals can be unreliabl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New technologies trigger rampant experimentation by both companies and customer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As a result market behavior must be interpreted with caution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AAEFE-A0D4-45D9-B3B4-8523D7B5D0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Sales figures have been unreliable for three reas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any subsidized the purchase of their product and services to get market share and customer base.(When prices are artificially low unit demand becomes artificially high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any buyers have been drawn to the Internet out of curiosity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ome revenue from on-line commerce has been in the form of stock rather than cash.  (Amazon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454D6-B224-48C0-A9D2-02D81E1A73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osts can be equally unreli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Many content providers rush to give Yahoo their information at next to nothing in hopes for market shar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ome providers even paid popular portals to distribute their content.  (Masking true cost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Share prices are no longer provide an accurate picture if value is being creat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45B0C-14F1-4041-B1E9-67A5BCDAE6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Unreliability of financial metrics companies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Executive downplay traditional measures of profitability and economic valu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Creative accounting approaches have been multiplied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e dubious connection between reported metrics and actual profitability have served to amplify the confusing signals about what is working in the marketplace.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AF090-1919-43FF-AD3B-83972DD208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01:05:39Z</dcterms:created>
  <dc:creator>Cutler-Hammer</dc:creator>
  <dc:description/>
  <dc:language>en-US</dc:language>
  <cp:lastModifiedBy>JMTORRES</cp:lastModifiedBy>
  <dcterms:modified xsi:type="dcterms:W3CDTF">2004-04-27T20:33:18Z</dcterms:modified>
  <cp:revision>12</cp:revision>
  <dc:subject/>
  <dc:title>Strategy and the Internet  by  Michael E. Porter</dc:title>
</cp:coreProperties>
</file>