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D811-B22D-4E79-ACE6-6274FEA615A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industries such as on-line auctions but it mainly has caused existing industries to reconfigure the way they are structu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ase of WB – the industry of gathering data has been there but the internet provides another way of gaining that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many companies the internet has changed the front end process – such as in the catalog business.  People can now order products on-line where in the past they may have used a catalog or phone number.  It didn’t eliminate the need for the catalog or the phone line but gave consumers another means of accessing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 Jcrew is a store I like to purchase items from but the closest store was in Denver.  In order to access their product I would get their catalog but I didn’t care to call in my orders or send in a mail order form.  The internet makes it much easier for me to order.  I can still browse through the catalog but then I can log onto their site and place my order at my convenience.  I can find out if an item is available right then and there not when my order comes back or when I am on the phone placing an ord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atter is this is a new internet industry or an existing industry that uses the internet – the five forces of competition still have an impact and can change how an industry is structu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er’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sitive impacts in this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lose that edge due to easier access to information and an over abundance of data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find an item on five websites – price can be the deciding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net increases the reach of your market but as your market increases so does the compet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ce discounting becomes a big concern and often once you do that it is hard to recover from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sitive imp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provides companies with limited resources to reach a vast number of people that if they were doing in via the traditional means they would need a large sales force or established channel relationship which are not easy to establish for a new entrant.  Plus the internet in many cases requires few physical ass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as said before proprietary information is difficult to keep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net because of the need for fewer resources has enticed many new entrants in all indus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yers are more informed due to the information available to them via the internet – i.e. a car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ussion we had regarding ebay vs yahoo – may have more suppliers but also have more 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ed for a middle man to sell your goods and act as mediator – many buyers are happy to deal directly with the supp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ility of a supplier to create value is tougher – many goods now become more like commod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 the final statement correct?  Pulled from article – should it be buy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buyer a lot more choices and ways to bu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user can now pick and choose in many cases and since the cost to switch is low – loyalty is not a strong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cases when this is not true – if I am shopping only to get the best price then yes, I have limited loyalty to any supplier – but if I am shopping due to the convenience the internet provides – I will use the suppliers who I like based not only on price but quality and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er’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er’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panies made the mistake of creating a separate internet strategy that was separate from the overall company strategy – in order to use the internet to its potential is to integrate it into the strategy of the company not treat it as a separate issue.  The basic rules of competition haven’t changed at all – but the playing field does look a bit different than it did.  There are more options – not less – it reminds me of the game called XXX, by adding a three dimensional spin on the game – you have changed the strategy people use to win but the basic rules stay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F1E-26E8-4AA6-9E3C-747089B1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517-F86D-4FF6-845B-F265F797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D90-1C97-4DC0-A54A-415D0AA5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2AF-32E4-406E-B28B-D0CB6D49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5A64-DA68-4CC7-AC17-DDA538B2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9EB2-1FDD-41D7-A714-20F570BE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24C5-959A-42C8-BA2D-84FEA43B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4838-90C2-4434-A4B3-7F89ECA1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BD02-8B07-4CE9-A8C7-AB7A4F0C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B38A-085D-4093-925F-42258115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E3A3-DEB9-4F96-ADF2-9D490E84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ED8-7798-408D-B5D6-9D903087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2CA5-E78A-4106-9302-31BC5613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8FEC-77B5-4413-905A-C9AEC561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C4E8-EEEA-4209-8624-D1A75412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AC8D-0579-4B5C-A8A2-FDD4E9F1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FEB2-3969-444B-854C-1BFA8839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99D-EC12-4046-A67C-D7966C0D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994A-67DF-4C6E-A855-550081D9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9ED-94B3-4099-86C9-1EEB60A7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D605-FC71-404F-9659-7A8DF94E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99D-E6C2-4E9F-8696-1302F88C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1B9-2830-41CD-A4A4-290988DD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CAD-518E-412A-BBA0-29F8B449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e7e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6696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3870-5CF1-44A7-BD5C-C1BEBF72D1B1}" type="datetime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4242960" y="6342120"/>
            <a:ext cx="201924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8024760" y="6334200"/>
            <a:ext cx="10764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BDEE-3884-406A-8C81-AB1195DA8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A703-70B4-421A-802D-01B917744BFC}" type="datetime">
              <a:rPr b="1" lang="en-US" sz="3200" spc="-1" strike="noStrike">
                <a:solidFill>
                  <a:srgbClr val="333300"/>
                </a:solidFill>
                <a:latin typeface="Arial"/>
              </a:rPr>
              <a:t>07/30/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767040" y="6319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7196040" y="6319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4BBA-D579-400D-BB1B-72F71FC3B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6" name=""/>
            <p:cNvSpPr/>
            <p:nvPr/>
          </p:nvSpPr>
          <p:spPr>
            <a:xfrm>
              <a:off x="719280" y="342432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342432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342432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00000" y="3438360"/>
              <a:ext cx="324000" cy="343080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4194000"/>
              <a:ext cx="546120" cy="102744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4626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033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2440" y="5438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58467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2440" y="37656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2440" y="3424320"/>
              <a:ext cx="549360" cy="91260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79848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120636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161280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201924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344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e7e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71694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16944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6" y="21600"/>
                        </a:lnTo>
                        <a:lnTo>
                          <a:pt x="2644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71694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6" y="21600"/>
                        </a:lnTo>
                        <a:lnTo>
                          <a:pt x="2644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16944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71694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305360" y="22384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31436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80" y="21595"/>
                      </a:moveTo>
                      <a:arcTo wR="10800" hR="10800" stAng="5501787" swAng="106982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80" y="21595"/>
                      </a:moveTo>
                      <a:arcTo wR="10800" hR="10800" stAng="5501787" swAng="10698213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71694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1"/>
                  </a:avLst>
                </a:prstGeom>
                <a:gradFill rotWithShape="0">
                  <a:gsLst>
                    <a:gs pos="0">
                      <a:srgbClr val="716944"/>
                    </a:gs>
                    <a:gs pos="50000">
                      <a:srgbClr val="e5d58a"/>
                    </a:gs>
                    <a:gs pos="100000">
                      <a:srgbClr val="71694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y and the Internet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hael E. Por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9D7C80B-C833-42D0-94A5-75818CFE60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A Return to Fundamentals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Two conclusions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Many Internet businesses are artificial businesses competing by artificial means and propped up by capital that was readily availabl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During periods of transition there appears to be new rules but as market forces play out the old rules regain their currenc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E6484-B16E-4F3C-A645-6EA7D5EE13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To generate revenues, reduce expenses or simply do something useful by deploying Internet technology is not sufficient evidence that value has been created.  Nor is a companies current stock price necessarily an indicator of economic value, Shareholder value is a reliable measure of economic value over the long ru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56454-ACC5-4CC0-A051-D011DACDC8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So how can the Internet create economic valu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We need to look at two factors of profitability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Industry Structure  (Which determines the profitability of the average competitor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ustainable Competitive Advantage  (which allows a company to outperform the average competitor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DBFA6-8656-4DB5-8A06-B191CACC31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and Industr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as created “some” new industri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configuration of existing industri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ternet changes the front end proces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ether new or old industry – structure is still impacted by five forces of competi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6A6B1-8E68-48CC-80D7-75059C8C78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Forces Impacting Structural Attract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3276720"/>
            <a:ext cx="2280960" cy="1218960"/>
          </a:xfrm>
          <a:custGeom>
            <a:avLst/>
            <a:gdLst>
              <a:gd name="textAreaLeft" fmla="*/ 570240 w 2280960"/>
              <a:gd name="textAreaRight" fmla="*/ 1710720 w 22809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81080" y="3124080"/>
            <a:ext cx="1371600" cy="1524240"/>
          </a:xfrm>
          <a:prstGeom prst="rightArrowCallout">
            <a:avLst>
              <a:gd name="adj1" fmla="val 27785"/>
              <a:gd name="adj2" fmla="val 27782"/>
              <a:gd name="adj3" fmla="val 16667"/>
              <a:gd name="adj4" fmla="val 6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3048120"/>
            <a:ext cx="1295280" cy="1600200"/>
          </a:xfrm>
          <a:prstGeom prst="leftArrowCallout">
            <a:avLst>
              <a:gd name="adj1" fmla="val 30888"/>
              <a:gd name="adj2" fmla="val 30885"/>
              <a:gd name="adj3" fmla="val 16667"/>
              <a:gd name="adj4" fmla="val 66673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952880"/>
            <a:ext cx="1828800" cy="106704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1600200"/>
            <a:ext cx="1828800" cy="1143000"/>
          </a:xfrm>
          <a:prstGeom prst="downArrowCallout">
            <a:avLst>
              <a:gd name="adj1" fmla="val 40004"/>
              <a:gd name="adj2" fmla="val 40000"/>
              <a:gd name="adj3" fmla="val 16667"/>
              <a:gd name="adj4" fmla="val 6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3352680"/>
            <a:ext cx="9144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Suppli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3352680"/>
            <a:ext cx="9903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Rivalry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Amo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Exist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Competito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3048120"/>
            <a:ext cx="8380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uy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ower 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Channel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 Power 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End Us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167652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Threat of Substitut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roducts or Service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5486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riers to Entry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F592B-684E-40CA-ACF7-2A5EF5D750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valry among existing compet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ositive Impact ~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600200" y="2437920"/>
            <a:ext cx="7500960" cy="38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ega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akes differentiating more difficult – proprietary information difficult to maintai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ompetition becomes more price drive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ncreases number of competitors by enlarging geography of marke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ncreased price discounting due to lower variable costs relative to fixed cost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C8FC4-79BF-42FD-994A-30BC1A72F7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riers to e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99760" y="1523880"/>
            <a:ext cx="7263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osi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47560" y="2514600"/>
            <a:ext cx="7381800" cy="39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ega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akes it easier for competitors to enter marketplace if previous limitations were items such as sales force, access to channels, or physical asset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arder to keep proprietary information proprietar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nternet has enticed many new entrants into many industri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C7C19-7B9B-4927-ABFE-42387581A6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t of substitute products or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99760" y="1523880"/>
            <a:ext cx="7263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osi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Efficiency gained – can expand the marke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447560" y="3048120"/>
            <a:ext cx="7381800" cy="34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ega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liferation of internet approaches creates new substitute threat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15D2A-7961-4EFD-B2B0-39DAA70B7B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gaining power of suppl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osi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urchasing over the internet gives the supplier access to more customer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447560" y="3048120"/>
            <a:ext cx="7381800" cy="34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ega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urchasing over the internet give the buyer more power due to more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Get rid of the middlema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Reduction of differentiation – standardization of product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Reduced barriers to entry and a greater number of competitors shifts power to supplier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2BC4D-67E2-47EA-A736-5D957F6179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gaining power of buyers (channels and end use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osi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Eliminates powerful channels or improves power over existing channel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47560" y="3048120"/>
            <a:ext cx="7381800" cy="34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ega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hifts bargaining power to the end use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Reduces switching cost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EDE5E-83D8-4B97-9994-F7201CBADA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Does the internet change every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atural reaction is yes, but that is a dangerous on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t has led companies (dot-coms and incumbents) to make bad decision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mpanies have shifted focus from quality, features and service to pric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F239C-8FEF-4850-9A84-B2F88EBF6C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yth of the First M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witching cos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network effec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ternet brand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rtnering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67F75-8E08-4535-8DDF-CB8875519A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ing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igher or Lower on the Interne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re certain sites really that “sticky”?  Amazon? Yahoo? Ebay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18D81-98AE-4AF2-8E7A-FDE318BA1B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twork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at are the important applications on the Internet?  E-mail? IM? Auctions? Cha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o they create barriers to entry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iminishing return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OL is the exceptio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EB953-1C53-49B8-B928-D24B78C863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Br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tes lack a physical presenc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uge outlays hoping to build a brand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ave any approached the power of established brands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odest impact on loyalty and barriers to entr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43720-85F1-44F2-AC47-08B547B7BB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n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s it really a win-win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mplements - have proliferated as companies have sought to offer broader arrays of products, services and information. (quickly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utsourcing - purchased inputs become more homogeneous, eroding company distinctiveness and increasing price competitio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3F3FC-DFE3-4974-A1F4-19A6986B73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of Internet Compe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3276720"/>
            <a:ext cx="2280960" cy="1218960"/>
          </a:xfrm>
          <a:custGeom>
            <a:avLst/>
            <a:gdLst>
              <a:gd name="textAreaLeft" fmla="*/ 570240 w 2280960"/>
              <a:gd name="textAreaRight" fmla="*/ 1710720 w 22809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666633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3124080"/>
            <a:ext cx="1371600" cy="1524240"/>
          </a:xfrm>
          <a:prstGeom prst="rightArrowCallout">
            <a:avLst>
              <a:gd name="adj1" fmla="val 27785"/>
              <a:gd name="adj2" fmla="val 27782"/>
              <a:gd name="adj3" fmla="val 16667"/>
              <a:gd name="adj4" fmla="val 6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048120"/>
            <a:ext cx="1295280" cy="1600200"/>
          </a:xfrm>
          <a:prstGeom prst="leftArrowCallout">
            <a:avLst>
              <a:gd name="adj1" fmla="val 30888"/>
              <a:gd name="adj2" fmla="val 30885"/>
              <a:gd name="adj3" fmla="val 16667"/>
              <a:gd name="adj4" fmla="val 66673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4952880"/>
            <a:ext cx="1828800" cy="106704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1600200"/>
            <a:ext cx="1828800" cy="1143000"/>
          </a:xfrm>
          <a:prstGeom prst="downArrowCallout">
            <a:avLst>
              <a:gd name="adj1" fmla="val 40004"/>
              <a:gd name="adj2" fmla="val 40000"/>
              <a:gd name="adj3" fmla="val 16667"/>
              <a:gd name="adj4" fmla="val 6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3352680"/>
            <a:ext cx="9144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Suppli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19720" y="3352680"/>
            <a:ext cx="9903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valry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mo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ist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petito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4320" y="3048120"/>
            <a:ext cx="8380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uy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ower 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Channel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 Power 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End Us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14800" y="167652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Threat of Substitut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roducts or Service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5486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riers to Entry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97994-D963-476A-B56C-EC5FF31DA0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of Internet Compe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ny dot-coms are going out of business and reducing rivalr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ree internet provid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ts.com/Petwarehouse.co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ech Savvy customers will decrease loyalt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iceline.co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maz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A2F83-AD08-4AE7-B442-1898F910D0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of Internet Compe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ew technology can increase profitability (Increased Bandwidth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n-line Hel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New market niches (Net Meeting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creasing of market size for buyer and selle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avors the seller in specialized item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avors the buyer in commoditi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8E6BD-2B01-4DD8-89AE-CAECBF2E59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of Internet Compe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move Intermediari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scount Stores/Factory Outle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moving levels of manag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General Predic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ragmented markets lead to profitabili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st centers will suff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DA36A-4BDB-4539-8989-28C0039F3E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3276720"/>
            <a:ext cx="2280960" cy="1218960"/>
          </a:xfrm>
          <a:custGeom>
            <a:avLst/>
            <a:gdLst>
              <a:gd name="textAreaLeft" fmla="*/ 570240 w 2280960"/>
              <a:gd name="textAreaRight" fmla="*/ 1710720 w 22809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81080" y="3124080"/>
            <a:ext cx="1371600" cy="1524240"/>
          </a:xfrm>
          <a:prstGeom prst="rightArrowCallout">
            <a:avLst>
              <a:gd name="adj1" fmla="val 27785"/>
              <a:gd name="adj2" fmla="val 27782"/>
              <a:gd name="adj3" fmla="val 16667"/>
              <a:gd name="adj4" fmla="val 6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7120" y="3048120"/>
            <a:ext cx="1295280" cy="1600200"/>
          </a:xfrm>
          <a:prstGeom prst="leftArrowCallout">
            <a:avLst>
              <a:gd name="adj1" fmla="val 30888"/>
              <a:gd name="adj2" fmla="val 30885"/>
              <a:gd name="adj3" fmla="val 16667"/>
              <a:gd name="adj4" fmla="val 66673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38480" y="4952880"/>
            <a:ext cx="1828800" cy="106704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1600200"/>
            <a:ext cx="1828800" cy="1143000"/>
          </a:xfrm>
          <a:prstGeom prst="downArrowCallout">
            <a:avLst>
              <a:gd name="adj1" fmla="val 40004"/>
              <a:gd name="adj2" fmla="val 40000"/>
              <a:gd name="adj3" fmla="val 16667"/>
              <a:gd name="adj4" fmla="val 66667"/>
            </a:avLst>
          </a:prstGeom>
          <a:solidFill>
            <a:srgbClr val="666633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3352680"/>
            <a:ext cx="9144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Suppli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3352680"/>
            <a:ext cx="9903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valry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ist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etito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34320" y="3048120"/>
            <a:ext cx="8380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uy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ower 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Channel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 Power 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End Us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14800" y="167652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reat of Substitut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ducts or Service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5486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riers to Entry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C21D3-6042-4E1F-8897-D7824DB847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net - An enabling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powerful set of tools that can be used, wisely or unwisely, in almost any industry and as part of almost any strateg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3D02A-5426-42EE-9E94-F464C872FF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fitability is under attac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any imitato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ow cost of entr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ifferentiator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perational Effectivenes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rategic Position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E518C-1072-4F2B-9601-C73604CB77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al Effect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est of Breed advantages are r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mitation is eas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nvergence of technology leads to a commodi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mmodity leads to a lower pric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vie Ticket Sel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arch Engin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9E57C-E9A5-4B49-8689-00A9AA3E40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al Effect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ust Create Protected Efficienci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izBang for Dun and Bradstree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oDahs for searching for compani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creasing Spee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y not produce an advantage but may be required to stay in the gam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reater levels of integration produce larger barriers/advantag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61F95-C69E-4EBB-907D-A36C169936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c Pos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ight Goa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oal to make money not own market shar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Make it up in Volume”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Value Proposi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fferentiation creates profitabili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lipDo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9ABCB-4EEA-4147-A31B-CB9ACB1B5E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c Pos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istinctive Value Chai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rform the same job better of do the job differentl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l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rade-off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iving up something creates differenc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outhwest cut out the Travel Ag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EB299-2406-477E-8365-D66BC84367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c Pos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mplex fits prevent imitation and promote valu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PS Tracking Numb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ntinuit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ower is in the focu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ap Ques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34596-F556-4268-995C-AECD093DBF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sence of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ot-Coms - What is their strategy?  Does it align with The Goal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ell-Established Companies - What were they thinking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08611-F800-433F-B44E-30945A8C69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t-C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300400" y="1527120"/>
          <a:ext cx="5798880" cy="457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1527120"/>
                    <a:ext cx="579888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98688-B486-40D5-A6D3-542CA4FC97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-Established Compan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320920" y="1843200"/>
          <a:ext cx="6137280" cy="466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1843200"/>
                    <a:ext cx="613728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B557C-A730-4DB7-90D2-DE974158AC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The Internet as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It has widely assumed that the Internet is cannibalistic, and it will overturn all traditional advantage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There are trade off’s but this is an exaggeration.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The risk of channel conflict is also been overstated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E56DB-62A5-4108-8FB4-866B77051B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Key question - How to deploy it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mpanies that succeed will be ones that use the Internet as a complement to traditional ways of competing, not those that set their Internet initiatives apart from their established operation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11331-11A5-4457-A867-540F6601B2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The Internet addresses activities that are necessary but not decisive in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Informing customer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processing transac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procuring inpu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C8575-91CE-4312-8746-C381835538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Example - Walgree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Extensive information allows Walgreens customers to order prescriptions on line and this has underscored their valu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Web orders increase the value of their physical locations.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It is more efficient to take orders over the Internet than traditional method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03F96-BBC8-4843-A555-ECFE24848F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Establishing Internet operations as a stand-alone unit has often undermined the company’s ability to gain competitive advantages.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Internet strategy should be integrated into the overall strateg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0A875-4DAC-4851-A65B-DBACBC78F1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 of the New 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mpanies shouldn’t have an “internet strategy” but integrate the internet into their strateg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undamentals of competition are unchange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is not a new economy but an old economy with access to a “new technology”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4B3DA-8D13-47A6-883A-09EC93D758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game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istorted Market Signal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Return to Fundamental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Internet and Industry Structu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Myth of the First Move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Future of Internet Competi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Internet and Competitive Advantag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Absence of Strateg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Internet as Complemen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End of the New Econom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BE286-B02C-468D-BD16-0046B83743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Distorted Market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In the early stages of the rollout of any important technology,  market signals can be unreliabl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New technologies trigger rampant experimentation by both companies and customer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As a result market behavior must be interpreted with cautio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BDFB1-3551-4932-A608-9F4852509C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Sales figures have been unreliable for three rea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Many subsidized the purchase of their product and services to get market share and customer base.(When prices are artificially low unit demand becomes artificially high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Many buyers have been drawn to the Internet out of curiosit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ome revenue from on-line commerce has been in the form of stock rather than cash.  (Amazon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66756-257E-4FCC-8A16-5F6A77E5A3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osts can be equally unrel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Many content providers rush to give Yahoo their information at next to nothing in hopes for market shar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ome providers even paid popular portals to distribute their content.  (Masking true cost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hare prices are no longer provide an accurate picture if value is being created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42148-EAD5-429E-BF37-BD7BA788F9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Unreliability of financial metrics companies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Executive downplay traditional measures of profitability and economic valu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Creative accounting approaches have been multiplied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The dubious connection between reported metrics and actual profitability have served to amplify the confusing signals about what is working in the marketplac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96FB9-8F66-4E2B-846E-D2FAA7A56B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01:05:39Z</dcterms:created>
  <dc:creator>Cutler-Hammer</dc:creator>
  <dc:description/>
  <dc:language>en-US</dc:language>
  <cp:lastModifiedBy>JMTORRES</cp:lastModifiedBy>
  <dcterms:modified xsi:type="dcterms:W3CDTF">2004-04-27T20:33:18Z</dcterms:modified>
  <cp:revision>12</cp:revision>
  <dc:subject/>
  <dc:title>Strategy and the Internet  by  Michael E. Porter</dc:title>
</cp:coreProperties>
</file>