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1858-396B-49C3-AAC5-B27BC6D56EE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ndustries such as on-line auctions but it mainly has caused existing industries to reconfigure the way they are stru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ase of WB – the industry of gathering data has been there but the internet provides another way of gaining that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any companies the internet has changed the front end process – such as in the catalog business.  People can now order products on-line where in the past they may have used a catalog or phone number.  It didn’t eliminate the need for the catalog or the phone line but gave consumers another means of accessing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Jcrew is a store I like to purchase items from but the closest store was in Denver.  In order to access their product I would get their catalog but I didn’t care to call in my orders or send in a mail order form.  The internet makes it much easier for me to order.  I can still browse through the catalog but then I can log onto their site and place my order at my convenience.  I can find out if an item is available right then and there not when my order comes back or when I am on the phone placing an ord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atter is this is a new internet industry or an existing industry that uses the internet – the five forces of competition still have an impact and can change how an industry is stru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r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sitive impacts in this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lose that edge due to easier access to information and an over abundance of data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find an item on five websites – price can be the deciding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increases the reach of your market but as your market increases so does the 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 discounting becomes a big concern and often once you do that it is hard to recover from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sitive imp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provides companies with limited resources to reach a vast number of people that if they were doing in via the traditional means they would need a large sales force or established channel relationship which are not easy to establish for a new entrant.  Plus the internet in many cases requires few physical ass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as said before proprietary information is difficult to keep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because of the need for fewer resources has enticed many new entrants in all indus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yers are more informed due to the information available to them via the internet – i.e. a car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ussion we had regarding ebay vs yahoo – may have more suppliers but also have more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ed for a middle man to sell your goods and act as mediator – many buyers are happy to deal directly with the supp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ility of a supplier to create value is tougher – many goods now become more like commod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 the final statement correct?  Pulled from article – should it be buy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buyer a lot more choices and ways to bu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user can now pick and choose in many cases and since the cost to switch is low – loyalty is not a strong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ases when this is not true – if I am shopping only to get the best price then yes, I have limited loyalty to any supplier – but if I am shopping due to the convenience the internet provides – I will use the suppliers who I like based not only on price but quality and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r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r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panies made the mistake of creating a separate internet strategy that was separate from the overall company strategy – in order to use the internet to its potential is to integrate it into the strategy of the company not treat it as a separate issue.  The basic rules of competition haven’t changed at all – but the playing field does look a bit different than it did.  There are more options – not less – it reminds me of the game called XXX, by adding a three dimensional spin on the game – you have changed the strategy people use to win but the basic rules stay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5B4-DD1A-48C9-9521-B156095A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E99-6CF0-4782-AE7A-D545423A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848-A017-448D-A7F5-03D93494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321-247C-4223-9B80-946E9F17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63C8-C598-49E8-9287-F00ACF4A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B3B9-37FF-4744-9ADF-670ED099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326F-6DF4-4EBD-B1DA-78122CE8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2708-DC72-4119-8D19-CE39DD1B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F4D6-BACD-4C7D-9981-E5CA784A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F308-D061-406E-8C19-5398B1BF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0FC7-35F1-4E14-9CFB-2D0C6F77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2E4-EC7A-4AEF-92D5-319543C5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69F5-B82D-4033-964A-99D11359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FD85-9D85-473E-B302-BF5D3F2D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DD99-15F2-4070-A42F-7B3622A7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337-B8A1-416B-906F-5FFF3282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E30B-0FED-4E39-AC65-1D03AEC9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0FA-2218-4ED1-A1C0-8B9C7912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F83-3C4F-4E23-835B-8BF359E0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16E-F57C-4E19-A993-0BBD8EBF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D7B-3A0E-4738-81D6-9ED005F5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E91-1214-44AB-997D-88B4757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1D5-1E0D-42B7-8F21-0222DA0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599-187A-4603-8EEB-AAB52D48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e7e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6696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ADD4-D687-4289-B607-A7AFC872388B}" type="datetime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4242960" y="6342120"/>
            <a:ext cx="201924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0689-8FEC-4D55-BB68-5E733504C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AF28-BDEA-424C-A15D-DF7E7CCFCC66}" type="datetime">
              <a:rPr b="1" lang="en-US" sz="3200" spc="-1" strike="noStrike">
                <a:solidFill>
                  <a:srgbClr val="333300"/>
                </a:solidFill>
                <a:latin typeface="Arial"/>
              </a:rPr>
              <a:t>07/30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767040" y="6319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719604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5708-5E2C-4059-9C3B-73AE35F3D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6" name=""/>
            <p:cNvSpPr/>
            <p:nvPr/>
          </p:nvSpPr>
          <p:spPr>
            <a:xfrm>
              <a:off x="719280" y="342432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42432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342432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00000" y="3438360"/>
              <a:ext cx="324000" cy="343080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4194000"/>
              <a:ext cx="546120" cy="102744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4626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033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5438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58467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37656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4320"/>
              <a:ext cx="549360" cy="91260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79848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120636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161280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201924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344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e7e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71694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16944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6" y="21600"/>
                        </a:lnTo>
                        <a:lnTo>
                          <a:pt x="2644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71694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6" y="21600"/>
                        </a:lnTo>
                        <a:lnTo>
                          <a:pt x="2644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16944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71694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305360" y="22384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1436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80" y="21595"/>
                      </a:moveTo>
                      <a:arcTo wR="10800" hR="10800" stAng="5501787" swAng="106982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80" y="21595"/>
                      </a:moveTo>
                      <a:arcTo wR="10800" hR="10800" stAng="5501787" swAng="10698213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71694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1"/>
                  </a:avLst>
                </a:prstGeom>
                <a:gradFill rotWithShape="0">
                  <a:gsLst>
                    <a:gs pos="0">
                      <a:srgbClr val="716944"/>
                    </a:gs>
                    <a:gs pos="50000">
                      <a:srgbClr val="e5d58a"/>
                    </a:gs>
                    <a:gs pos="100000">
                      <a:srgbClr val="71694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and the Interne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hael E. Por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FC58937-EAC3-45BC-BC5E-D735AD6BF4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A Return to Fundamentals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wo conclusions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Many Internet businesses are artificial businesses competing by artificial means and propped up by capital that was readily availabl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During periods of transition there appears to be new rules but as market forces play out the old rules regain their currenc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7FEF2-67E2-48C3-BC15-284B0452F5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o generate revenues, reduce expenses or simply do something useful by deploying Internet technology is not sufficient evidence that value has been created.  Nor is a companies current stock price necessarily an indicator of economic value, Shareholder value is a reliable measure of economic value over the long ru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0399C-1BB2-4CBA-BB67-69362AB4A2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o how can the Internet create economic valu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We need to look at two factors of profitability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Industry Structure  (Which determines the profitability of the average competitor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ustainable Competitive Advantage  (which allows a company to outperform the average competitor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DA07B-53AF-47CB-B7EA-332130DC0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and Industr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as created “some” new industr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configuration of existing industr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ernet changes the front end proces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ether new or old industry – structure is still impacted by five forces of competi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D8A45-3832-4121-8025-84DECED2A1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Forces Impacting Structural Attra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3276720"/>
            <a:ext cx="2280960" cy="1218960"/>
          </a:xfrm>
          <a:custGeom>
            <a:avLst/>
            <a:gdLst>
              <a:gd name="textAreaLeft" fmla="*/ 570240 w 2280960"/>
              <a:gd name="textAreaRight" fmla="*/ 1710720 w 2280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3124080"/>
            <a:ext cx="1371600" cy="1524240"/>
          </a:xfrm>
          <a:prstGeom prst="rightArrowCallout">
            <a:avLst>
              <a:gd name="adj1" fmla="val 27785"/>
              <a:gd name="adj2" fmla="val 27782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048120"/>
            <a:ext cx="1295280" cy="1600200"/>
          </a:xfrm>
          <a:prstGeom prst="leftArrowCallout">
            <a:avLst>
              <a:gd name="adj1" fmla="val 30888"/>
              <a:gd name="adj2" fmla="val 30885"/>
              <a:gd name="adj3" fmla="val 16667"/>
              <a:gd name="adj4" fmla="val 66673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952880"/>
            <a:ext cx="1828800" cy="106704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16002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352680"/>
            <a:ext cx="9144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352680"/>
            <a:ext cx="99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Rival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Amo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xist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ompetito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304812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uy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hannel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 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nd Us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16765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Threat of Substitu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roducts or Service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5486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riers to Ent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F3F1A-DD7A-42DC-BE1E-493334C717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valry among existing compet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600200" y="2437920"/>
            <a:ext cx="750096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kes differentiating more difficult – proprietary information difficult to maintai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ompetition becomes more price drive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reases number of competitors by enlarging geography of mark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reased price discounting due to lower variable costs relative to fixed cos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FB1C3-7062-4782-8103-92E671F6E4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iers to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263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47560" y="2514600"/>
            <a:ext cx="7381800" cy="39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kes it easier for competitors to enter marketplace if previous limitations were items such as sales force, access to channels, or physical asse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arder to keep proprietary information proprietar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ternet has enticed many new entrants into many industri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C0F9F-6BEE-446C-BC83-B788CCE9C9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 of substitute products o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263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fficiency gained – can expand the mark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47560" y="3048120"/>
            <a:ext cx="7381800" cy="34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liferation of internet approaches creates new substitute threa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40339-D93F-4F84-8E22-7CDAD86D97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 power of suppl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rchasing over the internet gives the supplier access to more custome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447560" y="3048120"/>
            <a:ext cx="7381800" cy="34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rchasing over the internet give the buyer more power due to mor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Get rid of the middlema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duction of differentiation – standardization of produc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duced barriers to entry and a greater number of competitors shifts power to supplie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5F471-D481-4A66-8D07-C8036A1BE6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 power of buyers (channels and end us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liminates powerful channels or improves power over existing channe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47560" y="3048120"/>
            <a:ext cx="7381800" cy="34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hifts bargaining power to the end us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duces switching cos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584C3-3B52-41AF-A74F-2C1C981615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Does the internet change ever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atural reaction is yes, but that is a dangerous on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has led companies (dot-coms and incumbents) to make bad decisio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anies have shifted focus from quality, features and service to pri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1BA50-F7BF-4299-A0D3-DB1C88AFE1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yth of the First M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witching cos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network eff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ernet bran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ner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C225C-5BA1-428A-B73D-CAA878477A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igher or Lower on the Interne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re certain sites really that “sticky”?  Amazon? Yahoo? Eba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E980F-0E9E-4DC2-8461-A410525065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twork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at are the important applications on the Internet?  E-mail? IM? Auctions? Cha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o they create barriers to entr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iminishing retur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OL is the excepti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75A65-A911-4EAC-9FFD-11548F043F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tes lack a physical presen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uge outlays hoping to build a bran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ave any approached the power of established brands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dest impact on loyalty and barriers to entr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55774-1C5A-4876-AB54-80D43B1DB7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n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s it really a win-win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lements - have proliferated as companies have sought to offer broader arrays of products, services and information. (quickly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utsourcing - purchased inputs become more homogeneous, eroding company distinctiveness and increasing price competiti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E5A5F-7683-49CE-BBC9-F10F5CB92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3276720"/>
            <a:ext cx="2280960" cy="1218960"/>
          </a:xfrm>
          <a:custGeom>
            <a:avLst/>
            <a:gdLst>
              <a:gd name="textAreaLeft" fmla="*/ 570240 w 2280960"/>
              <a:gd name="textAreaRight" fmla="*/ 1710720 w 2280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6666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124080"/>
            <a:ext cx="1371600" cy="1524240"/>
          </a:xfrm>
          <a:prstGeom prst="rightArrowCallout">
            <a:avLst>
              <a:gd name="adj1" fmla="val 27785"/>
              <a:gd name="adj2" fmla="val 27782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048120"/>
            <a:ext cx="1295280" cy="1600200"/>
          </a:xfrm>
          <a:prstGeom prst="leftArrowCallout">
            <a:avLst>
              <a:gd name="adj1" fmla="val 30888"/>
              <a:gd name="adj2" fmla="val 30885"/>
              <a:gd name="adj3" fmla="val 16667"/>
              <a:gd name="adj4" fmla="val 66673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952880"/>
            <a:ext cx="1828800" cy="106704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16002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3352680"/>
            <a:ext cx="9144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3352680"/>
            <a:ext cx="99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mo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ist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304812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uy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hannel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 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nd Us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16765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Threat of Substitu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roducts or Service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5486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riers to Ent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B2BDF-BF8B-497A-834E-7AD8BC0097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y dot-coms are going out of business and reducing rivalr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ee internet provi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ts.com/Petwarehouse.co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ch Savvy customers will decrease loyal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iceline.co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maz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B275D-E791-4AD9-B0C1-DE3AD8955F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ew technology can increase profitability (Increased Bandwidth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n-line Hel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ew market niches (Net Meeting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creasing of market size for buyer and sell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vors the seller in specialized ite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vors the buyer in commodit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22981-DBFB-48A6-A1E0-48383B29D7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move Intermediar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ount Stores/Factory Outle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moving levels of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eneral Predic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agmented markets lead to profitabil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centers will suff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BC1F0-5D9C-4D45-90B8-0521A3580C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3276720"/>
            <a:ext cx="2280960" cy="1218960"/>
          </a:xfrm>
          <a:custGeom>
            <a:avLst/>
            <a:gdLst>
              <a:gd name="textAreaLeft" fmla="*/ 570240 w 2280960"/>
              <a:gd name="textAreaRight" fmla="*/ 1710720 w 2280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3124080"/>
            <a:ext cx="1371600" cy="1524240"/>
          </a:xfrm>
          <a:prstGeom prst="rightArrowCallout">
            <a:avLst>
              <a:gd name="adj1" fmla="val 27785"/>
              <a:gd name="adj2" fmla="val 27782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3048120"/>
            <a:ext cx="1295280" cy="1600200"/>
          </a:xfrm>
          <a:prstGeom prst="leftArrowCallout">
            <a:avLst>
              <a:gd name="adj1" fmla="val 30888"/>
              <a:gd name="adj2" fmla="val 30885"/>
              <a:gd name="adj3" fmla="val 16667"/>
              <a:gd name="adj4" fmla="val 66673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4952880"/>
            <a:ext cx="1828800" cy="106704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16002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solidFill>
            <a:srgbClr val="6666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352680"/>
            <a:ext cx="9144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352680"/>
            <a:ext cx="99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al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304812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uy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hannel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 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nd Us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16765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reat of Substitu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cts or Service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5486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riers to Ent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373CE-A9E0-4F86-B62C-F313E88487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 - An enabling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owerful set of tools that can be used, wisely or unwisely, in almost any industry and as part of almost any strateg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BDB0D-32FA-4728-9113-5165D8D061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fitability is under attac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y imita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ow cost of ent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ifferentiato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perational Effectiven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rategic Positio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9B199-C3A8-4795-AEFC-6CF3705E14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est of Breed advantages are r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mitation is eas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vergence of technology leads to a commod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modity leads to a lower pri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vie Ticket Sel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arch Engin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E08E4-0F16-45E2-97E6-026A9C6DA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ust Create Protected Efficienc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izBang for Dun and Bradstree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oDahs for searching for compan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creasing Spe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y not produce an advantage but may be required to stay in the gam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reater levels of integration produce larger barriers/advantag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B0E9F-F48C-4838-A8E8-90ABFFBA5C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ight Goa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al to make money not own market sh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Make it up in Volume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Value Proposi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fferentiation creates profitabil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lipDo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F256E-3DE4-4BDE-8F33-3EF7C3C30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istinctive Value Chai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 the same job better of do the job different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l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rade-off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iving up something creates differe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outhwest cut out the Travel Ag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CEAE4-9082-4793-9179-2541798F3A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lex fits prevent imitation and promote valu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PS Tracking Numb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tinui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ower is in the focu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p Ques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9B6D1-8A3B-41D1-91D4-8296717348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sence of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ot-Coms - What is their strategy?  Does it align with The Goal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ll-Established Companies - What were they thinking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481C3-4B50-4EE4-A057-6DA55C365A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-C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300400" y="1527120"/>
          <a:ext cx="5798880" cy="457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527120"/>
                    <a:ext cx="579888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8C086-CC8B-416B-B280-7DD9D2D996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-Established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320920" y="1843200"/>
          <a:ext cx="6137280" cy="46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843200"/>
                    <a:ext cx="613728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77498-4E09-4D93-9190-E7A0AC8083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The Internet as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It has widely assumed that the Internet is cannibalistic, and it will overturn all traditional advantage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re are trade off’s but this is an exaggeration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 risk of channel conflict is also been overstated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20890-0F00-4E3F-A97E-3E6BB45710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ey question - How to deploy it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anies that succeed will be ones that use the Internet as a complement to traditional ways of competing, not those that set their Internet initiatives apart from their established operatio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D1837-768D-45C8-8A09-7E86C48BB1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The Internet addresses activities that are necessary but not decisive in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nforming custome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processing transac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procuring inpu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719E8-FAD8-4073-94C8-C9DB53F991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Example - Walgree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Extensive information allows Walgreens customers to order prescriptions on line and this has underscored their valu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Web orders increase the value of their physical locations.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t is more efficient to take orders over the Internet than traditional method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6CC90-DDE9-4F4E-839F-C7D58DBE29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Establishing Internet operations as a stand-alone unit has often undermined the company’s ability to gain competitive advantages.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nternet strategy should be integrated into the overall strateg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161FC-1D21-442D-9551-ADA8809B55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 of the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anies shouldn’t have an “internet strategy” but integrate the internet into their strateg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undamentals of competition are unchang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is not a new economy but an old economy with access to a “new technology”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24963-1CF7-4732-8DAE-385EB809DA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gam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storted Market Signa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Return to Fundamenta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Internet and Industry Structu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Myth of the First Mov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Future of Internet Competi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Internet and Competitive Advantag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Absence of Strateg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Internet as Comple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End of the New Econom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A5147-E2F8-4CD8-984A-B43AE0E941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Distorted Market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n the early stages of the rollout of any important technology,  market signals can be unreliab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New technologies trigger rampant experimentation by both companies and custome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s a result market behavior must be interpreted with cauti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98234-0F1D-491D-BA76-87A94FE24C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ales figures have been unreliable for three rea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Many subsidized the purchase of their product and services to get market share and customer base.(When prices are artificially low unit demand becomes artificially high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Many buyers have been drawn to the Internet out of curios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ome revenue from on-line commerce has been in the form of stock rather than cash.  (Amazon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19306-37EB-4592-8119-FD2AB5C112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osts can be equally unrel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Many content providers rush to give Yahoo their information at next to nothing in hopes for market shar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ome providers even paid popular portals to distribute their content.  (Masking true cost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hare prices are no longer provide an accurate picture if value is being create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783EF-020A-423B-B53F-4388A6CEB8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Unreliability of financial metrics companies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Executive downplay traditional measures of profitability and economic valu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reative accounting approaches have been multiplie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e dubious connection between reported metrics and actual profitability have served to amplify the confusing signals about what is working in the marketpla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EADCB-77E6-4483-B038-923A7C5816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01:05:39Z</dcterms:created>
  <dc:creator>Cutler-Hammer</dc:creator>
  <dc:description/>
  <dc:language>en-US</dc:language>
  <cp:lastModifiedBy>JMTORRES</cp:lastModifiedBy>
  <dcterms:modified xsi:type="dcterms:W3CDTF">2004-04-27T20:33:18Z</dcterms:modified>
  <cp:revision>12</cp:revision>
  <dc:subject/>
  <dc:title>Strategy and the Internet  by  Michael E. Porter</dc:title>
</cp:coreProperties>
</file>