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EF7A4-33A0-4E5B-A8DB-BFF098445A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954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990360" y="3882600"/>
            <a:ext cx="7954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3DFAB-B90B-4D35-B8D5-E15ACEF1D8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6640" y="129492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90360" y="388260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066640" y="388260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448CE-173D-4366-A7E3-33BD162701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2561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680280" y="1294920"/>
            <a:ext cx="2561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370200" y="1294920"/>
            <a:ext cx="2561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990360" y="3882600"/>
            <a:ext cx="2561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680280" y="3882600"/>
            <a:ext cx="2561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370200" y="3882600"/>
            <a:ext cx="2561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49A63-2804-4D09-9091-2C7575D307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594D8E-10E9-4941-B3F6-01F590A4ED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90360" y="1294920"/>
            <a:ext cx="79549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1F9286-B293-4C71-BC22-BD73AC72DB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954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2C3AA9-2407-4EB3-919B-208F15595C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38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66640" y="1294920"/>
            <a:ext cx="38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122712-BD98-4F6F-8B3A-6CA747251E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08267B-C127-4E1A-BF85-4FBCA7D71D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990360" y="456840"/>
            <a:ext cx="7954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60E105-8348-4CC0-A571-FA9F31416D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66640" y="1294920"/>
            <a:ext cx="38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990360" y="388260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0F5CD7-CC2B-4E75-AA25-D07AFFD003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990360" y="1294920"/>
            <a:ext cx="79549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06B52-9682-481D-9DE5-B131DD0267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38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66640" y="129492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66640" y="388260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D23F7-3F14-47BC-B97A-5C31F2E37A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66640" y="129492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90360" y="3882600"/>
            <a:ext cx="7954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6CE874-6BA9-4334-969E-088EA89822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954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990360" y="3882600"/>
            <a:ext cx="7954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E61F01-CB05-4888-AF1F-AB4C698A74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66640" y="129492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90360" y="388260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66640" y="388260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5AA43-6A0B-4C31-86CB-9E9910FE4C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2561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80280" y="1294920"/>
            <a:ext cx="2561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370200" y="1294920"/>
            <a:ext cx="2561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990360" y="3882600"/>
            <a:ext cx="2561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80280" y="3882600"/>
            <a:ext cx="2561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370200" y="3882600"/>
            <a:ext cx="2561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598F45-2346-4B28-9579-18408AC41B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954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A773A-C7F1-4FC3-A5CD-E48BBE36C1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38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6640" y="1294920"/>
            <a:ext cx="38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D2D73-14BC-4E15-9808-D4B58AE9A5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28D5C-0A29-4AD4-84E5-5D8E0DADE3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990360" y="456840"/>
            <a:ext cx="7954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A0FB2-B7ED-4607-A331-3A215D69EC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66640" y="1294920"/>
            <a:ext cx="38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90360" y="388260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7D2F5-E21A-4E82-83D7-191E590863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3881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66640" y="129492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066640" y="388260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1F37D-14BD-46A1-B5B5-70DAF4A99F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440280"/>
            <a:ext cx="795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66640" y="1294920"/>
            <a:ext cx="388188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990360" y="3882600"/>
            <a:ext cx="7954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E159E-8433-44B1-A5A2-00C7E69CCA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0"/>
            <a:ext cx="685440" cy="6858000"/>
            <a:chOff x="-720" y="0"/>
            <a:chExt cx="68544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26640" y="0"/>
              <a:ext cx="652320" cy="6857640"/>
              <a:chOff x="26640" y="0"/>
              <a:chExt cx="65232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32400" y="0"/>
                <a:ext cx="63864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32400" y="1697400"/>
                <a:ext cx="63864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32400" y="1291680"/>
                <a:ext cx="63864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32400" y="153720"/>
                <a:ext cx="63864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32400" y="989280"/>
                <a:ext cx="63864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32400" y="684720"/>
                <a:ext cx="63864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32400" y="376560"/>
                <a:ext cx="64656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27360" y="3944160"/>
                <a:ext cx="63864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27360" y="3538440"/>
                <a:ext cx="63864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27360" y="2399760"/>
                <a:ext cx="63864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27360" y="3234960"/>
                <a:ext cx="63864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27360" y="2931480"/>
                <a:ext cx="63864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27360" y="2622240"/>
                <a:ext cx="64656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32400" y="4975200"/>
                <a:ext cx="63864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32400" y="4569120"/>
                <a:ext cx="63864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27360" y="5677200"/>
                <a:ext cx="63864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173160" y="6364800"/>
                <a:ext cx="345960" cy="6393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27360" y="6209280"/>
                <a:ext cx="63864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27360" y="5899680"/>
                <a:ext cx="64656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219120" y="3218040"/>
              <a:ext cx="6858000" cy="42156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840040" y="3331440"/>
              <a:ext cx="6856200" cy="19332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990360" y="1294920"/>
            <a:ext cx="7954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99cc"/>
              </a:buClr>
              <a:buSzPct val="70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buClr>
                <a:srgbClr val="3366cc"/>
              </a:buClr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4114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2"/>
          </p:nvPr>
        </p:nvSpPr>
        <p:spPr>
          <a:xfrm>
            <a:off x="7391160" y="6400440"/>
            <a:ext cx="1523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408C-3D4D-4186-B457-3E3C99CD6ADA}" type="slidenum">
              <a:rPr b="0" lang="en-US" sz="1400" spc="-1" strike="noStrike">
                <a:solidFill>
                  <a:srgbClr val="33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4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5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3"/>
          </p:nvPr>
        </p:nvSpPr>
        <p:spPr>
          <a:xfrm>
            <a:off x="27432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F3F1-011B-4245-8949-424F7C5E865D}" type="slidenum">
              <a:rPr b="0" lang="en-US" sz="1400" spc="-1" strike="noStrike">
                <a:solidFill>
                  <a:srgbClr val="33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ahoma"/>
              </a:rPr>
              <a:t>Spread Spectrum</a:t>
            </a: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0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SC 681: Wireless Networ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69A61-D765-4B28-9F91-1B4138B0477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ahoma"/>
              </a:rPr>
              <a:t>Advantages of Spread Spectrum</a:t>
            </a: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954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99cc"/>
              </a:buClr>
              <a:buSzPct val="70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Immunity from various kinds of noise and multipath distortion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buClr>
                <a:srgbClr val="0099cc"/>
              </a:buClr>
              <a:buSzPct val="70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an be used for hiding and encrypting signals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buClr>
                <a:srgbClr val="0099cc"/>
              </a:buClr>
              <a:buSzPct val="70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veral users can independently use the same higher bandwidth with very little interference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SC 681: Wireless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2253C-C1F0-4DB7-BF1E-556D5EDBC3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ahoma"/>
              </a:rPr>
              <a:t>Direct Sequence Spread Spectrum (DSSS)</a:t>
            </a: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SC 681: Wireless Networ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E43B7-C8EB-4426-8447-D0BDCF8B51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ahoma"/>
              </a:rPr>
              <a:t>Code-Division Multiple Access (CDMA)</a:t>
            </a: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954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99cc"/>
              </a:buClr>
              <a:buSzPct val="70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Basic Principles of CDMA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d4d4d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4d4d4d"/>
                </a:solidFill>
                <a:latin typeface="Tahoma"/>
              </a:rPr>
              <a:t> = rate of data signal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ahoma"/>
              </a:rPr>
              <a:t>Break each bit into </a:t>
            </a:r>
            <a:r>
              <a:rPr b="0" i="1" lang="en-US" sz="2800" spc="-1" strike="noStrike">
                <a:solidFill>
                  <a:srgbClr val="4d4d4d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4d4d4d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4d4d4d"/>
                </a:solidFill>
                <a:latin typeface="Tahoma"/>
              </a:rPr>
              <a:t>chips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spcBef>
                <a:spcPts val="649"/>
              </a:spcBef>
              <a:buClr>
                <a:srgbClr val="3366cc"/>
              </a:buClr>
              <a:buFont typeface="Monotype Sorts" charset="2"/>
              <a:buChar char="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Chips are a user-specific fixed pattern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ahoma"/>
              </a:rPr>
              <a:t>Chip data rate of new channel = </a:t>
            </a:r>
            <a:r>
              <a:rPr b="0" i="1" lang="en-US" sz="2800" spc="-1" strike="noStrike">
                <a:solidFill>
                  <a:srgbClr val="4d4d4d"/>
                </a:solidFill>
                <a:latin typeface="Tahoma"/>
              </a:rPr>
              <a:t>kD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SC 681: Wireless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1BF41-72FF-4E8A-9B2B-56E7F54B3F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ahoma"/>
              </a:rPr>
              <a:t>Orthogonal Codes</a:t>
            </a: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954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99cc"/>
              </a:buClr>
              <a:buSzPct val="70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Orthogonal codes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ahoma"/>
              </a:rPr>
              <a:t>All pairwise cross correlations are zer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ahoma"/>
              </a:rPr>
              <a:t>Fixed- and variable-length codes used in CDMA systems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ahoma"/>
              </a:rPr>
              <a:t>For CDMA application, each mobile user uses one sequence in the set as a spreading code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3366cc"/>
              </a:buClr>
              <a:buFont typeface="Monotype Sorts" charset="2"/>
              <a:buChar char="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Tahoma"/>
              </a:rPr>
              <a:t>Provides zero cross correlation among all users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buClr>
                <a:srgbClr val="0099cc"/>
              </a:buClr>
              <a:buSzPct val="70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Types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ahoma"/>
              </a:rPr>
              <a:t>Walsh codes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ahoma"/>
              </a:rPr>
              <a:t>Variable-Length Orthogonal codes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SC 681: Wireless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D5996-ED7D-4DB6-B1B5-31CA359A8B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954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ahoma"/>
              </a:rPr>
              <a:t>Walsh Codes</a:t>
            </a: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buClr>
                <a:srgbClr val="0099cc"/>
              </a:buClr>
              <a:buSzPct val="70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t of Walsh codes of length </a:t>
            </a:r>
            <a:r>
              <a:rPr b="0" i="1" lang="en-US" sz="3000" spc="-1" strike="noStrike">
                <a:solidFill>
                  <a:srgbClr val="4d4d4d"/>
                </a:solidFill>
                <a:latin typeface="Tahoma"/>
              </a:rPr>
              <a:t>n </a:t>
            </a: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onsists of the n rows of an </a:t>
            </a:r>
            <a:r>
              <a:rPr b="0" i="1" lang="en-US" sz="3000" spc="-1" strike="noStrike">
                <a:solidFill>
                  <a:srgbClr val="4d4d4d"/>
                </a:solidFill>
                <a:latin typeface="Tahoma"/>
              </a:rPr>
              <a:t>n </a:t>
            </a: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´ </a:t>
            </a:r>
            <a:r>
              <a:rPr b="0" i="1" lang="en-US" sz="3000" spc="-1" strike="noStrike">
                <a:solidFill>
                  <a:srgbClr val="4d4d4d"/>
                </a:solidFill>
                <a:latin typeface="Tahoma"/>
              </a:rPr>
              <a:t>n </a:t>
            </a: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Walsh matrix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buClr>
                <a:srgbClr val="0099cc"/>
              </a:buClr>
              <a:buSzPct val="70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W</a:t>
            </a:r>
            <a:r>
              <a:rPr b="0" lang="en-US" sz="3000" spc="-1" strike="noStrike" baseline="-25000">
                <a:solidFill>
                  <a:srgbClr val="4d4d4d"/>
                </a:solidFill>
                <a:latin typeface="Tahoma"/>
              </a:rPr>
              <a:t>1</a:t>
            </a: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 = (0)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Font typeface="Monotype Sorts" charset="2"/>
              <a:buChar char="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4d4d4d"/>
                </a:solidFill>
                <a:latin typeface="Tahoma"/>
              </a:rPr>
              <a:t>n</a:t>
            </a: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 = dimension of the matrix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buClr>
                <a:srgbClr val="0099cc"/>
              </a:buClr>
              <a:buSzPct val="70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Every row is orthogonal to every other row and to the logical not of every other row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buClr>
                <a:srgbClr val="0099cc"/>
              </a:buClr>
              <a:buSzPct val="70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Requires tight synchronization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ahoma"/>
              </a:rPr>
              <a:t>Cross correlation between different shifts of Walsh sequences is not zero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114800" y="2438280"/>
                <a:ext cx="320976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SC 681: Wireless Networ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18F83-BF24-47EE-9856-7CFC8BE8DC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3T20:17:28Z</dcterms:created>
  <dc:creator>Elsa Valeroso, Ph.D.</dc:creator>
  <dc:description/>
  <dc:language>en-US</dc:language>
  <cp:lastModifiedBy>Patricio Valenzuela</cp:lastModifiedBy>
  <cp:lastPrinted>2000-06-15T06:04:42Z</cp:lastPrinted>
  <dcterms:modified xsi:type="dcterms:W3CDTF">2004-11-24T20:03:52Z</dcterms:modified>
  <cp:revision>171</cp:revision>
  <dc:subject/>
  <dc:title>Discussion Outline</dc:title>
</cp:coreProperties>
</file>