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DAE13-24E9-4FEB-85A9-CB9A40C64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8295-7BD8-45C9-B906-E8A7D7D99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29E0E-B5A6-4587-B95D-F4A2AC26D7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1D310-0B16-4707-A7B4-94F27D0FA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2AB3E-9359-4B51-901F-EA3DFAEF92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1FAF4-4483-42D1-A324-2EC4F8C3E5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C82E8-019E-45BC-98BF-FC815BB22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FB996-85CE-4DFD-86F3-16C97D7C64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24DD7-343E-4271-A312-9884CED5A7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8157-171F-4454-BBEA-B3814BFAD2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69B1A-A2CA-4D7D-BA68-437EC13C52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EC64-CEB9-44B1-B0AC-3A564874B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69244-9F34-4068-A71E-6F1C706109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BA4D5-1CE0-435D-B5A9-DAC6C7641C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86F6C-3414-438F-8A0A-A4D13E7847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F8225-BDA2-441C-8440-B8873DD0B4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4A904-B669-4F28-A125-1E4C3EC3CE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0F24-D85B-4F89-86EC-DB7521725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FE37-3007-4BDD-921F-3869E24DE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CEE5-0918-48CB-AEB5-417ECB82E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8CD9-8F23-4682-8F12-F6240504D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A57A0-E9DE-4536-91AB-745D85DB7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2A2A5-D9D8-4EFD-9707-9C0B6311B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5644-5F13-440A-A068-59AF59065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0"/>
            <a:ext cx="685440" cy="6858000"/>
            <a:chOff x="-720" y="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0"/>
              <a:ext cx="652320" cy="6857640"/>
              <a:chOff x="26640" y="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740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9168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5372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9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472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656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4416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8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976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496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314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2224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520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912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720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480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92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968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804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3144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buClr>
                <a:srgbClr val="3366cc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3911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634-BE10-4483-A931-CBF31DA77D84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7432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F326-633A-400C-BBDB-DA274F5907E0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EAD4-BDFA-457A-9467-837C80005F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Advantages of 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ty from various kinds of noise and multipath distor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an be used for hiding and encrypting sign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ral users can independently use the same higher bandwidth with very little interferenc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CA2C-242B-4605-AE70-58879DF0B7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Direct Sequence Spread Spectrum (DSSS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6A51B-F2AF-43F4-B768-6E20BD2317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ode-Division Multiple Access (CDMA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asic Principles of CDM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= rate of data sign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Break each bit into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chip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hips are a user-specific fixed pattern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hip data rate of new channel =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828D-B6BB-4EDF-BAEA-16B7C454F3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Orthogonal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rthogonal code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ll pairwise cross correlations are zer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ixed- and variable-length codes used in CDMA system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Tahoma"/>
              </a:rPr>
              <a:t>Provides zero cross correlation among all user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yp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Variable-Length Orthogonal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07410-B0F0-4023-9862-A855DBC0A2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t of Walsh codes of length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onsists of the n rows of an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´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alsh matrix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</a:t>
            </a:r>
            <a:r>
              <a:rPr b="0" lang="en-US" sz="30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 = (0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= dimension of the matrix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very row is orthogonal to every other row and to the logical not of every other row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Requires tight synchroniz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ross correlation between different shifts of Walsh sequences is not ze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2438280"/>
                <a:ext cx="32097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7C23-B4C2-4FA4-B380-21075FEE4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20:17:28Z</dcterms:created>
  <dc:creator>Elsa Valeroso, Ph.D.</dc:creator>
  <dc:description/>
  <dc:language>en-US</dc:language>
  <cp:lastModifiedBy>Patricio Valenzuela</cp:lastModifiedBy>
  <cp:lastPrinted>2000-06-15T06:04:42Z</cp:lastPrinted>
  <dcterms:modified xsi:type="dcterms:W3CDTF">2004-11-24T20:03:52Z</dcterms:modified>
  <cp:revision>171</cp:revision>
  <dc:subject/>
  <dc:title>Discussion Outline</dc:title>
</cp:coreProperties>
</file>