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EB5E-18F5-43A1-A3AD-7AF041FD9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D0E0C-DE89-4D52-8E7F-042002993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6EBA5-41C2-4AA1-9638-98D4A00DE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D11F-E122-427D-8FC2-7370CC49B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1FD56-D396-4493-B48F-42FE211070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BB027-EBC4-4471-B882-60289CF447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E6FC6-E2D9-4B4A-83A5-CC47A09F8D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748F2-8971-42DD-8A0A-06D379E4AD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3C91D-8ADE-475F-A973-91FCD83912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998D3-D637-41CE-83DA-6D9368F3B1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3B59E-CAF3-468C-8191-989D3455F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F0C8-0BC1-4407-ACA3-ACE9C3B5E9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EBE8D-DCC8-427D-A9BC-70D2BD02FB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90F77-0C78-4DA2-AFB5-22E2DEE654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AEF7A-4C46-4BB6-A244-ED4A06FD41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F93833-8991-4FD6-9BC6-89A8111EB2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70E80-31AF-43D7-9CC0-217B1A276A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88DE3-F77D-4AB9-8CA2-2A1BAD6F4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F301-5C1E-4584-8B0A-631E0B3940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5A71F-8067-4806-B0EC-6A7E7E6D8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CB72-9616-4849-97E6-DEE2CCD2A9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9BE4-E89F-4BA7-BF67-D7752E9DA5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2279-6D7C-4A0E-8465-D3A1D205C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A6EED-14A8-4C14-867B-BA5527B8F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0"/>
            <a:ext cx="685440" cy="6858000"/>
            <a:chOff x="-720" y="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0"/>
              <a:ext cx="652320" cy="6857640"/>
              <a:chOff x="26640" y="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740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9168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5372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9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472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656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4416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8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976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496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314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2224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520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912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720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480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92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968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804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3144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buClr>
                <a:srgbClr val="3366cc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3911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1898-7E19-427E-A479-20CA4BC04564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7432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C3E1-5B29-4D02-BE4C-1AFCECBD3965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FF21-0667-464F-8943-440AF5D575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Advantages of 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ty from various kinds of noise and multipath distor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an be used for hiding and encrypting sign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ral users can independently use the same higher bandwidth with very little interferenc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FFDB9-021D-47DC-A183-B6F608E0C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Direct Sequence Spread Spectrum (DSSS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BD45F-C06D-4F15-9DA9-A43A0A6AE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ode-Division Multiple Access (CDMA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asic Principles of CDM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= rate of data sign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Break each bit into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chip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hips are a user-specific fixed pattern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hip data rate of new channel =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5437F-9C73-41D0-B180-1249D2965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Orthogonal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rthogonal code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ll pairwise cross correlations are zer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ixed- and variable-length codes used in CDMA system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Tahoma"/>
              </a:rPr>
              <a:t>Provides zero cross correlation among all user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yp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Variable-Length Orthogonal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9CA0-9CFE-48BA-8DAC-8CFAF9ACDD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t of Walsh codes of length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onsists of the n rows of an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´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alsh matrix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</a:t>
            </a:r>
            <a:r>
              <a:rPr b="0" lang="en-US" sz="30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 = (0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= dimension of the matrix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very row is orthogonal to every other row and to the logical not of every other row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Requires tight synchroniz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ross correlation between different shifts of Walsh sequences is not ze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2438280"/>
                <a:ext cx="32097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75B7E-41AE-40DB-9E17-35874A1CF9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20:17:28Z</dcterms:created>
  <dc:creator>Elsa Valeroso, Ph.D.</dc:creator>
  <dc:description/>
  <dc:language>en-US</dc:language>
  <cp:lastModifiedBy>Patricio Valenzuela</cp:lastModifiedBy>
  <cp:lastPrinted>2000-06-15T06:04:42Z</cp:lastPrinted>
  <dcterms:modified xsi:type="dcterms:W3CDTF">2004-11-24T20:03:52Z</dcterms:modified>
  <cp:revision>171</cp:revision>
  <dc:subject/>
  <dc:title>Discussion Outline</dc:title>
</cp:coreProperties>
</file>