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CE53-1877-4639-897B-66B358088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5B33-A6C5-4938-8C89-493B8124A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3CF3-0A70-4105-9333-EF9239003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C44C-B645-4ACF-8BFD-925AE5E84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F64FD-68D1-495E-9693-746952F14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9F9FF-DF1C-41E1-9A38-05684631C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1205D-1372-4BD6-ABAC-66BAF405DB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01CBD-B947-4A72-9FB5-ADD5CCA527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CB34F-6056-4457-A5B0-01E51B44E8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B7604-9A73-4F76-B4D7-7BEB91091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2E64-A0D1-4D9D-AD44-4FBB5BE07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E9FF-4FF2-4C74-9692-0F6A5DA16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475D-2FCF-409A-918A-683860431B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F6C6-B3D6-4A0A-8E52-91CA6F709D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A873-F012-4A83-BA5F-F295B44FC8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FC4CF-AEB4-40F4-B651-062075732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7738F-AB99-4787-9043-1F0ECBF5D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8F3F-430C-4073-B72C-5341BE19F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7384-96FE-458C-A1A9-BDB966957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0334-2B47-406D-9A6D-A4A3CF5FF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A0EB-5DE6-4A74-BF78-229CC0925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96F7-5F5A-40BA-965A-5BCF1F3E4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FAE5-64CC-4859-8E0B-5334594A9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3268-B46E-48AE-B37A-A486582B0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0"/>
            <a:ext cx="685440" cy="6858000"/>
            <a:chOff x="-720" y="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0"/>
              <a:ext cx="652320" cy="6857640"/>
              <a:chOff x="26640" y="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740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9168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5372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9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472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656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4416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8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976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496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314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2224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520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912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720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480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92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968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804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3144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buClr>
                <a:srgbClr val="3366cc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3911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770-334E-4084-9AB5-2007E880871D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7432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04F5-086E-438B-BE34-605CE8A9DD25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407F-2F65-41DA-A301-5666BBD57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Advantages of 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ty from various kinds of noise and multipath distor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an be used for hiding and encrypting sign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ral users can independently use the same higher bandwidth with very little interferenc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B9E9-DAD5-4A86-BB0E-2EEFDABCF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Direct Sequence Spread Spectrum (DSSS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954E-B6B1-4A92-931E-9F7A1C01B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ode-Division Multiple Access (CDMA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asic Principles of CDM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= rate of data sign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Break each bit into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chip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hips are a user-specific fixed pattern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hip data rate of new channel =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D665-EC70-4480-B03E-FF1E5163C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Orthogonal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rthogonal code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ll pairwise cross correlations are zer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ixed- and variable-length codes used in CDMA system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Tahoma"/>
              </a:rPr>
              <a:t>Provides zero cross correlation among all user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yp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Variable-Length Orthogonal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AEB7-605F-44B4-B867-842CE2C842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t of Walsh codes of length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onsists of the n rows of an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´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alsh matrix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</a:t>
            </a:r>
            <a:r>
              <a:rPr b="0" lang="en-US" sz="30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 = (0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= dimension of the matrix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very row is orthogonal to every other row and to the logical not of every other row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Requires tight synchroniz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ross correlation between different shifts of Walsh sequences is not ze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2438280"/>
                <a:ext cx="32097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821E-301F-4AD2-AC8E-2744DC0A9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20:17:28Z</dcterms:created>
  <dc:creator>Elsa Valeroso, Ph.D.</dc:creator>
  <dc:description/>
  <dc:language>en-US</dc:language>
  <cp:lastModifiedBy>Patricio Valenzuela</cp:lastModifiedBy>
  <cp:lastPrinted>2000-06-15T06:04:42Z</cp:lastPrinted>
  <dcterms:modified xsi:type="dcterms:W3CDTF">2004-11-24T20:03:52Z</dcterms:modified>
  <cp:revision>171</cp:revision>
  <dc:subject/>
  <dc:title>Discussion Outline</dc:title>
</cp:coreProperties>
</file>