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2674-2690-4AAC-80BB-B2001EDC9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EDFA-683B-45ED-9186-F93A2AEBD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5B2B-5F24-46F9-89DD-AD984927A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6AE4-CD5E-47C8-A046-D320E4918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9403C-D99E-4971-A072-73690FF47D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DA199-42A3-48A6-BF4C-F0391F74A1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A2FDA-FB56-4940-8514-45AA86BA5B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D2A8-7A79-4621-8ECB-A37FC69FE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CAAC-CE1C-4A3A-9773-B352B6E0A1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6CA59-ACBD-4789-996C-F3E0C3F63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315C-7483-4650-B586-F780DFCCC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7A4A-01CA-4BDB-8673-3FF282EE5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6B77-7E82-4224-835A-7C65D68B60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B041-7BC5-4049-B0BF-3F2E7D8BF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5C430-1989-4BA0-8BD8-F088B24C2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D3D0A-B38D-4A5E-9F53-F2AC046E3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C05CB-4856-4577-B08F-367B91336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ADED-0D1C-4FEE-9547-64C8A39EE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6A9C-66C8-4A6E-8688-DC8AC344E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1FB0-1AA0-47FE-B3AE-25078A951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0D35-A941-4C96-940F-D562DFA59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67AB-F8CA-4532-8972-3C14D81A7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CD5A-6361-4469-8DAB-A3D176AC4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4D87-CC13-4473-B39E-ADB9FCB0F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0"/>
            <a:ext cx="685440" cy="6858000"/>
            <a:chOff x="-720" y="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0"/>
              <a:ext cx="652320" cy="6857640"/>
              <a:chOff x="26640" y="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740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9168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5372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9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472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656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4416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8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976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496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314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2224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520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912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720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480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92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968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804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3144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buClr>
                <a:srgbClr val="3366cc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3911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3F76-E9BC-428D-84EB-67558EBA0231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7432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0107-219C-4653-9B12-5BEACFB3217F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69D5-529A-4467-83FE-08A733096A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Advantages of 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ty from various kinds of noise and multipath distor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an be used for hiding and encrypting sign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ral users can independently use the same higher bandwidth with very little interferenc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1B4A-2E41-4689-96D4-5F89F91FA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Direct Sequence Spread Spectrum (DSSS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ABBF-1699-47BD-AA4B-261A1701C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ode-Division Multiple Access (CDMA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asic Principles of CDM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= rate of data sign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Break each bit into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chip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hips are a user-specific fixed pattern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hip data rate of new channel =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E713-0F7A-44D9-B1E5-89C15E4C4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Orthogonal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rthogonal code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ll pairwise cross correlations are zer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ixed- and variable-length codes used in CDMA system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Tahoma"/>
              </a:rPr>
              <a:t>Provides zero cross correlation among all user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yp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Variable-Length Orthogonal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C03E-F123-4426-B004-E5DABABBF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t of Walsh codes of length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onsists of the n rows of an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´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alsh matrix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</a:t>
            </a:r>
            <a:r>
              <a:rPr b="0" lang="en-US" sz="30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 = (0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= dimension of the matrix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very row is orthogonal to every other row and to the logical not of every other row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Requires tight synchroniz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ross correlation between different shifts of Walsh sequences is not ze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2438280"/>
                <a:ext cx="32097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DF00-345D-4CF9-B638-8A257A42F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20:17:28Z</dcterms:created>
  <dc:creator>Elsa Valeroso, Ph.D.</dc:creator>
  <dc:description/>
  <dc:language>en-US</dc:language>
  <cp:lastModifiedBy>Patricio Valenzuela</cp:lastModifiedBy>
  <cp:lastPrinted>2000-06-15T06:04:42Z</cp:lastPrinted>
  <dcterms:modified xsi:type="dcterms:W3CDTF">2004-11-24T20:03:52Z</dcterms:modified>
  <cp:revision>171</cp:revision>
  <dc:subject/>
  <dc:title>Discussion Outline</dc:title>
</cp:coreProperties>
</file>