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E416221-1965-4B5A-86DE-EE83D8B2BAA1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2.7A_3G SGSN_EKu.ppt/ 09.10.2000/ KT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2"/>
          <a:stretch/>
        </p:blipFill>
        <p:spPr>
          <a:xfrm>
            <a:off x="8366040" y="6502320"/>
            <a:ext cx="12351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wmf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jpeg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.wmf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7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8.bin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9.bin"/><Relationship Id="rId36" Type="http://schemas.openxmlformats.org/officeDocument/2006/relationships/image" Target="../media/image16.png"/><Relationship Id="rId37" Type="http://schemas.openxmlformats.org/officeDocument/2006/relationships/oleObject" Target="../embeddings/oleObject10.bin"/><Relationship Id="rId38" Type="http://schemas.openxmlformats.org/officeDocument/2006/relationships/image" Target="../media/image16.png"/><Relationship Id="rId39" Type="http://schemas.openxmlformats.org/officeDocument/2006/relationships/oleObject" Target="../embeddings/oleObject11.bin"/><Relationship Id="rId40" Type="http://schemas.openxmlformats.org/officeDocument/2006/relationships/image" Target="../media/image15.wmf"/><Relationship Id="rId41" Type="http://schemas.openxmlformats.org/officeDocument/2006/relationships/image" Target="../media/image5.png"/><Relationship Id="rId42" Type="http://schemas.openxmlformats.org/officeDocument/2006/relationships/oleObject" Target="../embeddings/oleObject12.bin"/><Relationship Id="rId43" Type="http://schemas.openxmlformats.org/officeDocument/2006/relationships/image" Target="../media/image15.wmf"/><Relationship Id="rId44" Type="http://schemas.openxmlformats.org/officeDocument/2006/relationships/oleObject" Target="../embeddings/oleObject13.bin"/><Relationship Id="rId45" Type="http://schemas.openxmlformats.org/officeDocument/2006/relationships/image" Target="../media/image17.wmf"/><Relationship Id="rId46" Type="http://schemas.openxmlformats.org/officeDocument/2006/relationships/oleObject" Target="../embeddings/oleObject14.bin"/><Relationship Id="rId47" Type="http://schemas.openxmlformats.org/officeDocument/2006/relationships/image" Target="../media/image18.wmf"/><Relationship Id="rId48" Type="http://schemas.openxmlformats.org/officeDocument/2006/relationships/oleObject" Target="../embeddings/oleObject15.bin"/><Relationship Id="rId49" Type="http://schemas.openxmlformats.org/officeDocument/2006/relationships/image" Target="../media/image19.wmf"/><Relationship Id="rId50" Type="http://schemas.openxmlformats.org/officeDocument/2006/relationships/image" Target="../media/image5.png"/><Relationship Id="rId51" Type="http://schemas.openxmlformats.org/officeDocument/2006/relationships/oleObject" Target="../embeddings/oleObject1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1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1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19.bin"/><Relationship Id="rId58" Type="http://schemas.openxmlformats.org/officeDocument/2006/relationships/image" Target="../media/image20.png"/><Relationship Id="rId59" Type="http://schemas.openxmlformats.org/officeDocument/2006/relationships/oleObject" Target="../embeddings/oleObject20.bin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0.wmf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2.wmf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7.wmf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8.bin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9.bin"/><Relationship Id="rId33" Type="http://schemas.openxmlformats.org/officeDocument/2006/relationships/image" Target="../media/image16.png"/><Relationship Id="rId34" Type="http://schemas.openxmlformats.org/officeDocument/2006/relationships/oleObject" Target="../embeddings/oleObject10.bin"/><Relationship Id="rId35" Type="http://schemas.openxmlformats.org/officeDocument/2006/relationships/image" Target="../media/image16.png"/><Relationship Id="rId36" Type="http://schemas.openxmlformats.org/officeDocument/2006/relationships/oleObject" Target="../embeddings/oleObject11.bin"/><Relationship Id="rId37" Type="http://schemas.openxmlformats.org/officeDocument/2006/relationships/image" Target="../media/image15.wmf"/><Relationship Id="rId38" Type="http://schemas.openxmlformats.org/officeDocument/2006/relationships/image" Target="../media/image5.png"/><Relationship Id="rId39" Type="http://schemas.openxmlformats.org/officeDocument/2006/relationships/oleObject" Target="../embeddings/oleObject12.bin"/><Relationship Id="rId40" Type="http://schemas.openxmlformats.org/officeDocument/2006/relationships/image" Target="../media/image15.wmf"/><Relationship Id="rId41" Type="http://schemas.openxmlformats.org/officeDocument/2006/relationships/oleObject" Target="../embeddings/oleObject13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14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15.bin"/><Relationship Id="rId46" Type="http://schemas.openxmlformats.org/officeDocument/2006/relationships/image" Target="../media/image19.wmf"/><Relationship Id="rId47" Type="http://schemas.openxmlformats.org/officeDocument/2006/relationships/image" Target="../media/image5.png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15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5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15.wmf"/><Relationship Id="rId54" Type="http://schemas.openxmlformats.org/officeDocument/2006/relationships/image" Target="../media/image21.jpeg"/><Relationship Id="rId55" Type="http://schemas.openxmlformats.org/officeDocument/2006/relationships/image" Target="../media/image21.jpeg"/><Relationship Id="rId56" Type="http://schemas.openxmlformats.org/officeDocument/2006/relationships/image" Target="../media/image22.png"/><Relationship Id="rId5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3G Serving GPRS Support No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SM to GP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/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95480" y="2684520"/>
            <a:ext cx="21600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6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5600880" y="2590920"/>
            <a:ext cx="1323720" cy="1195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20680" y="1173240"/>
            <a:ext cx="5711760" cy="2184480"/>
            <a:chOff x="1120680" y="1173240"/>
            <a:chExt cx="5711760" cy="2184480"/>
          </a:xfrm>
        </p:grpSpPr>
        <p:sp>
          <p:nvSpPr>
            <p:cNvPr id="48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2600" y="2019240"/>
              <a:ext cx="46656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3080" y="2028960"/>
              <a:ext cx="46692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7760" y="232884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0360" y="2490840"/>
              <a:ext cx="46656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31960" y="233352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54" name="bpilvi" descr=""/>
            <p:cNvPicPr/>
            <p:nvPr/>
          </p:nvPicPr>
          <p:blipFill>
            <a:blip r:embed="rId4"/>
            <a:srcRect l="26155" t="21817" r="25069" b="42415"/>
            <a:stretch/>
          </p:blipFill>
          <p:spPr>
            <a:xfrm>
              <a:off x="3897360" y="1424160"/>
              <a:ext cx="141912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pilvi" descr=""/>
            <p:cNvPicPr/>
            <p:nvPr/>
          </p:nvPicPr>
          <p:blipFill>
            <a:blip r:embed="rId5"/>
            <a:srcRect l="26155" t="21817" r="25069" b="42415"/>
            <a:stretch/>
          </p:blipFill>
          <p:spPr>
            <a:xfrm>
              <a:off x="5148360" y="1173240"/>
              <a:ext cx="1063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bpilvi" descr=""/>
            <p:cNvPicPr/>
            <p:nvPr/>
          </p:nvPicPr>
          <p:blipFill>
            <a:blip r:embed="rId6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627280" y="2301840"/>
              <a:ext cx="466920" cy="3175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2154240"/>
              <a:ext cx="466560" cy="311040"/>
            </a:xfrm>
            <a:custGeom>
              <a:avLst/>
              <a:gdLst/>
              <a:ahLst/>
              <a:rect l="l" t="t" r="r" b="b"/>
              <a:pathLst>
                <a:path w="385" h="232">
                  <a:moveTo>
                    <a:pt x="285" y="0"/>
                  </a:moveTo>
                  <a:lnTo>
                    <a:pt x="384" y="115"/>
                  </a:lnTo>
                  <a:lnTo>
                    <a:pt x="285" y="231"/>
                  </a:lnTo>
                  <a:lnTo>
                    <a:pt x="98" y="231"/>
                  </a:lnTo>
                  <a:lnTo>
                    <a:pt x="0" y="117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0360" y="2460600"/>
              <a:ext cx="465120" cy="3175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285" y="0"/>
                  </a:moveTo>
                  <a:lnTo>
                    <a:pt x="384" y="118"/>
                  </a:lnTo>
                  <a:lnTo>
                    <a:pt x="285" y="233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0" y="118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8400" y="2306520"/>
              <a:ext cx="468360" cy="31608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1994040"/>
              <a:ext cx="468360" cy="3175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0360" y="1843200"/>
              <a:ext cx="468000" cy="3157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5" y="0"/>
                  </a:moveTo>
                  <a:lnTo>
                    <a:pt x="386" y="116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7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7280" y="1994040"/>
              <a:ext cx="469800" cy="317520"/>
            </a:xfrm>
            <a:custGeom>
              <a:avLst/>
              <a:gdLst/>
              <a:ahLst/>
              <a:rect l="l" t="t" r="r" b="b"/>
              <a:pathLst>
                <a:path w="388" h="235">
                  <a:moveTo>
                    <a:pt x="286" y="0"/>
                  </a:moveTo>
                  <a:lnTo>
                    <a:pt x="387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92520" y="1979640"/>
              <a:ext cx="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6040" y="1976400"/>
              <a:ext cx="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2520" y="195732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6040" y="195408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2085840"/>
              <a:ext cx="10843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MSC/VL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722760" y="1773000"/>
              <a:ext cx="160020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3880" y="1703520"/>
              <a:ext cx="606240" cy="296640"/>
            </a:xfrm>
            <a:custGeom>
              <a:avLst/>
              <a:gdLst/>
              <a:ahLst/>
              <a:rect l="l" t="t" r="r" b="b"/>
              <a:pathLst>
                <a:path w="292" h="160">
                  <a:moveTo>
                    <a:pt x="0" y="0"/>
                  </a:moveTo>
                  <a:lnTo>
                    <a:pt x="174" y="61"/>
                  </a:lnTo>
                  <a:lnTo>
                    <a:pt x="123" y="93"/>
                  </a:lnTo>
                  <a:lnTo>
                    <a:pt x="291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4202280" y="1441440"/>
            <a:ext cx="353880" cy="787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02280" y="1441440"/>
                      <a:ext cx="3538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4433760" y="1441440"/>
            <a:ext cx="354240" cy="787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33760" y="1441440"/>
                      <a:ext cx="35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665600" y="1441440"/>
            <a:ext cx="352440" cy="78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65600" y="1441440"/>
                      <a:ext cx="3524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264280" y="1406520"/>
              <a:ext cx="75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8920" y="159084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65520" y="20224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57600" y="201780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8920" y="15652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5520" y="199692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57600" y="199224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1347840"/>
              <a:ext cx="5108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T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0" name="mntw01s" descr=""/>
            <p:cNvPicPr/>
            <p:nvPr/>
          </p:nvPicPr>
          <p:blipFill>
            <a:blip r:embed="rId22"/>
            <a:stretch/>
          </p:blipFill>
          <p:spPr>
            <a:xfrm>
              <a:off x="2732040" y="1579680"/>
              <a:ext cx="333360" cy="820800"/>
            </a:xfrm>
            <a:prstGeom prst="rect">
              <a:avLst/>
            </a:prstGeom>
            <a:ln w="0">
              <a:noFill/>
            </a:ln>
            <a:effectLst>
              <a:outerShdw dist="73964" dir="8936435" blurRad="0" rotWithShape="0">
                <a:srgbClr val="cfcfcf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254400" y="1270080"/>
              <a:ext cx="528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SC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3265560" y="1503360"/>
            <a:ext cx="520560" cy="107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5560" y="1503360"/>
                      <a:ext cx="52056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25"/>
            <a:stretch/>
          </p:blipFill>
          <p:spPr>
            <a:xfrm>
              <a:off x="1335240" y="2523960"/>
              <a:ext cx="609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9110demo_main" descr=""/>
            <p:cNvPicPr/>
            <p:nvPr/>
          </p:nvPicPr>
          <p:blipFill>
            <a:blip r:embed="rId26"/>
            <a:stretch/>
          </p:blipFill>
          <p:spPr>
            <a:xfrm>
              <a:off x="1120680" y="1436760"/>
              <a:ext cx="1076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74760" y="2514600"/>
              <a:ext cx="47016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0" y="153"/>
                  </a:moveTo>
                  <a:lnTo>
                    <a:pt x="146" y="43"/>
                  </a:lnTo>
                  <a:lnTo>
                    <a:pt x="146" y="102"/>
                  </a:lnTo>
                  <a:lnTo>
                    <a:pt x="2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8" name="bpilvi" descr=""/>
            <p:cNvPicPr/>
            <p:nvPr/>
          </p:nvPicPr>
          <p:blipFill>
            <a:blip r:embed="rId27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9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22760" y="3017520"/>
              <a:ext cx="85572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7840" y="2646360"/>
              <a:ext cx="8892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26160" y="2646360"/>
              <a:ext cx="540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9080" y="2849400"/>
              <a:ext cx="9633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Operator Service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04920" y="2905200"/>
            <a:ext cx="6624720" cy="3841200"/>
            <a:chOff x="1204920" y="2905200"/>
            <a:chExt cx="6624720" cy="3841200"/>
          </a:xfrm>
        </p:grpSpPr>
        <p:sp>
          <p:nvSpPr>
            <p:cNvPr id="109" name=""/>
            <p:cNvSpPr/>
            <p:nvPr/>
          </p:nvSpPr>
          <p:spPr>
            <a:xfrm>
              <a:off x="2230560" y="4986360"/>
              <a:ext cx="3406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7440" y="4348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11" name="bpilvi" descr=""/>
            <p:cNvPicPr/>
            <p:nvPr/>
          </p:nvPicPr>
          <p:blipFill>
            <a:blip r:embed="rId30"/>
            <a:srcRect l="26155" t="21817" r="25069" b="42415"/>
            <a:stretch/>
          </p:blipFill>
          <p:spPr>
            <a:xfrm>
              <a:off x="2577960" y="3578400"/>
              <a:ext cx="1155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21120" y="4691160"/>
              <a:ext cx="81144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73560" y="3621240"/>
              <a:ext cx="976320" cy="9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560" y="4041720"/>
              <a:ext cx="10843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ord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BG)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2600" y="3021120"/>
              <a:ext cx="94464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erving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SGSN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9160" y="4902120"/>
              <a:ext cx="12258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 (GGSN)/ CheckPoint Firewall-1 / VP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03000" y="4127400"/>
              <a:ext cx="281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32040" y="3751200"/>
              <a:ext cx="7178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1960" y="3713040"/>
              <a:ext cx="1176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harging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CG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049640" y="3622680"/>
            <a:ext cx="270000" cy="4730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049640" y="362268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 rot="10800000">
            <a:off x="4065480" y="4626000"/>
            <a:ext cx="1068480" cy="3254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 rot="10800000">
                      <a:off x="4065480" y="4626000"/>
                      <a:ext cx="10684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 rot="10800000">
            <a:off x="4392720" y="4367160"/>
            <a:ext cx="1066680" cy="325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0800000">
                      <a:off x="4392720" y="436716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 rot="10800000">
            <a:off x="1600200" y="4357800"/>
            <a:ext cx="1066680" cy="3254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 rot="10800000">
                      <a:off x="1600200" y="435780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4211640" y="3618000"/>
            <a:ext cx="270000" cy="4730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211640" y="36180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bpilvi" descr=""/>
            <p:cNvPicPr/>
            <p:nvPr/>
          </p:nvPicPr>
          <p:blipFill>
            <a:blip r:embed="rId41"/>
            <a:srcRect l="26155" t="21817" r="25069" b="42415"/>
            <a:stretch/>
          </p:blipFill>
          <p:spPr>
            <a:xfrm>
              <a:off x="5440320" y="4867200"/>
              <a:ext cx="10098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flipV="1">
              <a:off x="6173640" y="4359240"/>
              <a:ext cx="4114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634000"/>
              <a:ext cx="2286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684480" y="605160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40680" y="596124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7416720" y="5807160"/>
            <a:ext cx="389160" cy="68112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7416720" y="5807160"/>
                      <a:ext cx="38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7226280" y="5662440"/>
              <a:ext cx="0" cy="86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2920" y="6110280"/>
              <a:ext cx="631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7640" y="5678640"/>
              <a:ext cx="1019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9080" y="5054760"/>
              <a:ext cx="9874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Corporate Customer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6299280" y="5931000"/>
            <a:ext cx="790560" cy="280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299280" y="593100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H="1">
              <a:off x="6706800" y="4443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7442280" y="4227480"/>
            <a:ext cx="387360" cy="67932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442280" y="4227480"/>
                      <a:ext cx="3873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6251400" y="4052880"/>
              <a:ext cx="1113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54680" y="3581280"/>
              <a:ext cx="986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Mobile ISP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6324480" y="4322880"/>
            <a:ext cx="790560" cy="28080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324480" y="432288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545080" y="5046840"/>
              <a:ext cx="77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nternet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680" y="4278240"/>
              <a:ext cx="8780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4640" y="3809880"/>
              <a:ext cx="7797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ackbon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P based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12800" y="3544920"/>
              <a:ext cx="651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54" name="bpilvi" descr=""/>
            <p:cNvPicPr/>
            <p:nvPr/>
          </p:nvPicPr>
          <p:blipFill>
            <a:blip r:embed="rId50"/>
            <a:srcRect l="26155" t="21817" r="25069" b="42415"/>
            <a:stretch/>
          </p:blipFill>
          <p:spPr>
            <a:xfrm>
              <a:off x="1236600" y="4761000"/>
              <a:ext cx="106200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04920" y="4978440"/>
              <a:ext cx="1052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Inter-PLM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63800" y="4667400"/>
              <a:ext cx="2397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21160" y="3179520"/>
              <a:ext cx="52056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3363840"/>
              <a:ext cx="9255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ustom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are and Billing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162840" y="3195720"/>
            <a:ext cx="269640" cy="4730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6162840" y="319572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697360" y="3610080"/>
              <a:ext cx="8766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 Management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5894280" y="3025800"/>
            <a:ext cx="270000" cy="4730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894280" y="30258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7236000" y="4005360"/>
              <a:ext cx="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59560" y="2949480"/>
            <a:ext cx="269640" cy="4730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659560" y="294948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PRS to 3G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2" name="phone_main_ui" descr=""/>
          <p:cNvPicPr/>
          <p:nvPr/>
        </p:nvPicPr>
        <p:blipFill>
          <a:blip r:embed="rId2"/>
          <a:stretch/>
        </p:blipFill>
        <p:spPr>
          <a:xfrm>
            <a:off x="1406520" y="2414520"/>
            <a:ext cx="911160" cy="4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384280" y="2562120"/>
            <a:ext cx="470160" cy="2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" name=""/>
          <p:cNvSpPr/>
          <p:nvPr/>
        </p:nvSpPr>
        <p:spPr>
          <a:xfrm>
            <a:off x="2790720" y="1927080"/>
            <a:ext cx="46692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" name=""/>
          <p:cNvSpPr/>
          <p:nvPr/>
        </p:nvSpPr>
        <p:spPr>
          <a:xfrm>
            <a:off x="3481560" y="193680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" name=""/>
          <p:cNvSpPr/>
          <p:nvPr/>
        </p:nvSpPr>
        <p:spPr>
          <a:xfrm>
            <a:off x="3486240" y="2236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>
            <a:off x="3138480" y="2398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2800440" y="224172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9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4065480" y="1332000"/>
            <a:ext cx="1419480" cy="1272960"/>
          </a:xfrm>
          <a:prstGeom prst="rect">
            <a:avLst/>
          </a:prstGeom>
          <a:ln w="0">
            <a:noFill/>
          </a:ln>
        </p:spPr>
      </p:pic>
      <p:pic>
        <p:nvPicPr>
          <p:cNvPr id="180" name="bpilvi" descr=""/>
          <p:cNvPicPr/>
          <p:nvPr/>
        </p:nvPicPr>
        <p:blipFill>
          <a:blip r:embed="rId4"/>
          <a:srcRect l="26155" t="21817" r="25069" b="42415"/>
          <a:stretch/>
        </p:blipFill>
        <p:spPr>
          <a:xfrm>
            <a:off x="5316480" y="1081080"/>
            <a:ext cx="106380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bpilvi" descr=""/>
          <p:cNvPicPr/>
          <p:nvPr/>
        </p:nvPicPr>
        <p:blipFill>
          <a:blip r:embed="rId5"/>
          <a:srcRect l="26155" t="21817" r="25069" b="42415"/>
          <a:stretch/>
        </p:blipFill>
        <p:spPr>
          <a:xfrm>
            <a:off x="4681440" y="24764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5760" y="2209680"/>
            <a:ext cx="466560" cy="3175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3" name=""/>
          <p:cNvSpPr/>
          <p:nvPr/>
        </p:nvSpPr>
        <p:spPr>
          <a:xfrm>
            <a:off x="3139920" y="2062080"/>
            <a:ext cx="466920" cy="311400"/>
          </a:xfrm>
          <a:custGeom>
            <a:avLst/>
            <a:gdLst/>
            <a:ahLst/>
            <a:rect l="l" t="t" r="r" b="b"/>
            <a:pathLst>
              <a:path w="385" h="232">
                <a:moveTo>
                  <a:pt x="285" y="0"/>
                </a:moveTo>
                <a:lnTo>
                  <a:pt x="384" y="115"/>
                </a:lnTo>
                <a:lnTo>
                  <a:pt x="285" y="231"/>
                </a:lnTo>
                <a:lnTo>
                  <a:pt x="98" y="231"/>
                </a:lnTo>
                <a:lnTo>
                  <a:pt x="0" y="117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4" name=""/>
          <p:cNvSpPr/>
          <p:nvPr/>
        </p:nvSpPr>
        <p:spPr>
          <a:xfrm>
            <a:off x="3138480" y="2368440"/>
            <a:ext cx="465120" cy="317520"/>
          </a:xfrm>
          <a:custGeom>
            <a:avLst/>
            <a:gdLst/>
            <a:ahLst/>
            <a:rect l="l" t="t" r="r" b="b"/>
            <a:pathLst>
              <a:path w="385" h="235">
                <a:moveTo>
                  <a:pt x="285" y="0"/>
                </a:moveTo>
                <a:lnTo>
                  <a:pt x="384" y="118"/>
                </a:lnTo>
                <a:lnTo>
                  <a:pt x="285" y="233"/>
                </a:lnTo>
                <a:lnTo>
                  <a:pt x="285" y="234"/>
                </a:lnTo>
                <a:lnTo>
                  <a:pt x="98" y="234"/>
                </a:lnTo>
                <a:lnTo>
                  <a:pt x="0" y="118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5" name=""/>
          <p:cNvSpPr/>
          <p:nvPr/>
        </p:nvSpPr>
        <p:spPr>
          <a:xfrm>
            <a:off x="3476520" y="221472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6" name=""/>
          <p:cNvSpPr/>
          <p:nvPr/>
        </p:nvSpPr>
        <p:spPr>
          <a:xfrm>
            <a:off x="3476520" y="1901880"/>
            <a:ext cx="468360" cy="3175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1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7" name=""/>
          <p:cNvSpPr/>
          <p:nvPr/>
        </p:nvSpPr>
        <p:spPr>
          <a:xfrm>
            <a:off x="3138480" y="175104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5" y="0"/>
                </a:moveTo>
                <a:lnTo>
                  <a:pt x="386" y="116"/>
                </a:lnTo>
                <a:lnTo>
                  <a:pt x="285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7" y="0"/>
                </a:lnTo>
                <a:lnTo>
                  <a:pt x="285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8" name=""/>
          <p:cNvSpPr/>
          <p:nvPr/>
        </p:nvSpPr>
        <p:spPr>
          <a:xfrm>
            <a:off x="2795760" y="1901880"/>
            <a:ext cx="469800" cy="31752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286" y="0"/>
                </a:moveTo>
                <a:lnTo>
                  <a:pt x="387" y="116"/>
                </a:lnTo>
                <a:lnTo>
                  <a:pt x="286" y="231"/>
                </a:lnTo>
                <a:lnTo>
                  <a:pt x="286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9" name=""/>
          <p:cNvSpPr/>
          <p:nvPr/>
        </p:nvSpPr>
        <p:spPr>
          <a:xfrm>
            <a:off x="2960640" y="18874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0" name=""/>
          <p:cNvSpPr/>
          <p:nvPr/>
        </p:nvSpPr>
        <p:spPr>
          <a:xfrm>
            <a:off x="2954160" y="188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1" name=""/>
          <p:cNvSpPr/>
          <p:nvPr/>
        </p:nvSpPr>
        <p:spPr>
          <a:xfrm>
            <a:off x="2960640" y="186516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2" name=""/>
          <p:cNvSpPr/>
          <p:nvPr/>
        </p:nvSpPr>
        <p:spPr>
          <a:xfrm>
            <a:off x="2954160" y="18622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3" name=""/>
          <p:cNvSpPr/>
          <p:nvPr/>
        </p:nvSpPr>
        <p:spPr>
          <a:xfrm>
            <a:off x="4043520" y="1994040"/>
            <a:ext cx="1083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3G MSC/VL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90880" y="1681200"/>
            <a:ext cx="16002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5" name=""/>
          <p:cNvSpPr/>
          <p:nvPr/>
        </p:nvSpPr>
        <p:spPr>
          <a:xfrm>
            <a:off x="2232000" y="1611360"/>
            <a:ext cx="606600" cy="29664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0" y="0"/>
                </a:moveTo>
                <a:lnTo>
                  <a:pt x="174" y="61"/>
                </a:lnTo>
                <a:lnTo>
                  <a:pt x="123" y="93"/>
                </a:lnTo>
                <a:lnTo>
                  <a:pt x="291" y="15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70400" y="1349280"/>
          <a:ext cx="35388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7040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602240" y="1349280"/>
          <a:ext cx="35388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0224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34080" y="1349280"/>
          <a:ext cx="352440" cy="78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34080" y="1349280"/>
                    <a:ext cx="352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432400" y="1314360"/>
            <a:ext cx="75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" name=""/>
          <p:cNvSpPr/>
          <p:nvPr/>
        </p:nvSpPr>
        <p:spPr>
          <a:xfrm>
            <a:off x="4807080" y="2657520"/>
            <a:ext cx="75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S7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" name=""/>
          <p:cNvSpPr/>
          <p:nvPr/>
        </p:nvSpPr>
        <p:spPr>
          <a:xfrm>
            <a:off x="2867040" y="1498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" name=""/>
          <p:cNvSpPr/>
          <p:nvPr/>
        </p:nvSpPr>
        <p:spPr>
          <a:xfrm>
            <a:off x="2933640" y="19303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" name=""/>
          <p:cNvSpPr/>
          <p:nvPr/>
        </p:nvSpPr>
        <p:spPr>
          <a:xfrm>
            <a:off x="2925720" y="1925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" name=""/>
          <p:cNvSpPr/>
          <p:nvPr/>
        </p:nvSpPr>
        <p:spPr>
          <a:xfrm>
            <a:off x="2867040" y="14731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905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" name=""/>
          <p:cNvSpPr/>
          <p:nvPr/>
        </p:nvSpPr>
        <p:spPr>
          <a:xfrm>
            <a:off x="2925720" y="19000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" name=""/>
          <p:cNvSpPr/>
          <p:nvPr/>
        </p:nvSpPr>
        <p:spPr>
          <a:xfrm>
            <a:off x="2832120" y="1255680"/>
            <a:ext cx="511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15" name="mntw01s" descr=""/>
          <p:cNvPicPr/>
          <p:nvPr/>
        </p:nvPicPr>
        <p:blipFill>
          <a:blip r:embed="rId21"/>
          <a:stretch/>
        </p:blipFill>
        <p:spPr>
          <a:xfrm>
            <a:off x="2900520" y="1487520"/>
            <a:ext cx="333360" cy="820800"/>
          </a:xfrm>
          <a:prstGeom prst="rect">
            <a:avLst/>
          </a:prstGeom>
          <a:ln w="0">
            <a:noFill/>
          </a:ln>
          <a:effectLst>
            <a:outerShdw dist="73964" dir="8936435" blurRad="0" rotWithShape="0">
              <a:srgbClr val="cfcfcf"/>
            </a:outerShdw>
          </a:effectLst>
        </p:spPr>
      </p:pic>
      <p:sp>
        <p:nvSpPr>
          <p:cNvPr id="216" name=""/>
          <p:cNvSpPr/>
          <p:nvPr/>
        </p:nvSpPr>
        <p:spPr>
          <a:xfrm>
            <a:off x="3422520" y="1177920"/>
            <a:ext cx="528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33680" y="1411200"/>
          <a:ext cx="52092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33680" y="1411200"/>
                    <a:ext cx="52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43240" y="242244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0" y="153"/>
                </a:moveTo>
                <a:lnTo>
                  <a:pt x="146" y="43"/>
                </a:lnTo>
                <a:lnTo>
                  <a:pt x="146" y="102"/>
                </a:lnTo>
                <a:lnTo>
                  <a:pt x="295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" name=""/>
          <p:cNvSpPr/>
          <p:nvPr/>
        </p:nvSpPr>
        <p:spPr>
          <a:xfrm>
            <a:off x="2398680" y="4894200"/>
            <a:ext cx="340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" name=""/>
          <p:cNvSpPr/>
          <p:nvPr/>
        </p:nvSpPr>
        <p:spPr>
          <a:xfrm>
            <a:off x="7405560" y="425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22" name="bpilvi" descr=""/>
          <p:cNvPicPr/>
          <p:nvPr/>
        </p:nvPicPr>
        <p:blipFill>
          <a:blip r:embed="rId24"/>
          <a:srcRect l="26155" t="21817" r="25069" b="42415"/>
          <a:stretch/>
        </p:blipFill>
        <p:spPr>
          <a:xfrm>
            <a:off x="2746440" y="3486240"/>
            <a:ext cx="1155600" cy="1212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989600" y="4599000"/>
            <a:ext cx="81108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42040" y="3528720"/>
            <a:ext cx="976320" cy="9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5" name=""/>
          <p:cNvSpPr/>
          <p:nvPr/>
        </p:nvSpPr>
        <p:spPr>
          <a:xfrm>
            <a:off x="1751040" y="3949560"/>
            <a:ext cx="1084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ord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BG)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6" name=""/>
          <p:cNvSpPr/>
          <p:nvPr/>
        </p:nvSpPr>
        <p:spPr>
          <a:xfrm>
            <a:off x="2521080" y="2928960"/>
            <a:ext cx="944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erving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3G SGSN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7" name=""/>
          <p:cNvSpPr/>
          <p:nvPr/>
        </p:nvSpPr>
        <p:spPr>
          <a:xfrm>
            <a:off x="6097680" y="206208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3G 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809960"/>
            <a:ext cx="122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 (GGSN)/ CheckPoint Firewall-1 / VP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71840" y="4035600"/>
            <a:ext cx="280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bpilvi" descr=""/>
          <p:cNvPicPr/>
          <p:nvPr/>
        </p:nvPicPr>
        <p:blipFill>
          <a:blip r:embed="rId27"/>
          <a:srcRect l="26155" t="21817" r="25069" b="42415"/>
          <a:stretch/>
        </p:blipFill>
        <p:spPr>
          <a:xfrm>
            <a:off x="5769000" y="2498760"/>
            <a:ext cx="1324080" cy="119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800520" y="3658680"/>
            <a:ext cx="7174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621240"/>
            <a:ext cx="1176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harging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CG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18120" y="3530520"/>
          <a:ext cx="26964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8120" y="353052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 rot="10800000">
          <a:off x="4233960" y="4533840"/>
          <a:ext cx="1068120" cy="325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10800000">
                    <a:off x="4233960" y="4533840"/>
                    <a:ext cx="1068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 rot="10800000">
          <a:off x="4560840" y="4275000"/>
          <a:ext cx="1066680" cy="3254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0800000">
                    <a:off x="4560840" y="4275000"/>
                    <a:ext cx="10666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 rot="10800000">
          <a:off x="1768320" y="4265640"/>
          <a:ext cx="1067040" cy="325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 rot="10800000">
                    <a:off x="1768320" y="4265640"/>
                    <a:ext cx="1067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379760" y="3525840"/>
          <a:ext cx="270000" cy="473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79760" y="352584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 flipV="1">
            <a:off x="3890880" y="2925720"/>
            <a:ext cx="8557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48" name="bpilvi" descr=""/>
          <p:cNvPicPr/>
          <p:nvPr/>
        </p:nvPicPr>
        <p:blipFill>
          <a:blip r:embed="rId38"/>
          <a:srcRect l="26155" t="21817" r="25069" b="42415"/>
          <a:stretch/>
        </p:blipFill>
        <p:spPr>
          <a:xfrm>
            <a:off x="5608800" y="4775040"/>
            <a:ext cx="1009440" cy="971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6342120" y="4267080"/>
            <a:ext cx="41112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0" name=""/>
          <p:cNvSpPr/>
          <p:nvPr/>
        </p:nvSpPr>
        <p:spPr>
          <a:xfrm>
            <a:off x="6296040" y="5541840"/>
            <a:ext cx="2286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853320" y="595944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2" name=""/>
          <p:cNvSpPr/>
          <p:nvPr/>
        </p:nvSpPr>
        <p:spPr>
          <a:xfrm>
            <a:off x="7408800" y="586908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85200" y="5715000"/>
          <a:ext cx="388800" cy="68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85200" y="5715000"/>
                    <a:ext cx="388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394400" y="557064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6" name=""/>
          <p:cNvSpPr/>
          <p:nvPr/>
        </p:nvSpPr>
        <p:spPr>
          <a:xfrm>
            <a:off x="6791400" y="6018120"/>
            <a:ext cx="631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7" name=""/>
          <p:cNvSpPr/>
          <p:nvPr/>
        </p:nvSpPr>
        <p:spPr>
          <a:xfrm>
            <a:off x="6396120" y="5586480"/>
            <a:ext cx="101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8" name=""/>
          <p:cNvSpPr/>
          <p:nvPr/>
        </p:nvSpPr>
        <p:spPr>
          <a:xfrm>
            <a:off x="6937200" y="4962600"/>
            <a:ext cx="98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Corporate Custom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467400" y="5838840"/>
          <a:ext cx="790560" cy="280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67400" y="583884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 flipH="1">
            <a:off x="6875640" y="435132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10400" y="4135320"/>
          <a:ext cx="387360" cy="679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10400" y="4135320"/>
                    <a:ext cx="387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6419880" y="3960720"/>
            <a:ext cx="11127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5" name=""/>
          <p:cNvSpPr/>
          <p:nvPr/>
        </p:nvSpPr>
        <p:spPr>
          <a:xfrm>
            <a:off x="6923160" y="3489480"/>
            <a:ext cx="985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Mobile IS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92960" y="4230720"/>
          <a:ext cx="790560" cy="2808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492960" y="423072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713560" y="4954680"/>
            <a:ext cx="772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4186080"/>
            <a:ext cx="8776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0" name=""/>
          <p:cNvSpPr/>
          <p:nvPr/>
        </p:nvSpPr>
        <p:spPr>
          <a:xfrm>
            <a:off x="2913120" y="3718080"/>
            <a:ext cx="77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P based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80920" y="3452760"/>
            <a:ext cx="65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2" name=""/>
          <p:cNvSpPr/>
          <p:nvPr/>
        </p:nvSpPr>
        <p:spPr>
          <a:xfrm>
            <a:off x="3586320" y="2554200"/>
            <a:ext cx="8892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73" name="bpilvi" descr=""/>
          <p:cNvPicPr/>
          <p:nvPr/>
        </p:nvPicPr>
        <p:blipFill>
          <a:blip r:embed="rId47"/>
          <a:srcRect l="26155" t="21817" r="25069" b="42415"/>
          <a:stretch/>
        </p:blipFill>
        <p:spPr>
          <a:xfrm>
            <a:off x="1405080" y="46688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73040" y="4886280"/>
            <a:ext cx="1052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Inter-PLM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31920" y="4575240"/>
            <a:ext cx="23976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89640" y="3087360"/>
            <a:ext cx="52056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271680"/>
            <a:ext cx="925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are and Billing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894280" y="2554200"/>
            <a:ext cx="54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30960" y="3103560"/>
          <a:ext cx="270000" cy="473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330960" y="310356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865840" y="3517920"/>
            <a:ext cx="876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 Managemen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62760" y="2933640"/>
          <a:ext cx="269640" cy="47304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62760" y="293364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37200" y="2757600"/>
            <a:ext cx="963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Operator Service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" name=""/>
          <p:cNvSpPr/>
          <p:nvPr/>
        </p:nvSpPr>
        <p:spPr>
          <a:xfrm>
            <a:off x="7404120" y="39132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827680" y="2857680"/>
          <a:ext cx="270000" cy="4730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827680" y="285768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phone_main_ui" descr=""/>
          <p:cNvPicPr/>
          <p:nvPr/>
        </p:nvPicPr>
        <p:blipFill>
          <a:blip r:embed="rId54"/>
          <a:stretch/>
        </p:blipFill>
        <p:spPr>
          <a:xfrm>
            <a:off x="1376280" y="1258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89" name="phone_main_ui" descr=""/>
          <p:cNvPicPr/>
          <p:nvPr/>
        </p:nvPicPr>
        <p:blipFill>
          <a:blip r:embed="rId55"/>
          <a:stretch/>
        </p:blipFill>
        <p:spPr>
          <a:xfrm>
            <a:off x="1376280" y="2401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6"/>
          <a:stretch/>
        </p:blipFill>
        <p:spPr>
          <a:xfrm>
            <a:off x="3624120" y="27576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he Nokia 3G SGS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1220760" y="1584360"/>
            <a:ext cx="74152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veloped and optimised specifically for 3G mobile networks, principally UM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obust performance for the demands of high throughput and real-time 3G servi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onnects the 3G radio access network (RAN) with the 3G packet cor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upervises the usage of PLMN services and radio network resour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uture-proof technolog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ssential to 3G mobile packet co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1017720" y="1138320"/>
            <a:ext cx="803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Rotis Sans Serif for Nokia"/>
              </a:rPr>
              <a:t>The Nokia 3G SGSN performs crucial tasks in the 3G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003560" y="2230560"/>
            <a:ext cx="1820880" cy="346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83280" y="20080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obilit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6083280" y="429264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ssio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6136920" y="295920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Rou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(best-rout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lectio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438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Traffic statistic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55720" y="35989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Interworking with 2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" name=""/>
          <p:cNvSpPr/>
          <p:nvPr/>
        </p:nvSpPr>
        <p:spPr>
          <a:xfrm>
            <a:off x="1157400" y="255744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harging data collec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and gene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" name=""/>
          <p:cNvSpPr/>
          <p:nvPr/>
        </p:nvSpPr>
        <p:spPr>
          <a:xfrm>
            <a:off x="1134720" y="1876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MS deliver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32:36Z</dcterms:created>
  <dc:creator>Nokia</dc:creator>
  <dc:description>Nokia Standard Presentation Template - A4
v. 3.1 1999/07/27 Eric Beasley</dc:description>
  <dc:language>en-US</dc:language>
  <cp:lastModifiedBy>Patricio Valenzuela</cp:lastModifiedBy>
  <cp:lastPrinted>2000-09-08T14:14:22Z</cp:lastPrinted>
  <dcterms:modified xsi:type="dcterms:W3CDTF">2003-11-10T02:29:15Z</dcterms:modified>
  <cp:revision>110</cp:revision>
  <dc:subject/>
  <dc:title>3G SGSN</dc:title>
</cp:coreProperties>
</file>