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5A9-33E6-41E1-8965-1517323A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26D-F501-4B3A-AB6E-137472A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788-2BDA-47D8-900F-44542ABA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1B9-BE29-4B94-8470-AE294106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7DC-A2CC-441D-88A4-1889068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845-FA53-4C7C-8CC4-9CD2764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06D-2C89-4975-8F42-B2D21491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C85-6161-420D-81D0-4631805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8AF-9490-4C89-9DEC-EDA5E96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620-5399-4A39-9553-1A88054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6C1-F4B3-4AE4-9D99-C71F7F7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983-CDD5-4C7C-AFC6-2FFDB77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85C-7973-438C-A69A-D0F9C2CA52B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FCF-A164-432F-87B0-D8A926CE89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, disipa la misma potencia que irradia la ant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 --------- * 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=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E24-68AD-42D3-8B74-BFE7790677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CCA65-5BA0-4CB0-81B9-E8D312BA91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unicaciones Satelita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ngulo de elev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Angulo entre la antena apuntando al satélite y la horizo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zimut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Angulo horizontal de orientación de la antena medido en dirección de los punteros del reloj y con referencia al n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071-4113-4E5F-B2E8-866FBC6CBB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55948-6E78-4C76-85B8-BFE6CE6BB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CEB-DDB4-4D8A-95EC-2A15591EDF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885BC-14FF-4F47-8FE2-850533CEB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Sistema con pérdid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Las llegadas de llamadas y las terminaciones de ellas son eventos aleatorios in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Troncales con disponibilidad compl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 Equilibrio estadístico: probabilidad de llamadas que llegan o terminan es independiente del tiemp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402-4E0C-43B8-BD4B-25D27A63B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8E875-8636-43AE-BB08-D4F225BDF2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Enlace de Dat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ocupa de la transferencia de datos por un enlace de datos en ser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aplicaciones punto a punto simples atiende directamente a la capa de Aplic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s tipos de servic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ejor intento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rientado a conex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: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cha las tramas que llegan con errores de T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C12-5FFD-458A-BA51-E9F48B33E8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D7FD1-6CBE-4EF4-87C3-0393428737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es un servicio no confirmado, encargándose otra capa del problema de retransm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ción en redes conmutadas con bajo 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Servicio orientado a conex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 Antes del envío de datos se establece conexión lógica entre los protocolos de las ent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L_CONNECT y L_DISCONN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070-386B-4775-BC9B-A1FB7B2B1F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40A90-2DAE-4270-9F09-6BF5EC679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omunicación entre dos estaciones es asincrónic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paquetes deben llevar información de sincron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quetes con error deben reconoc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quetes deben numerarse para asegurar entrega ordenada a la capa de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alizar estas funciones se agregan campos de control a las t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tección de errores por retransmisión: AR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591-4CEF-4BDA-AC43-C7B784DEAF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C556F-4104-4E82-A0DE-4C3E18026D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s ARQ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ma recibida correctamente genera una trama especial de aceptación: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ón de error genera una trama: N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ón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out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lcanzada, provoca repetición de tr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os de manejo de ACK/NA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Parar/Espe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Regresar a 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512-D5E3-42B8-B31F-EC905D3C01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D257E-040F-4A8F-9F92-0F13F84EEB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s orientados a bits. Utilizan patrones de bits bien definidos para delimitar t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HDLC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High-level Data Link Contro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 definido por ISO para enlaces de datos tanto punto a punto como multipu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d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RM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normal respons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Estaciones esclavas pueden transmitir cuando lo ordena la estación maest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M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synchronous respons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Estación esclava puede transmitir sin órdenes prev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274-7C01-4488-9E25-7C170350F7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23C1C-B313-44FC-A170-72DA96A64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apa de Enlace de Dato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M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synchronous balance mo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Cada estación tiene la misma jerarquía para transmi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mas e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No numeradas: Establecen y desconectan el en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 información: Llevan los datos. Se conocen como tramas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e supervisión: Control de errores y flu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5AD-A890-402B-BC5E-BCDA95A52E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57F0B-0AFD-41A8-819A-BC67D2274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DSI (ISDN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STN digital. Esto implica tiempo de establecimiento de llamadas men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z de comunicaciones debe manejar voz y datos simultáneamente. Integ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ces de usuarios (ITU_T Recomend. 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Servicios de portador: ISDN provee camino de Tx conmu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eleservicios: Tx  de fax, videotexto, teletex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05F-EC3D-4687-90B8-A60C38F4BF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17E0-55CA-417A-B0F4-91C22B6A83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otencia radiada isotrópica efectiva (EIRP)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Potencia equivalente que tendría que radiar una antena isotrópica para alcanzar la misma densidad de potencia  que radía una antena, en una dirección determin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IRP=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cho del haz: Separación angular entre dos puntos de media potencia (-3 d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9C9-826D-4BBD-A346-93FEDC483C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DF5D6-5963-4BF2-8B22-F99E797B37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ipos de cana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BR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(interfaz de tasa básica): 2 canales B a 64 kbps y 1 canal D a 16 kbps (señalizació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primary rate interface). Tasa de bits más altas (por demanda). Canales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384 kbps  H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1536 kbp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1920 k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A42-E836-499E-8B64-5F88BEF8FB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2B016-364C-4415-8FF1-BBFF0B87B2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faz usuario red. Interfaz física (capa 1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central local: par trenzado  que permite Tx duplex 2B+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usuario (lado del usuario): 4 hilo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 par para Tx y otro para Rx. Cada par transporta 2B+D con estructura de trama estánd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2B3-C639-4CC1-9D03-6E77D6991A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3557F-2EBE-46EE-AC82-639161F31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tocolos de Interfaz de usuari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SDN separa lógicamente los canales de voz y/o datos.Los circuitos o caminos virtuales se establecen con mensajes de señalización por el canal D entre el TE/TA y la central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la red se usa red de señalización indepen-diente (protocolo de 7 capas):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Sistema de Señalización de canal común número 7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CCSS-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794-2178-4E90-8E2E-568D8766EB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F180D-03B8-4E82-BC70-9B450F31F8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SD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P-D: protocolo de acceso a canales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 tipos de servicios: transferencia de informacion confirmada y sin confir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n confirmar es útil para mensajes de alar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confirmación: Se establece conexión lógica entre 2 puntos antes de transferencias de d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0F1-537B-4674-BE21-F2EC51560C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B9985-CEDD-4FAD-ACBE-77732CB086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istor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21. Radio móvil AM. Detr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46. Telefonía Móvil. St. Louis. Banda 15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47. Telefonía Móvil Pública. NY-Bost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64-1969. Discado automático IM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1974. Telefonía Celular Bandas 825-845 MHz ( y 870-890 MH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DF8-764B-41A4-98E6-EA7465F6A8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48762-EF2D-4807-9471-740B22DAB2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estación base realiza la función de interfaz entre el teléfono celular y la MT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TSO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(Mobile Telephone Switching Office)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rola el procesamiento, establecimiento de llamadas, señalización, supervisión, conmutación y distribución de canales R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18B-7131-416C-96D2-69C454E9D9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DB576-E498-404D-9204-805AE5F9A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des Inalámbric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entro de Conmuta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ntrola conmutación entre la PSTN y los sitios de celdas para llamadas red fija-móvil, móvil -red fija y móvil-móv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Procesa la información de los controladores de las celdas (estado del móvil, diagnóstico, tiempo de servicio). Comunicación con controladores X.25, 9.6 kb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0F6-133A-4638-9731-A1496DB44E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A6001-73D2-47D5-8C89-6B2EB08096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ga de una antena: técnica para incrementar la longitud eléctrica de la ant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flectores paraból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ertura: relación de la longitud focal al diámetro de la boca de la parábo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cho del Haz (-3 dB):       70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aprox.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nancia de potencia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2F1-F03B-4C40-9DFF-D6F56FBD7D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6F464-EC9C-4E7F-8887-017E40B6B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ea de captura: área efectiva de una antena parabólica de recep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k 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k=0.65 p.ej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nancia de potencia (antena recepto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= 4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imentación: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n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seg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B54-7E7A-45E0-93D7-BF016740A2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D0460-56A5-434F-8CEC-08DDD3E8EE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Sistemas de microond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M/FM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M insensible a distorsión no lineal,ruido aleatorio, bajas potencias de T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CM/PSK .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DM/FM.  Banda base señal compuesta que modula portadora F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Canales de voz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anales de voz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Canales de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5AE-3066-4701-8839-283DA2EDC9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087DD-A2BE-4D09-A152-0185E6D2A5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versida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ás de una ruta o método de transmisión: diversidad en frecuencia, diversidad en espa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rementa la confiabilidad del sistema y su disponi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diciones atmosféricas que degradan RF son selectivas en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versidad en espacio: distancia eléctrica entre Txy cada antena igual a m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m ent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48D-059E-4B41-B6AD-F2D164651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CE063-AB3D-4EAF-B2D4-365FCA3BA0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ropagación Sistema de micro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y reflejada a tie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Ganancia del sistem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Diferencia entre la potencia nominal de salida de un Tx y la Potencia mínima de entrada de un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= P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(d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s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uma (Pérdidas - Gananc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9A7-AF0D-4F01-93DF-1202E4DC70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4FA94-87FB-4201-898E-9E5CE1841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Umbral del R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Umbral (sensibilidad) del Rx, C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inim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Potencia de portadora de banda ancha, mínima, en la entrada de Rx que proporciona una salida de banda 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pende de la Potencia de ruido de banda ancha presente en la entrada del Rx y del ruido introducido por el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D0F-16A1-4BC7-8AFE-4FA7E190B7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FEB50-476B-4E4D-AB58-FA669361A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ae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401-348F-42DA-AE3F-FF111029FC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BB877-C1B5-4C62-9145-BF69E60545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7T01:53:16Z</dcterms:created>
  <dc:creator>Nicolás Beltrán M.</dc:creator>
  <dc:description/>
  <dc:language>en-US</dc:language>
  <cp:lastModifiedBy>Departamento de  Ingeniería Electrica</cp:lastModifiedBy>
  <cp:lastPrinted>1999-06-25T13:57:54Z</cp:lastPrinted>
  <dcterms:modified xsi:type="dcterms:W3CDTF">1999-06-25T13:58:14Z</dcterms:modified>
  <cp:revision>16</cp:revision>
  <dc:subject/>
  <dc:title>Antenas (cont.)</dc:title>
</cp:coreProperties>
</file>