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DDF-B99C-4C9D-AC7A-DC127BC7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587-333F-4EAB-A7CB-4487261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758-36E0-482C-88F3-33B993C7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E35-7C3B-4385-889F-5F0EB497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5DE-845B-460E-A3FC-57B68D51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645-2F6E-4912-A23D-B19B11A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651-D707-43E4-AF26-4C3879B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EF7-A77D-4A51-B5BF-01BD9A25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C1E-2141-4C9F-B5F9-F7A2A9F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5C4-2651-4018-B8CD-FB9FECB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AEF-B78F-415C-9EA1-2D15ADE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2AB-F8A1-4C63-AED8-FFADCB3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8150-1EF1-4BF5-9583-52DF293ECF4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B717-0A35-4BA5-839B-AA98F034E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, disipa la misma potencia que irradia la ant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 --------- * 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=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2CD-AFDB-4EE5-921C-DC7A2F8EEE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A8207-1347-4A29-AE86-9A713F41D7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unicaciones Satelita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ngulo de elev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Angulo entre la antena apuntando al satélite y la horizo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zimut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Angulo horizontal de orientación de la antena medido en dirección de los punteros del reloj y con referencia al n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3C7-2189-4CAC-A522-78FCFE39D3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F003A-E841-4A2E-BEC3-81B0D5D759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E63-19D4-4698-B8DC-67F6E9F062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57FDE-309F-4354-92B1-474EE2D683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Sistema con pérdid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Las llegadas de llamadas y las terminaciones de ellas son eventos aleatorios in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Troncales con disponibilidad compl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Equilibrio estadístico: probabilidad de llamadas que llegan o terminan es independiente del tiemp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635-B730-4356-863F-EAC4921005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851E4-9BCC-467A-BA66-FAF6FB5731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Enlace de Dat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ocupa de la transferencia de datos por un enlace de datos en ser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aplicaciones punto a punto simples atiende directamente a la capa de Aplic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s tipos de servic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ejor intento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rientado a conex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: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cha las tramas que llegan con errores de T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5DE-9F07-40D6-915F-89484DEFA3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B7FC-C33B-4AC3-BF8A-D678B0C8CD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s un servicio no confirmado, encargándose otra capa del problema de retransm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ción en redes conmutadas con bajo 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Servicio orientado a conex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 Antes del envío de datos se establece conexión lógica entre los protocolos de las ent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L_CONNECT y L_DISCONN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9CB-E0F7-49BF-B637-DFF7139250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97313-B857-40FD-876A-6E01A855CB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omunicación entre dos estaciones es asincrónic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paquetes deben llevar información de sincron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quetes con error deben reconoc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quetes deben numerarse para asegurar entrega ordenada a la capa de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alizar estas funciones se agregan campos de control a las t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tección de errores por retransmisión: AR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FC5-CEC2-4291-AD32-A67ABA3AF2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F575B-F34F-41E3-9845-0E80018672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s ARQ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ma recibida correctamente genera una trama especial de aceptación: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ón de error genera una trama: N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ón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out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lcanzada, provoca repetición de tr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os de manejo de ACK/NA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Parar/Espe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Regresar a 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5DE-BD85-4F90-B18D-D4B5EC7259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45144-977D-4A1F-A293-D9DD257C37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s orientados a bits. Utilizan patrones de bits bien definidos para delimitar t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HDLC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High-level Data Link Contro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 definido por ISO para enlaces de datos tanto punto a punto como multipu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RM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normal respons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Estaciones esclavas pueden transmitir cuando lo ordena la estación maest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M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synchronous respons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Estación esclava puede transmitir sin órdenes prev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5BE-02ED-484C-81F4-B7297572B9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B4D00-795B-42D1-BF36-A1B8F3428B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M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synchronous balanc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Cada estación tiene la misma jerarquía para transmi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mas e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No numeradas: Establecen y desconectan el en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 información: Llevan los datos. Se conocen como tramas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 supervisión: Control de errores y flu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E9D-3AAB-4AA5-9449-D698A92392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873FF-1523-4A4C-9B9E-1F3EAA5B2C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DSI (ISDN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STN digital. Esto implica tiempo de establecimiento de llamadas men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z de comunicaciones debe manejar voz y datos simultáneamente. Integ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ces de usuarios (ITU_T Recomend. 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Servicios de portador: ISDN provee camino de Tx conmu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eleservicios: Tx  de fax, videotexto, teletex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F2E-B5B2-4837-82ED-6609835A4C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C3C06-5EE6-4B18-9A97-4660E8B8C2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otencia radiada isotrópica efectiva (EIRP)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Potencia equivalente que tendría que radiar una antena isotrópica para alcanzar la misma densidad de potencia  que radía una antena, en una dirección determi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IRP=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cho del haz: Separación angular entre dos puntos de media potencia (-3 d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874-D94C-42FE-8E48-79897925AD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F3289-1A8B-4D98-88F1-98FC4650CC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pos de cana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BR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(interfaz de tasa básica): 2 canales B a 64 kbps y 1 canal D a 16 kbps (señalizació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primary rate interface). Tasa de bits más altas (por demanda). Canales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384 kbps  H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1536 kbp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1920 k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CA2-D463-461A-B7F5-28AC1DC829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4832C-7A87-4AD4-8CAD-EA267842A0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faz usuario red. Interfaz física (capa 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central local: par trenzado  que permite Tx duplex 2B+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usuario (lado del usuario): 4 hilo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 par para Tx y otro para Rx. Cada par transporta 2B+D con estructura de trama estánd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813-FF85-4FA8-B981-6ABA727A68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20C10-D972-4837-986E-D8AEDB826B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tocolos de Interfaz de usuari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SDN separa lógicamente los canales de voz y/o datos.Los circuitos o caminos virtuales se establecen con mensajes de señalización por el canal D entre el TE/TA y la central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la red se usa red de señalización indepen-diente (protocolo de 7 capas):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Sistema de Señalización de canal común número 7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CCSS-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3B8-293C-4BFD-9C24-35C083771B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FB6AB-61E4-4C54-A3B3-9ECD8FDD55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P-D: protocolo de acceso a canales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 tipos de servicios: transferencia de informacion confirmada y sin confir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n confirmar es útil para mensajes de alar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confirmación: Se establece conexión lógica entre 2 puntos antes de transferencias de d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F38-96AE-4D67-ACCA-55D86B7CCA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257B8-7496-437E-9D90-2ED431E357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istor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21. Radio móvil AM. Detr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46. Telefonía Móvil. St. Louis. Banda 15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47. Telefonía Móvil Pública. NY-Bost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64-1969. Discado automático IM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74. Telefonía Celular Bandas 825-845 MHz ( y 870-890 MH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26D-5C83-4575-96C9-B880CAB66B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99F07-D673-46F0-920F-9DD3CE30E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estación base realiza la función de interfaz entre el teléfono celular y la MT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TSO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(Mobile Telephone Switching Office)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rola el procesamiento, establecimiento de llamadas, señalización, supervisión, conmutación y distribución de canales R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B7E-6AF8-4924-AEEE-6D0DD7BFA0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B066-9FBF-4649-BDDC-919647DE23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entro de Conmuta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ntrola conmutación entre la PSTN y los sitios de celdas para llamadas red fija-móvil, móvil -red fija y móvil-móv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Procesa la información de los controladores de las celdas (estado del móvil, diagnóstico, tiempo de servicio). Comunicación con controladores X.25, 9.6 kb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4E4-BCED-4F1C-83B0-0155DE1F28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714DF-6BB0-4C0E-8026-0048698F3D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ga de una antena: técnica para incrementar la longitud eléctrica de la ant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flectores paraból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ertura: relación de la longitud focal al diámetro de la boca de la parábo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cho del Haz (-3 dB):       70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aprox.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nancia de potencia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78F-8757-4EFA-B038-56E11443B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0D6C-AF35-4000-8841-55D2C0AC4C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ea de captura: área efectiva de una antena parabólica de recep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k 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k=0.65 p.ej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nancia de potencia (antena recepto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= 4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imentación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n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seg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EA1-73D8-48F7-A024-0000EC22D0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D2FEE-4B26-4D9E-B204-DAF7A3EBE9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Sistemas de microond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M/FM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M insensible a distorsión no lineal,ruido aleatorio, bajas potencias de T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CM/PSK .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M/FM.  Banda base señal compuesta que modula portadora F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Canales de voz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anales de voz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Canales de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4D0-0027-4DBD-B66F-5612CD0F6C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5D3D9-A4B2-4E26-9F95-62E677C882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versida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s de una ruta o método de transmisión: diversidad en frecuencia, diversidad en espa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rementa la confiabilidad del sistema y su disponi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ones atmosféricas que degradan RF son selectivas en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versidad en espacio: distancia eléctrica entre Txy cada antena igual a m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m ent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822-4C92-42FC-B001-B861C6EEC9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4EF7A-7135-475A-B81A-2F65527777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ropagación Sistema de micro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y reflejada a tie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Ganancia del sistem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Diferencia entre la potencia nominal de salida de un Tx y la Potencia mínima de entrada de un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= P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s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uma (Pérdidas - Gananc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8C4-3987-4D77-9236-9EF53BF98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91D34-4251-42A9-989A-722247C9BC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Umbral del R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Umbral (sensibilidad) del Rx, C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inim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Potencia de portadora de banda ancha, mínima, en la entrada de Rx que proporciona una salida de banda 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pende de la Potencia de ruido de banda ancha presente en la entrada del Rx y del ruido introducido por el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131-4D9A-4669-ADCC-2F93ABD52C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A99E6-7DD9-4132-8455-6B2EC5A91E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217-E35C-46AD-9EC8-2486766158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48352-F7D2-456D-9959-2FD5DB377C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1:53:16Z</dcterms:created>
  <dc:creator>Nicolás Beltrán M.</dc:creator>
  <dc:description/>
  <dc:language>en-US</dc:language>
  <cp:lastModifiedBy>Departamento de  Ingeniería Electrica</cp:lastModifiedBy>
  <cp:lastPrinted>1999-06-25T13:57:54Z</cp:lastPrinted>
  <dcterms:modified xsi:type="dcterms:W3CDTF">1999-06-25T13:58:14Z</dcterms:modified>
  <cp:revision>16</cp:revision>
  <dc:subject/>
  <dc:title>Antenas (cont.)</dc:title>
</cp:coreProperties>
</file>