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C2B-5A60-4BCE-B33B-83DD2048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799-D0BF-4261-8149-DCE81596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5C4-FD51-4992-97B5-46945D09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A8E-4DF2-4E21-892A-BB2D653B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120-669F-42F5-A368-000A96DB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9AC-FE26-4FCB-B083-B4B129AD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E88-1016-482A-897E-EC083808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BDB-9C38-4197-8BD1-56606ECF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F67-27CD-4677-B8D7-4BB60837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BD9-DEE5-44E8-88BD-C0ED2000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C51-1151-441E-9A55-A93FFFD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983-4DB9-44ED-AFB7-E10B46F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93E-AA24-4876-BB99-23F96DA5AAE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99C-BC24-409E-AE2B-5915BD2B5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de Comunic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or: Conversión de la información original a una forma que pueda ser transmit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o de Transmisión: Medio de conexión entre el Tx y R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eptor:Conversión de la información a su forma original para entregarla a su desti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A90-FD90-4DAC-8AC8-5A8FC5328C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F2B00-2C5B-40E9-85E9-74D73D217A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ulación de Pul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ncho de Pulso (PW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Posición de Pulso (P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mplitud de Pulso (P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Código de Pulsos (P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795-2430-4319-855F-E6F7B7C798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6824B-FFE1-46AF-835B-B13FF8D062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Cuantización y Codific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antiz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lineal, no-lin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ada t de muestra se decide cual de los 8 niveles es la mejor aproxi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valor más cercano se mantiene hasta el próximo t de mues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 dígito a cada nivel de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DBA-A153-43B3-BB52-50E76A2FC9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835FC-581B-4B41-AC5B-B32974BE51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eneración completa de la señal que contiene toda la información codific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ircuitos de modulación y demodulación digitales (confiables y esta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 eficiente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adecuada reduce efectos de ruido e interfer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más complejos que otros de modu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BC2-CF24-4D9B-B234-94E3C19225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BF01F-7EB6-4EDE-BC16-635AB0AD58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uestreo, Retención y Digit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roducción sin pérdida de información  f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fs frecuencia de muestre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o y Retención es la primera operación para la digitalización --------&gt; P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Digitalización: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 C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cador en el Tx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DE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dificador en el R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proceso de Codificación para que el conversor A/D convierta exactamente la señal a un código digital, la señal debe ser constante (Reten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577-109A-4C95-BE4C-FE47C6EC2D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907D9-136C-4EF7-B27D-07B4C3C798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uantización Line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cuantización (Nq) máximo, es igual a la mitad de la separación entre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rror se minimiza aumentando el número de niveles de cuant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ón S/N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             Voltaj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--- = 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q    Voltaje ruido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1AB-00F0-4E27-9418-5AA3FC96D4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6C9FA-67AB-4553-8BBF-6798ABB05D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comprimir y después expand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señales analógicas de amplitudes más grandes se comprimen (amplifican menos) antes de la transm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analóg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µ (EE.UU.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arámetro µ determina el rango de señal en el    cual la relación S/Nq es relativamente cons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A (Europa). Relación S/Nq más plano que ley-µ para igualdad de rango dinám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C47-4B55-465B-8196-B17557753D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3A0F6-9DFB-43A0-94E0-C9F3D60F89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esión en el lado de Tx después que la señal de entrada está convertida a un código PCM 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dig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 bits-----&gt; 8 bits -----&gt;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similar a compresión analógica con ley-µ utiliz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µ=25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ma del código comprim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5029200"/>
            <a:ext cx="51814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it de sig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0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105520"/>
            <a:ext cx="1523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icador de         Segm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0  a 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5105520"/>
            <a:ext cx="175248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valo de Cuantización  4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 B C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0000 a 1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0A0-A89B-4FA8-8BE6-68262D0D80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1FE54-29C0-4803-A457-4A66C67AC0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 de 12 bits a 8 bi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gm.  Cód. 12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8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1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x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1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B4A-12D7-4EBB-8B7A-94C0715B42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68A47-0F0A-419A-97DE-B1E085FF55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ultican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ión de información (voz o datos) de más de una fuente a más de un destino usando el mismo medio de transm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TDM, F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TDM en transmisión de vo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CITT: 30 canales, 2Mbps  (Euro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1     : 24 canales, 1.54 Mbps   (EE.UU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de línea. Convierte niveles TTL, CMOS a una forma más adecuada para transmisión en línea telefónica.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599-C92F-4B99-AF27-9CD01C7652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227F1-8A60-444A-941B-7E81852CD8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di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de Tx: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Balanceadas y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anceadas: Ambos conductores conducen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taje de modo común se cancela en la car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balanceadas: Un conductor está conectado a tier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ido a R, L, C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Inducción de rui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cable coaxial está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: Líneas de transmisión de cable abierto, cable plano paralelo, par trenzado, coaxiales (rígidos, sólidos flexi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unes Transformadores que permiten conectar líneas balanceadas con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4E6-9011-4F9E-924D-A41A692A24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5811E-14FB-4CFA-BA80-B62672F2F9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767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37 Morse transmite información con Telégra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76 Graham Bell y Thomas Watson transmiten información a través de un teléf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88 Hertz radía energía electromagnét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3 Marconi transmite un mensaje a 1 Km de distanci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9 Primer mensaje entre Francia e Inglat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20 Primera estación de radio AM (WWJ Detro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36 Primera emisora de F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47 Invención del transis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D91-0CFB-462D-A789-36D824BD93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6D5B7-4391-4941-B316-7C85D8EB32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pacio li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nte de onda: superficie de fase constante de una o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nte isotrópica: rayos se propagan igualmente en todas las direc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962520"/>
            <a:ext cx="144756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7242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419360" y="4038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6720" y="47242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879080" y="441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572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ente de O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864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113-2931-4A5C-9DFA-70F46B63A9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C920C-8AA5-4F5F-9F92-53249E04C0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adiador Isotrópico: una fuente puntual que radía potencia en una proporción uniforme en todas direcciones. Produce una onda esfé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antena omnidirec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 cuadrática inversa: Densidad de potencia es función inversa al cuadrado de la  distancia a  la fu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2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1   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   =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1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462-C71E-495E-997D-7E675E424A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5C430-FD8C-4B3C-AAB6-BB9E9B590B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iajan por la superficie de la tierra (ondas superfici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quieren de potencias altas para T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recuencias bajas (VLF, LF, MF) que requieren de antenas gran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suficiente potencia de Tx se alcanzan grandes di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diciones atmosféricas no las afec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CFC-649F-4150-BC9B-79917F5461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64762-5C80-43B4-9EB5-5F9A5826D5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µo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Línea de vi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Reflexión entre antenas de Tx y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dio horizonte=4/3 horizonte óp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: distancia a radio horizonte (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: altura de la antena (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A37-3260-47CE-8707-A782F19327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C6FDB-A728-4401-871C-8C19B497C2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O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 sobre el radio horizo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flejadas y refractadas a Tierra por la ionósfera (50 a 400 Km sobre la sup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atificación de la ionósfe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D (50 a 10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E (100 a 14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F (140 a 350 K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A52-4D03-4E0D-B80F-8EEF4EAC76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53683-EC97-4750-B154-B8511872E9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(definicione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uencia crítica (fc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f máxima a la que todavía hay reflexión en la ionósf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. Máxima utilizable (MUF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s la f máxima utilizable para Tx en O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UF= 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599-2761-49C7-BED8-D91A04A281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DBC5B-60A1-4CE4-8F29-1675B1CE0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tena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tena: sistema conductor metálico que  radía y recibe ondas electromagné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de onda. Medio conductor metálico por el cual se propaga energía electromagnética de alta frecu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trón de radiación: Diagrama polar de intensidades de campo en diferentes posiciones angulares c/r a la ante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CE9-0D58-4518-8BD8-195B383946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EC56E-B5A4-4C0C-AC6D-9E15C013F6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istencia de radiación: resistencia que reemplazando a la antena disipa la misma pot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icienci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 ----------   *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 + P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rectividad: Ganancia máxima direc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 P/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ahoma"/>
              </a:rPr>
              <a:t>is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078-E5E2-4C20-B411-7972325B84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B9712-01C6-49FF-9FD9-BE08460872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icios de Telecomunicacio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libre recepción (radiodifusión, televi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públicos de telecomunicaciones. Deben poder interconectarse con otros servicios públ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limitados de telecomunicaciones. Satisfacen necesidade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aficionados a las radio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intermedios de telecomunicaciones. Prestados por terceros a través de instalaciones y re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A54-B84F-4A1E-A334-5077CC1519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37AA1-56CD-479B-834B-ED8A15F614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cho de Banda y Capacidad de Inform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ho de banda (B): intervalo de frecuencias requeridas para transmitir información desde la fuente a través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 de información: Medida de la cantidad de información que puede transmitirse por el sistema en un período de tiempo determ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908-9334-4865-ABEB-E513EDDDEC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D504E-DA9C-4D92-9D53-5B0EDC9243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mplex (Sx) Transmisión en una dir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lf Duplex (HDX) Transmisión en ambas direcciones pero no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 Duplex (FDX) Transmisión ocurre en ambas direcciones al mismo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/Full Duplex (F/FDX) Transmisión y recepción puede ser simultánea pero no necesariamente punto a pu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ABB-0115-4AF4-A1F9-24BAE51BA6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D1640-7316-4C74-AD0D-442E151C67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ción: Energía eléctrica no deseada presente en el pasabanda de un circuito de 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lacionado:Implica una relación con l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-correlacionado: Está presente en ausencia d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) Externo: Ruido atmosférico, intergal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)Interno: Generado en los dispositivos electrón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Tér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disparo (shot-no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trán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C9D-0ADA-43F3-9F3E-4DAA6A8E14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86F72-501F-4CD1-AB74-759C3EDF94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uido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uido correlacion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nergía eléctrica no deseada presente como resultado directo de la presencia de un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istorsión de armónicas. Generadas por amplificación no-lineal de una señal sinusoi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termodulación. Frecuencias no deseadas provenientes del producto de dos o más señales debido a amplificación no-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de Error de bits (BER)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babilidad de interpretar erróneamente un bit en recep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738-9EF5-449C-8AEE-8673E54740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5290A-675F-4168-87FC-ADDBD854B0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rm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ndares aseguran transmisión de información entre sistemas de comunicaciones disti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odelo OS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Open System Interconne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uesto por ISO (International Standard Organization) que está formado por: ANSI, AFNOR,BSI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comunicación entre procesos de aplicación corriendo en diferentes comput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8D2-0249-4FF7-ACE0-CDFB3FC63F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688B1-A611-4BE7-933F-95849AA4B5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mi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munidad al ru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Procesamento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Regeneración de señ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etección y corrección de err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Mayor B cuando son señales analógicas digita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Sincron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F7B-A15A-4437-A798-9C3D7B0B09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17085-20B5-4C77-BFFD-B23F369837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02:31:36Z</dcterms:created>
  <dc:creator>Nicolás Beltrán M.</dc:creator>
  <dc:description/>
  <dc:language>en-US</dc:language>
  <cp:lastModifiedBy>Mikko</cp:lastModifiedBy>
  <cp:lastPrinted>1998-10-02T13:58:22Z</cp:lastPrinted>
  <dcterms:modified xsi:type="dcterms:W3CDTF">2004-08-27T20:09:09Z</dcterms:modified>
  <cp:revision>25</cp:revision>
  <dc:subject/>
  <dc:title>Sistema de Comunicaciones</dc:title>
</cp:coreProperties>
</file>