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1221-105D-4C40-ACA1-04D6E5E96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84C3-531F-456A-93E6-10F4B7D68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1C29-0458-43C1-8AE0-A56582E1D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384A-7C98-4AFB-B8D1-0590E4585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214A-360C-47A8-BC83-E6ED7663D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AABA-4923-4CD4-9DD7-E551A8F35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51DB-19C8-4F3A-94D0-A4191719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A5D0-0772-41D8-AC50-1A08795BF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2933-72A3-4F71-BE0A-938F0E1D4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452C-AAA7-43F8-8BFF-7B5D7FF9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0166-3142-4497-A62E-27634BD6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08D1-1223-4236-AAE3-12B81137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CE2C0-D2E6-4B7D-88B9-F3124F2AE537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C527D-EC32-420B-8F12-7F137FACFDE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istema de Comunicacion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ransmisor: Conversión de la información original a una forma que pueda ser transmiti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edio de Transmisión: Medio de conexión entre el Tx y R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ceptor:Conversión de la información a su forma original para entregarla a su destin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0163-929F-44A1-88A4-B7E518BC12F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924E00-1BE9-4F4E-A68F-42FC2BA7CC5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odulación de Pulso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ación de Ancho de Pulso (PW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ación de Posición de Pulso (PP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ación de Amplitud de Pulso (PA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ación de Código de Pulsos (PC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10B7-8936-45F7-AAF8-1E90E3205C7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8BAABD-BC0C-43F7-BE1B-8738E88643E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PCM Cuantización y Codificació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uantización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(lineal, no-line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 cada t de muestra se decide cual de los 8 niveles es la mejor aproxim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valor más cercano se mantiene hasta el próximo t de muest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dific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signa dígito a cada nivel de cuantiz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06A4-D9B8-46A0-B2F7-DB72198D8C2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585BA4-CEDC-4069-8DA9-1511A1353B2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PCM (cont.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entaj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generación completa de la señal que contiene toda la información codifica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ircuitos de modulación y demodulación digitales (confiables y establ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lmacenamiento eficiente de la inform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dificación adecuada reduce efectos de ruido e interferen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esventaj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s más complejos que otros de modul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766A-433D-42C0-8503-5AD5E7B03B5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97093C-B12D-4027-8A79-016D73838B8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uestreo, Retención y Digitalizació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producción sin pérdida de información  fs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ahoma"/>
              </a:rPr>
              <a:t>&gt;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2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(fs frecuencia de muestre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uestreo y Retención es la primera operación para la digitalización --------&gt; P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ceso de Digitalización:</a:t>
            </a:r>
            <a:r>
              <a:rPr b="1" lang="es-ES_tradnl" sz="2400" spc="-1" strike="noStrike">
                <a:solidFill>
                  <a:srgbClr val="ff6600"/>
                </a:solidFill>
                <a:latin typeface="Tahoma"/>
              </a:rPr>
              <a:t> CO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ficador en el Tx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s-ES_tradnl" sz="2400" spc="-1" strike="noStrike">
                <a:solidFill>
                  <a:srgbClr val="ff6600"/>
                </a:solidFill>
                <a:latin typeface="Tahoma"/>
              </a:rPr>
              <a:t>DEC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dificador en el R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 el proceso de Codificación para que el conversor A/D convierta exactamente la señal a un código digital, la señal debe ser constante (Retenció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ED1E-A5E2-4370-9E2A-A0A95C203A8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A3E466-396E-4A62-B14F-313F82535A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Cuantización Linea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rror de cuantización (Nq) máximo, es igual a la mitad de la separación entre nive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error se minimiza aumentando el número de niveles de cuantiz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lación S/Nq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             Voltaje señ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--- = -----------------------------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q    Voltaje ruido cuantiz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62FA-AC52-4A34-8FB6-E3D7E98C458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43D806-CEFC-4885-82B4-CE73D4977CF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Compansió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ceso de comprimir y después expand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s señales analógicas de amplitudes más grandes se comprimen (amplifican menos) antes de la transmis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pansión analógic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ey-µ (EE.UU., Japó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parámetro µ determina el rango de señal en el    cual la relación S/Nq es relativamente consta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ey-A (Europa). Relación S/Nq más plano que ley-µ para igualdad de rango dinámi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D628-94C2-4365-8CB3-D0CF0C2A202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1A0819-65ED-489F-83C6-F5E8430293C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Compansión Digita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presión en el lado de Tx después que la señal de entrada está convertida a un código PCM line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pansión digit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2 bits-----&gt; 8 bits -----&gt; 12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similar a compresión analógica con ley-µ utilizan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µ=255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rama del código comprimi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"/>
          <p:cNvSpPr/>
          <p:nvPr/>
        </p:nvSpPr>
        <p:spPr>
          <a:xfrm>
            <a:off x="1676520" y="5029200"/>
            <a:ext cx="518148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Bit de sign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1  +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0   -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50292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50292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"/>
          <p:cNvSpPr/>
          <p:nvPr/>
        </p:nvSpPr>
        <p:spPr>
          <a:xfrm>
            <a:off x="3505320" y="5105520"/>
            <a:ext cx="152388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dentificador de         Segmento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 bit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00  a 11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5105520"/>
            <a:ext cx="1752480" cy="12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Intervalo de Cuantización  4 bit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A B C 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0000 a 111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F8F0-11F9-4604-97CF-76FF3458D22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E80C43-5868-42DE-A09F-ACC0D089AE9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Compansión Digital de 12 bits a 8 bit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egm.  Cód. 12 bits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ód. 8 bits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ód. 12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000000ABCD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00ABCD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000000ABC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000001ABCD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01ABCD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000001ABC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00001ABCDx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10ABCD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00001ABCD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0001ABCDxx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11ABCD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0001ABCD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001ABCDxxx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100ABCD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001ABCD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01ABCDxxxx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101ABCD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01ABCD1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1ABCDxxxxx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110ABCD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1ABCD10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1ABCDxxxxxx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111ABCD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1ABCD100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C4AC-FFFC-4B6C-9991-85E6CD57A5E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FAF32C-1504-4ACC-8143-10A9475891B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Multicanalizació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ransmisión de información (voz o datos) de más de una fuente a más de un destino usando el mismo medio de transmis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étodos TDM, FD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s TDM en transmisión de voz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CITT: 30 canales, 2Mbps  (Europ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1     : 24 canales, 1.54 Mbps   (EE.UU, Japó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dificación de línea. Convierte niveles TTL, CMOS a una forma más adecuada para transmisión en línea telefónica.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CD9B-9B42-436D-AFAB-471300B66B9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F4B83F-ACDF-43B4-B928-876EEB8C70A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edios de Transmisió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íneas de Tx: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 Balanceadas y Desbalancead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Balanceadas: Ambos conductores conducen corri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oltaje de modo común se cancela en la carg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sbalanceadas: Un conductor está conectado a tierr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bido a R, L, C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Inducción de ruid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: cable coaxial estánd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ipos: Líneas de transmisión de cable abierto, cable plano paralelo, par trenzado, coaxiales (rígidos, sólidos flexibl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Balunes Transformadores que permiten conectar líneas balanceadas con desbalancead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6353-0508-45FC-A158-6F1C2291067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105D33-E8FA-455F-9759-49CF89D08DC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7676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istori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837 Morse transmite información con Telégra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876 Graham Bell y Thomas Watson transmiten información a través de un teléfon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888 Hertz radía energía electromagnétic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893 Marconi transmite un mensaje a 1 Km de distancia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899 Primer mensaje entre Francia e Inglater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920 Primera estación de radio AM (WWJ Detro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936 Primera emisora de F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947 Invención del transist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16D1-D653-4F66-B7D3-D5E0C87B134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53EB29-4283-4497-9482-D7F4F1D1DD5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Medios de Transmisión (cont.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pacio lib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rente de onda: superficie de fase constante de una on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uente isotrópica: rayos se propagan igualmente en todas las direcci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3962520" y="3962520"/>
            <a:ext cx="1447560" cy="1600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4648320" y="4724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4648320" y="4724280"/>
            <a:ext cx="53316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962160" y="4724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4419360" y="40381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266720" y="4724280"/>
            <a:ext cx="3812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4879080" y="44197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6095880" y="457200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ente de Ond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548640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5220-AFDF-4512-995D-F3089786EE3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1AEC2E-4B03-4362-B3D6-7AC0F9C4CA6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Medios de Transmisión (cont.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adiador Isotrópico: una fuente puntual que radía potencia en una proporción uniforme en todas direcciones. Produce una onda esféric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: antena omnidireccio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ey cuadrática inversa: Densidad de potencia es función inversa al cuadrado de la  distancia a  la fu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Garamond"/>
              </a:rPr>
              <a:t>P2          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R1    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Garamond"/>
              </a:rPr>
              <a:t>---   =  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(  </a:t>
            </a:r>
            <a:r>
              <a:rPr b="0" i="1" lang="es-ES_tradnl" sz="2400" spc="-1" strike="noStrike">
                <a:solidFill>
                  <a:srgbClr val="000000"/>
                </a:solidFill>
                <a:latin typeface="Garamond"/>
              </a:rPr>
              <a:t>----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Garamond"/>
              </a:rPr>
              <a:t>P1          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AAA7-C145-43D1-A38C-58A3E83D484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639285-5DA4-4A7B-A1C7-B0CA2397047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ropagación de O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Viajan por la superficie de la tierra (ondas superficial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quieren de potencias altas para Tx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Frecuencias bajas (VLF, LF, MF) que requieren de antenas grand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on suficiente potencia de Tx se alcanzan grandes distanci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ondiciones atmosféricas no las afect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19AD-2369-43FF-9F7F-31F532D132C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B04782-FCCA-4B1C-B0B0-B4D33DC44F9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ropagación de µonda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opagació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-Línea de vis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-Reflexión entre antenas de Tx y Rx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adio horizonte=4/3 horizonte ópti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=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2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: distancia a radio horizonte (K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h: altura de la antena (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0B94-F7E4-47B4-9551-1BE9C2AC7F0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58B708-63F0-4BE0-BB9E-3AA45DD2C3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ropagación OC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opagación sobre el radio horizo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flejadas y refractadas a Tierra por la ionósfera (50 a 400 Km sobre la sup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stratificación de la ionósfera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- Capa D (50 a 100 K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- Capa E (100 a 140 K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- Capa F (140 a 350 Km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91AB-10A3-40C1-91A2-1FA012715D5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86E122-7369-47C5-9F39-EAC10C6599F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ropagación (definiciones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Frecuencia crítica (fc):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f máxima a la que todavía hay reflexión en la ionósfer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Frec. Máxima utilizable (MUF):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es la f máxima utilizable para Tx en O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f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MUF= -----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os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E63A-A53A-40E3-A2C5-3D198CC7D81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F262E8-83E3-45C5-AD49-1E8E3E5CBDC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ntenas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Antena: sistema conductor metálico que  radía y recibe ondas electromagnétic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Guía de onda. Medio conductor metálico por el cual se propaga energía electromagnética de alta frecuenci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atrón de radiación: Diagrama polar de intensidades de campo en diferentes posiciones angulares c/r a la anten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F57D-31EC-4A65-B36A-9211ED3A303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5DB91F-9DEB-48F1-AE3F-C1BDFAE3FE0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Antenas (cont.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sistencia de radiación: resistencia que reemplazando a la antena disipa la misma potenci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ficiencia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  P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= ----------   * 100 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 + P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irectividad: Ganancia máxima direcc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= P/P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ahoma"/>
              </a:rPr>
              <a:t>iso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8D02-DF3F-49C2-9843-D9464E6FB0C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DB21FC-7E52-4EF7-8BFC-C6B7877CFB1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ervicios de Telecomunicacion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rvicios de libre recepción (radiodifusión, televisió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rvicios públicos de telecomunicaciones. Deben poder interconectarse con otros servicios públic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rvicios limitados de telecomunicaciones. Satisfacen necesidades específic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rvicios de aficionados a las radiocomunicaci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rvicios intermedios de telecomunicaciones. Prestados por terceros a través de instalaciones y re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8EBD-B00F-4B0A-B6B6-2DC900A668E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B798F5-6BDA-485C-94EF-B97B994E8C5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ncho de Banda y Capacidad de Informació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cho de banda (B): intervalo de frecuencias requeridas para transmitir información desde la fuente a través del siste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dad de información: Medida de la cantidad de información que puede transmitirse por el sistema en un período de tiempo determina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6994-2E93-4E56-BC01-8B365B29913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7053D3-5157-407F-8858-8CBB21BEC46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odos de Transmisió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mplex (Sx) Transmisión en una direc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alf Duplex (HDX) Transmisión en ambas direcciones pero no simultáneam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ull Duplex (FDX) Transmisión ocurre en ambas direcciones al mismo tiemp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ull/Full Duplex (F/FDX) Transmisión y recepción puede ser simultánea pero no necesariamente punto a pun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26C2-9CC7-4A7D-9DB3-F1718AA7129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532CA5-5840-41B7-B805-B62998729D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uido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finición: Energía eléctrica no deseada presente en el pasabanda de un circuito de comunicaci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rrelacionado:Implica una relación con la señ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o-correlacionado: Está presente en ausencia de señ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) Externo: Ruido atmosférico, intergalácti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i)Interno: Generado en los dispositivos electrónic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  Térmi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  De disparo (shot-noi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  De tránsi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CA27-BF6C-4CFC-AC2A-132E45D5697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571023-B828-494C-ACAC-325EE28A867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Ruido (cont.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Ruido correlacionado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 Energía eléctrica no deseada presente como resultado directo de la presencia de una señ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 Distorsión de armónicas. Generadas por amplificación no-lineal de una señal sinusoid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 Intermodulación. Frecuencias no deseadas provenientes del producto de dos o más señales debido a amplificación no-line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Tasa de Error de bits (BER).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Probabilidad de interpretar erróneamente un bit en recep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0F16-3681-4DBF-84C8-D69B14C3BB2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411CA5-C4C2-4146-A657-4BD066E2F96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Normalizació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ándares aseguran transmisión de información entre sistemas de comunicaciones distin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odelo OSI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(Open System Interconnectio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puesto por ISO (International Standard Organization) que está formado por: ANSI, AFNOR,BSI, etc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bjetivo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 comunicación entre procesos de aplicación corriendo en diferentes computador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473B-A09C-44E8-940A-0C54FCC7D99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B379A6-87BB-473E-8120-F78B39544F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ransmisión Digita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entaj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 Inmunidad al rui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 Procesamento si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 Regeneración de señ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 Detección y corrección de erro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esventaj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 Mayor B cuando son señales analógicas digitalizad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 Sincroniz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A56F-518F-426E-B96F-4A4C5B36C7C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33BEA9-63F9-4711-8372-3C18BBBFC81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31T02:31:36Z</dcterms:created>
  <dc:creator>Nicolás Beltrán M.</dc:creator>
  <dc:description/>
  <dc:language>en-US</dc:language>
  <cp:lastModifiedBy>Mikko</cp:lastModifiedBy>
  <cp:lastPrinted>1998-10-02T13:58:22Z</cp:lastPrinted>
  <dcterms:modified xsi:type="dcterms:W3CDTF">2004-08-27T20:09:09Z</dcterms:modified>
  <cp:revision>25</cp:revision>
  <dc:subject/>
  <dc:title>Sistema de Comunicaciones</dc:title>
</cp:coreProperties>
</file>