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4ED9-2ACE-47D0-BD16-8A416F36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BA9A-BC2D-423B-B16E-791C0D3C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CE17-10F7-4FEF-947F-B0FF2D56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843D-C3F7-4111-844F-8E3C323A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3106-9DFD-462A-AAD0-C89D0C60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3A41-DE7E-47A5-8B38-00A1422A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827D-4629-410E-8673-84F792B6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3A8D-9983-41BB-9C2E-74C59280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3A4F-B54D-4FCC-AF94-A6CE4605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7AD5-CCBF-4E47-8616-3C4A6397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2649-D0A7-4920-BD24-E9036599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AB5E-88B1-400E-B3F4-3DA5619C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B647-7E7F-473D-9637-1BE4AE306C84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6315-9727-4EFF-8A49-4D7D4CD570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istema de Comunicacion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nsmisor: Conversión de la información original a una forma que pueda ser transmiti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o de Transmisión: Medio de conexión entre el Tx y R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ceptor:Conversión de la información a su forma original para entregarla a su desti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17AD-C5E8-4F5E-AAB2-18ED406396A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8CA6D-9876-4030-A8CD-1CA8322ED1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dulación de Puls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ción de Ancho de Pulso (PW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ción de Posición de Pulso (PP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ción de Amplitud de Pulso (PA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ción de Código de Pulsos (PC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CD1F-A2F3-461E-9836-2496D5DE948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77B16-5AC2-4172-B00A-5628E7A9E8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PCM Cuantización y Codific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uantiza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(lineal, no-line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cada t de muestra se decide cual de los 8 niveles es la mejor aproxi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valor más cercano se mantiene hasta el próximo t de muest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dific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igna dígito a cada nivel de cuantiz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866A-697B-462C-BA48-E7A5ABB777D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54EE6-F02E-4015-9B55-B73863D8C1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PCM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generación completa de la señal que contiene toda la información codific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ircuitos de modulación y demodulación digitales (confiables y estab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miento eficiente de la infor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dificación adecuada reduce efectos de ruido e interfer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sventa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más complejos que otros de modul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BD5C-36B0-44C0-9514-42062CAEB0E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127C7-FF3F-4131-BC03-EF381A7289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uestreo, Retención y Digitaliz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producción sin pérdida de información  fs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2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fs frecuencia de muestre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uestreo y Retención es la primera operación para la digitalización --------&gt; P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de Digitalización:</a:t>
            </a:r>
            <a:r>
              <a:rPr b="1" lang="es-ES_tradnl" sz="2400" spc="-1" strike="noStrike">
                <a:solidFill>
                  <a:srgbClr val="ff6600"/>
                </a:solidFill>
                <a:latin typeface="Tahoma"/>
              </a:rPr>
              <a:t> C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ficador en el Tx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ES_tradnl" sz="2400" spc="-1" strike="noStrike">
                <a:solidFill>
                  <a:srgbClr val="ff6600"/>
                </a:solidFill>
                <a:latin typeface="Tahoma"/>
              </a:rPr>
              <a:t>DEC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dificador en el R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el proceso de Codificación para que el conversor A/D convierta exactamente la señal a un código digital, la señal debe ser constante (Retenció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459E-FC4C-46C5-B09A-9EB4E1FF0B7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97AFB-9CDE-4B94-A9E3-842F0C1EEA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uantización Line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rror de cuantización (Nq) máximo, es igual a la mitad de la separación entre nive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rror se minimiza aumentando el número de niveles de cuantiz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ón S/Nq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             Voltaje señ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--- = ----------------------------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q    Voltaje ruido cuantiz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564-57F3-451D-B147-B691209CF14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534FB-D407-44CB-BCE9-DC2F2BB2CA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ompans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de comprimir y después expand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señales analógicas de amplitudes más grandes se comprimen (amplifican menos) antes de la transmi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ansión analóg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y-µ (EE.UU., Jap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parámetro µ determina el rango de señal en el    cual la relación S/Nq es relativamente consta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y-A (Europa). Relación S/Nq más plano que ley-µ para igualdad de rango dinám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DD33-F41B-4FB3-B787-CCEFD1443A5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CBF70-BEBE-41E3-8E4B-4D5A56A184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ompansión Digit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resión en el lado de Tx después que la señal de entrada está convertida a un código PCM line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ansión digit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2 bits-----&gt; 8 bits -----&gt; 12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similar a compresión analógica con ley-µ utilizan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µ=25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ma del código comprim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1676520" y="5029200"/>
            <a:ext cx="51814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Bit de sign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  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0   -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5029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5029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5105520"/>
            <a:ext cx="15238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entificador de         Segment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 bi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0  a 1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5105520"/>
            <a:ext cx="1752480" cy="12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Intervalo de Cuantización  4 bi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A B C 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0000 a 11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5679-62DD-4ACA-8FB4-BED97340AFD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8CF22-BF4B-43AE-904D-2946F0C691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ompansión Digital de 12 bits a 8 bi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egm.  Cód. 12 bit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ód. 8 bit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ód. 12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0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00ABC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0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01ABC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1ABCD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1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1ABCD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1ABCD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1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1ABCD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1ABCDx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0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1ABCD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1ABCDxx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0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1ABCD1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1ABCDxxx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1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1ABCD1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ABCDxxxx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1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ABCD10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1386-80D6-40B1-AD03-FFC1544EE18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DD88A-87D9-4F1F-9A1A-6154F3AE65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Multicanaliz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nsmisión de información (voz o datos) de más de una fuente a más de un destino usando el mismo medio de transm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TDM, FD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TDM en transmisión de voz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CITT: 30 canales, 2Mbps  (Europ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1     : 24 canales, 1.54 Mbps   (EE.UU, Jap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dificación de línea. Convierte niveles TTL, CMOS a una forma más adecuada para transmisión en línea telefónica.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F48B-782E-4F97-9B01-A2DD3276262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27112-4D01-4DAA-BFD7-681BE2E09D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dios de Transmis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íneas de Tx: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 Balanceadas y Desbalance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alanceadas: Ambos conductores conducen corr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ltaje de modo común se cancela en la car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balanceadas: Un conductor está conectado a tier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bido a R, L, C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Inducción de ruid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: cable coaxial estánd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pos: Líneas de transmisión de cable abierto, cable plano paralelo, par trenzado, coaxiales (rígidos, sólidos flexib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alunes Transformadores que permiten conectar líneas balanceadas con desbalance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E379-F1BA-4DE5-A43E-17EF2591CAE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FF57F-D02F-4A2C-8D5A-C001E3C9AF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767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istori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37 Morse transmite información con Telégra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76 Graham Bell y Thomas Watson transmiten información a través de un teléfo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88 Hertz radía energía electromagnétic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93 Marconi transmite un mensaje a 1 Km de distancia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99 Primer mensaje entre Francia e Inglater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920 Primera estación de radio AM (WWJ Detro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936 Primera emisora de F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947 Invención del transist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D610-E3BD-4A15-A40A-F4A0690375A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92E5F-F78B-453D-B8A0-9C107D9776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Medios de Transmisión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pacio lib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rente de onda: superficie de fase constante de una on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ente isotrópica: rayos se propagan igualmente en todas las direcci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3962520"/>
            <a:ext cx="1447560" cy="160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4724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47242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96216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4419360" y="40381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66720" y="472428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879080" y="44197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45720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ente de O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48640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5581-1B95-4AA9-803C-D12CFD02020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A532C-7614-47DE-9CF2-E88950C2FE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Medios de Transmisión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adiador Isotrópico: una fuente puntual que radía potencia en una proporción uniforme en todas direcciones. Produce una onda esfér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: antena omnidirec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y cuadrática inversa: Densidad de potencia es función inversa al cuadrado de la  distancia a  la fu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P2      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R1    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---   = 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(  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----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P1      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B986-7C00-4ED2-A786-6C24B1BC768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E739E-6284-4357-B95E-727EDB3820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agación de 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Viajan por la superficie de la tierra (ondas superficial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quieren de potencias altas para T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Frecuencias bajas (VLF, LF, MF) que requieren de antenas gran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 suficiente potencia de Tx se alcanzan grandes distanci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diciones atmosféricas no las afect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B682-04FD-452F-BAB6-1FE56ACE5CA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EF57E-FC59-4454-9219-DE6A628A16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agación de µond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paga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Línea de vis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Reflexión entre antenas de Tx y R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adio horizonte=4/3 horizonte ópt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=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2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: distancia a radio horizonte (K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: altura de la antena (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DE5D-688A-49E3-BC6F-27285867E52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5050B-71D9-41C1-A13F-259E157264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agación OC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pagación sobre el radio horizo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flejadas y refractadas a Tierra por la ionósfera (50 a 400 Km sobre la sup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ratificación de la ionósfera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 Capa D (50 a 100 K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 Capa E (100 a 140 K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 Capa F (140 a 350 Km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D657-1417-4DAD-86EA-F6A7D0B966B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F4259-AD70-4587-BB03-99B7E1E9F3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agación (definiciones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Frecuencia crítica (fc):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f máxima a la que todavía hay reflexión en la ionósfer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Frec. Máxima utilizable (MUF):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es la f máxima utilizable para Tx en O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f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UF= ----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A7BB-5B84-4E70-99EF-37C5C3823FE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A242F-EE2F-4265-9B90-E846288993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ntenas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ntena: sistema conductor metálico que  radía y recibe ondas electromagnét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Guía de onda. Medio conductor metálico por el cual se propaga energía electromagnética de alta frecuenc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trón de radiación: Diagrama polar de intensidades de campo en diferentes posiciones angulares c/r a la anten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3AF-4210-4F20-B8B8-11716A5AED5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B7094-18AC-45B4-BF75-487FB2D9B1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Antenas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sistencia de radiación: resistencia que reemplazando a la antena disipa la misma potenc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ficiencia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  P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= ----------   * 100 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 + P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irectividad: Ganancia máxima direcc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= P/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ahoma"/>
              </a:rPr>
              <a:t>is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258E-ABA8-499A-BED2-85EE139621B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B97ED-F8A0-4C6A-B4D6-00B05ABF99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rvicios de Telecomunicacion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de libre recepción (radiodifusión, televisi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públicos de telecomunicaciones. Deben poder interconectarse con otros servicios públ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limitados de telecomunicaciones. Satisfacen necesidades específ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de aficionados a las radiocomunic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intermedios de telecomunicaciones. Prestados por terceros a través de instalaciones y re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3AB5-E986-4641-990A-0C08D8FEF3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75AD3-2063-4937-ADAE-B6553C541C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ncho de Banda y Capacidad de Inform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cho de banda (B): intervalo de frecuencias requeridas para transmitir información desde la fuente a través del sist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dad de información: Medida de la cantidad de información que puede transmitirse por el sistema en un período de tiempo determin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3EAE-8EC7-484A-998D-C5021FEF43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F79DE-59C7-4B86-B5E0-FB90FFB7A7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dos de Transmis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mplex (Sx) Transmisión en una direc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lf Duplex (HDX) Transmisión en ambas direcciones pero no simultáne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ll Duplex (FDX) Transmisión ocurre en ambas direcciones al mismo 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ll/Full Duplex (F/FDX) Transmisión y recepción puede ser simultánea pero no necesariamente punto a pu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393-7F63-4A9C-9856-9C7387476B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A6841-1656-4055-81E9-AB0FCB034A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uid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nición: Energía eléctrica no deseada presente en el pasabanda de un circuito de comunic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lacionado:Implica una relación con la señ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-correlacionado: Está presente en ausencia de señ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) Externo: Ruido atmosférico, intergalác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i)Interno: Generado en los dispositivos electrón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 Térm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 De disparo (shot-noi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 De tráns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E5C6-93C2-4A64-9010-56167EFE77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459C9-392E-4D07-B9D1-993CF839DC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Ruido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uido correlacionad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Energía eléctrica no deseada presente como resultado directo de la presencia de una señ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Distorsión de armónicas. Generadas por amplificación no-lineal de una señal sinusoid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Intermodulación. Frecuencias no deseadas provenientes del producto de dos o más señales debido a amplificación no-line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asa de Error de bits (BER)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robabilidad de interpretar erróneamente un bit en recep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D6B0-7242-468B-9A17-7195E17DD8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032A6-A4C0-4EA5-A853-1B4FD23803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ormaliz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ándares aseguran transmisión de información entre sistemas de comunicaciones distin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odelo OS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(Open System Interconnec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puesto por ISO (International Standard Organization) que está formado por: ANSI, AFNOR,BSI, etc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comunicación entre procesos de aplicación corriendo en diferentes computad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35A7-343A-45E5-939A-9E0FC62F86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9FC38-B296-4CC9-829E-560AC102E6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ansmisión Digit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Inmunidad al ru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Procesamento si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Regeneración de señ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Detección y corrección de err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s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Mayor B cuando son señales analógicas digitaliz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Sincroniz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17F2-6E17-4DEC-8155-B670B6C785E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B8EBC-733B-4C7A-BE5A-8118F2C580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31T02:31:36Z</dcterms:created>
  <dc:creator>Nicolás Beltrán M.</dc:creator>
  <dc:description/>
  <dc:language>en-US</dc:language>
  <cp:lastModifiedBy>Mikko</cp:lastModifiedBy>
  <cp:lastPrinted>1998-10-02T13:58:22Z</cp:lastPrinted>
  <dcterms:modified xsi:type="dcterms:W3CDTF">2004-08-27T20:09:09Z</dcterms:modified>
  <cp:revision>25</cp:revision>
  <dc:subject/>
  <dc:title>Sistema de Comunicaciones</dc:title>
</cp:coreProperties>
</file>