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CFC-86C1-4699-AC9F-72A0AB8E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0D4-D704-4497-8C14-11F1BA93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0CF-CA6D-4120-A818-1A9C9455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934-B00E-44B2-852A-E6CCB9D8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4DA-7582-4D3F-8B8B-24F45C0C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58A-A774-4BE9-AE5B-71D57C36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3B2-4069-4F7D-942E-C668EF74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581-45CF-45D3-A4DB-263B5BE2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4E0-893D-40FF-B9EC-D1596E4D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23C-6265-4F2A-A084-F20426AB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B8B-AEF9-4323-BC51-1CCEE69D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7AA-828B-4FCA-8DE7-F702823F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7563-A377-4DF4-AF25-D4FB89FC7F5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C0B1-DCB3-4CDE-9544-47B8A255C2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de Comunic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or: Conversión de la información original a una forma que pueda ser transmit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o de Transmisión: Medio de conexión entre el Tx y R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eptor:Conversión de la información a su forma original para entregarla a su desti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E80-D3E8-4B1F-BEC6-519B921CE0F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181DB-8A7D-45A8-A09A-5DA578010E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ulación de Pul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ncho de Pulso (PW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Posición de Pulso (P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mplitud de Pulso (P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Código de Pulsos (P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132-2FA6-40F3-9121-7E80E18FC4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E58A5-29A7-4A99-B03A-8D3BFEE75D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Cuantización y Codific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antiz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lineal, no-lin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ada t de muestra se decide cual de los 8 niveles es la mejor aproxi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valor más cercano se mantiene hasta el próximo t de mues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 dígito a cada nivel de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AEB-7365-4848-881B-E4CD17265D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44F30-E66C-485C-A676-CC3C745541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eneración completa de la señal que contiene toda la información codific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ircuitos de modulación y demodulación digitales (confiables y esta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 eficiente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adecuada reduce efectos de ruido e interfer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más complejos que otros de modu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2E4-DFCE-4735-8474-E0E98834D4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6B70A-ECBB-4102-BC2D-3F327EC903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uestreo, Retención y Digit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roducción sin pérdida de información  f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fs frecuencia de muestre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o y Retención es la primera operación para la digitalización --------&gt; P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Digitalización: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 C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cador en el Tx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DE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dificador en el R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proceso de Codificación para que el conversor A/D convierta exactamente la señal a un código digital, la señal debe ser constante (Reten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310-435B-4D6D-88D8-1629A1910B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0C856-AA1D-4A09-91BB-98CCDB0637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uantización Line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cuantización (Nq) máximo, es igual a la mitad de la separación entre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rror se minimiza aumentando el número de niveles de cuant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ón S/N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             Voltaj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--- = 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q    Voltaje ruido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789-5C3C-42AB-8086-85ACE81652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94CD3-30E9-4035-B789-EC103E0C83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comprimir y después expand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señales analógicas de amplitudes más grandes se comprimen (amplifican menos) antes de la transm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analóg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µ (EE.UU.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arámetro µ determina el rango de señal en el    cual la relación S/Nq es relativamente cons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A (Europa). Relación S/Nq más plano que ley-µ para igualdad de rango dinám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10E-3B19-45B8-95C6-1E90DAB86F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4A134-DE6D-4EA9-A1BA-A6609426BD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esión en el lado de Tx después que la señal de entrada está convertida a un código PCM 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dig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 bits-----&gt; 8 bits -----&gt;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similar a compresión analógica con ley-µ utiliz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µ=25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ma del código comprim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5029200"/>
            <a:ext cx="51814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it de sig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0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105520"/>
            <a:ext cx="1523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icador de         Segm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0  a 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5105520"/>
            <a:ext cx="175248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valo de Cuantización  4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 B C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0000 a 1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0B1-4684-40B4-AAEE-69ED1B098F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5011B-6E39-459B-BAC9-42EAAF367D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 de 12 bits a 8 bi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gm.  Cód. 12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8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1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x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1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6C3-29A4-42A5-A7DC-E718C4B203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13589-45F7-40EB-8DCA-70BEA222F8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ultican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ión de información (voz o datos) de más de una fuente a más de un destino usando el mismo medio de transm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TDM, F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TDM en transmisión de vo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CITT: 30 canales, 2Mbps  (Euro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1     : 24 canales, 1.54 Mbps   (EE.UU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de línea. Convierte niveles TTL, CMOS a una forma más adecuada para transmisión en línea telefónica.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F9A-7A5E-4CD7-813F-D0A00E01F6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79ABD-0D0B-418F-9E86-20D5E39440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di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de Tx: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Balanceadas y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anceadas: Ambos conductores conducen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taje de modo común se cancela en la car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balanceadas: Un conductor está conectado a tier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ido a R, L, C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Inducción de rui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cable coaxial está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: Líneas de transmisión de cable abierto, cable plano paralelo, par trenzado, coaxiales (rígidos, sólidos flexi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unes Transformadores que permiten conectar líneas balanceadas con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5F7-0769-4358-A399-CB5251A862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D7D63-862B-4B6B-86C9-285B102ADF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767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37 Morse transmite información con Telégra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76 Graham Bell y Thomas Watson transmiten información a través de un teléf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88 Hertz radía energía electromagnét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3 Marconi transmite un mensaje a 1 Km de distanci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9 Primer mensaje entre Francia e Inglat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20 Primera estación de radio AM (WWJ Detro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36 Primera emisora de F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47 Invención del transis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76F-EC60-42AC-B1EC-C0A0093AC2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35C63-5404-4B25-9529-EF369BDC2B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pacio li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nte de onda: superficie de fase constante de una o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nte isotrópica: rayos se propagan igualmente en todas las direc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962520"/>
            <a:ext cx="144756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7242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419360" y="4038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6720" y="47242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879080" y="441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572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ente de O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864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98F-7DF8-4EA7-B771-7D56ACDA59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ACC97-F787-4382-B8C2-D004C74323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adiador Isotrópico: una fuente puntual que radía potencia en una proporción uniforme en todas direcciones. Produce una onda esfé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antena omnidirec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 cuadrática inversa: Densidad de potencia es función inversa al cuadrado de la  distancia a  la fu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2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1   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   =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1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776-0BC9-494C-BD19-FA85876B14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46C62-C5C8-48DC-85A0-AF6818D0A0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iajan por la superficie de la tierra (ondas superfici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quieren de potencias altas para T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recuencias bajas (VLF, LF, MF) que requieren de antenas gran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suficiente potencia de Tx se alcanzan grandes di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diciones atmosféricas no las afec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581-E70E-4E21-8222-C9074D2E38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F454A-AD65-4545-AB4F-4918E9A37C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µo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Línea de vi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Reflexión entre antenas de Tx y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dio horizonte=4/3 horizonte óp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: distancia a radio horizonte (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: altura de la antena (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107-A9AE-4EA8-B1DB-ADA328F58F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B1C89-DD40-4EA4-8CA7-6A76C4A4F9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O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 sobre el radio horizo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flejadas y refractadas a Tierra por la ionósfera (50 a 400 Km sobre la sup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atificación de la ionósfe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D (50 a 10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E (100 a 14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F (140 a 350 K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9E5-C504-48F6-AF65-1AA2726410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D4573-0B23-4FA1-8688-C04E6F15F7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(definicione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uencia crítica (fc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f máxima a la que todavía hay reflexión en la ionósf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. Máxima utilizable (MUF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s la f máxima utilizable para Tx en O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UF= 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DD7-5725-499D-A000-7993A7BC9B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D8573-5509-464A-9F53-9EBE687796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tena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tena: sistema conductor metálico que  radía y recibe ondas electromagné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de onda. Medio conductor metálico por el cual se propaga energía electromagnética de alta frecu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trón de radiación: Diagrama polar de intensidades de campo en diferentes posiciones angulares c/r a la ante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9F4-5801-4CEC-BC59-24929F060C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78F9A-1265-4F20-A610-8261FAE49E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istencia de radiación: resistencia que reemplazando a la antena disipa la misma pot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icienci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 ----------   *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 + P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rectividad: Ganancia máxima direc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 P/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ahoma"/>
              </a:rPr>
              <a:t>is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B48-AAB0-4E1A-983C-102A7E4E73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4D4EC-84C8-4449-87A4-01B2576B71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icios de Telecomunicacio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libre recepción (radiodifusión, televi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públicos de telecomunicaciones. Deben poder interconectarse con otros servicios públ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limitados de telecomunicaciones. Satisfacen necesidade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aficionados a las radio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intermedios de telecomunicaciones. Prestados por terceros a través de instalaciones y re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FA5-86D5-47D1-BE57-023D79CA30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21E75-C4FB-49A7-BFEF-A84AEA8C6C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cho de Banda y Capacidad de Inform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ho de banda (B): intervalo de frecuencias requeridas para transmitir información desde la fuente a través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 de información: Medida de la cantidad de información que puede transmitirse por el sistema en un período de tiempo determ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18E-DA71-4091-8779-0E67AA0B1D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6E726-656A-4263-846F-3EC4F3C63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mplex (Sx) Transmisión en una dir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lf Duplex (HDX) Transmisión en ambas direcciones pero no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 Duplex (FDX) Transmisión ocurre en ambas direcciones al mismo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/Full Duplex (F/FDX) Transmisión y recepción puede ser simultánea pero no necesariamente punto a pu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091-746A-42F7-B5C5-E24DA7479C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F70CB-99D2-4840-B1F9-9494E85A44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ción: Energía eléctrica no deseada presente en el pasabanda de un circuito de 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lacionado:Implica una relación con l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-correlacionado: Está presente en ausencia d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) Externo: Ruido atmosférico, intergal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)Interno: Generado en los dispositivos electrón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Tér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disparo (shot-no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trán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A9C-9D41-446F-9931-302AB8F04E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68876-5FE9-4EA2-B39C-9BA57D7C11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uido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uido correlacion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nergía eléctrica no deseada presente como resultado directo de la presencia de un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istorsión de armónicas. Generadas por amplificación no-lineal de una señal sinusoi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termodulación. Frecuencias no deseadas provenientes del producto de dos o más señales debido a amplificación no-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de Error de bits (BER)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babilidad de interpretar erróneamente un bit en recep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F94-934C-412F-9B0F-3B0197E968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DDFEC-BA3B-4562-B2E2-0711676CCA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rm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ndares aseguran transmisión de información entre sistemas de comunicaciones disti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odelo OS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Open System Interconne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uesto por ISO (International Standard Organization) que está formado por: ANSI, AFNOR,BSI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comunicación entre procesos de aplicación corriendo en diferentes comput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B75-C154-4889-9F0E-9D145E1ECF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59B3F-A4AE-48A2-B617-C042A689F8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mi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munidad al ru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Procesamento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Regeneración de señ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etección y corrección de err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Mayor B cuando son señales analógicas digita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Sincron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BF5-91E4-435F-8ABB-0F3D73BCD8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7870D-04C1-4850-8F41-0A0A1D6A3C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02:31:36Z</dcterms:created>
  <dc:creator>Nicolás Beltrán M.</dc:creator>
  <dc:description/>
  <dc:language>en-US</dc:language>
  <cp:lastModifiedBy>Mikko</cp:lastModifiedBy>
  <cp:lastPrinted>1998-10-02T13:58:22Z</cp:lastPrinted>
  <dcterms:modified xsi:type="dcterms:W3CDTF">2004-08-27T20:09:09Z</dcterms:modified>
  <cp:revision>25</cp:revision>
  <dc:subject/>
  <dc:title>Sistema de Comunicaciones</dc:title>
</cp:coreProperties>
</file>