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157-1D6D-492E-8FD9-FBFCD50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CD5-55ED-423B-964A-51C819C9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41C-6797-46C6-B47E-F29D03E3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60A-8625-454E-96B1-4E011DC2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D10-2D3F-4419-8F18-ECE6EF53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523-F752-4210-AAC6-D9DE8FD0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78D-3DA5-40F0-9435-4747D16A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361-5649-4C5C-9EC3-31F8F3A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159-01C2-4642-A2FE-C686AD4C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A5C-285F-4A94-8B82-EA98F39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509-5AAA-414B-ADB4-2C0B973C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4F3-6790-48D8-B029-F72E507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1F7-BBFB-46CC-BC94-D451C8FEEE6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EF44-35ED-4A74-9D4C-8DCD5F7E25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de Comunic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or: Conversión de la información original a una forma que pueda ser transmit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o de Transmisión: Medio de conexión entre el Tx y R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eptor:Conversión de la información a su forma original para entregarla a su desti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D75-961E-4419-ADE2-48E22A8E332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2A24A-419B-4F34-BE79-ECB489876A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ulación de Pul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ncho de Pulso (PW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Posición de Pulso (P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mplitud de Pulso (P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Código de Pulsos (P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FF5-7499-4E5E-934B-B3ECC66067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F0E71-80BC-4CD4-BEE4-E6BAF92C16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Cuantización y Codific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ant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lineal, no-lin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ada t de muestra se decide cual de los 8 niveles es la mejor aproxi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valor más cercano se mantiene hasta el próximo t de mues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 dígito a cada nivel de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7A7-BC25-4414-AF33-3EED58AD4C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E17F0-E667-4D6E-897F-DA22F172B7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eneración completa de la señal que contiene toda la información c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rcuitos de modulación y demodulación digitales (confiables y esta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 eficiente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adecuada reduce efectos de ruido e interf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más complejos que otros de modu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27D-66D5-4B8A-8EF8-3DA048D8B1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B9587-0FDA-4467-8D6F-C17AE21D5B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estreo, Retención y Digit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oducción sin pérdida de información  f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fs frecuencia de muestre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o y Retención es la primera operación para la digitalización --------&gt; P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Digitalización: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 C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cador en el Tx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DE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dificador en el R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proceso de Codificación para que el conversor A/D convierta exactamente la señal a un código digital, la señal debe ser constante (Reten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531-0B51-4F20-905E-2126AAF60D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63B18-E092-437A-B002-73935986FF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tización Line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cuantización (Nq) máximo, es igual a la mitad de la separación entre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rror se minimiza aumentando el número de niveles de cuant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ón S/N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             Voltaj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--- = 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q    Voltaje ruido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2A8-88C1-47E4-848A-5D39A32292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66090-F234-4D14-BCAC-1353ABE7E5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comprimir y después expand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señales analógicas de amplitudes más grandes se comprimen (amplifican menos) antes de la transm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analóg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µ (EE.UU.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arámetro µ determina el rango de señal en el    cual la relación S/Nq es relativamente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A (Europa). Relación S/Nq más plano que ley-µ para igualdad de rango dinám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8B5-28E5-4C25-AC2B-91ABAA7F29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E1938-331B-45D1-AD46-75B374911E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esión en el lado de Tx después que la señal de entrada está convertida a un código PCM 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dig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 bits-----&gt; 8 bits -----&gt;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similar a compresión analógica con ley-µ utiliz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µ=25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ma del código comprim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5029200"/>
            <a:ext cx="5181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it de sig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0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105520"/>
            <a:ext cx="1523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dor de         Segm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0  a 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5105520"/>
            <a:ext cx="17524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valo de Cuantización  4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 B C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0000 a 1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841-6892-431B-A7FD-42AE778408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02956-CAF1-416E-A8B9-35C1D0C643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 de 12 bits a 8 b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m.  Cód. 12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8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1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x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1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380-642F-4945-849F-2A9F7EB83E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466A9-3F2C-4A69-9F68-1CEB92F43A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ultican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ión de información (voz o datos) de más de una fuente a más de un destino usando el mismo medio de transm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TDM, F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TDM en transmisión de vo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CITT: 30 canales, 2Mbps  (Euro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1     : 24 canales, 1.54 Mbps   (EE.UU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de línea. Convierte niveles TTL, CMOS a una forma más adecuada para transmisión en línea telefónica.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EE8-1AC7-430A-BD57-6DD83135A3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7536E-D213-47E1-9C19-19DDAE3BA3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di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Tx: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Balanceadas y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anceadas: Ambos conductores conducen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taje de modo común se cancela en la c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balanceadas: Un conductor está conectado a tier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ido a R, L, C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nducción de rui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cable coaxial está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: Líneas de transmisión de cable abierto, cable plano paralelo, par trenzado, coaxiales (rígidos, sólidos flexi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unes Transformadores que permiten conectar líneas balanceadas con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D73-A1AE-4D62-86B9-97C8FDD4FB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FD252-3F28-47C8-B9BC-C1832C1A04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7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37 Morse transmite información con Telégra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76 Graham Bell y Thomas Watson transmiten información a través de un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88 Hertz radía energía electromagnét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3 Marconi transmite un mensaje a 1 Km de distanci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9 Primer mensaje entre Francia e Inglat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20 Primera estación de radio AM (WWJ Detro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36 Primera emisora de F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47 Invención del transi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58C-EFF9-40FB-836B-B169293B54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D76AC-63D6-4E96-806B-D618A2B064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pacio li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nte de onda: superficie de fase constante de una o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nte isotrópica: rayos se propagan igualmente en todas las direc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962520"/>
            <a:ext cx="14475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7242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41936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6720" y="47242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879080" y="441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572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ente de O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864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00F-EA54-410A-B283-BBDCE5498E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A05B3-6844-44CD-A58A-27FEF9AB1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adiador Isotrópico: una fuente puntual que radía potencia en una proporción uniforme en todas direcciones. Produce una onda esfé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antena omnidirec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 cuadrática inversa: Densidad de potencia es función inversa al cuadrado de la  distancia a  la fu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2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1 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   =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1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2E7-2000-4236-87D6-F5F10E225E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34201-6B46-42BC-9FDB-76FF85B2B8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iajan por la superficie de la tierra (ondas superfici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quieren de potencias altas para T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recuencias bajas (VLF, LF, MF) que requieren de antenas gran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suficiente potencia de Tx se alcanzan grandes di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atmosféricas no las afec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1FF-C1A1-43AE-B4EB-9422A56006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6EBFA-025A-422F-B9BB-B1816B6430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µ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Línea de vi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Reflexión entre antenas de Tx y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dio horizonte=4/3 horizonte óp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: distancia a radio horizonte (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: altura de la antena (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642-476F-4B3C-841E-B80CA3FF24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24BA9-FFA4-46EA-8276-54C8DA4E58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O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 sobre el radio horizo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flejadas y refractadas a Tierra por la ionósfera (50 a 400 Km sobre la sup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atificación de la ionósfe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D (50 a 10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E (100 a 14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F (140 a 350 K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DD4-D678-42EC-8160-3CEFF927FF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292EE-630A-4FB3-BB04-FDC7B1E221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(definicion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uencia crítica (fc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f máxima a la que todavía hay reflexión en la ionósf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. Máxima utilizable (MUF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s la f máxima utilizable para Tx en O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UF= 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D28-B93B-42BB-A656-70650DF76E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917FE-1B17-4292-B21A-116238CC43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tena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tena: sistema conductor metálico que  radía y recibe ondas electromagné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de onda. Medio conductor metálico por el cual se propaga energía electromagnética de alta frecu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trón de radiación: Diagrama polar de intensidades de campo en diferentes posiciones angulares c/r a la ant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E23-EF4D-42D6-98A5-93287D5CA6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267EF-0016-423A-9ADE-DD3B577AEE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 disipa la misma pot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----------   *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 P/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ahoma"/>
              </a:rPr>
              <a:t>is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462-02E2-46C4-8073-738E919848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115A3-7C12-41C3-B646-5534091B17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icios de Telecomunicac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libre recepción (radiodifusión, televi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públicos de telecomunicaciones. Deben poder interconectarse con otros servicios públ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limitados de telecomunicaciones. Satisfacen necesidade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aficionados a las radio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intermedios de telecomunicaciones. Prestados por terceros a través de instalaciones y re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EC0-260A-4491-A06E-94225EFF27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1A092-CEBD-4EC1-9643-A0EC1859D0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cho de Banda y Capacidad de Inform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ho de banda (B): intervalo de frecuencias requeridas para transmitir información desde la fuente a través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 de información: Medida de la cantidad de información que puede transmitirse por el sistema en un período de tiempo determ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182-CF99-4DE8-B4D4-3DEE40DB76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6DDED-0078-4AFB-9EE0-2605CD3860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mplex (Sx) Transmisión en una dir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lf Duplex (HDX) Transmisión en ambas direcciones pero no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 Duplex (FDX) Transmisión ocurre en ambas direcciones al mismo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/Full Duplex (F/FDX) Transmisión y recepción puede ser simultánea pero no necesariamente punto a pu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537-20E1-4DA6-A5E5-FE51662804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A46C3-F5FA-41E3-9438-5B1D738EB6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ción: Energía eléctrica no deseada presente en el pasabanda de un circuito de 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lacionado:Implica una relación con l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-correlacionado: Está presente en ausencia d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) Externo: Ruido atmosférico, intergal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)Interno: Generado en los dispositivos electrón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Tér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disparo (shot-no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trán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6C4-DB02-42C7-B9F9-60D7017E61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BFF62-F457-4F91-ADF9-07E4889E92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uido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uido correlacion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ergía eléctrica no deseada presente como resultado directo de la presencia de un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istorsión de armónicas. Generadas por amplificación no-lineal de una señal sinusoi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termodulación. Frecuencias no deseadas provenientes del producto de dos o más señales debido a amplificación no-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de Error de bits (BER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babilidad de interpretar erróneamente un bit en recep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B34-F433-4AAB-8DC7-9A16A0E6D2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241D6-31F8-4139-AB15-A787F14210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rm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ndares aseguran transmisión de información entre sistemas de comunicaciones disti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odelo OS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Open System Interconne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uesto por ISO (International Standard Organization) que está formado por: ANSI, AFNOR,BSI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comunicación entre procesos de aplicación corriendo en diferentes comput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600-1A29-48AC-AAD3-3BDB6DD866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796E8-4306-4CE5-A960-CC9FBF005C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mi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munidad al ru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Procesamento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Regeneración de señ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etección y corrección de err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Mayor B cuando son señales analógicas digit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Sincron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BE6-E3D3-4FC2-829D-799C79C5C0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CD664-35F7-49F2-9765-205FAC447F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31:36Z</dcterms:created>
  <dc:creator>Nicolás Beltrán M.</dc:creator>
  <dc:description/>
  <dc:language>en-US</dc:language>
  <cp:lastModifiedBy>Mikko</cp:lastModifiedBy>
  <cp:lastPrinted>1998-10-02T13:58:22Z</cp:lastPrinted>
  <dcterms:modified xsi:type="dcterms:W3CDTF">2004-08-27T20:09:09Z</dcterms:modified>
  <cp:revision>25</cp:revision>
  <dc:subject/>
  <dc:title>Sistema de Comunicaciones</dc:title>
</cp:coreProperties>
</file>