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9C9C-A75B-49D8-BF5F-AB05DAE01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128-7104-4ED7-A3BE-E95DF892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26F0-0962-4BB9-B1A1-7A9F0D7A4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2F1-F311-47FA-855D-E8B769F9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E749-9B4B-4657-9F3B-809FFA5E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8465-F744-4619-92F8-50C15228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D90-0168-42CB-8AD3-31B68408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0777-2541-448E-8FB9-A851396C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5F8-8CE8-440F-8BD9-589500E5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1BB-AAC2-4A34-A8D3-6C4EC9F4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446-4F04-4450-A047-0912F8E4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EB6-F161-4931-80E0-C1D01C92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B254-5706-418B-A5E4-C2C903E035F2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F837-E55F-4B28-ADC5-2B33BA3BED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stema de Comunicacion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misor: Conversión de la información original a una forma que pueda ser transmit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o de Transmisión: Medio de conexión entre el Tx y R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ceptor:Conversión de la información a su forma original para entregarla a su desti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432D-AF8C-43A2-A974-A7AE3CCD032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DFF2A-6330-4CAC-8EF2-076097C631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ulación de Puls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Ancho de Pulso (PW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Posición de Pulso (PP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Amplitud de Pulso (P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ción de Código de Pulsos (PC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D29D-0F3E-4371-A3BF-EB312D3B210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A3770-8FC6-440C-8BFB-686BBFE296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CM Cuantización y Codific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antiz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(lineal, no-line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cada t de muestra se decide cual de los 8 niveles es la mejor aproxi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valor más cercano se mantiene hasta el próximo t de mues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dific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gna dígito a cada nivel de cuant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3B0-91F0-4ABC-B291-9697BF2B69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9D54C-28F4-4674-9BC9-AEFC016D97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PCM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generación completa de la señal que contiene toda la información codific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ircuitos de modulación y demodulación digitales (confiables y estab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macenamiento eficiente de la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dificación adecuada reduce efectos de ruido e interfer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venta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más complejos que otros de modul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475B-1085-46A1-9D93-C695EC3B57D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FEF1C-20D8-4BE2-98FC-B64F1DDEF0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uestreo, Retención y Digit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roducción sin pérdida de información  fs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ahoma"/>
              </a:rPr>
              <a:t>&gt;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2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(fs frecuencia de muestre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estreo y Retención es la primera operación para la digitalización --------&gt; P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de Digitalización:</a:t>
            </a:r>
            <a:r>
              <a:rPr b="1" lang="es-ES_tradnl" sz="2400" spc="-1" strike="noStrike">
                <a:solidFill>
                  <a:srgbClr val="ff6600"/>
                </a:solidFill>
                <a:latin typeface="Tahoma"/>
              </a:rPr>
              <a:t> C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ficador en el Tx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ES_tradnl" sz="2400" spc="-1" strike="noStrike">
                <a:solidFill>
                  <a:srgbClr val="ff6600"/>
                </a:solidFill>
                <a:latin typeface="Tahoma"/>
              </a:rPr>
              <a:t>DEC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dificador en el R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el proceso de Codificación para que el conversor A/D convierta exactamente la señal a un código digital, la señal debe ser constante (Retenció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7B7-C4CC-45FF-B06C-E679667950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D5B92-F521-4876-B510-8E6AE1F24A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uantización Line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rror de cuantización (Nq) máximo, es igual a la mitad de la separación entre nive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error se minimiza aumentando el número de niveles de cuantiz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ón S/Nq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             Voltaje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--- = -----------------------------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q    Voltaje ruido cuant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6E8C-8BC3-451F-8823-FB88B0CAD91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53534-6026-467B-964C-D9B9B4180B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de comprimir y después expand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señales analógicas de amplitudes más grandes se comprimen (amplifican menos) antes de la transmi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nsión analóg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-µ (EE.UU., Jap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parámetro µ determina el rango de señal en el    cual la relación S/Nq es relativamente consta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-A (Europa). Relación S/Nq más plano que ley-µ para igualdad de rango dinám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6D02-13A7-4B6B-A7BB-EE07B1B2BFF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ED93B0-E215-4C84-BD08-EC9F40B13D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 Digit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resión en el lado de Tx después que la señal de entrada está convertida a un código PCM line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ansión digit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2 bits-----&gt; 8 bits -----&gt; 12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similar a compresión analógica con ley-µ utilizan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µ=25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ma del código comprim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5029200"/>
            <a:ext cx="5181480" cy="1066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Bit de sign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 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0   -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5029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50292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5105520"/>
            <a:ext cx="15238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entificador de         Segment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 bi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00  a 1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5105520"/>
            <a:ext cx="1752480" cy="12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tervalo de Cuantización  4 bi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A B C 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0000 a 111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FDB3-DE6E-44F2-8F09-C505B28D03E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37F8A-A632-49DB-A0BA-20FCD3A6E9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Compansión Digital de 12 bits a 8 bi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egm.  Cód. 12 bit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ód. 8 bit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ód. 12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0AB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01AB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1ABCD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01ABCD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1ABCD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01ABCD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1ABCD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0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01ABCD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0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01ABCD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ABCDx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10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01ABCD1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ABCDxxxxxx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11ABCD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1ABCD100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E8D6-69B9-4088-8B0E-39CDFF90732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EA2CA-C5BD-4D7D-9E76-B58C408864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ultican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nsmisión de información (voz o datos) de más de una fuente a más de un destino usando el mismo medio de transm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étodos TDM, FD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TDM en transmisión de voz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CITT: 30 canales, 2Mbps  (Europ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1     : 24 canales, 1.54 Mbps   (EE.UU, Jap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dificación de línea. Convierte niveles TTL, CMOS a una forma más adecuada para transmisión en línea telefónica.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E68-FBA2-43F3-A235-B66B49B465E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45C70-43A9-48F7-B134-DDBE343CBF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dios de Transmi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íneas de Tx: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Balanceadas y Desbalance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lanceadas: Ambos conductores conducen corr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oltaje de modo común se cancela en la carg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balanceadas: Un conductor está conectado a tier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bido a R, L, C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Inducción de ruid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: cable coaxial estánd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pos: Líneas de transmisión de cable abierto, cable plano paralelo, par trenzado, coaxiales (rígidos, sólidos flexibl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lunes Transformadores que permiten conectar líneas balanceadas con desbalance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3E35-9710-49B3-BC58-2D42AB50EC8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460BA-455A-460D-95BE-4F73330108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767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istori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37 Morse transmite información con Telégra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76 Graham Bell y Thomas Watson transmiten información a través de un teléfo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88 Hertz radía energía electromagnétic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93 Marconi transmite un mensaje a 1 Km de distancia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899 Primer mensaje entre Francia e Inglater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20 Primera estación de radio AM (WWJ Detro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36 Primera emisora de F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947 Invención del transis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1251-3231-48FC-851B-85B695E020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5FC4DC-4640-4500-87A8-9E2CFCF786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edios de Transmisió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pacio li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rente de onda: superficie de fase constante de una on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ente isotrópica: rayos se propagan igualmente en todas las direc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962520"/>
            <a:ext cx="144756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4724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47242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962160" y="472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419360" y="40381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266720" y="472428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879080" y="4419720"/>
            <a:ext cx="2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4572000"/>
            <a:ext cx="152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ente de On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48640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83A6-1A95-43C5-AC43-864FBA5DD3A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6840B-FDA0-471A-9E34-BC34C55538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Medios de Transmisión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adiador Isotrópico: una fuente puntual que radía potencia en una proporción uniforme en todas direcciones. Produce una onda esfé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: antena omnidirecc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y cuadrática inversa: Densidad de potencia es función inversa al cuadrado de la  distancia a  la fu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P2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1    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---   =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(  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----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es-ES_tradnl" sz="2400" spc="-1" strike="noStrike">
                <a:solidFill>
                  <a:srgbClr val="000000"/>
                </a:solidFill>
                <a:latin typeface="Garamond"/>
              </a:rPr>
              <a:t>P1          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37C-79E0-4934-A1A5-26A7D03A51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C5025-60A2-46C6-A6F7-85AC3B19D3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de O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iajan por la superficie de la tierra (ondas superficial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quieren de potencias altas para T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recuencias bajas (VLF, LF, MF) que requieren de antenas gran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 suficiente potencia de Tx se alcanzan grandes distanci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diciones atmosféricas no las afec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04B4-FCE1-4CAC-84A8-844209197A7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21ECDE-E22C-45E3-A14E-93697B42B9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de µond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paga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Línea de vis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Reflexión entre antenas de Tx y R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adio horizonte=4/3 horizonte ópt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=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2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: distancia a radio horizonte (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: altura de la antena (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8CF-0134-4B95-9339-A594C31E398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56E19-003B-4BA7-B9A6-5299497677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OC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pagación sobre el radio horizo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flejadas y refractadas a Tierra por la ionósfera (50 a 400 Km sobre la sup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ratificación de la ionósfera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D (50 a 100 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E (100 a 140 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- Capa F (140 a 350 Km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150C-3BEA-4B70-86EF-20385B1B068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331A2-CD24-4461-B939-C8E7D40037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pagación (definiciones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recuencia crítica (fc):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f máxima a la que todavía hay reflexión en la ionósfer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Frec. Máxima utilizable (MUF):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es la f máxima utilizable para Tx en O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UF= ----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9CD-A5BA-4479-A462-7B485616260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7E308-0769-4BCE-8861-735EF06A94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tenas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tena: sistema conductor metálico que  radía y recibe ondas electromagnét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uía de onda. Medio conductor metálico por el cual se propaga energía electromagnética de alta frecu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trón de radiación: Diagrama polar de intensidades de campo en diferentes posiciones angulares c/r a la anten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003-AFB5-417F-93C6-7DF2B0BFD3A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8D2DB-E9DB-477F-87CC-C7DE0C2BA8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Antenas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istencia de radiación: resistencia que reemplazando a la antena disipa la misma potenc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ficiencia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 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= ----------   * 100 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 + P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irectividad: Ganancia máxima direcc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= P/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Tahoma"/>
              </a:rPr>
              <a:t>is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7A4-33EE-4141-A926-9EBD6A554F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6BE9C-F522-435B-916D-38A61EA239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rvicios de Telecomunicacion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de libre recepción (radiodifusión, televisió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públicos de telecomunicaciones. Deben poder interconectarse con otros servicios públ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limitados de telecomunicaciones. Satisfacen necesidade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de aficionados a las radio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rvicios intermedios de telecomunicaciones. Prestados por terceros a través de instalaciones y re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140-C0D6-4C73-B739-C15504AF8F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F5013-6F5C-4B9B-8429-611C6050AF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ncho de Banda y Capacidad de Inform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cho de banda (B): intervalo de frecuencias requeridas para transmitir información desde la fuente a través del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dad de información: Medida de la cantidad de información que puede transmitirse por el sistema en un período de tiempo determin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7FD-12A3-4653-8440-BA2C6979F2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885A3-BC72-4B22-88D7-87EA452CBA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odos de Transmis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mplex (Sx) Transmisión en una dire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lf Duplex (HDX) Transmisión en ambas direcciones pero no simultánea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ll Duplex (FDX) Transmisión ocurre en ambas direcciones al mismo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ll/Full Duplex (F/FDX) Transmisión y recepción puede ser simultánea pero no necesariamente punto a pu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EE8-D01B-4AF5-A03E-CF6970B7BD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56359-3279-4E2B-86E6-AD992B8683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uid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ción: Energía eléctrica no deseada presente en el pasabanda de un circuito de 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lacionado:Implica una relación con la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-correlacionado: Está presente en ausencia de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) Externo: Ruido atmosférico, intergalác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i)Interno: Generado en los dispositivos electrón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Térm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De disparo (shot-noi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 De tránsi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FEE-BD9A-462F-A5DE-2904B0AC2A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66BB3-9DEF-453F-9E8C-EA8022FB6A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ahoma"/>
              </a:rPr>
              <a:t>Ruido (cont.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uido correlacionad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Energía eléctrica no deseada presente como resultado directo de la presencia de una señ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Distorsión de armónicas. Generadas por amplificación no-lineal de una señal sinusoid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Intermodulación. Frecuencias no deseadas provenientes del producto de dos o más señales debido a amplificación no-line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asa de Error de bits (BER)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Probabilidad de interpretar erróneamente un bit en recep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54D-B26B-46AE-BD6E-BDA99A3835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82333-64D8-4399-9596-0766632B49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ormalizació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ándares aseguran transmisión de información entre sistemas de comunicaciones distin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odelo OS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(Open System Interconne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puesto por ISO (International Standard Organization) que está formado por: ANSI, AFNOR,BSI, etc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 comunicación entre procesos de aplicación corriendo en diferentes computad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F9D-1CD4-4EC8-A360-92B4F093B7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624D9-8DE7-46AC-8B97-8C3FD478B1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9b9b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ansmisión Digital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Inmunidad al rui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Procesamento si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Regeneración de señ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Detección y corrección de erro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ventaj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Mayor B cuando son señales analógicas digitaliz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- Sincron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L55A Sistemas de Telecomun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7306-7932-421D-A12B-1A1FAFEEF56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78607-FCE6-4168-900C-81BD48FB18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31T02:31:36Z</dcterms:created>
  <dc:creator>Nicolás Beltrán M.</dc:creator>
  <dc:description/>
  <dc:language>en-US</dc:language>
  <cp:lastModifiedBy>Mikko</cp:lastModifiedBy>
  <cp:lastPrinted>1998-10-02T13:58:22Z</cp:lastPrinted>
  <dcterms:modified xsi:type="dcterms:W3CDTF">2004-08-27T20:09:09Z</dcterms:modified>
  <cp:revision>25</cp:revision>
  <dc:subject/>
  <dc:title>Sistema de Comunicaciones</dc:title>
</cp:coreProperties>
</file>