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26.wmf" ContentType="image/x-wmf"/>
  <Override PartName="/ppt/media/image15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20.png" ContentType="image/png"/>
  <Override PartName="/ppt/media/image19.wmf" ContentType="image/x-wmf"/>
  <Override PartName="/ppt/media/image25.png" ContentType="image/png"/>
  <Override PartName="/ppt/media/image2.png" ContentType="image/png"/>
  <Override PartName="/ppt/media/image18.wmf" ContentType="image/x-wmf"/>
  <Override PartName="/ppt/media/image1.png" ContentType="image/png"/>
  <Override PartName="/ppt/media/image1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88188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F2DE9-4A5C-4831-B90E-26D7860E4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68BF7-1FD4-443D-BF30-23922961E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44AE3-4A7D-4372-8C91-C9E1761F16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89C3F-7E42-4617-AB95-89E188FC4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D31C-A181-419E-B2D7-2709CAEE33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0409-A0FF-4651-AEAE-71880D4970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2458-108F-41C7-98C9-0A9D0EE969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CDE0-B22B-406B-B2DB-D39280E8EB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9EAD-D13B-4C6B-BD0E-B0337E5749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F289-0C3E-4C58-B57B-1A9B8951BF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F838-F9BC-439D-B53A-C6DA6C74AD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3DA4A-6DB9-4201-AFBD-F3508B4D9F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7674-FA88-4D4E-A000-710BB830F8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BD6A-7F81-40E7-82FD-6649644C8D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6312-9860-4DAE-A746-06AF48A493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9F98-8714-48C3-ADFD-9DE220ED76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101A-4F05-4411-86CF-5710E3BAD6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4A65B-E808-46AE-AFD3-C0818FBCD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B3630-9B64-4F98-83E2-4B150FE01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B96F1-7FF9-448D-BE8C-A9275A4BE6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625D-4145-4A16-A812-70BD08D19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4D8E5-C1AC-4504-ADF3-A66C2042F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709C6-3D06-4FB8-846E-F80CB9361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967B3-F67B-4237-BB3A-EFF326CE2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02B7-A426-47CD-9725-A9A639012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D87F-DCAA-4952-85F2-D5D4190E2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cho de Banda Aumen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ducto Gain-Bandwidth permanece cons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828800" y="2743200"/>
                <a:ext cx="19400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8" name=""/>
          <p:cNvGrpSpPr/>
          <p:nvPr/>
        </p:nvGrpSpPr>
        <p:grpSpPr>
          <a:xfrm>
            <a:off x="6095880" y="4724280"/>
            <a:ext cx="2880000" cy="1684440"/>
            <a:chOff x="6095880" y="4724280"/>
            <a:chExt cx="2880000" cy="168444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6095880" y="4724280"/>
              <a:ext cx="2880000" cy="16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8292960" y="54561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642520" y="5271840"/>
              <a:ext cx="0" cy="6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88200" y="547056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00800" y="525924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28600" y="3533760"/>
                <a:ext cx="5257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jω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jωC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11040" y="4343400"/>
                <a:ext cx="51753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244520" y="5064120"/>
                <a:ext cx="302256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Hf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f</m:t>
                            </m:r>
                          </m:sub>
                        </m:sSub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7" name=""/>
          <p:cNvGrpSpPr/>
          <p:nvPr/>
        </p:nvGrpSpPr>
        <p:grpSpPr>
          <a:xfrm>
            <a:off x="5410080" y="1447920"/>
            <a:ext cx="3733920" cy="3120840"/>
            <a:chOff x="5410080" y="1447920"/>
            <a:chExt cx="3733920" cy="3120840"/>
          </a:xfrm>
        </p:grpSpPr>
        <p:grpSp>
          <p:nvGrpSpPr>
            <p:cNvPr id="248" name=""/>
            <p:cNvGrpSpPr/>
            <p:nvPr/>
          </p:nvGrpSpPr>
          <p:grpSpPr>
            <a:xfrm>
              <a:off x="5730840" y="1447920"/>
              <a:ext cx="3057480" cy="2322360"/>
              <a:chOff x="5730840" y="1447920"/>
              <a:chExt cx="3057480" cy="2322360"/>
            </a:xfrm>
          </p:grpSpPr>
          <p:pic>
            <p:nvPicPr>
              <p:cNvPr id="2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730840" y="1957320"/>
                <a:ext cx="3057480" cy="128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36840" y="1447920"/>
                <a:ext cx="2548080" cy="2322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1" name=""/>
            <p:cNvSpPr/>
            <p:nvPr/>
          </p:nvSpPr>
          <p:spPr>
            <a:xfrm>
              <a:off x="6949800" y="2703600"/>
              <a:ext cx="304920" cy="2840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61040" y="266688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08760" y="268452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08760" y="279864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10080" y="176544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10080" y="28954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00800" y="2362320"/>
              <a:ext cx="736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89440" y="242892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13320" y="2209680"/>
              <a:ext cx="106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8000" y="1484280"/>
              <a:ext cx="88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pos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&g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0" y="3465360"/>
              <a:ext cx="934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neg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&l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07240" y="3554280"/>
              <a:ext cx="101520" cy="9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07240" y="1569960"/>
              <a:ext cx="101520" cy="9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58000" y="1598760"/>
              <a:ext cx="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0" y="337500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534160" y="2325600"/>
              <a:ext cx="609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86400" y="2335320"/>
              <a:ext cx="571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7010280" y="4038480"/>
              <a:ext cx="914400" cy="530280"/>
              <a:chOff x="7010280" y="4038480"/>
              <a:chExt cx="914400" cy="53028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7391160" y="4267080"/>
                <a:ext cx="141480" cy="301680"/>
                <a:chOff x="7391160" y="4267080"/>
                <a:chExt cx="141480" cy="301680"/>
              </a:xfrm>
            </p:grpSpPr>
            <p:grpSp>
              <p:nvGrpSpPr>
                <p:cNvPr id="270" name=""/>
                <p:cNvGrpSpPr/>
                <p:nvPr/>
              </p:nvGrpSpPr>
              <p:grpSpPr>
                <a:xfrm>
                  <a:off x="7391160" y="4506120"/>
                  <a:ext cx="141480" cy="62640"/>
                  <a:chOff x="7391160" y="4506120"/>
                  <a:chExt cx="141480" cy="6264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7391160" y="4506120"/>
                    <a:ext cx="141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414560" y="4537440"/>
                    <a:ext cx="94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437960" y="4568760"/>
                    <a:ext cx="4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4" name=""/>
                <p:cNvSpPr/>
                <p:nvPr/>
              </p:nvSpPr>
              <p:spPr>
                <a:xfrm>
                  <a:off x="7463880" y="4270680"/>
                  <a:ext cx="0" cy="23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25000" y="4267080"/>
                  <a:ext cx="802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7010280" y="40384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7" name=""/>
            <p:cNvCxnSpPr>
              <a:stCxn id="249" idx="3"/>
              <a:endCxn id="276" idx="3"/>
            </p:cNvCxnSpPr>
            <p:nvPr/>
          </p:nvCxnSpPr>
          <p:spPr>
            <a:xfrm flipH="1">
              <a:off x="7923960" y="2598840"/>
              <a:ext cx="864360" cy="1629360"/>
            </a:xfrm>
            <a:prstGeom prst="bentConnector3">
              <a:avLst>
                <a:gd name="adj1" fmla="val -264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8" name=""/>
            <p:cNvCxnSpPr>
              <a:stCxn id="276" idx="1"/>
              <a:endCxn id="256" idx="2"/>
            </p:cNvCxnSpPr>
            <p:nvPr/>
          </p:nvCxnSpPr>
          <p:spPr>
            <a:xfrm rot="10800000">
              <a:off x="5714280" y="3199680"/>
              <a:ext cx="1296000" cy="102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duce Ganancia respectiva y puede hacerse muy estable (si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 &gt;&gt;1 ganancia ~ 1/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le: Variaciones en temperatura, Diferencias entre componentes (matching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umenta Ancho de Ban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ducto “Gain-Bandwidth” permanece consta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era las impedancias de entrada y 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ende de la config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 tal forma que el efecto es “deseable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jempl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3810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pejo de corri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de 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umenta impedancia por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962160" y="1980720"/>
            <a:ext cx="2895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 E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, retroalimentación corriente-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umenta la impedancia mirando por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3124080" cy="232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066680" y="5638680"/>
                <a:ext cx="19177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7026120" y="1600200"/>
            <a:ext cx="1889280" cy="2949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715000" y="4572000"/>
                <a:ext cx="32306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987880" y="5334120"/>
                <a:ext cx="26830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s y Retroalimen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al para retroalimentación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rel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&gt;&gt; 1 se cumple para un amplio rango de frecuenci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a ancho de Ban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lineal (1/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ortante ¿Cómo opera el OPAMP Retroalimentado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lineal exige que el OPAMP este fuera de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rabaja en la zona lineal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gla de oro 1”: Los terminales de entrada del OPAMP se mantienen con voltajes “iguales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 camb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oalimentación (algo)-serie aumenta impedancia de entrad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“Regla de oro 2”: Corriente en la entrada diferencial es despreciabl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Buffer de Voltaj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 retroalimentación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ines en la entrada diferencial a “igual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tencial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crece en factor (1+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disminuye en factor (1+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r lo tanto es un buffer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tric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puede superar los voltajes de aliment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ampoco. Buffer Opera para voltajes de entrada estrictamente comprendidos en el rango impuesto por la 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respuesta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no puede cambiar más rápido que la Slew Ra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ampoco. Restricción a la máxima componente de frecuencia a la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5722920" y="1828800"/>
            <a:ext cx="3116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248520" y="1523880"/>
            <a:ext cx="2743200" cy="2367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Gana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no-inver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ta de mantener los pines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+” y “-” al mismo potencial (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se revisará en Análisis Transitorio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52280" y="3200400"/>
                <a:ext cx="1371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8001000" y="3870360"/>
                <a:ext cx="10666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5867280" y="39304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cerra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4267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estricciones zona line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515280" y="5029200"/>
                <a:ext cx="19429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6553080" y="5486400"/>
                <a:ext cx="16956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943680" y="4572000"/>
                <a:ext cx="13525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089240" y="2895480"/>
                <a:ext cx="10162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692360" y="3352680"/>
                <a:ext cx="74592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563920" y="3276720"/>
                <a:ext cx="22190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910040" y="3208320"/>
                <a:ext cx="22528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ia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pu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08" name=""/>
          <p:cNvGrpSpPr/>
          <p:nvPr/>
        </p:nvGrpSpPr>
        <p:grpSpPr>
          <a:xfrm>
            <a:off x="0" y="3886200"/>
            <a:ext cx="6095880" cy="2673360"/>
            <a:chOff x="0" y="3886200"/>
            <a:chExt cx="6095880" cy="2673360"/>
          </a:xfrm>
        </p:grpSpPr>
        <p:pic>
          <p:nvPicPr>
            <p:cNvPr id="309" name="" descr=""/>
            <p:cNvPicPr/>
            <p:nvPr/>
          </p:nvPicPr>
          <p:blipFill>
            <a:blip r:embed="rId2"/>
            <a:stretch/>
          </p:blipFill>
          <p:spPr>
            <a:xfrm>
              <a:off x="0" y="3886200"/>
              <a:ext cx="609588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33520" y="4267080"/>
              <a:ext cx="259056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nálisis realizado con PSPICE: </a:t>
              </a:r>
              <a:br>
                <a:rPr sz="1400"/>
              </a:b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nálisis “DC Sweep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38102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s retro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minución ganancia: (9200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1: factor ~ 8400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o ancho de banda: (frecuencia de corte 10 Hz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92KHz: factor ~ 9200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6781680" cy="28969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657600" y="1676520"/>
            <a:ext cx="5486400" cy="21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7238880" y="3809880"/>
                <a:ext cx="1289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6781680" y="528624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duct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Gain- Bandwidth” ~ c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705720" y="4554360"/>
                <a:ext cx="23558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≡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2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84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Retroaliment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no-inver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Abierto: 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Cerrado: 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Opamp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Opamp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visor de tensión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oalimentación “voltaje-serie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105520" y="1828800"/>
            <a:ext cx="3573360" cy="2610000"/>
            <a:chOff x="5105520" y="1828800"/>
            <a:chExt cx="3573360" cy="2610000"/>
          </a:xfrm>
        </p:grpSpPr>
        <p:pic>
          <p:nvPicPr>
            <p:cNvPr id="321" name="" descr=""/>
            <p:cNvPicPr/>
            <p:nvPr/>
          </p:nvPicPr>
          <p:blipFill>
            <a:blip r:embed="rId1"/>
            <a:stretch/>
          </p:blipFill>
          <p:spPr>
            <a:xfrm>
              <a:off x="5105520" y="1828800"/>
              <a:ext cx="3573360" cy="26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791320" y="2286000"/>
              <a:ext cx="114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38880" y="2224080"/>
              <a:ext cx="114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867280" y="4495680"/>
                <a:ext cx="26672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592600" y="4876920"/>
                <a:ext cx="32180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26" name=""/>
          <p:cNvGrpSpPr/>
          <p:nvPr/>
        </p:nvGrpSpPr>
        <p:grpSpPr>
          <a:xfrm>
            <a:off x="304920" y="4784760"/>
            <a:ext cx="5105160" cy="1539720"/>
            <a:chOff x="304920" y="4784760"/>
            <a:chExt cx="5105160" cy="1539720"/>
          </a:xfrm>
        </p:grpSpPr>
        <p:sp>
          <p:nvSpPr>
            <p:cNvPr id="327" name=""/>
            <p:cNvSpPr/>
            <p:nvPr/>
          </p:nvSpPr>
          <p:spPr>
            <a:xfrm>
              <a:off x="990720" y="47847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00200" y="478476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71600" y="4954680"/>
              <a:ext cx="457200" cy="45720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2595600" y="4871880"/>
                  <a:ext cx="752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2514600" y="5716440"/>
                  <a:ext cx="98748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cxnSp>
          <p:nvCxnSpPr>
            <p:cNvPr id="332" name=""/>
            <p:cNvCxnSpPr>
              <a:stCxn id="329" idx="6"/>
            </p:cNvCxnSpPr>
            <p:nvPr/>
          </p:nvCxnSpPr>
          <p:spPr>
            <a:xfrm flipV="1">
              <a:off x="1828800" y="5176440"/>
              <a:ext cx="767520" cy="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3" name=""/>
            <p:cNvCxnSpPr>
              <a:endCxn id="329" idx="2"/>
            </p:cNvCxnSpPr>
            <p:nvPr/>
          </p:nvCxnSpPr>
          <p:spPr>
            <a:xfrm>
              <a:off x="761760" y="5181120"/>
              <a:ext cx="61020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</p:cxnSp>
        <p:cxnSp>
          <p:nvCxnSpPr>
            <p:cNvPr id="334" name=""/>
            <p:cNvCxnSpPr/>
            <p:nvPr/>
          </p:nvCxnSpPr>
          <p:spPr>
            <a:xfrm>
              <a:off x="3348000" y="5176800"/>
              <a:ext cx="154800" cy="845280"/>
            </a:xfrm>
            <a:prstGeom prst="bentConnector3">
              <a:avLst>
                <a:gd name="adj1" fmla="val 59370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5" name=""/>
            <p:cNvCxnSpPr>
              <a:endCxn id="329" idx="4"/>
            </p:cNvCxnSpPr>
            <p:nvPr/>
          </p:nvCxnSpPr>
          <p:spPr>
            <a:xfrm rot="10800000">
              <a:off x="1599480" y="5411160"/>
              <a:ext cx="915120" cy="610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6" name=""/>
            <p:cNvSpPr/>
            <p:nvPr/>
          </p:nvSpPr>
          <p:spPr>
            <a:xfrm>
              <a:off x="1143000" y="53337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4920" y="507348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95680" y="50734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47920" y="547056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60960" y="51782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5960" y="1752120"/>
            <a:ext cx="5257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aplica señal escal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input (0.1V, Td=20ns, Tr=100ns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égimen Transitori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e toma tiempo al Opamp responder a la señal (no “detecta” inicialmente la retroalimentación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ulpable: Retrasos asociados a los dispositivos que conforman el OPAMP + Slew Rat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5410080" y="1679400"/>
            <a:ext cx="3733920" cy="22798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50760" y="3448080"/>
            <a:ext cx="7416720" cy="31813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6477120" y="5410080"/>
            <a:ext cx="2590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nálisis realizado con PSPICE: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nálisis “Transien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alcanza régimen perman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de la entrada diferencial casi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100mV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99.765mV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”bias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“lazo cerrado” &lt;&lt; “lazo abiert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0760" y="3448080"/>
            <a:ext cx="7416720" cy="31813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038480" y="4038480"/>
            <a:ext cx="2971800" cy="8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égimen permanente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“lazo cerrado”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1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in “-” iguala al pin “+”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9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etroalimentación (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régimen perman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de la entrada diferencial casi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100mV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99.765mV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0.235mV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tiene qu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grpSp>
        <p:nvGrpSpPr>
          <p:cNvPr id="354" name=""/>
          <p:cNvGrpSpPr/>
          <p:nvPr/>
        </p:nvGrpSpPr>
        <p:grpSpPr>
          <a:xfrm>
            <a:off x="0" y="3535200"/>
            <a:ext cx="7284960" cy="3170520"/>
            <a:chOff x="0" y="3535200"/>
            <a:chExt cx="7284960" cy="3170520"/>
          </a:xfrm>
        </p:grpSpPr>
        <p:pic>
          <p:nvPicPr>
            <p:cNvPr id="355" name="" descr=""/>
            <p:cNvPicPr/>
            <p:nvPr/>
          </p:nvPicPr>
          <p:blipFill>
            <a:blip r:embed="rId2"/>
            <a:stretch/>
          </p:blipFill>
          <p:spPr>
            <a:xfrm>
              <a:off x="0" y="3535200"/>
              <a:ext cx="7284960" cy="31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3962520" y="4800600"/>
              <a:ext cx="2971800" cy="106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égimen permanente: </a:t>
              </a:r>
              <a:br>
                <a:rPr sz="1600"/>
              </a:b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Bias  implica diferencia respecto al valor 11*100 mV=1.1 V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320" y="1904760"/>
            <a:ext cx="5410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PAMP tiene tiempo de respuesta ~ 1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e aplica Vinput (0.1V, Td=20ns,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Tr=20u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tar que “no se retrasa en responder”, a diferencia de cuando tenía Tr=100ns=0.1u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azón: “se da cuenta” tempranamente que existe retroaliment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7391520" cy="31705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3200400" y="3714840"/>
            <a:ext cx="3886200" cy="131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abricante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ndica la “slew-rate” del Opamp. Esta entrega la máxima tasa de crecimiento de la entrada que el Opamp es capaz de seguir.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Valor Típico: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V /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1: Fuente de Corrien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versor Voltaje a Corri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uncionamien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bos operacionales tienen retroalimentación negativ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ines a igual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p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circula p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ambién (alta impedancia OPAMP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iene voltaje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4575240" y="1752480"/>
            <a:ext cx="4263840" cy="43214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82296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20120" y="380988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ctificador con dio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ñales deben superar 0.6V: No es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ctificador Activ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so de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Útil en aplicaciones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propuesta no considera el efecto de la Slew Ra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conmutación del diodo es impor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495680" y="2819520"/>
            <a:ext cx="464832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001000" cy="43434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457200" y="18288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kHz, diodo 1N4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6095880" y="1427040"/>
            <a:ext cx="297180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2003400"/>
            <a:ext cx="8381880" cy="45496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 flipV="1">
            <a:off x="1676520" y="373356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4419720"/>
            <a:ext cx="2590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roblema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la Slew Rat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¿Qué lo provoca?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Respuesta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odo “lento” (1N4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6172200" y="1427040"/>
            <a:ext cx="2971800" cy="20782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457200" y="1600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00kHz, diodo 1N4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305920" cy="45082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838080" y="4419720"/>
            <a:ext cx="2362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fecto Sle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666880" y="342864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4648320"/>
            <a:ext cx="1523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43200" y="4572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6172200" y="1427040"/>
            <a:ext cx="2971800" cy="20782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57200" y="1600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00 kHz, diodo 1N41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. Solu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40972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lew Rate + saturación negativa de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lew Rate: Cambiar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 Negativa: Evitar que la salida “baje” tanto: Diodo D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6320" y="2416320"/>
            <a:ext cx="5410080" cy="40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: Solu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2184480"/>
            <a:ext cx="8077320" cy="4384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5943600" y="1452600"/>
            <a:ext cx="3200400" cy="24145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52280" y="181296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mulación PSPICE: f=100 kHz (Notar cambio de f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era características de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cho de Ban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AMPs: Ideales para retroalimentación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analizar en forma simple el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ortamiento del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s de entrada despreciab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entrada diferencial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tricc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sociadas a características reales de los OPAMPs y los dispositivos existentes en los lazos de retro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los efectos de la retroalimentación negativ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Gana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aplicaciones básica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oner atención a las limitaciones de los dispositivos y su efecto en los circui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ermite alterar comportamiento de amplific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 de entrada-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, respuesta en frecu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tabili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 dos “sabores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posi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Topologí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411480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loqu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: Entrega señal diferencia entre entrada y la señal retroaliment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mplificador Básico (puede ser voltaje o corriente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estreador: Recoje una “muestra” de la señal en la etapa de salid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voltaje o corriente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d Retroalimentación: Toma la muestra de la señal de salida y la amplifica por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. Entrega al comparador la señal de retroaliment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52280" y="1828800"/>
            <a:ext cx="8839440" cy="2362320"/>
            <a:chOff x="152280" y="1828800"/>
            <a:chExt cx="8839440" cy="2362320"/>
          </a:xfrm>
        </p:grpSpPr>
        <p:sp>
          <p:nvSpPr>
            <p:cNvPr id="99" name=""/>
            <p:cNvSpPr/>
            <p:nvPr/>
          </p:nvSpPr>
          <p:spPr>
            <a:xfrm>
              <a:off x="152280" y="2209680"/>
              <a:ext cx="99072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u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00200" y="2209680"/>
              <a:ext cx="121932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ompar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05320" y="1981080"/>
              <a:ext cx="251460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Amplificador Bás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Ganancia lazo abierto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05720" y="2209680"/>
              <a:ext cx="1371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Muestre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143000" y="2286000"/>
              <a:ext cx="456840" cy="457200"/>
              <a:chOff x="1143000" y="2286000"/>
              <a:chExt cx="456840" cy="457200"/>
            </a:xfrm>
          </p:grpSpPr>
          <p:sp>
            <p:nvSpPr>
              <p:cNvPr id="104" name=""/>
              <p:cNvSpPr/>
              <p:nvPr/>
            </p:nvSpPr>
            <p:spPr>
              <a:xfrm>
                <a:off x="1143000" y="228600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143000" y="274320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819520" y="2286000"/>
              <a:ext cx="685080" cy="457200"/>
              <a:chOff x="2819520" y="2286000"/>
              <a:chExt cx="685080" cy="457200"/>
            </a:xfrm>
          </p:grpSpPr>
          <p:sp>
            <p:nvSpPr>
              <p:cNvPr id="107" name=""/>
              <p:cNvSpPr/>
              <p:nvPr/>
            </p:nvSpPr>
            <p:spPr>
              <a:xfrm>
                <a:off x="2819520" y="22860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819520" y="27432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6019920" y="2286000"/>
              <a:ext cx="685080" cy="457200"/>
              <a:chOff x="6019920" y="2286000"/>
              <a:chExt cx="685080" cy="457200"/>
            </a:xfrm>
          </p:grpSpPr>
          <p:sp>
            <p:nvSpPr>
              <p:cNvPr id="110" name=""/>
              <p:cNvSpPr/>
              <p:nvPr/>
            </p:nvSpPr>
            <p:spPr>
              <a:xfrm>
                <a:off x="6019920" y="22860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19920" y="27432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8457840" y="2362320"/>
              <a:ext cx="152640" cy="336600"/>
              <a:chOff x="8457840" y="2362320"/>
              <a:chExt cx="152640" cy="336600"/>
            </a:xfrm>
          </p:grpSpPr>
          <p:sp>
            <p:nvSpPr>
              <p:cNvPr id="113" name=""/>
              <p:cNvSpPr/>
              <p:nvPr/>
            </p:nvSpPr>
            <p:spPr>
              <a:xfrm rot="5400000">
                <a:off x="8562240" y="2336760"/>
                <a:ext cx="22320" cy="730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8458200" y="238428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458200" y="2441880"/>
                <a:ext cx="15228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8458200" y="249840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458200" y="255600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8458200" y="261288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400000">
                <a:off x="8480160" y="2648160"/>
                <a:ext cx="28440" cy="730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8534520" y="23302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77320" y="2286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34520" y="2282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77320" y="2743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34520" y="2693880"/>
              <a:ext cx="1440" cy="49320"/>
            </a:xfrm>
            <a:custGeom>
              <a:avLst/>
              <a:gdLst/>
              <a:ahLst/>
              <a:rect l="l" t="t" r="r" b="b"/>
              <a:pathLst>
                <a:path w="1" h="31">
                  <a:moveTo>
                    <a:pt x="0" y="0"/>
                  </a:moveTo>
                  <a:lnTo>
                    <a:pt x="1" y="3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505320"/>
              <a:ext cx="472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981080" y="2819520"/>
              <a:ext cx="457200" cy="304560"/>
              <a:chOff x="1981080" y="2819520"/>
              <a:chExt cx="457200" cy="304560"/>
            </a:xfrm>
          </p:grpSpPr>
          <p:sp>
            <p:nvSpPr>
              <p:cNvPr id="127" name=""/>
              <p:cNvSpPr/>
              <p:nvPr/>
            </p:nvSpPr>
            <p:spPr>
              <a:xfrm>
                <a:off x="243828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98108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162920" y="2819520"/>
              <a:ext cx="457200" cy="304560"/>
              <a:chOff x="7162920" y="2819520"/>
              <a:chExt cx="457200" cy="304560"/>
            </a:xfrm>
          </p:grpSpPr>
          <p:sp>
            <p:nvSpPr>
              <p:cNvPr id="130" name=""/>
              <p:cNvSpPr/>
              <p:nvPr/>
            </p:nvSpPr>
            <p:spPr>
              <a:xfrm>
                <a:off x="762012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16292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2" name=""/>
            <p:cNvCxnSpPr>
              <a:stCxn id="131" idx="0"/>
              <a:endCxn id="125" idx="0"/>
            </p:cNvCxnSpPr>
            <p:nvPr/>
          </p:nvCxnSpPr>
          <p:spPr>
            <a:xfrm>
              <a:off x="7159320" y="3120840"/>
              <a:ext cx="3960" cy="38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3" name=""/>
            <p:cNvCxnSpPr>
              <a:stCxn id="127" idx="0"/>
              <a:endCxn id="125" idx="0"/>
            </p:cNvCxnSpPr>
            <p:nvPr/>
          </p:nvCxnSpPr>
          <p:spPr>
            <a:xfrm>
              <a:off x="2435400" y="3120840"/>
              <a:ext cx="3600" cy="38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4" name=""/>
            <p:cNvSpPr/>
            <p:nvPr/>
          </p:nvSpPr>
          <p:spPr>
            <a:xfrm>
              <a:off x="1981080" y="3962520"/>
              <a:ext cx="563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28" idx="0"/>
              <a:endCxn id="134" idx="0"/>
            </p:cNvCxnSpPr>
            <p:nvPr/>
          </p:nvCxnSpPr>
          <p:spPr>
            <a:xfrm>
              <a:off x="1978200" y="3120840"/>
              <a:ext cx="3600" cy="84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" name=""/>
            <p:cNvCxnSpPr>
              <a:stCxn id="130" idx="0"/>
              <a:endCxn id="134" idx="1"/>
            </p:cNvCxnSpPr>
            <p:nvPr/>
          </p:nvCxnSpPr>
          <p:spPr>
            <a:xfrm>
              <a:off x="7616520" y="3120840"/>
              <a:ext cx="3960" cy="84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7" name=""/>
            <p:cNvSpPr/>
            <p:nvPr/>
          </p:nvSpPr>
          <p:spPr>
            <a:xfrm>
              <a:off x="3886200" y="3276720"/>
              <a:ext cx="18288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Retroalimen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Ganancia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29000" y="3429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29000" y="37339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29000" y="35812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9548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9548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9588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588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95880" y="23623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0100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0100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0100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895480" y="1828800"/>
              <a:ext cx="533520" cy="459720"/>
              <a:chOff x="2895480" y="1828800"/>
              <a:chExt cx="533520" cy="459720"/>
            </a:xfrm>
          </p:grpSpPr>
          <p:sp>
            <p:nvSpPr>
              <p:cNvPr id="151" name=""/>
              <p:cNvSpPr/>
              <p:nvPr/>
            </p:nvSpPr>
            <p:spPr>
              <a:xfrm>
                <a:off x="289548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89548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6095880" y="1828800"/>
              <a:ext cx="533520" cy="459720"/>
              <a:chOff x="6095880" y="1828800"/>
              <a:chExt cx="533520" cy="459720"/>
            </a:xfrm>
          </p:grpSpPr>
          <p:sp>
            <p:nvSpPr>
              <p:cNvPr id="154" name=""/>
              <p:cNvSpPr/>
              <p:nvPr/>
            </p:nvSpPr>
            <p:spPr>
              <a:xfrm>
                <a:off x="6095880" y="182880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9588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905120" y="3581280"/>
              <a:ext cx="533160" cy="459720"/>
              <a:chOff x="1905120" y="3581280"/>
              <a:chExt cx="533160" cy="459720"/>
            </a:xfrm>
          </p:grpSpPr>
          <p:sp>
            <p:nvSpPr>
              <p:cNvPr id="157" name=""/>
              <p:cNvSpPr/>
              <p:nvPr/>
            </p:nvSpPr>
            <p:spPr>
              <a:xfrm>
                <a:off x="1905120" y="3581280"/>
                <a:ext cx="533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905120" y="373392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14300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4300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4300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143000" y="1828800"/>
              <a:ext cx="533520" cy="459720"/>
              <a:chOff x="1143000" y="1828800"/>
              <a:chExt cx="533520" cy="459720"/>
            </a:xfrm>
          </p:grpSpPr>
          <p:sp>
            <p:nvSpPr>
              <p:cNvPr id="163" name=""/>
              <p:cNvSpPr/>
              <p:nvPr/>
            </p:nvSpPr>
            <p:spPr>
              <a:xfrm>
                <a:off x="114300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4300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001000" y="1828800"/>
              <a:ext cx="533520" cy="459720"/>
              <a:chOff x="8001000" y="1828800"/>
              <a:chExt cx="533520" cy="459720"/>
            </a:xfrm>
          </p:grpSpPr>
          <p:sp>
            <p:nvSpPr>
              <p:cNvPr id="166" name=""/>
              <p:cNvSpPr/>
              <p:nvPr/>
            </p:nvSpPr>
            <p:spPr>
              <a:xfrm>
                <a:off x="800100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00100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Topologí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arad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serie (voltaje): aumenta la impedancia de entr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paralelo (corriente): reduce la impedancia de entr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ad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oltaje: reduce la impedancia de sali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rriente: aumenta la impedancia de sali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d de Retro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ormada usualmente por elementos pasivo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ibles Topologías: cuatro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Combinaciones entre las topologías de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estra (Voltaje-Corriente) y comparación (Serie- Paralelo)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tación: la topología de feedback se denotará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Muestra-Compa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topología voltaje-serie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toma muestra de voltaje a l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alida y la una parte de esta se ubica en serie al circuito de la entrad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conduct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mped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uestreo”: Corriente,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ción”: Voltaje (serie), Corriente (paralel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181480" y="1981080"/>
            <a:ext cx="3124080" cy="1371600"/>
            <a:chOff x="5181480" y="1981080"/>
            <a:chExt cx="3124080" cy="1371600"/>
          </a:xfrm>
        </p:grpSpPr>
        <p:grpSp>
          <p:nvGrpSpPr>
            <p:cNvPr id="173" name=""/>
            <p:cNvGrpSpPr/>
            <p:nvPr/>
          </p:nvGrpSpPr>
          <p:grpSpPr>
            <a:xfrm>
              <a:off x="5181480" y="1981080"/>
              <a:ext cx="3124080" cy="1371600"/>
              <a:chOff x="5181480" y="1981080"/>
              <a:chExt cx="3124080" cy="137160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5410080" y="2209680"/>
                <a:ext cx="2895480" cy="1143000"/>
                <a:chOff x="5410080" y="2209680"/>
                <a:chExt cx="2895480" cy="11430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476760" y="2209680"/>
                  <a:ext cx="9144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476760" y="2895480"/>
                  <a:ext cx="9144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714640" y="2253960"/>
                  <a:ext cx="381240" cy="380880"/>
                </a:xfrm>
                <a:prstGeom prst="flowChartSummingJunction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78" name=""/>
                <p:cNvCxnSpPr>
                  <a:stCxn id="177" idx="4"/>
                  <a:endCxn id="176" idx="1"/>
                </p:cNvCxnSpPr>
                <p:nvPr/>
              </p:nvCxnSpPr>
              <p:spPr>
                <a:xfrm flipH="1" rot="16200000">
                  <a:off x="5945760" y="2593080"/>
                  <a:ext cx="489600" cy="57204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cxnSp>
              <p:nvCxnSpPr>
                <p:cNvPr id="179" name=""/>
                <p:cNvCxnSpPr>
                  <a:stCxn id="177" idx="6"/>
                  <a:endCxn id="175" idx="1"/>
                </p:cNvCxnSpPr>
                <p:nvPr/>
              </p:nvCxnSpPr>
              <p:spPr>
                <a:xfrm flipV="1">
                  <a:off x="6095880" y="2437560"/>
                  <a:ext cx="381600" cy="68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80" name=""/>
                <p:cNvSpPr/>
                <p:nvPr/>
              </p:nvSpPr>
              <p:spPr>
                <a:xfrm>
                  <a:off x="7391160" y="2438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81" name=""/>
                <p:cNvCxnSpPr>
                  <a:stCxn id="176" idx="3"/>
                  <a:endCxn id="180" idx="0"/>
                </p:cNvCxnSpPr>
                <p:nvPr/>
              </p:nvCxnSpPr>
              <p:spPr>
                <a:xfrm flipV="1">
                  <a:off x="7391160" y="2437560"/>
                  <a:ext cx="457920" cy="68652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sp>
              <p:nvSpPr>
                <p:cNvPr id="182" name=""/>
                <p:cNvSpPr/>
                <p:nvPr/>
              </p:nvSpPr>
              <p:spPr>
                <a:xfrm>
                  <a:off x="5410080" y="243828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848360" y="2438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oval" w="lg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754344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18148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94324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67280" y="26668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486040" y="2025360"/>
              <a:ext cx="838440" cy="826560"/>
              <a:chOff x="5486040" y="2025360"/>
              <a:chExt cx="838440" cy="826560"/>
            </a:xfrm>
          </p:grpSpPr>
          <p:sp>
            <p:nvSpPr>
              <p:cNvPr id="189" name=""/>
              <p:cNvSpPr/>
              <p:nvPr/>
            </p:nvSpPr>
            <p:spPr>
              <a:xfrm>
                <a:off x="5486040" y="202536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867280" y="25146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410080" y="3581280"/>
                <a:ext cx="15242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315200" y="3581280"/>
                <a:ext cx="10461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122800" y="4267080"/>
                <a:ext cx="36403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 Lazo Cerra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&gt;1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ganancia se estabiliza (antes variaba bastante, ahora es tan estable como lo es la red de retroaliment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jora la Linealidad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Amplificador de Voltaje con retroalimentación voltaje-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aumenta: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1+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disminuye: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(1+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715000" y="2057400"/>
                <a:ext cx="23004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7" name=""/>
          <p:cNvGrpSpPr/>
          <p:nvPr/>
        </p:nvGrpSpPr>
        <p:grpSpPr>
          <a:xfrm>
            <a:off x="5029200" y="3048120"/>
            <a:ext cx="3733920" cy="3120840"/>
            <a:chOff x="5029200" y="3048120"/>
            <a:chExt cx="3733920" cy="3120840"/>
          </a:xfrm>
        </p:grpSpPr>
        <p:grpSp>
          <p:nvGrpSpPr>
            <p:cNvPr id="198" name=""/>
            <p:cNvGrpSpPr/>
            <p:nvPr/>
          </p:nvGrpSpPr>
          <p:grpSpPr>
            <a:xfrm>
              <a:off x="5349960" y="3048120"/>
              <a:ext cx="3057480" cy="2322360"/>
              <a:chOff x="5349960" y="3048120"/>
              <a:chExt cx="3057480" cy="2322360"/>
            </a:xfrm>
          </p:grpSpPr>
          <p:pic>
            <p:nvPicPr>
              <p:cNvPr id="1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49960" y="3557520"/>
                <a:ext cx="3057480" cy="128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55960" y="3048120"/>
                <a:ext cx="2548080" cy="2322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1" name=""/>
            <p:cNvSpPr/>
            <p:nvPr/>
          </p:nvSpPr>
          <p:spPr>
            <a:xfrm>
              <a:off x="6568920" y="4303800"/>
              <a:ext cx="304920" cy="2840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80160" y="426708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27880" y="428472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27880" y="439884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29200" y="336564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29200" y="44956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19920" y="3962520"/>
              <a:ext cx="736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08560" y="402912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32440" y="3809880"/>
              <a:ext cx="106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77120" y="3084480"/>
              <a:ext cx="88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pos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&g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77120" y="5065560"/>
              <a:ext cx="934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neg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&l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26360" y="5154480"/>
              <a:ext cx="101520" cy="9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26360" y="3170160"/>
              <a:ext cx="101520" cy="9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77120" y="3198960"/>
              <a:ext cx="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77120" y="497520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53280" y="3925800"/>
              <a:ext cx="609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05520" y="3935520"/>
              <a:ext cx="571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6629400" y="5638680"/>
              <a:ext cx="914400" cy="530280"/>
              <a:chOff x="6629400" y="5638680"/>
              <a:chExt cx="914400" cy="53028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7010280" y="5867280"/>
                <a:ext cx="141480" cy="301680"/>
                <a:chOff x="7010280" y="5867280"/>
                <a:chExt cx="141480" cy="30168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7010280" y="6106320"/>
                  <a:ext cx="141480" cy="62640"/>
                  <a:chOff x="7010280" y="6106320"/>
                  <a:chExt cx="141480" cy="6264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7010280" y="6106320"/>
                    <a:ext cx="141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7033680" y="6137640"/>
                    <a:ext cx="94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7057080" y="6168960"/>
                    <a:ext cx="4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4" name=""/>
                <p:cNvSpPr/>
                <p:nvPr/>
              </p:nvSpPr>
              <p:spPr>
                <a:xfrm>
                  <a:off x="7083000" y="5870880"/>
                  <a:ext cx="0" cy="23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044120" y="5867280"/>
                  <a:ext cx="802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6629400" y="56386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7" name=""/>
            <p:cNvCxnSpPr>
              <a:stCxn id="199" idx="3"/>
              <a:endCxn id="226" idx="3"/>
            </p:cNvCxnSpPr>
            <p:nvPr/>
          </p:nvCxnSpPr>
          <p:spPr>
            <a:xfrm flipH="1">
              <a:off x="7543080" y="4199040"/>
              <a:ext cx="864360" cy="1629360"/>
            </a:xfrm>
            <a:prstGeom prst="bentConnector3">
              <a:avLst>
                <a:gd name="adj1" fmla="val -264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26" idx="1"/>
              <a:endCxn id="206" idx="2"/>
            </p:cNvCxnSpPr>
            <p:nvPr/>
          </p:nvCxnSpPr>
          <p:spPr>
            <a:xfrm rot="10800000">
              <a:off x="5333400" y="4799880"/>
              <a:ext cx="1296000" cy="102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: Gener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variable “muestreada” mejora su desempeño (Sali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o 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salida men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o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salida may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variable “comparada” mejora su desempeño (Entra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rie (voltaje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entrada may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lelo (corriente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entrada men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648320" y="1752480"/>
                <a:ext cx="443844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213520" y="3048120"/>
                <a:ext cx="33699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257800" y="4114800"/>
                <a:ext cx="33926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398920" y="5040360"/>
                <a:ext cx="31640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0-22T14:43:44Z</dcterms:modified>
  <cp:revision>895</cp:revision>
  <dc:subject>Retroalimentación (I)</dc:subject>
  <dc:title>Clase 19</dc:title>
</cp:coreProperties>
</file>