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E7EC-AA7A-4CB9-99D8-220028C9E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AC34-BEDF-40FF-8B06-860B68CCE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55CE-0B3C-4877-988B-2E1B9A5D6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0D8C-448B-4EE6-B11D-3578258DE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30C-2A63-4EDC-8454-EEFD42F727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031-ED17-4B48-B471-3D9E13FD1A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FD4-C106-492A-BF1C-E11C54AAEC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9F6-668F-48D9-BF10-4E8DE23DBB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477-FE67-4093-A766-4D9E7C6FE3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9AC-A752-4AB6-934B-171904D113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E95-0C23-4BB4-A253-92C1CFF24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DD6B-806B-4331-8BA4-00943FCD1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689-81D1-4018-921D-571ABDEEE6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6E1-7BA6-4AD9-B3BB-8468AD0FC7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BB6-4CA4-4C62-9CD6-6C67E82043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BB0-8AE3-4C83-B5F7-1220B94777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685-7AF0-4620-8469-8074E898B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6150-1B8E-471C-B2A1-38A86A194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BB12-4D15-4F19-9918-4EE3CA301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EEC5-D34B-483F-A9D5-60B6C912F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7A2E-FC7A-4FEA-B918-B7009DBE0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0A0B-A897-4E48-9256-2A3A87E59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F829-6100-450D-BDE5-2D564206E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63EF-31A3-4FF2-9AD6-263398CCF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3A23-29A1-4331-9765-EB873402B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D71B-14C3-43B5-9084-A612DB9BA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Característ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 puede simular una carga: ¡¡¡Gran Integración!!!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conmutación “total” (máximo voltaj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10280" y="403848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51814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767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1911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876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24480" y="3544920"/>
                <a:ext cx="1447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s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cort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¡¡¡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En saturación o Triode: Pendiente alt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nsición poco abrupta (No es bueno para el Noise Marg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16840" y="243828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 Noise Margin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2.8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3.1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.5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4.5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s con los Noise Margin High: 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al 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16840" y="262080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sibles soluciones a los problema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 no implic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0 para un dispositivo enhancement. Se usará un depletion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poco abrupta. Se debe a que tienen corrientes comparables. Idea: La carga Mosfet tendrá un K menor al del Mosfet Driver, o equivalentemente una razón W/L menor (tradeoff implica un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¼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91120" y="42670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52480" y="4343400"/>
                <a:ext cx="1981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NMOS con Resistencia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de Off Veloc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de salida (propia y carg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Low – High (L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corte (abiert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carga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R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High – Low (H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Triode (cerrad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siste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tierr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scarga a un voltaje 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 ) con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R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R &gt;&gt;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transición L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 toma más tiempo y exige que R sea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pequeño implica Menor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2362320"/>
            <a:ext cx="297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MOS: Complementary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Carga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uelven los problemas de los inversore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estática miníma, sólo disipación de po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de entrada y baja impedancia de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o Noise Marg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gración 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 en todo el rango 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: velocidad (solución GaAsFE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reglo “similar” al Push Pull ana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“Potencia Estática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10 pA/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;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0.5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 en la trans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Simplificado: Interruptores en 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pecto Tecno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M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MOS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una relación de aspecto igual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desea simetría, PMOS requiere más “oblea” que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600200" y="3048120"/>
                <a:ext cx="2573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 como Interruptores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pequeño” corta al NMOS y activ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grande” activa al NMOS y cort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43080" y="4846680"/>
                <a:ext cx="2057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61840" y="3505320"/>
                <a:ext cx="138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38160" y="5989680"/>
                <a:ext cx="25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623960" y="4114800"/>
                <a:ext cx="1541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166760" y="5380200"/>
                <a:ext cx="25210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854600" y="3733920"/>
                <a:ext cx="2221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78280" y="2819520"/>
                <a:ext cx="2397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616720" y="3200400"/>
                <a:ext cx="5554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311800" y="220968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71760" y="3505320"/>
                <a:ext cx="1490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5006520" y="2361960"/>
            <a:ext cx="762480" cy="2596320"/>
            <a:chOff x="5006520" y="2361960"/>
            <a:chExt cx="762480" cy="2596320"/>
          </a:xfrm>
        </p:grpSpPr>
        <p:sp>
          <p:nvSpPr>
            <p:cNvPr id="280" name=""/>
            <p:cNvSpPr/>
            <p:nvPr/>
          </p:nvSpPr>
          <p:spPr>
            <a:xfrm flipV="1">
              <a:off x="5235480" y="2361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6520" y="2809800"/>
              <a:ext cx="22212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9000" y="363384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033880" y="4230360"/>
              <a:ext cx="380880" cy="727920"/>
              <a:chOff x="5033880" y="4230360"/>
              <a:chExt cx="380880" cy="7279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5033880" y="4578120"/>
                <a:ext cx="380880" cy="380160"/>
                <a:chOff x="5033880" y="4578120"/>
                <a:chExt cx="380880" cy="3801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033880" y="4806360"/>
                  <a:ext cx="380880" cy="151920"/>
                  <a:chOff x="5033880" y="4806360"/>
                  <a:chExt cx="380880" cy="151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033880" y="480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109840" y="488232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186160" y="495828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V="1">
                  <a:off x="5227560" y="45781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0" name=""/>
              <p:cNvCxnSpPr>
                <a:stCxn id="282" idx="0"/>
                <a:endCxn id="289" idx="0"/>
              </p:cNvCxnSpPr>
              <p:nvPr/>
            </p:nvCxnSpPr>
            <p:spPr>
              <a:xfrm flipH="1">
                <a:off x="5227200" y="4230360"/>
                <a:ext cx="2160" cy="347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291" name=""/>
            <p:cNvSpPr/>
            <p:nvPr/>
          </p:nvSpPr>
          <p:spPr>
            <a:xfrm>
              <a:off x="5235480" y="3504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54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724280" y="5181480"/>
          <a:ext cx="1168560" cy="100476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58200" y="2133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58200" y="4191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4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820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3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58200" y="5978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3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5759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49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38080" y="2013120"/>
            <a:ext cx="1593720" cy="1572120"/>
            <a:chOff x="838080" y="2013120"/>
            <a:chExt cx="1593720" cy="1572120"/>
          </a:xfrm>
        </p:grpSpPr>
        <p:sp>
          <p:nvSpPr>
            <p:cNvPr id="305" name=""/>
            <p:cNvSpPr/>
            <p:nvPr/>
          </p:nvSpPr>
          <p:spPr>
            <a:xfrm>
              <a:off x="847440" y="2394000"/>
              <a:ext cx="1523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838080" y="2013120"/>
                  <a:ext cx="847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609560" y="2013120"/>
                  <a:ext cx="8222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2666880"/>
                <a:ext cx="252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257720" y="6248520"/>
                <a:ext cx="771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8458200" y="5799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 consumo de potenci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es proporcional a la frecuencia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2214720"/>
            <a:ext cx="7848720" cy="4338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4495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Off); 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666880" y="4876560"/>
            <a:ext cx="2819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638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; P(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49568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876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5627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086600" y="1828800"/>
                <a:ext cx="1797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2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udiaremos su 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uscaremos mejo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ivel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0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baj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1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alt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48320" y="2209680"/>
            <a:ext cx="4495320" cy="3809880"/>
            <a:chOff x="4648320" y="2209680"/>
            <a:chExt cx="4495320" cy="380988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4648320" y="2209680"/>
              <a:ext cx="44953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12720" y="4012920"/>
              <a:ext cx="128520" cy="13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en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0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saturado, Q2 y Q3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alida en “1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08600" y="2225520"/>
            <a:ext cx="5059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Satu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1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en “inversa activa”, Q2 y Q3 e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en “0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52419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Conmu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alles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ión a “alta velocidad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rítico para Velocida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 Satura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 ayuda a reducir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imero: Q2 y Q3 saturado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una entrada de Q1 cambia a “0” Q1 entra a zon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en activa ayuda a remover los portadores (carga) en exceso en Q2 y Q3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ógica TTL posee alta velocidad de conmutació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el delay en la respues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tiliza “fuente de corriente” para extraer los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861080" y="2087640"/>
            <a:ext cx="4054320" cy="3246480"/>
            <a:chOff x="4861080" y="2087640"/>
            <a:chExt cx="4054320" cy="32464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4861080" y="208764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280120" y="362412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Interconex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3 en 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cibe corrientes de las etapas posteriores: Define Fan-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alir de Satu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uperar sus rating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n Out depende del nivel de voltaje a la entrada para el “1” lógico. Si el voltaje es “grande” entonces habrá una gran corriente de base en Q3, a medida que el voltaje de “achica” también lo hace la corriente base disminuyendo el fan ou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523880"/>
            <a:ext cx="4054320" cy="3246480"/>
            <a:chOff x="4572000" y="1523880"/>
            <a:chExt cx="4054320" cy="324648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991040" y="306036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4842000"/>
            <a:ext cx="44197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 Fan-Out “optimista” (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18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(1.2+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) mA          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6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ndición d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turación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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gt; (1.2+N*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r lo tanto N &lt; 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 a la sal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tanci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len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Pull-up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 constante de tiempo muy alt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condensador se carga desd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E(SAT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uci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solución: aumenta disipación de potencia (no permite gran integración) y genera peaks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1080" y="2011320"/>
            <a:ext cx="4054320" cy="3246480"/>
            <a:chOff x="4861080" y="2011320"/>
            <a:chExt cx="4054320" cy="324648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4861080" y="201132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280120" y="354780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Mejor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3 es “reservorio” de corriente (descarga 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es fuente de corriente (Carga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 como “phase-splitte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ráp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-Q3 pasan de Saturación a corte. Salida permanece en 0.2 pues no puede cambiar instantáneamente por 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lican Q4 en saturación, es decir baja impedancia y rápida des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funciona como“Pull-up Activ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419720" y="2286000"/>
            <a:ext cx="4647960" cy="3473280"/>
            <a:chOff x="4419720" y="2286000"/>
            <a:chExt cx="4647960" cy="34732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4419720" y="2286000"/>
              <a:ext cx="464796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822920" y="39988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2662200"/>
            <a:ext cx="7010640" cy="385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514600" y="2471760"/>
            <a:ext cx="4213080" cy="3548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752480" y="358092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58128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33210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6833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6140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6248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514600" y="609552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5975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29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280" y="1784520"/>
            <a:ext cx="8610840" cy="4728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81480" y="1857240"/>
            <a:ext cx="3886200" cy="3272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752480" y="3273480"/>
            <a:ext cx="1800" cy="289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2819520"/>
            <a:ext cx="58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643720"/>
            <a:ext cx="67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1009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61722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35280" y="5943600"/>
            <a:ext cx="8424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160" y="5865840"/>
            <a:ext cx="2097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967120"/>
            <a:ext cx="1341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209680"/>
            <a:ext cx="114300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2622600"/>
            <a:ext cx="274320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or R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pero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ero no saturado lo cual hace descender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070520"/>
            <a:ext cx="2362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enciende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hace bajar rápidamente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5349960"/>
            <a:ext cx="243828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satura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co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742840" y="380988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5812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gundo Quieb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TL: Parámetros Famil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62520" y="1785960"/>
            <a:ext cx="4724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Digit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iguras de Mérito de los 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 básico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NMOS, CMOS, TT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Voltaj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22096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2590920"/>
            <a:ext cx="12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545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1590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2286000"/>
            <a:ext cx="8610480" cy="4333320"/>
            <a:chOff x="76320" y="2286000"/>
            <a:chExt cx="8610480" cy="4333320"/>
          </a:xfrm>
        </p:grpSpPr>
        <p:sp>
          <p:nvSpPr>
            <p:cNvPr id="394" name=""/>
            <p:cNvSpPr/>
            <p:nvPr/>
          </p:nvSpPr>
          <p:spPr>
            <a:xfrm>
              <a:off x="7467480" y="2971800"/>
              <a:ext cx="12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 0.8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3800" y="3429000"/>
              <a:ext cx="114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= 1.4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7696440" cy="42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2819520" y="2362320"/>
              <a:ext cx="42130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 flipV="1">
              <a:off x="1752480" y="358092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520" y="3581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320" y="33210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280" y="56833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6140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7400" y="6248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14600" y="609552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800" y="5975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520" y="34290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077320" cy="438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562720" y="30621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542448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7294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6760" y="2057400"/>
            <a:ext cx="10666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justo al bor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25952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3520" y="51055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49212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52880" y="44193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994200"/>
            <a:ext cx="2286000" cy="7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fine el número de compuertas conectadas a la salida para el estado “low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uando 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oma su máximo valor para voltajes de entrada “low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onjunto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n Fan Out Low: Número de “cargas” que puede alimentar el inversor en el estado 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n Out es el mínimo entre Fan Out low y high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80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143000" y="4038480"/>
                <a:ext cx="2971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an Out Lo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H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2266920"/>
            <a:ext cx="7924680" cy="430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5800" y="281952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5440" y="31240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320040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42640" y="3505320"/>
            <a:ext cx="7621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5653080"/>
            <a:ext cx="2210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742840" y="518148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57676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7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371600" y="48006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0" y="37479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411480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49849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48006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038480" y="1574640"/>
            <a:ext cx="3733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cada de invers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2308320"/>
            <a:ext cx="7848720" cy="4260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iguras de Méri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amil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MOS: alta integración (carga MOSFE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: bajo consumo de pot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TL (Alta velocidad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e entrada remueve portadores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de transistores saturados (como fuente de corri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ótem Pole: Pull up Ac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de tiempo pequeña en transición Low -&gt;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umo mínimo en saturación debido que diodo y transistor de carga están cortado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que corresponden al “1” y “0” lógicos (“High y Low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región de “incerteza” (transi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rgen de Ruido (Noise Margi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subida y baj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ática y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de carg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entrada (fan-in) y Salida (fan-ou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12408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73544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0080" y="2590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0"/>
            <a:endCxn id="98" idx="4"/>
          </p:cNvCxnSpPr>
          <p:nvPr/>
        </p:nvCxnSpPr>
        <p:spPr>
          <a:xfrm flipH="1" flipV="1">
            <a:off x="7195680" y="2742840"/>
            <a:ext cx="5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12008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6" idx="2"/>
            <a:endCxn id="100" idx="0"/>
          </p:cNvCxnSpPr>
          <p:nvPr/>
        </p:nvCxnSpPr>
        <p:spPr>
          <a:xfrm flipH="1">
            <a:off x="7195680" y="3809520"/>
            <a:ext cx="5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0" idx="4"/>
            <a:endCxn id="97" idx="0"/>
          </p:cNvCxnSpPr>
          <p:nvPr/>
        </p:nvCxnSpPr>
        <p:spPr>
          <a:xfrm>
            <a:off x="7196040" y="4343040"/>
            <a:ext cx="57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81532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2"/>
          </p:cNvCxnSpPr>
          <p:nvPr/>
        </p:nvCxnSpPr>
        <p:spPr>
          <a:xfrm>
            <a:off x="7272000" y="4266720"/>
            <a:ext cx="88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05" name=""/>
          <p:cNvGrpSpPr/>
          <p:nvPr/>
        </p:nvGrpSpPr>
        <p:grpSpPr>
          <a:xfrm>
            <a:off x="7010280" y="5714640"/>
            <a:ext cx="380880" cy="305280"/>
            <a:chOff x="7010280" y="5714640"/>
            <a:chExt cx="380880" cy="305280"/>
          </a:xfrm>
        </p:grpSpPr>
        <p:sp>
          <p:nvSpPr>
            <p:cNvPr id="106" name=""/>
            <p:cNvSpPr/>
            <p:nvPr/>
          </p:nvSpPr>
          <p:spPr>
            <a:xfrm>
              <a:off x="701028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943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19720" y="6019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203960" y="5714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>
            <a:stCxn id="109" idx="0"/>
            <a:endCxn id="97" idx="2"/>
          </p:cNvCxnSpPr>
          <p:nvPr/>
        </p:nvCxnSpPr>
        <p:spPr>
          <a:xfrm flipH="1" flipV="1">
            <a:off x="7200720" y="5420880"/>
            <a:ext cx="36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82296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526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00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6"/>
            <a:endCxn id="97" idx="1"/>
          </p:cNvCxnSpPr>
          <p:nvPr/>
        </p:nvCxnSpPr>
        <p:spPr>
          <a:xfrm flipV="1">
            <a:off x="6172200" y="507780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638680" y="4662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48360" cy="430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553080" y="2160720"/>
            <a:ext cx="2590920" cy="2957040"/>
            <a:chOff x="6553080" y="2160720"/>
            <a:chExt cx="2590920" cy="2957040"/>
          </a:xfrm>
        </p:grpSpPr>
        <p:sp>
          <p:nvSpPr>
            <p:cNvPr id="119" name=""/>
            <p:cNvSpPr/>
            <p:nvPr/>
          </p:nvSpPr>
          <p:spPr>
            <a:xfrm>
              <a:off x="7359120" y="271728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9120" y="405324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2320" y="2275200"/>
              <a:ext cx="11484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9" idx="0"/>
              <a:endCxn id="121" idx="4"/>
            </p:cNvCxnSpPr>
            <p:nvPr/>
          </p:nvCxnSpPr>
          <p:spPr>
            <a:xfrm flipH="1" flipV="1">
              <a:off x="7729560" y="240084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7672320" y="3601800"/>
              <a:ext cx="1148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2"/>
              <a:endCxn id="123" idx="0"/>
            </p:cNvCxnSpPr>
            <p:nvPr/>
          </p:nvCxnSpPr>
          <p:spPr>
            <a:xfrm flipH="1">
              <a:off x="7729560" y="328536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3" idx="4"/>
              <a:endCxn id="120" idx="0"/>
            </p:cNvCxnSpPr>
            <p:nvPr/>
          </p:nvCxnSpPr>
          <p:spPr>
            <a:xfrm>
              <a:off x="7729560" y="3728160"/>
              <a:ext cx="3960" cy="32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8452800" y="3601800"/>
              <a:ext cx="11520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3" idx="6"/>
              <a:endCxn id="126" idx="2"/>
            </p:cNvCxnSpPr>
            <p:nvPr/>
          </p:nvCxnSpPr>
          <p:spPr>
            <a:xfrm>
              <a:off x="7787160" y="366444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28" name=""/>
            <p:cNvGrpSpPr/>
            <p:nvPr/>
          </p:nvGrpSpPr>
          <p:grpSpPr>
            <a:xfrm>
              <a:off x="7589160" y="4865040"/>
              <a:ext cx="288000" cy="252720"/>
              <a:chOff x="7589160" y="4865040"/>
              <a:chExt cx="288000" cy="25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9160" y="499104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46760" y="5054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71600" y="5117760"/>
                <a:ext cx="1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735320" y="4865040"/>
                <a:ext cx="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3" name=""/>
            <p:cNvCxnSpPr>
              <a:stCxn id="132" idx="0"/>
              <a:endCxn id="120" idx="2"/>
            </p:cNvCxnSpPr>
            <p:nvPr/>
          </p:nvCxnSpPr>
          <p:spPr>
            <a:xfrm flipH="1" flipV="1">
              <a:off x="7733160" y="4621320"/>
              <a:ext cx="2880" cy="2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8510760" y="34106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400" y="2160720"/>
              <a:ext cx="633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1080" y="4278240"/>
              <a:ext cx="11484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6"/>
              <a:endCxn id="120" idx="1"/>
            </p:cNvCxnSpPr>
            <p:nvPr/>
          </p:nvCxnSpPr>
          <p:spPr>
            <a:xfrm flipV="1">
              <a:off x="6955560" y="4337640"/>
              <a:ext cx="40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553080" y="399240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235584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3800" y="489276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938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ndiente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114440" y="261756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5000" y="3151080"/>
            <a:ext cx="53352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63988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64200"/>
            <a:ext cx="4876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61792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208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465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039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1500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715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185724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de Transició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“incertidumbr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514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1828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Hi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5987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L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60199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3276720"/>
                <a:ext cx="175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iente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05320" y="365760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asociados a High y Low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la transición por la zona de saturación sea más rápida se tendrá un NM mej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conexión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be cump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contrario: “Error Lógi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ido Provoca Error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lerancia a Error: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2590920"/>
            <a:ext cx="4191120" cy="3812400"/>
            <a:chOff x="4952880" y="2590920"/>
            <a:chExt cx="4191120" cy="3812400"/>
          </a:xfrm>
        </p:grpSpPr>
        <p:sp>
          <p:nvSpPr>
            <p:cNvPr id="163" name=""/>
            <p:cNvSpPr/>
            <p:nvPr/>
          </p:nvSpPr>
          <p:spPr>
            <a:xfrm flipV="1">
              <a:off x="56386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3818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3" idx="0"/>
              <a:endCxn id="164" idx="0"/>
            </p:cNvCxnSpPr>
            <p:nvPr/>
          </p:nvCxnSpPr>
          <p:spPr>
            <a:xfrm>
              <a:off x="5638680" y="5866920"/>
              <a:ext cx="2743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5562720" y="3200400"/>
              <a:ext cx="152280" cy="457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257800"/>
              <a:ext cx="15228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3429000"/>
              <a:ext cx="152280" cy="685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920" y="4648320"/>
              <a:ext cx="152280" cy="914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351936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0292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05920" y="391464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05920" y="44197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781680" y="41148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81680" y="4648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525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473868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7339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8580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086600" y="4647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58816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Salida Compuerta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8831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ntrada Compuerta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versas Posibilidad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cnologías (BJT-TTL, CMOS, NMOS, BiCMO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(ventajas/desventajas) particula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ben considerarse según la apl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, velocidad, integración,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ensión temprana del comportamiento de los inversores permite entender con mayor facilidad las familias lóg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de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Qué sucede si se cortocircuitan los terminales compuerta y drenaje en un transistor MOSFET enhancemen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ugar geométrico representa una curva cuadrática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541600"/>
            <a:ext cx="7696080" cy="41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438280" cy="228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43800" y="563868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3.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74320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345924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440" y="4297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9040" y="490680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6240" y="5440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589752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400800" y="2068560"/>
                <a:ext cx="1600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27T14:57:45Z</dcterms:modified>
  <cp:revision>560</cp:revision>
  <dc:subject>Inversores Lógicos</dc:subject>
  <dc:title>Clase 12</dc:title>
</cp:coreProperties>
</file>