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5CABEE9-D731-46A8-BC2D-AFD8196E13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86F2BA2-3092-4180-BD5F-A1532F6793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2B3B79B-223F-4677-9224-302D704305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95B252E-50A6-43DD-B27E-A4FD09D135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7E30EB0-0A69-4D37-991C-69CC48EBE5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418DB5C-20A9-4D3E-BC71-6C70C8D9F4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ACB41FF-6CEC-4C04-A324-0010681F82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172D597-F371-40AB-8304-20EE6B76B7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82547EF-8084-487E-898A-9AB5271E46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B6B1B95-0DD5-4B4D-AE3C-3DDC2A0A67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71B1CBE-5215-44FF-8995-9FE684DD95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34DB920-86C9-4FED-B8E8-4044968A9C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E30F6F9-7071-498E-BA4D-AA4BE2B20D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D51BA87-2239-497C-9A38-8FF26629DF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5477A97-1923-47D4-A67C-156D74C190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E9D2402E-7A2F-490C-A4D7-E3ABFE2A67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0940A07-9582-4793-80AE-C691F6C0AF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7E3692F-724C-41D1-B7EE-B8F4905DF7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5E69DD8-0DC5-4D39-90A6-1612C2A3BB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59DAFB6-191D-43D0-BB44-85B7240CAA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ED39F2F-F925-452A-B3F6-40BB895FB3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7D4E915-05C0-46A0-BAD3-70F70950FF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FC92AF-FA54-4268-8D8C-AF5DEBFA11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566F2D-7602-4D71-B409-2B662A2DF2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B9F7-C2CB-4200-A49B-DBCEC66B4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174F-0488-4ED1-A429-8F16AEBB6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actancia%20Cristal%20vs%20frecuencia"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Estabilidad%20de%20frecuencia%20desfas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9T16:38:51Z</dcterms:modified>
  <cp:revision>959</cp:revision>
  <dc:subject>Osciladores (II) y Filtros Activos</dc:subject>
  <dc:title>Clase 25</dc:title>
</cp:coreProperties>
</file>