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5877486-8E09-43A3-947E-827B069E04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243650C-99BE-4F57-B2D1-54B47C47C1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E221714-9ED1-4F1A-9D8E-5560A07C48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D5FB056-8585-4808-955C-26790A06FC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6992234E-963D-4E84-AB3D-E55E858BD9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204C5A4-BCBB-433C-8114-D1BD695E00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5C3D9F9-CEFA-475C-8BAC-34E268471A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A3597DD-FC11-42B0-B63A-5542759947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45DDC3A-D647-47DF-AC47-4CA9D1414B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91D6DF6-314B-414E-AA72-EF7FCD59A3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64AD973-D25D-4881-8717-F63A5BE529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1ABF7D7-FEED-4E86-8206-F3AF33501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E2966D7-BB5C-4FDD-84B7-E4DCDA8F4A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DFA16B2-08C7-474C-A7C7-ADB3374447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5527549-3535-4F72-B94F-7E223C99B9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2B5E4B7-0B74-4DFD-993F-8C815A5495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F3497F7-A472-404C-873B-DAA2FF2D4C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F9868E9-761B-4C9D-9DD9-E76F714883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90B8216-C79B-4D65-925F-AE91ED4043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96362D1-898E-400E-A5A2-13158D4E62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C48124F-C69A-49FA-BFB5-586BC959AC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2B66DB-0777-4E84-B610-3AA0015ADF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183474-F393-4C93-9925-3881C3EDD6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27C504-092D-488A-899E-DB54B05C1E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2693-8FB7-4E76-980B-B11A65E8E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B5C9-E26E-4FE2-BEDE-34DB95FCA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actancia%20Cristal%20vs%20frecuencia"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Estabilidad%20de%20frecuencia%20desfas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9T16:38:51Z</dcterms:modified>
  <cp:revision>959</cp:revision>
  <dc:subject>Osciladores (II) y Filtros Activos</dc:subject>
  <dc:title>Clase 25</dc:title>
</cp:coreProperties>
</file>