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13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png" ContentType="image/png"/>
  <Override PartName="/ppt/media/image31.wmf" ContentType="image/x-wmf"/>
  <Override PartName="/ppt/media/image8.wmf" ContentType="image/x-wmf"/>
  <Override PartName="/ppt/media/image6.png" ContentType="image/png"/>
  <Override PartName="/ppt/media/image29.png" ContentType="image/png"/>
  <Override PartName="/ppt/media/image4.png" ContentType="image/png"/>
  <Override PartName="/ppt/media/image2.png" ContentType="image/png"/>
  <Override PartName="/ppt/media/image1.png" ContentType="image/png"/>
  <Override PartName="/ppt/media/image15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6626-4ACD-4C9F-8493-4FA805854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4CD8-CBDA-4905-83FB-9490E0C5C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12EA-BB29-48B3-97C0-6F30800AD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6DFC-CCA6-425E-AF5A-B4802892B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D1A-09CB-4995-B8F0-A940F76B92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CC5-358F-492E-BEB5-738374393A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19A-1C34-4ED7-AE84-89C38E6DBA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CED-C6D9-42AA-9E30-BA6ADD90C5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6930-0C4C-484B-890A-BD2E8C1F72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8C3-93B3-4A6E-94E6-5362CFF3C3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6F61-317F-476C-B5A7-9ADAE33E62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5EC7-0568-4493-A6D6-84B6EB407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AE18-9193-456C-B934-0E5AD75147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E37-CB66-4CEE-AA86-C680059278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ACA-3891-46B1-9CC1-CC4C71C092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9B87-2394-4A36-A137-7D18A62BE0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F1B-3630-4943-BB9D-DFBD13AA87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C399-4EAB-4976-B17A-D39329658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607B-9D54-4A80-AA31-8DE8724E0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A7BF-6088-47A2-8870-8CCFCEBE2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01F3-DBBC-4F92-81ED-900E55914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D4D36-FFA0-4F4F-BF94-C117D077A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63A37-56BE-40EC-9FD8-762B0D77C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200A-4666-4753-8BC6-853319510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312C-D224-4786-818E-D97D25090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A883-E7ED-409E-A1B5-2846CB953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581640" cy="295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76920" y="5715000"/>
                <a:ext cx="20541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52280" y="16765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alt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pequeña” en paralelo con impedancia de inductancia “alt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baj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alta” en paralelo con impedancia de inductancia “baj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existir frecuencia “entre medio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onde la atenuación es menor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enemos un Filtro pasaba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72000" y="4419720"/>
                <a:ext cx="25272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7162920" y="4670280"/>
            <a:ext cx="1904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Gran Atenuación fuera de la “banda de paso”: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0dB/déc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9076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81480" y="2940120"/>
            <a:ext cx="304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ble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7652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Ganancia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12920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esfase: º sexagesi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705720" y="2209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781320" y="36576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32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5029200"/>
                <a:ext cx="2054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90720" y="3048120"/>
                <a:ext cx="3071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ls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L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8600" y="3886200"/>
                <a:ext cx="45846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lso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C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808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cia de elementos Resistivos provoca pérdidas en el circ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ar que la constante de tiempo de amortiguación es proporcional a RC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lección cuidadosa d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550040" cy="375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1676520"/>
            <a:ext cx="37339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¿Qué pasa si aplicamos un pulso a la entra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lso contiene un espectro completo de frecuencias (Análisis de Fourier), por lo que si es representado como una serie de Fourier es fácil entender qué se va a obtener a la salida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ólo aquellas componentes de Fourier con frecuencias cercanas a la frecuencia de corte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Una “buena” sinusoide con frecuencia aproximada a la frecuencia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76220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) FFT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778040"/>
            <a:ext cx="8610480" cy="4775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71800" y="2514600"/>
            <a:ext cx="5029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oria Frecuencia central y algunas componentes “alrededor”: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buena sinusoi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I) Amortigu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1731960"/>
            <a:ext cx="7696080" cy="4205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7150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un esquema retroalimentado podría mantenerse la oscilación en forma permanente siempre y cuando el tiempo de “atenuación” sea grande comparado con el de retroali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327560" cy="3406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280" y="1898640"/>
            <a:ext cx="37339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mbio: mantengo la misma frecuencia de corte pero RC es 100 veces 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nstante de “tiempo” de la atenuación es del orden de la “constante de tiempo” (el período) asociado a la oscilación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Hay que tener en mente este hecho si se desea mantener una oscilación por un período dado.</a:t>
            </a:r>
            <a:br>
              <a:rPr sz="1800"/>
            </a:b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 importante tener en mente la impedancia de salida de la etapa que aliementa al filtro (usualmente el amplificad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19720" y="5486400"/>
                <a:ext cx="27432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enuació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cilación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04480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3623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oscilación ~ Tiempo Ate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3635280" cy="243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1447920"/>
                <a:ext cx="279864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429000" y="1752480"/>
                <a:ext cx="26002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219320" y="3886200"/>
            <a:ext cx="289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 y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5600" y="4495680"/>
                <a:ext cx="46972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80880" y="5654520"/>
                <a:ext cx="24098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2971800"/>
                <a:ext cx="4127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352680" y="5638680"/>
                <a:ext cx="36133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562720" y="4876920"/>
            <a:ext cx="335268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Pasabanda, mínima atenuación en f=f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sciladores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34520" cy="461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3657600" y="5908680"/>
            <a:ext cx="3049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81080" y="5967360"/>
                <a:ext cx="16480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 flipV="1">
            <a:off x="3976560" y="182844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048120"/>
            <a:ext cx="2666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“no tan bueno” como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l asociado al filtro 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182880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tenuación ~ 1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960" y="1905120"/>
            <a:ext cx="510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tiva y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no es cla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turbació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riadas componentes de frecu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lineal válido mientras amplificador opere en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inversor aparecen atenuadas por el mismo “monto” (divis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no-inversor aparecen atenuadas y desfasadas. Para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/RC menor atenuación (1/3) y desfase nu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27640" y="1905120"/>
            <a:ext cx="3816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libri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 “compite” con la posi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+) “gana a”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satura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gan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onverge a “0”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tenuación del filtro es compensada por la ganancia del amplificador (probarlo!!!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permanece en el circuito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uede darse el equilibrio a una frecuenci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inta a la frecuencia de corte del filtro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en este caso. Luego de cada “trayecto de retroalimentación” de la señal, el filtro atenuará a ésta y además introducirá un desfase. Luego de algún tiempo ésta componente desaparecerá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48320" y="1905120"/>
            <a:ext cx="35956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La condición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un equilibrio estable?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no, sólo es una condición matemática 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izada. Indeterminación en los valor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o variacion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smos con el ambiente o el tiempo implican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te equilibrio es “inestable” entregand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inalmente una convergencia a salida nula 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d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Qué se puede hacer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predominar la retroalimentación negativa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rque así se la salida se hará nul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Hay que encontrar una forma de hacer predominar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retroalimentación positiva y que sin embarg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oscilaciones sean acotada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ntes de encontrar esta solución estudiemos el Puente de Wien en forma cuantitativa y analicemos algunas simulacion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5800" y="1905120"/>
            <a:ext cx="3522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“Matemático” (Barkhause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241280" y="1835280"/>
                <a:ext cx="11592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901960" y="1835280"/>
                <a:ext cx="11588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14400" y="2509920"/>
                <a:ext cx="36799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447920" y="3282840"/>
                <a:ext cx="2560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69960" y="4191120"/>
                <a:ext cx="42069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iterio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rPr>
                        <m:lit/>
                        <m:nor/>
                      </m:rPr>
                      <m:t xml:space="preserve">Barkhausen</m:t>
                    </m:r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974880" y="5334120"/>
                <a:ext cx="11588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9" name=""/>
          <p:cNvGrpSpPr/>
          <p:nvPr/>
        </p:nvGrpSpPr>
        <p:grpSpPr>
          <a:xfrm>
            <a:off x="5486400" y="2133720"/>
            <a:ext cx="3505320" cy="3657600"/>
            <a:chOff x="5486400" y="2133720"/>
            <a:chExt cx="3505320" cy="365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5486400" y="2133720"/>
              <a:ext cx="3505320" cy="3657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5486400" y="4078440"/>
                  <a:ext cx="1116000" cy="57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7421040" y="3632760"/>
                  <a:ext cx="1041480" cy="54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038480" y="5486400"/>
                <a:ext cx="8924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632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5943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Amplificador  iguala atenu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 (Ver filtro RC serie-parale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495936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mplica dos condiciones (parte real e imaginari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Ejempl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892760" cy="397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72200" y="2610000"/>
                <a:ext cx="2057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61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791320" y="3429000"/>
            <a:ext cx="28954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bservación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Slew Rate del OPAMP actúa como filtro natural de las componentes de frecuencia imponiendo un límite a la máxima frecuencia permit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1828800"/>
            <a:ext cx="28954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e cumple el criterio de Barkhau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579132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alida y pines entrada diferencial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órdenes de magnitud en las diversas cur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5003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76520" y="5410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imetría: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837720" y="556236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900600"/>
            <a:ext cx="647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837720" y="36576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360520"/>
            <a:ext cx="4496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Constantes de tiempo son del orden de los ms y estamos en la escala de los 0.1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9144000" cy="509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95280" y="5105520"/>
            <a:ext cx="716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nentes de alta frecuencia (MHz) aparecen en la salida (asimet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3581280"/>
            <a:ext cx="6476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1614600"/>
            <a:ext cx="7467480" cy="9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del orden de 1kHz y gran parte de la energía de la señal se encuentra distribuida en altas frecuencia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ólo pasan con poca atenuación las componentes alrededor de 1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64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4113360"/>
            <a:ext cx="7010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io de la retroalimentación negativa +  pin no-inversor ~ cer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va a 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546200"/>
            <a:ext cx="91440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os criterios para la existencia de oscilaciones en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teórica”: Criterio de Barkhaus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práctica”: Criterios ingenier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lajación (ondas cuadradas, triangulare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uente de Wien, Colpitts, Hartle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miento de Fase (Phase-Shif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écnicas AGC (Automatic Gain Contro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recisión: Cristal de Cuarzo (XTA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625760"/>
            <a:ext cx="8915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23880" y="4113360"/>
            <a:ext cx="556272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9448920" cy="5303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676520" y="3352680"/>
            <a:ext cx="556236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584360"/>
            <a:ext cx="9236160" cy="5121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09680" y="2743200"/>
            <a:ext cx="6477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edominio de Retroalimentación  Negativa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pesar de aplicar Barkhaus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de Retro +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1905120"/>
            <a:ext cx="41907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tener oscilaciones no puede predominar la retroalimentación 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2897280"/>
            <a:ext cx="4419360" cy="28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riterio de Diseño Ingenieril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debe forzar el predominio de la retroalimentación positiva 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te todo evento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paso del tiempo, indeterminación en el valor de los parámetros, etc.). En el caso del Oscilador de Wien será necesario disminuir el factor de retroalimentación negativ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(equivalente a aumentar la ganancia del amplificador respecto de la atenuación del filt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872320"/>
            <a:ext cx="3504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: Disminuir el valor de R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4572000" cy="3603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H="1" flipV="1">
            <a:off x="838080" y="2743200"/>
            <a:ext cx="281952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574640"/>
            <a:ext cx="8915400" cy="494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00200" y="2879640"/>
            <a:ext cx="6781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dominio de Retroalimentación Positiva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Salida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ciones Sostenidas: AGC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 d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roalimentación nega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 se atenuará y no existirá sinusoide. Esto nos obliga a hacer predominar la retroalimentación posi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alida no s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ción a este problem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itar que la salida llegu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os niveles de saturación del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 AGC: 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oner de algún elemento no lineal que afecte la retroalimentación en la siguiente forma: “Si la señal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alida e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queñ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retroalimentación positiva, pero si comienza a ser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negativ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 regl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zzy) podemos intentar buscar una realización práctica para nuestro oscilador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usoid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continuación veremos un ejemplo de AG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lasific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j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 de onda no-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s componentes de frecu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spositivos “trabajan” en zonas no lineales la mayor parte del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clase 18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ndas “cuadradas” (afectadas por la Slew Rate del OPAMP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úsqueda de componente de frecuencia “pur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be “seleccionarse” frecuencia característica del siste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positivos deben trabajar en zona lineal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linealidad implica la existencia de componentes de frecuencia distintos a la seleccion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)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55000" cy="5075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657600" y="2438280"/>
            <a:ext cx="4800600" cy="3962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523880"/>
            <a:ext cx="2895840" cy="44197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502920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33cc"/>
                </a:solidFill>
                <a:latin typeface="Times New Roman"/>
              </a:rPr>
              <a:t>Red AGC: </a:t>
            </a:r>
            <a:br>
              <a:rPr sz="1600"/>
            </a:br>
            <a:r>
              <a:rPr b="0" i="1" lang="es-ES_tradnl" sz="1600" spc="-1" strike="noStrike">
                <a:solidFill>
                  <a:srgbClr val="3333cc"/>
                </a:solidFill>
                <a:latin typeface="Times New Roman"/>
              </a:rPr>
              <a:t>JFET canal n + diodo + condensador y resis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48640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Oscilador Puente de Wien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5410080" cy="3581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981080"/>
            <a:ext cx="36576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principio el condensador Cx se encuentra decarg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FET se comporta como resistencia pequeñ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equival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enera predominio de retroalimentación positiva. A medida que la oscilación aumenta amplitud, el diodo D1 comienza a conducir (ciclos negativos de la salida) y carga a Cx con constante de tiempo RxCx la que debe ser “grande” en comparación al período de la sinusoide. Al cargarse Cx comienza a aumentar la resistencia equivalente de J1 con lo que comienza a mejorar  la retroalimentación negativa hasta que se alcanza un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498680"/>
            <a:ext cx="9144000" cy="5070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095880" y="2057400"/>
            <a:ext cx="29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Oscilaciones Acotadas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24382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jación (formas de ondas cuadradas, triangulares,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ensación Filtro-Amplificador: Posibilidad de Oscilación Sosten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s Matemáticos entregan aproximación de primer orden al problema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Ingenieril ajusta comportamiento: AGC (Automatic Gain Contro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requiere de señal extern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ción es mantenida por el sistem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imentación exter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stema impone “constantes de tiemp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: frecuencia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mutación dispos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Restricción para máxima frecuencia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lineal: Velocidad en las transicion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“Requisitos Estructur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s: Provocan la generación de la “señal origina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recuencia de Oscilación: Retroalimentación “selectiva”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 debe ser “filtro”: Sólo “pasa” a través de él componente de frecuencia específic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“pérdidas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tenuación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scilación sosten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stema debe “balancear” las pérdidas de amplitud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amplificación “criterios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lación Atenuación-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grand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“no lineal” (relaj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pequeñ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amortiguada (no-perman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Crite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s para oscilaciones perman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bjetivo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“original” circula “eternamente” a través del circuito, sin mediar señal externa y sólo con 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“Matemático” Estric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ones Necesarias para la “vida eterna de la señal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: “Para que exista una oscilación permanente, la atenuación (o pérdida) en el lazo de retroalimentación debe ser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mpensada por la ganancia de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sfase: “Para que exista una oscilación permanente, cualquier desfase introducido por el lazo de retroalimentación debe ser cancelado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or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Ingenieri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son conocidos sólo con cierta precisión, cambian ante condiciones externas y a través del paso del tiem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 matemática “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” debe analizarse cuidadosam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Je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Matemático Estric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 denominaremos “Criterio de Barkhause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entido estricto el Criterio de Barkhausen está asociado a retroalimentación negativa, mientras que el criterio definido anteriormente es de carácter gener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criterio de Barkhausen ha tenido tradicionalmente una interpretación “oscura” (desde mi particular y acotada perspectiva): “Si la ganancia de lazo (denominador de la ganancia de lazo cerrado) “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” se hace “cero” entonces la ganancia es “infinita” y “puede” sostenerse una oscilación perm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“bautizo” es en honor del pionero en este tipo de 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to de la Clase: “Roadmap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primer lugar estudiaremos un par de redes de retroalimentación “selectivas en frecuencia”, es decir fil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uego analizaremos desde perspectivas “interesantes” al oscilador Puente de Wie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 y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 Ingenieril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o ganar a la retroalimentación positiva al principio pero cuando intenta ponerse no lineal dejo ganar a la nega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incipio de AG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nalmente los osciladores de corrimiento de Fa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3:19:03Z</dcterms:created>
  <dc:creator>Domingo Morales Lizama</dc:creator>
  <dc:description/>
  <dc:language>en-US</dc:language>
  <cp:lastModifiedBy>Depto. Ing. Electrica</cp:lastModifiedBy>
  <dcterms:modified xsi:type="dcterms:W3CDTF">2003-11-17T15:01:55Z</dcterms:modified>
  <cp:revision>266</cp:revision>
  <dc:subject>Osciladores (I)</dc:subject>
  <dc:title>Clase 24</dc:title>
</cp:coreProperties>
</file>