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5.wmf" ContentType="image/x-wmf"/>
  <Override PartName="/ppt/media/image9.wmf" ContentType="image/x-wmf"/>
  <Override PartName="/ppt/media/image14.png" ContentType="image/png"/>
  <Override PartName="/ppt/media/image5.wmf" ContentType="image/x-wmf"/>
  <Override PartName="/ppt/media/image10.png" ContentType="image/png"/>
  <Override PartName="/ppt/media/image28.wmf" ContentType="image/x-wmf"/>
  <Override PartName="/ppt/media/image30.png" ContentType="image/png"/>
  <Override PartName="/ppt/media/image13.wmf" ContentType="image/x-wmf"/>
  <Override PartName="/ppt/media/image26.png" ContentType="image/png"/>
  <Override PartName="/ppt/media/image11.wmf" ContentType="image/x-wmf"/>
  <Override PartName="/ppt/media/image3.png" ContentType="image/png"/>
  <Override PartName="/ppt/media/image7.wmf" ContentType="image/x-wmf"/>
  <Override PartName="/ppt/media/image12.png" ContentType="image/png"/>
  <Override PartName="/ppt/media/image31.wmf" ContentType="image/x-wmf"/>
  <Override PartName="/ppt/media/image8.wmf" ContentType="image/x-wmf"/>
  <Override PartName="/ppt/media/image6.png" ContentType="image/png"/>
  <Override PartName="/ppt/media/image29.png" ContentType="image/png"/>
  <Override PartName="/ppt/media/image4.png" ContentType="image/png"/>
  <Override PartName="/ppt/media/image2.png" ContentType="image/png"/>
  <Override PartName="/ppt/media/image1.png" ContentType="image/png"/>
  <Override PartName="/ppt/media/image15.png" ContentType="image/png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media/image24.wmf" ContentType="image/x-wmf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672A6-34B9-4136-953C-1667C5F3A3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C3166-452E-401E-96DE-42D2890AF8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240CE-443F-4B5C-BDBC-27BCB6A19D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CFE80-1250-4C3B-B46F-76969324A0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297A-50EE-42FB-8108-40E6AAE7BCB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FF8F-38A2-463D-AE13-EF0A893C4E6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ECAD-5E7B-40CB-8358-82BFC673736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A5BB-82D2-430E-BB12-29E84498394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09FB-177A-4C33-9E14-FDA6CABB010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7BB1-3604-4763-938A-706C1CC24C2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3D13-725D-4C70-8A7E-125ACA27513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4CF9B-C537-48FC-814E-55C54C641F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43B4-E711-474C-97DB-13969C4255B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5325-0297-4EAB-BB45-8FB2A84249A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8FA8-6C85-4C3E-9ED6-336ED7698C0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2C65-42E0-42E9-A097-460DCDF17C6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AE63-EEEF-43A7-8592-5377E53A5C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ACBCE-C49E-4F91-99AD-B22C755745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31EFB-F699-4685-B6C4-89EC350C4A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0E6C1-0184-43DB-A3B1-C403762B4B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59041-8815-4544-9C7D-D600DD8F70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0CE0C-1A87-48E1-AE28-BA405001D9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AE2DA-C72D-44F1-936E-54A967DC1E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7C6FD-EF32-4044-81DA-689BF21619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4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72D60-8A1A-4C3B-9A69-4205CE22B7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04E8C-E174-4A5D-89F3-2890AB5C02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42A Circuitos Electrónicos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Semestre Primavera 2003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partamento de Ingeniería Eléctric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LC básico: Respuesta en Frecuencia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952880" y="1523880"/>
            <a:ext cx="3581640" cy="2951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876920" y="5715000"/>
                <a:ext cx="205416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5035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152280" y="1676520"/>
            <a:ext cx="441972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Frecuencias “altas”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condensador “pequeña” en paralelo con impedancia de inductancia “alta “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mpedancia LC “baja”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divisor de tensión con R entrega salida pequeña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xiste Atenu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Frecuencias “bajas”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condensador “alta” en paralelo con impedancia de inductancia “baja “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mpedancia LC “baja”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divisor de tensión con R entrega salida pequeña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xiste Atenu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Conclusión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be existir frecuencia “entre medio”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onde la atenuación es menor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Tenemos un Filtro pasaband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4572000" y="4419720"/>
                <a:ext cx="252720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jωL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num>
                      <m:den>
                        <m:r>
                          <m:t xml:space="preserve">jωL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jωL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7162920" y="4670280"/>
            <a:ext cx="1904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Gran Atenuación fuera de la “banda de paso”: 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40dB/déca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1490760"/>
            <a:ext cx="9144000" cy="50623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181480" y="2940120"/>
            <a:ext cx="30481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¡¡¡Factor de Calidad Q </a:t>
            </a:r>
            <a:br>
              <a:rPr sz="1800"/>
            </a:b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Notable!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LC básico: Respuesta en Frecuencia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1676520"/>
            <a:ext cx="3048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Ganancia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4129200"/>
            <a:ext cx="3048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Desfase: º sexagesim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705720" y="2209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6781320" y="3657600"/>
            <a:ext cx="228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LC básico: Respuesta a Puls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876920" y="1905120"/>
            <a:ext cx="4038480" cy="3327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523880" y="5029200"/>
                <a:ext cx="205452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5035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990720" y="3048120"/>
                <a:ext cx="3071520" cy="73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uls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L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RLC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28600" y="3886200"/>
                <a:ext cx="458460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ulso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e>
                        </m:d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LC</m:t>
                                        </m:r>
                                      </m:den>
                                    </m:f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rad>
                              </m:e>
                            </m:d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δ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380880" y="1905120"/>
            <a:ext cx="449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xistencia de elementos Resistivos provoca pérdidas en el circu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563868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otar que la constante de tiempo de amortiguación es proporcional a RC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selección cuidadosa de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LC básico: Respuesta a Puls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267080" y="2209680"/>
            <a:ext cx="4550040" cy="37562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52280" y="1676520"/>
            <a:ext cx="3733920" cy="38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¿Qué pasa si aplicamos un pulso a la entrad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ulso contiene un espectro completo de frecuencias (Análisis de Fourier), por lo que si es representado como una serie de Fourier es fácil entender qué se va a obtener a la salida: 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sólo aquellas componentes de Fourier con frecuencias cercanas a la frecuencia de corte</a:t>
            </a:r>
            <a:br>
              <a:rPr sz="1800"/>
            </a:br>
            <a:r>
              <a:rPr b="1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 Una “buena” sinusoide con frecuencia aproximada a la frecuencia de cor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LC básico: Respuesta a Pulso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1762200"/>
            <a:ext cx="853452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LC básico: Respuesta a Pulso (V) FFT Salid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778040"/>
            <a:ext cx="8610480" cy="47750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971800" y="2514600"/>
            <a:ext cx="50292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otoria Frecuencia central y algunas componentes “alrededor”: </a:t>
            </a:r>
            <a:br>
              <a:rPr sz="2400"/>
            </a:b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“buena sinusoid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LC básico: Respuesta a Pulso (VI) Amortiguació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6320" y="1731960"/>
            <a:ext cx="7696080" cy="42051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28600" y="5715000"/>
            <a:ext cx="73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 un esquema retroalimentado podría mantenerse la oscilación en forma permanente siempre y cuando el tiempo de “atenuación” sea grande comparado con el de retroaliment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LC básico: Constante de tiempo RC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572000" y="1828800"/>
            <a:ext cx="4327560" cy="34066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52280" y="1898640"/>
            <a:ext cx="373392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Cambio: mantengo la misma frecuencia de corte pero RC es 100 veces men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a constante de “tiempo” de la atenuación es del orden de la “constante de tiempo” (el período) asociado a la oscilación: 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Hay que tener en mente este hecho si se desea mantener una oscilación por un período dado.</a:t>
            </a:r>
            <a:br>
              <a:rPr sz="1800"/>
            </a:br>
            <a:br>
              <a:rPr sz="1800"/>
            </a:b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Es importante tener en mente la impedancia de salida de la etapa que aliementa al filtro (usualmente el amplificad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4419720" y="5486400"/>
                <a:ext cx="274320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tenuació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s</m:t>
                        </m:r>
                      </m:e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scilación</m:t>
                            </m:r>
                          </m:sub>
                        </m:sSub>
                        <m:r>
                          <m:t xml:space="preserve">≈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  <m:r>
                          <m:t xml:space="preserve">≈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2044800"/>
            <a:ext cx="8305920" cy="45082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LC básico: Constante de tiempo RC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438280" y="2362320"/>
            <a:ext cx="5257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iempo oscilación ~ Tiempo Atenu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RC “Serie-Paralelo”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334120" y="2438280"/>
            <a:ext cx="3635280" cy="2436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228600" y="1447920"/>
                <a:ext cx="2798640" cy="119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jω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jω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3429000" y="1752480"/>
                <a:ext cx="260028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1219320" y="3886200"/>
            <a:ext cx="2895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R y C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C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55600" y="4495680"/>
                <a:ext cx="469728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380880" y="5654520"/>
                <a:ext cx="240984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59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62120" y="2971800"/>
                <a:ext cx="412740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ω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ω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3352680" y="5638680"/>
                <a:ext cx="361332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rPr>
                        <m:lit/>
                        <m:nor/>
                      </m:rPr>
                      <m:t xml:space="preserve">d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5562720" y="4876920"/>
            <a:ext cx="3352680" cy="74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Característica Pasabanda, mínima atenuación en f=f</a:t>
            </a:r>
            <a:r>
              <a:rPr b="1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apítulo III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 Electrónica Analógic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lase Nº 24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Osciladores (I)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RC “Serie-Paralelo”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puesta en Frecuenci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534520" cy="46134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 flipV="1">
            <a:off x="3657600" y="5908680"/>
            <a:ext cx="30492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981080" y="5967360"/>
                <a:ext cx="164808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59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 flipV="1">
            <a:off x="3976560" y="1828440"/>
            <a:ext cx="0" cy="42670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14800" y="3048120"/>
            <a:ext cx="266688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Factor de Calidad Q </a:t>
            </a:r>
            <a:br>
              <a:rPr sz="1800"/>
            </a:b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“no tan bueno” como </a:t>
            </a:r>
            <a:br>
              <a:rPr sz="1800"/>
            </a:b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el asociado al filtro 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26708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648320" y="1828800"/>
            <a:ext cx="22096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Atenuación ~ 10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 Puente de Wien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Intuitiv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5960" y="1905120"/>
            <a:ext cx="5105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troaliment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ositiva y negativ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tabilidad no es clar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erturbación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ariadas componentes de frecuenci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nálisis lineal válido mientras amplificador opere en zona line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 pin inversor aparecen atenuadas por el mismo “monto” (divisor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y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 pin no-inversor aparecen atenuadas y desfasadas. Para f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1/RC menor atenuación (1/3) y desfase nulo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327640" y="1905120"/>
            <a:ext cx="381636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 Puente de Wien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Intuitiv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320" y="1828800"/>
            <a:ext cx="5867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quilibrios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troalimentación negativa “compite” con la positiva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 (Retro +) “gana a” (Retro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alida se satura y es establ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 (Retro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 “gana a” (Retro +)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alida converge a “0” y es establ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 (Retro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 “iguala a” (Retro +)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a atenuación del filtro es compensada por la ganancia del amplificador (probarlo!!!)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ñal permanece en el circuito!!!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¿Puede darse el equilibrio a una frecuencia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istinta a la frecuencia de corte del filtro?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o en este caso. Luego de cada “trayecto de retroalimentación” de la señal, el filtro atenuará a ésta y además introducirá un desfase. Luego de algún tiempo ésta componente desaparecerá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548320" y="1905120"/>
            <a:ext cx="359568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 Puente de Wien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Intuitivo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5960" y="18284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tabilidad de la oscil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¿La condición (Retro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 “iguala a” (Retro +)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fine un equilibrio estable?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laramente no, sólo es una condición matemática 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dealizada. Indeterminación en los valores de los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ámetros del circuito o variaciones de los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ismos con el ambiente o el tiempo implican que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ste equilibrio es “inestable” entregando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inalmente una convergencia a salida nula o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aturada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¿Qué se puede hacer?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o puede predominar la retroalimentación negativa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orque así se la salida se hará nul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Hay que encontrar una forma de hacer predominar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la retroalimentación positiva y que sin embargo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las oscilaciones sean acotada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ntes de encontrar esta solución estudiemos el Puente de Wien en forma cuantitativa y analicemos algunas simulacione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635800" y="1905120"/>
            <a:ext cx="3522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 Puente de Wien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“Matemático” (Barkhausen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241280" y="1835280"/>
                <a:ext cx="115920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2901960" y="1835280"/>
                <a:ext cx="115884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914400" y="2509920"/>
                <a:ext cx="367992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+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−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1447920" y="3282840"/>
                <a:ext cx="256068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669960" y="4191120"/>
                <a:ext cx="420696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riterio</m:t>
                    </m:r>
                    <m:r>
                      <m:rPr>
                        <m:lit/>
                        <m:nor/>
                      </m:rPr>
                      <m:t xml:space="preserve">de</m:t>
                    </m:r>
                    <m:r>
                      <m:rPr>
                        <m:lit/>
                        <m:nor/>
                      </m:rPr>
                      <m:t xml:space="preserve">Barkhausen</m:t>
                    </m:r>
                    <m:r>
                      <m:t xml:space="preserve">: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974880" y="5334120"/>
                <a:ext cx="1158840" cy="63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79" name=""/>
          <p:cNvGrpSpPr/>
          <p:nvPr/>
        </p:nvGrpSpPr>
        <p:grpSpPr>
          <a:xfrm>
            <a:off x="5486400" y="2133720"/>
            <a:ext cx="3505320" cy="3657600"/>
            <a:chOff x="5486400" y="2133720"/>
            <a:chExt cx="3505320" cy="3657600"/>
          </a:xfrm>
        </p:grpSpPr>
        <p:pic>
          <p:nvPicPr>
            <p:cNvPr id="180" name="" descr=""/>
            <p:cNvPicPr/>
            <p:nvPr/>
          </p:nvPicPr>
          <p:blipFill>
            <a:blip r:embed="rId1"/>
            <a:stretch/>
          </p:blipFill>
          <p:spPr>
            <a:xfrm>
              <a:off x="5486400" y="2133720"/>
              <a:ext cx="3505320" cy="365760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81" name=""/>
                <p:cNvSpPr txBox="1"/>
                <p:nvPr/>
              </p:nvSpPr>
              <p:spPr>
                <a:xfrm>
                  <a:off x="5486400" y="4078440"/>
                  <a:ext cx="1116000" cy="57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sRC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sC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2" name=""/>
                <p:cNvSpPr txBox="1"/>
                <p:nvPr/>
              </p:nvSpPr>
              <p:spPr>
                <a:xfrm>
                  <a:off x="7421040" y="3632760"/>
                  <a:ext cx="1041480" cy="54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R</m:t>
                          </m:r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sRC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4038480" y="5486400"/>
                <a:ext cx="89244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4" name=""/>
          <p:cNvSpPr/>
          <p:nvPr/>
        </p:nvSpPr>
        <p:spPr>
          <a:xfrm>
            <a:off x="76320" y="594360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recuencia de corte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l fil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514600" y="594360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Amplificador  iguala atenuación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l Filtro (Ver filtro RC serie-parale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52280" y="4959360"/>
            <a:ext cx="49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Implica dos condiciones (parte real e imaginaria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 Puente de Wien: Ejempl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4892760" cy="3978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6172200" y="2610000"/>
                <a:ext cx="20574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061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5791320" y="3429000"/>
            <a:ext cx="2895480" cy="222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Observación: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a Slew Rate del OPAMP actúa como filtro natural de las componentes de frecuencia imponiendo un límite a la máxima frecuencia permit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15000" y="1828800"/>
            <a:ext cx="28954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Se cumple el criterio de Barkhau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04920" y="5791320"/>
            <a:ext cx="556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Simulación: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Salida y pines entrada diferencial.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otar órdenes de magnitud en las diversas cur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0ns”: Tiemp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1549440"/>
            <a:ext cx="9144000" cy="50036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676520" y="5410080"/>
            <a:ext cx="1904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simetría: Off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837720" y="5562360"/>
            <a:ext cx="7621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23880" y="3900600"/>
            <a:ext cx="6477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in inversor: 1/3 Salida (No hay filtrado, sólo un divisor de tens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837720" y="365760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495680" y="2360520"/>
            <a:ext cx="449604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¿Por qué no hay señal en el pin no-inversor?: Constantes de tiempo son del orden de los ms y estamos en la escala de los 0.1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0ns”: FF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0" y="1457280"/>
            <a:ext cx="9144000" cy="50958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1295280" y="5105520"/>
            <a:ext cx="7162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mponentes de alta frecuencia (MHz) aparecen en la salida (asimetrí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76520" y="3581280"/>
            <a:ext cx="6476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in inversor: 1/3 Salida (No hay filtrado, sólo un divisor de tens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447920" y="1614600"/>
            <a:ext cx="7467480" cy="95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¿Por qué no hay señal en el pin no-inversor?: f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s del orden de 1kHz y gran parte de la energía de la señal se encuentra distribuida en altas frecuencias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ólo pasan con poca atenuación las componentes alrededor de 1k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</a:t>
            </a:r>
            <a:r>
              <a:rPr b="0" i="1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”: Tiemp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49640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4113360"/>
            <a:ext cx="7010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redominio de la retroalimentación negativa +  pin no-inversor ~ cero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alida se va a c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</a:t>
            </a:r>
            <a:r>
              <a:rPr b="0" i="1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”: FF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1546200"/>
            <a:ext cx="9144000" cy="50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Estudiar los criterios para la existencia de oscilaciones en circuito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Perspectiva “teórica”: Criterio de Barkhause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Perspectiva “práctica”: Criterios ingenieril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Oscilador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Relajación (ondas cuadradas, triangulares, etc.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Sinusoidal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Puente de Wien, Colpitts, Hartley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Corrimiento de Fase (Phase-Shift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Técnicas AGC (Automatic Gain Control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Precisión: Cristal de Cuarzo (XTAL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0</a:t>
            </a:r>
            <a:r>
              <a:rPr b="0" i="1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”: Tiemp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1590840"/>
            <a:ext cx="9144000" cy="49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0</a:t>
            </a:r>
            <a:r>
              <a:rPr b="0" i="1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”: FF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1625760"/>
            <a:ext cx="8915400" cy="49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ms”: Tiemp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1514520"/>
            <a:ext cx="9144000" cy="49626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523880" y="4113360"/>
            <a:ext cx="5562720" cy="64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¡¡¡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Oscilaciones con f </a:t>
            </a:r>
            <a:r>
              <a:rPr b="1" i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1" i="1" lang="es-ES_tradnl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 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ms”: FF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1096920"/>
            <a:ext cx="9448920" cy="53038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1676520" y="3352680"/>
            <a:ext cx="5562360" cy="64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¡¡¡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Oscilaciones con f </a:t>
            </a:r>
            <a:r>
              <a:rPr b="1" i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1" i="1" lang="es-ES_tradnl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 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00ms”: Tiemp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1584360"/>
            <a:ext cx="9236160" cy="51213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209680" y="2743200"/>
            <a:ext cx="64771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¡¡¡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Predominio de Retroalimentación  Negativa </a:t>
            </a:r>
            <a:br>
              <a:rPr sz="2400"/>
            </a:b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a pesar de aplicar Barkhausen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00ms”: FF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1355760"/>
            <a:ext cx="923616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 Puente de Wien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Predominio Forzado de Retro +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648320" y="1905120"/>
            <a:ext cx="41907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Conclusión: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a tener oscilaciones no puede predominar la retroalimentación nega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648320" y="2897280"/>
            <a:ext cx="4419360" cy="287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Criterio de Diseño Ingenieril: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 debe forzar el predominio de la retroalimentación positiva </a:t>
            </a:r>
            <a:r>
              <a:rPr b="1" i="1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ante todo evento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(paso del tiempo, indeterminación en el valor de los parámetros, etc.). En el caso del Oscilador de Wien será necesario disminuir el factor de retroalimentación negativa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/(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+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 (equivalente a aumentar la ganancia del amplificador respecto de la atenuación del filtr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33520" y="5872320"/>
            <a:ext cx="350496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Ejemplo: Disminuir el valor de R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76320" y="1981080"/>
            <a:ext cx="4572000" cy="36036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 flipH="1" flipV="1">
            <a:off x="838080" y="2743200"/>
            <a:ext cx="281952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Predominio Forzado Retro +: Tiemp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1574640"/>
            <a:ext cx="8915400" cy="49435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1600200" y="2879640"/>
            <a:ext cx="67816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Predominio de Retroalimentación Positiva </a:t>
            </a:r>
            <a:r>
              <a:rPr b="1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 Salida Satu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Predominio Forzado Retro +: FF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1355760"/>
            <a:ext cx="923616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ciones Sostenidas: AGC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omin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o de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troalimentación negativa </a:t>
            </a:r>
            <a:r>
              <a:rPr b="0" i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ida se atenuará y no existirá sinusoide. Esto nos obliga a hacer predominar la retroalimentación positiva </a:t>
            </a:r>
            <a:r>
              <a:rPr b="0" i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alida no se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á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ine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a s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ución a este problema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ste en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vitar que la salida llegu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los niveles de saturación del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plificad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ernativa AGC: d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poner de algún elemento no lineal que afecte la retroalimentación en la siguiente forma: “Si la señal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salida es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queña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tonces que predomine la retroalimentación positiva, pero si comienza a ser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nd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tonces que predomine la negativa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esta regla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usa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fuzzy) podemos intentar buscar una realización práctica para nuestro oscilador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nusoid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 continuación veremos un ejemplo de AGC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es: Clasificació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os “sabores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laj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orma de onda no-line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arias componentes de frecuenci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Dispositivos “trabajan” en zonas no lineales la mayor parte del tiempo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jemplo: clase 18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Ondas “cuadradas” (afectadas por la Slew Rate del OPAMP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79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os “sabores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nusoidal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Búsqueda de componente de frecuencia “pura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Debe “seleccionarse” frecuencia característica del sistem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ispositivos deben trabajar en zona lineal de oper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o linealidad implica la existencia de componentes de frecuencia distintos a la seleccionad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utomatic Gain Control (I) 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8055000" cy="50752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3657600" y="2438280"/>
            <a:ext cx="4800600" cy="3962520"/>
          </a:xfrm>
          <a:prstGeom prst="rect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9480" y="1523880"/>
            <a:ext cx="2895840" cy="4419720"/>
          </a:xfrm>
          <a:prstGeom prst="rect">
            <a:avLst/>
          </a:prstGeom>
          <a:noFill/>
          <a:ln w="255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62120" y="5029200"/>
            <a:ext cx="2590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3333cc"/>
                </a:solidFill>
                <a:latin typeface="Times New Roman"/>
              </a:rPr>
              <a:t>Red AGC: </a:t>
            </a:r>
            <a:br>
              <a:rPr sz="1600"/>
            </a:br>
            <a:r>
              <a:rPr b="0" i="1" lang="es-ES_tradnl" sz="1600" spc="-1" strike="noStrike">
                <a:solidFill>
                  <a:srgbClr val="3333cc"/>
                </a:solidFill>
                <a:latin typeface="Times New Roman"/>
              </a:rPr>
              <a:t>JFET canal n + diodo + condensador y resistenc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562720" y="5486400"/>
            <a:ext cx="259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Oscilador Puente de Wien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utomatic Gain Control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3733920" y="1905120"/>
            <a:ext cx="5410080" cy="358128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981080"/>
            <a:ext cx="3657600" cy="45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l principio el condensador Cx se encuentra decargado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JFET se comporta como resistencia pequeña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 equivalente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enera predominio de retroalimentación positiva. A medida que la oscilación aumenta amplitud, el diodo D1 comienza a conducir (ciclos negativos de la salida) y carga a Cx con constante de tiempo RxCx la que debe ser “grande” en comparación al período de la sinusoide. Al cargarse Cx comienza a aumentar la resistencia equivalente de J1 con lo que comienza a mejorar  la retroalimentación negativa hasta que se alcanza un equilib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utomatic Gain Control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0" y="1498680"/>
            <a:ext cx="9144000" cy="50702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6095880" y="2057400"/>
            <a:ext cx="2971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¡¡¡Oscilaciones Acotadas!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772400" y="2438280"/>
            <a:ext cx="4572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Oscilador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lajación (formas de ondas cuadradas, triangulares,etc.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inusoidal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ompensación Filtro-Amplificador: Posibilidad de Oscilación Sostenid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riterios Matemáticos entregan aproximación de primer orden al problema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riterio Ingenieril ajusta comportamiento: AGC (Automatic Gain Control)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es: Característic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o se requiere de señal extern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Oscilación es mantenida por el sistema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limentación extern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troaliment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istema impone “constantes de tiempo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d de retroalimentación: frecuencia de la oscil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mutación dispositiv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ineal: Restricción para máxima frecuencia de oper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o lineal: Velocidad en las transicione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es Sinusoidales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“Requisitos Estructurales”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simetrías: Provocan la generación de la “señal original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Frecuencia de Oscilación: Retroalimentación “selectiva” en frecuenci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d de retroalimentación debe ser “filtro”: Sólo “pasa” a través de él componente de frecuencia específica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xistencia de “pérdidas”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atenuación de la oscil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Oscilación sostenid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stema debe “balancear” las pérdidas de amplitud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 necesaria amplificación “criteriosa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lación Atenuación-Gananci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“grande”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oscilación “no lineal” (relajación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“pequeña”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oscilación amortiguada (no-permanente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es Sinusoidales: Criteri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riterios para oscilaciones permanent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Objetivo: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ñal “original” circula “eternamente” a través del circuito, sin mediar señal externa y sólo con aliment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riterio “Matemático” Estrict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diciones Necesarias para la “vida eterna de la señal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Ganancia: “Para que exista una oscilación permanente, la atenuación (o pérdida) en el lazo de retroalimentación debe ser </a:t>
            </a:r>
            <a:r>
              <a:rPr b="1" i="1" lang="es-ES_trad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exactamente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compensada por la ganancia de la etapa de amplificación”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Desfase: “Para que exista una oscilación permanente, cualquier desfase introducido por el lazo de retroalimentación debe ser cancelado </a:t>
            </a:r>
            <a:r>
              <a:rPr b="1" i="1" lang="es-ES_trad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exactamente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por la etapa de amplificación”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riterio Ingenieri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ámetros del circuito son conocidos sólo con cierta precisión, cambian ante condiciones externas y a través del paso del tiemp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dición matemática “</a:t>
            </a:r>
            <a:r>
              <a:rPr b="1" i="1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exactament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” debe analizarse cuidadosament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es: Jerg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riterio Matemático Estricto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o denominaremos “Criterio de Barkhausen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sentido estricto el Criterio de Barkhausen está asociado a retroalimentación negativa, mientras que el criterio definido anteriormente es de carácter gener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l criterio de Barkhausen ha tenido tradicionalmente una interpretación “oscura” (desde mi particular y acotada perspectiva): “Si la ganancia de lazo (denominador de la ganancia de lazo cerrado) “A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+1” se hace “cero” entonces la ganancia es “infinita” y “puede” sostenerse una oscilación permam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l “bautizo” es en honor del pionero en este tipo de análisi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to de la Clase: “Roadmap”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n primer lugar estudiaremos un par de redes de retroalimentación “selectivas en frecuencia”, es decir filtro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Luego analizaremos desde perspectivas “interesantes” al oscilador Puente de Wien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troalimentación positiva y negativ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riterio Ingenieril”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jo ganar a la retroalimentación positiva al principio pero cuando intenta ponerse no lineal dejo ganar a la negativa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rincipio de AGC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Finalmente los osciladores de corrimiento de Fas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0T23:19:03Z</dcterms:created>
  <dc:creator>Domingo Morales Lizama</dc:creator>
  <dc:description/>
  <dc:language>en-US</dc:language>
  <cp:lastModifiedBy>Depto. Ing. Electrica</cp:lastModifiedBy>
  <dcterms:modified xsi:type="dcterms:W3CDTF">2003-11-17T15:01:55Z</dcterms:modified>
  <cp:revision>266</cp:revision>
  <dc:subject>Osciladores (I)</dc:subject>
  <dc:title>Clase 24</dc:title>
</cp:coreProperties>
</file>