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5.wmf" ContentType="image/x-wmf"/>
  <Override PartName="/ppt/media/image9.wmf" ContentType="image/x-wmf"/>
  <Override PartName="/ppt/media/image14.png" ContentType="image/png"/>
  <Override PartName="/ppt/media/image5.wmf" ContentType="image/x-wmf"/>
  <Override PartName="/ppt/media/image10.png" ContentType="image/png"/>
  <Override PartName="/ppt/media/image28.wmf" ContentType="image/x-wmf"/>
  <Override PartName="/ppt/media/image30.png" ContentType="image/png"/>
  <Override PartName="/ppt/media/image13.wmf" ContentType="image/x-wmf"/>
  <Override PartName="/ppt/media/image26.png" ContentType="image/png"/>
  <Override PartName="/ppt/media/image11.wmf" ContentType="image/x-wmf"/>
  <Override PartName="/ppt/media/image3.png" ContentType="image/png"/>
  <Override PartName="/ppt/media/image7.wmf" ContentType="image/x-wmf"/>
  <Override PartName="/ppt/media/image12.png" ContentType="image/png"/>
  <Override PartName="/ppt/media/image31.wmf" ContentType="image/x-wmf"/>
  <Override PartName="/ppt/media/image8.wmf" ContentType="image/x-wmf"/>
  <Override PartName="/ppt/media/image6.png" ContentType="image/png"/>
  <Override PartName="/ppt/media/image29.png" ContentType="image/png"/>
  <Override PartName="/ppt/media/image4.png" ContentType="image/png"/>
  <Override PartName="/ppt/media/image2.png" ContentType="image/png"/>
  <Override PartName="/ppt/media/image1.png" ContentType="image/png"/>
  <Override PartName="/ppt/media/image15.png" ContentType="image/png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media/image24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7716E-ED88-426B-832C-11BD36D657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20E27-002B-4303-A419-05A4736D6E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E24F4-09DF-4540-9E5F-557206F4B1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9029F-AEEE-4915-8320-27B5EE0418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848B-1F13-4855-A165-40ABDF4A92D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E714-22B2-43FA-A289-5EC07E4CD47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A038-8DB8-4678-88F7-E6B4040285F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7A81-077B-4FD5-B8DA-302790C69A9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40A0-C651-4C0C-BDF8-A3320653555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877E-05DB-4F00-979A-A0AB46457ED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AB47-A55A-4D7A-94CF-111A5F1129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655F4-BA94-4167-AF5F-FEF2F29E68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944A-6CDE-42A0-9BDE-2E41B1B132A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44AE-EE62-4203-BF9A-E567E235064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BE9C-D817-4444-847A-87D7D203234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57A3-5CC3-481B-85D5-011A3F56AF0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073B-9B52-46D2-B716-D89EA79934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D8EF0-E52F-4B38-BF95-8DE87EEC06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45AB0-3A73-433E-861F-2C3058EE70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7B7D3-9352-4861-9241-A3A282EEDC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DF0FF-46E4-4B7C-B163-75C26E56D2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7179E-6B8B-44AE-8558-5170044D02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F37A4-3138-4C6A-AABA-C32908DCF1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4A440-FBCB-4207-AF1D-316E9A52AE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0ACF3-7338-40D2-B651-DF53B8027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A3B93-B7A3-4F15-A251-05E8C2CBB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en Frecuencia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952880" y="1523880"/>
            <a:ext cx="3581640" cy="2951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876920" y="5715000"/>
                <a:ext cx="205416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5035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152280" y="1676520"/>
            <a:ext cx="441972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Frecuencias “altas”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condensador “pequeña” en paralelo con impedancia de inductancia “alta “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mpedancia LC “baja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divisor de tensión con R entrega salida pequeña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xiste Atenu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Frecuencias “bajas”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condensador “alta” en paralelo con impedancia de inductancia “baja “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mpedancia LC “baja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divisor de tensión con R entrega salida pequeña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xiste Atenu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Conclusión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be existir frecuencia “entre medio”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onde la atenuación es menor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Tenemos un Filtro pasaband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572000" y="4419720"/>
                <a:ext cx="252720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jωL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num>
                      <m:den>
                        <m:r>
                          <m:t xml:space="preserve">jωL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jωL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7162920" y="4670280"/>
            <a:ext cx="1904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Gran Atenuación fuera de la “banda de paso”: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40dB/déc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1490760"/>
            <a:ext cx="9144000" cy="50623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181480" y="2940120"/>
            <a:ext cx="30481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¡¡¡Factor de Calidad Q 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Notable!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en Frecuencia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1676520"/>
            <a:ext cx="3048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Ganancia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4129200"/>
            <a:ext cx="3048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Desfase: º sexagesim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705720" y="2209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6781320" y="3657600"/>
            <a:ext cx="228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a Puls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876920" y="1905120"/>
            <a:ext cx="4038480" cy="3327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523880" y="5029200"/>
                <a:ext cx="20545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5035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990720" y="3048120"/>
                <a:ext cx="307152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uls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L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RLC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28600" y="3886200"/>
                <a:ext cx="458460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ulso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e>
                        </m:d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LC</m:t>
                                        </m:r>
                                      </m:den>
                                    </m:f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rad>
                              </m:e>
                            </m:d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δ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380880" y="1905120"/>
            <a:ext cx="449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xistencia de elementos Resistivos provoca pérdidas en el circu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563868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otar que la constante de tiempo de amortiguación es proporcional a RC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selección cuidadosa de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a Puls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267080" y="2209680"/>
            <a:ext cx="4550040" cy="37562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52280" y="1676520"/>
            <a:ext cx="373392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¿Qué pasa si aplicamos un pulso a la entrad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ulso contiene un espectro completo de frecuencias (Análisis de Fourier), por lo que si es representado como una serie de Fourier es fácil entender qué se va a obtener a la salida: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sólo aquellas componentes de Fourier con frecuencias cercanas a la frecuencia de corte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Una “buena” sinusoide con frecuencia aproximada a la frecuencia de cor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a Puls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1762200"/>
            <a:ext cx="853452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a Pulso (V) FFT Salid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778040"/>
            <a:ext cx="8610480" cy="47750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971800" y="2514600"/>
            <a:ext cx="50292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otoria Frecuencia central y algunas componentes “alrededor”: </a:t>
            </a:r>
            <a:br>
              <a:rPr sz="2400"/>
            </a:b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“buena sinusoid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a Pulso (VI) Amortigu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6320" y="1731960"/>
            <a:ext cx="7696080" cy="42051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8600" y="571500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un esquema retroalimentado podría mantenerse la oscilación en forma permanente siempre y cuando el tiempo de “atenuación” sea grande comparado con el de retroaliment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Constante de tiempo RC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0" y="1828800"/>
            <a:ext cx="4327560" cy="34066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52280" y="1898640"/>
            <a:ext cx="373392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Cambio: mantengo la misma frecuencia de corte pero RC es 100 veces men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 constante de “tiempo” de la atenuación es del orden de la “constante de tiempo” (el período) asociado a la oscilación: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Hay que tener en mente este hecho si se desea mantener una oscilación por un período dado.</a:t>
            </a:r>
            <a:br>
              <a:rPr sz="1800"/>
            </a:b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s importante tener en mente la impedancia de salida de la etapa que aliementa al filtro (usualmente el amplificad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4419720" y="5486400"/>
                <a:ext cx="274320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tenuació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scilación</m:t>
                            </m:r>
                          </m:sub>
                        </m:sSub>
                        <m:r>
                          <m:t xml:space="preserve">≈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  <m:r>
                          <m:t xml:space="preserve">≈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2044800"/>
            <a:ext cx="8305920" cy="45082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Constante de tiempo RC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38280" y="2362320"/>
            <a:ext cx="5257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iempo oscilación ~ Tiempo Aten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RC “Serie-Paralelo”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334120" y="2438280"/>
            <a:ext cx="3635280" cy="2436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28600" y="1447920"/>
                <a:ext cx="2798640" cy="11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jω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jω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429000" y="1752480"/>
                <a:ext cx="260028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1219320" y="3886200"/>
            <a:ext cx="2895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R y C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C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55600" y="4495680"/>
                <a:ext cx="469728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380880" y="5654520"/>
                <a:ext cx="240984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59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62120" y="2971800"/>
                <a:ext cx="412740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ω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ω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3352680" y="5638680"/>
                <a:ext cx="361332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5562720" y="4876920"/>
            <a:ext cx="3352680" cy="74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Característica Pasabanda, mínima atenuación en f=f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I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Electrónica Analógic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24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Osciladores (I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RC “Serie-Paralelo”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puesta en Frecuenci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534520" cy="46134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 flipV="1">
            <a:off x="3657600" y="5908680"/>
            <a:ext cx="30492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981080" y="5967360"/>
                <a:ext cx="164808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59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 flipV="1">
            <a:off x="3976560" y="1828440"/>
            <a:ext cx="0" cy="42670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3048120"/>
            <a:ext cx="26668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Factor de Calidad Q 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“no tan bueno” como 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l asociado al filtro 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26708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648320" y="1828800"/>
            <a:ext cx="2209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Atenuación ~ 10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Puente de Wien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Intuitiv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5960" y="1905120"/>
            <a:ext cx="510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sitiva y negativ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abilidad no es clar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erturbación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ariadas componentes de frecue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nálisis lineal válido mientras amplificador opere en zona line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pin inversor aparecen atenuadas por el mismo “monto” (divisor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y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pin no-inversor aparecen atenuadas y desfasadas. Para f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1/RC menor atenuación (1/3) y desfase nulo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327640" y="1905120"/>
            <a:ext cx="38163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Puente de Wien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Intuitiv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320" y="1828800"/>
            <a:ext cx="5867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quilibrios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troalimentación negativa “compite” con la positiva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(Retro +) “gana a” (Retr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alida se satura y es establ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(Retr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“gana a” (Retro +)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alida converge a “0” y es establ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(Retr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“iguala a” (Retro +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 atenuación del filtro es compensada por la ganancia del amplificador (probarlo!!!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ñal permanece en el circuito!!!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¿Puede darse el equilibrio a una frecuencia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istinta a la frecuencia de corte del filtro?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 en este caso. Luego de cada “trayecto de retroalimentación” de la señal, el filtro atenuará a ésta y además introducirá un desfase. Luego de algún tiempo ésta componente desaparecerá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548320" y="1905120"/>
            <a:ext cx="35956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Puente de Wien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Intuitiv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5960" y="18284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abilidad de la oscil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¿La condición (Retr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“iguala a” (Retro +)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fine un equilibrio estable?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laramente no, sólo es una condición matemática 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dealizada. Indeterminación en los valores de los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ámetros del circuito o variaciones de los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ismos con el ambiente o el tiempo implican que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ste equilibrio es “inestable” entregando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inalmente una convergencia a salida nula o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turada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¿Qué se puede hacer?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 puede predominar la retroalimentación negativa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orque así se la salida se hará nul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Hay que encontrar una forma de hacer predominar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la retroalimentación positiva y que sin embargo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las oscilaciones sean acotada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ntes de encontrar esta solución estudiemos el Puente de Wien en forma cuantitativa y analicemos algunas simulacione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635800" y="1905120"/>
            <a:ext cx="3522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Puente de Wien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“Matemático” (Barkhausen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241280" y="1835280"/>
                <a:ext cx="115920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2901960" y="1835280"/>
                <a:ext cx="115884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914400" y="2509920"/>
                <a:ext cx="367992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447920" y="3282840"/>
                <a:ext cx="256068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669960" y="4191120"/>
                <a:ext cx="420696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riterio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rPr>
                        <m:lit/>
                        <m:nor/>
                      </m:rPr>
                      <m:t xml:space="preserve">Barkhausen</m:t>
                    </m:r>
                    <m:r>
                      <m:t xml:space="preserve">: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974880" y="5334120"/>
                <a:ext cx="115884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79" name=""/>
          <p:cNvGrpSpPr/>
          <p:nvPr/>
        </p:nvGrpSpPr>
        <p:grpSpPr>
          <a:xfrm>
            <a:off x="5486400" y="2133720"/>
            <a:ext cx="3505320" cy="3657600"/>
            <a:chOff x="5486400" y="2133720"/>
            <a:chExt cx="3505320" cy="3657600"/>
          </a:xfrm>
        </p:grpSpPr>
        <p:pic>
          <p:nvPicPr>
            <p:cNvPr id="180" name="" descr=""/>
            <p:cNvPicPr/>
            <p:nvPr/>
          </p:nvPicPr>
          <p:blipFill>
            <a:blip r:embed="rId1"/>
            <a:stretch/>
          </p:blipFill>
          <p:spPr>
            <a:xfrm>
              <a:off x="5486400" y="2133720"/>
              <a:ext cx="3505320" cy="36576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81" name=""/>
                <p:cNvSpPr txBox="1"/>
                <p:nvPr/>
              </p:nvSpPr>
              <p:spPr>
                <a:xfrm>
                  <a:off x="5486400" y="4078440"/>
                  <a:ext cx="1116000" cy="57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sRC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2" name=""/>
                <p:cNvSpPr txBox="1"/>
                <p:nvPr/>
              </p:nvSpPr>
              <p:spPr>
                <a:xfrm>
                  <a:off x="7421040" y="3632760"/>
                  <a:ext cx="1041480" cy="54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R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sR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4038480" y="5486400"/>
                <a:ext cx="89244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76320" y="59436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recuencia de corte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l fil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14600" y="594360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Amplificador  iguala atenuación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l Filtro (Ver filtro RC serie-parale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2280" y="495936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mplica dos condiciones (parte real e imaginaria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Puente de Wien: Ejempl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4892760" cy="3978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6172200" y="2610000"/>
                <a:ext cx="20574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061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5791320" y="3429000"/>
            <a:ext cx="2895480" cy="222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Observación: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 Slew Rate del OPAMP actúa como filtro natural de las componentes de frecuencia imponiendo un límite a la máxima frecuencia permit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15000" y="1828800"/>
            <a:ext cx="28954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Se cumple el criterio de Barkhau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920" y="5791320"/>
            <a:ext cx="556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Simulación: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alida y pines entrada diferencial.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tar órdenes de magnitud en las diversas cur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0ns”: Tiemp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1549440"/>
            <a:ext cx="9144000" cy="50036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676520" y="5410080"/>
            <a:ext cx="1904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simetría: 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837720" y="5562360"/>
            <a:ext cx="7621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3880" y="3900600"/>
            <a:ext cx="6477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in inversor: 1/3 Salida (No hay filtrado, sólo un divisor de tens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837720" y="365760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95680" y="2360520"/>
            <a:ext cx="44960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¿Por qué no hay señal en el pin no-inversor?: Constantes de tiempo son del orden de los ms y estamos en la escala de los 0.1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0ns”: FF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1457280"/>
            <a:ext cx="9144000" cy="5095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295280" y="5105520"/>
            <a:ext cx="7162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mponentes de alta frecuencia (MHz) aparecen en la salida (asimetrí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76520" y="3581280"/>
            <a:ext cx="6476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in inversor: 1/3 Salida (No hay filtrado, sólo un divisor de tens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447920" y="1614600"/>
            <a:ext cx="7467480" cy="95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¿Por qué no hay señal en el pin no-inversor?: f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s del orden de 1kHz y gran parte de la energía de la señal se encuentra distribuida en altas frecuencia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ólo pasan con poca atenuación las componentes alrededor de 1k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”: Tiemp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9640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4113360"/>
            <a:ext cx="7010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redominio de la retroalimentación negativa +  pin no-inversor ~ cero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alida se va a c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”: FF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1546200"/>
            <a:ext cx="9144000" cy="50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Estudiar los criterios para la existencia de oscilaciones en circuito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Perspectiva “teórica”: Criterio de Barkhause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Perspectiva “práctica”: Criterios ingenieril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Oscilador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Relajación (ondas cuadradas, triangulares, etc.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Sinusoidal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Puente de Wien, Colpitts, Hartley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Corrimiento de Fase (Phase-Shift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Técnicas AGC (Automatic Gain Control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Precisión: Cristal de Cuarzo (XTAL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0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”: Tiemp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1590840"/>
            <a:ext cx="9144000" cy="49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0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”: FF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1625760"/>
            <a:ext cx="8915400" cy="49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ms”: Tiemp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1514520"/>
            <a:ext cx="9144000" cy="49626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523880" y="4113360"/>
            <a:ext cx="5562720" cy="64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¡¡¡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Oscilaciones con f </a:t>
            </a:r>
            <a:r>
              <a:rPr b="1" i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1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 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ms”: FF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1096920"/>
            <a:ext cx="9448920" cy="53038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676520" y="3352680"/>
            <a:ext cx="5562360" cy="64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¡¡¡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Oscilaciones con f </a:t>
            </a:r>
            <a:r>
              <a:rPr b="1" i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1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 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00ms”: Tiemp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1584360"/>
            <a:ext cx="9236160" cy="51213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209680" y="2743200"/>
            <a:ext cx="64771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¡¡¡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Predominio de Retroalimentación  Negativa </a:t>
            </a:r>
            <a:br>
              <a:rPr sz="2400"/>
            </a:b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a pesar de aplicar Barkhausen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00ms”: FF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1355760"/>
            <a:ext cx="923616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Puente de Wien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redominio Forzado de Retro +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648320" y="1905120"/>
            <a:ext cx="41907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Conclusión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 tener oscilaciones no puede predominar la retroalimentación neg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648320" y="2897280"/>
            <a:ext cx="4419360" cy="287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Criterio de Diseño Ingenieril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debe forzar el predominio de la retroalimentación positiva </a:t>
            </a:r>
            <a:r>
              <a:rPr b="1" i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ante todo evento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paso del tiempo, indeterminación en el valor de los parámetros, etc.). En el caso del Oscilador de Wien será necesario disminuir el factor de retroalimentación negativa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/(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+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(equivalente a aumentar la ganancia del amplificador respecto de la atenuación del filtr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3520" y="5872320"/>
            <a:ext cx="35049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jemplo: Disminuir el valor de R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76320" y="1981080"/>
            <a:ext cx="4572000" cy="36036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 flipH="1" flipV="1">
            <a:off x="838080" y="2743200"/>
            <a:ext cx="281952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redominio Forzado Retro +: Tiemp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1574640"/>
            <a:ext cx="8915400" cy="49435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600200" y="2879640"/>
            <a:ext cx="67816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Predominio de Retroalimentación Positiva </a:t>
            </a:r>
            <a:r>
              <a:rPr b="1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 Salida Satu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redominio Forzado Retro +: FF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1355760"/>
            <a:ext cx="923616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ciones Sostenidas: AGC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omin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 de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troalimentación negativa </a:t>
            </a:r>
            <a:r>
              <a:rPr b="0" i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ida se atenuará y no existirá sinusoide. Esto nos obliga a hacer predominar la retroalimentación positiva </a:t>
            </a:r>
            <a:r>
              <a:rPr b="0" i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alida no se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á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ine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s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ución a este problema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e en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vitar que la salida llegu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los niveles de saturación del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lificad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iva AGC: d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poner de algún elemento no lineal que afecte la retroalimentación en la siguiente forma: “Si la señal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salida es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queña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onces que predomine la retroalimentación positiva, pero si comienza a ser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nd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onces que predomine la negativa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esta regla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usa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uzzy) podemos intentar buscar una realización práctica para nuestro oscilador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nusoid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 continuación veremos un ejemplo de AGC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es: Clasific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os “sabores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laj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orma de onda no-line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arias componentes de frecuenci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Dispositivos “trabajan” en zonas no lineales la mayor parte del tiemp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jemplo: clase 18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Ondas “cuadradas” (afectadas por la Slew Rate del OPAMP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79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os “sabores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nusoidal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Búsqueda de componente de frecuencia “pura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Debe “seleccionarse” frecuencia característica del sistem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ispositivos deben trabajar en zona lineal de oper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 linealidad implica la existencia de componentes de frecuencia distintos a la seleccionad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utomatic Gain Control (I)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8055000" cy="50752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3657600" y="2438280"/>
            <a:ext cx="4800600" cy="396252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1523880"/>
            <a:ext cx="2895840" cy="4419720"/>
          </a:xfrm>
          <a:prstGeom prst="rect">
            <a:avLst/>
          </a:prstGeom>
          <a:noFill/>
          <a:ln w="255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2120" y="5029200"/>
            <a:ext cx="259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3333cc"/>
                </a:solidFill>
                <a:latin typeface="Times New Roman"/>
              </a:rPr>
              <a:t>Red AGC: </a:t>
            </a:r>
            <a:br>
              <a:rPr sz="1600"/>
            </a:br>
            <a:r>
              <a:rPr b="0" i="1" lang="es-ES_tradnl" sz="1600" spc="-1" strike="noStrike">
                <a:solidFill>
                  <a:srgbClr val="3333cc"/>
                </a:solidFill>
                <a:latin typeface="Times New Roman"/>
              </a:rPr>
              <a:t>JFET canal n + diodo + condensador y resis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562720" y="5486400"/>
            <a:ext cx="259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Oscilador Puente de Wien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utomatic Gain Control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733920" y="1905120"/>
            <a:ext cx="5410080" cy="35812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981080"/>
            <a:ext cx="3657600" cy="45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l principio el condensador Cx se encuentra decargad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JFET se comporta como resistencia pequeñ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 equivalente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enera predominio de retroalimentación positiva. A medida que la oscilación aumenta amplitud, el diodo D1 comienza a conducir (ciclos negativos de la salida) y carga a Cx con constante de tiempo RxCx la que debe ser “grande” en comparación al período de la sinusoide. Al cargarse Cx comienza a aumentar la resistencia equivalente de J1 con lo que comienza a mejorar  la retroalimentación negativa hasta que se alcanza un equilib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utomatic Gain Control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1498680"/>
            <a:ext cx="9144000" cy="50702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6095880" y="2057400"/>
            <a:ext cx="2971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¡¡¡Oscilaciones Acotadas!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772400" y="243828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Oscilador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lajación (formas de ondas cuadradas, triangulares,etc.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nusoidal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mpensación Filtro-Amplificador: Posibilidad de Oscilación Sostenid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riterios Matemáticos entregan aproximación de primer orden al problema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riterio Ingenieril ajusta comportamiento: AGC (Automatic Gain Control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es: Característic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o se requiere de señal extern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scilación es mantenida por el sistema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limentación extern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troaliment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stema impone “constantes de tiempo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d de retroalimentación: frecuencia de la oscil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mutación dispositiv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ineal: Restricción para máxima frecuencia de oper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 lineal: Velocidad en las transicion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es Sinusoidales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“Requisitos Estructurales”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simetrías: Provocan la generación de la “señal original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recuencia de Oscilación: Retroalimentación “selectiva” en frecuenci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d de retroalimentación debe ser “filtro”: Sólo “pasa” a través de él componente de frecuencia específica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xistencia de “pérdidas”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atenuación de la oscil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Oscilación sostenid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stema debe “balancear” las pérdidas de amplitud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 necesaria amplificación “criterios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lación Atenuación-Gananci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“grande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oscilación “no lineal” (relajación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“pequeña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oscilación amortiguada (no-permanente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es Sinusoidales: Criteri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riterios para oscilaciones permanent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bjetivo: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ñal “original” circula “eternamente” a través del circuito, sin mediar señal externa y sólo con aliment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riterio “Matemático” Estrict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diciones Necesarias para la “vida eterna de la señal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Ganancia: “Para que exista una oscilación permanente, la atenuación (o pérdida) en el lazo de retroalimentación debe ser </a:t>
            </a:r>
            <a:r>
              <a:rPr b="1" i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exactament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compensada por la ganancia de la etapa de amplificación”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Desfase: “Para que exista una oscilación permanente, cualquier desfase introducido por el lazo de retroalimentación debe ser cancelado </a:t>
            </a:r>
            <a:r>
              <a:rPr b="1" i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exactament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por la etapa de amplificación”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riterio Ingenieri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ámetros del circuito son conocidos sólo con cierta precisión, cambian ante condiciones externas y a través del paso del tiemp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dición matemática “</a:t>
            </a:r>
            <a:r>
              <a:rPr b="1" i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exactament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” debe analizarse cuidadosame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es: Jerg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riterio Matemático Estrict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o denominaremos “Criterio de Barkhausen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sentido estricto el Criterio de Barkhausen está asociado a retroalimentación negativa, mientras que el criterio definido anteriormente es de carácter gener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l criterio de Barkhausen ha tenido tradicionalmente una interpretación “oscura” (desde mi particular y acotada perspectiva): “Si la ganancia de lazo (denominador de la ganancia de lazo cerrado) “A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+1” se hace “cero” entonces la ganancia es “infinita” y “puede” sostenerse una oscilación permam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l “bautizo” es en honor del pionero en este tipo de análisi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to de la Clase: “Roadmap”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n primer lugar estudiaremos un par de redes de retroalimentación “selectivas en frecuencia”, es decir filtro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Luego analizaremos desde perspectivas “interesantes” al oscilador Puente de Wie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 positiva y negativ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riterio Ingenieril”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jo ganar a la retroalimentación positiva al principio pero cuando intenta ponerse no lineal dejo ganar a la negativ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incipio de AGC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Finalmente los osciladores de corrimiento de Fas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0T23:19:03Z</dcterms:created>
  <dc:creator>Domingo Morales Lizama</dc:creator>
  <dc:description/>
  <dc:language>en-US</dc:language>
  <cp:lastModifiedBy>Depto. Ing. Electrica</cp:lastModifiedBy>
  <dcterms:modified xsi:type="dcterms:W3CDTF">2003-11-17T15:01:55Z</dcterms:modified>
  <cp:revision>266</cp:revision>
  <dc:subject>Osciladores (I)</dc:subject>
  <dc:title>Clase 24</dc:title>
</cp:coreProperties>
</file>