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EB0B-CFAD-4FD7-B59D-C8174390B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D189-E02A-41FE-973A-20C73D5E2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5716-9E9D-4626-A07F-297A90905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1E25-B6C8-4587-A159-8265794D1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DB4-5B47-4577-B793-11180064B2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B76-6BBC-466B-B204-8B37EC1E0F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E4A-3A5C-49C7-96AC-9469AF6C07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C18-DE8F-408C-AEA7-D4DECE224B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2FA-9C7D-445D-8976-26BE837563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E64-BF7C-47B0-999A-592118B51D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E1E1-0953-41C8-921F-35DDC7CA2C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5DBD-E6DE-4A4A-A959-D9C36C17A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3A9-BFDB-45B4-94AA-971861ECEC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444-0117-41B4-B0CE-2419BEAC52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7DE-196A-4B85-9FAF-A534DD21B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73A-ABEA-40BE-AE57-0D67D6AAF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FA7-0E5B-4F9F-9371-4B8BC47A2D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39E4-1F5C-4EA3-9C93-97A3C778B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B365-3F23-48B4-8880-943BEF0BA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48D1-2D90-4209-83CE-C3BA6B6E8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67CD-F6F0-4588-A0A5-898022D6F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92B5-5D7F-4738-A1D3-E5A0CE314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AB4C-9A87-48DD-BB13-2DDB4D9601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C04B-03E2-4A40-9433-781B2BBDC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38AD-BEAF-434A-A418-072FB1D62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9D16-6326-4E77-9C81-8C67649D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ncho pulsos (PW) es ~ proporcional a la amplitud de la señal modula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7520" indent="-19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o pulsos se generan cuando lo indica el “flanco negativo” de la señal trigg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268360"/>
            <a:ext cx="7848720" cy="4437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400800" y="2971800"/>
            <a:ext cx="2666880" cy="24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cho del pulso determinado cuando el voltaje en el condensador alcanza la señal modulante - Para que exista proporción exacta reemplaz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por fuente de corriente.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- Trigger puede ser generado por 555 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56386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038480" y="5697360"/>
                <a:ext cx="36831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 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lgunas Aplicaciones Analóg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mplificadores de gran estabil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rumentación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guladores de Voltaj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iltros Activos, Oscil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versores A/D (Más adela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esante id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“comprimir” el rango dinámico de una señal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facilidad de procesamiento (Ley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endencia de la temperatura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y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riente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" y="4587840"/>
                <a:ext cx="2971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η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η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182520" y="1981080"/>
            <a:ext cx="3932280" cy="2484720"/>
            <a:chOff x="182520" y="1981080"/>
            <a:chExt cx="3932280" cy="24847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182520" y="1981080"/>
              <a:ext cx="3932280" cy="24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04920" y="27432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52680" y="30621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949320" y="5180040"/>
                <a:ext cx="1987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2360" y="5654520"/>
                <a:ext cx="361800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olución de Problema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pendencia de la temperatur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fecto de 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minimizado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uede minimizarse utilizando por ejemplo a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mo una resistencia dependiente de la temperatur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rriente de saturación inversa elimi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 Pendiente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actor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52280" y="5702400"/>
                <a:ext cx="5315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08800" cy="304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632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2909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2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38240" y="4800600"/>
                <a:ext cx="48909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η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mplificador Logarítmic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4000" y="1752480"/>
            <a:ext cx="596592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048120" y="1905120"/>
                <a:ext cx="28191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152280" y="32767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380988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80880" y="4876920"/>
                <a:ext cx="23194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 flipH="1" flipV="1">
            <a:off x="3886200" y="23623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mpensación en 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673280"/>
            <a:ext cx="304776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mentari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D1 es necesario porque Q1 no entrega retroalimentación par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negativo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levado breakdown puede dañar a Q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or otro lado, C1 cumple funciones de compensación para el conjunto amplificador OPAMP-Q1 (operación estable para diversas frecuenci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ara eliminar la dependencia en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e puede utilizar una resistencia con coeficiente de temperatura positivo en serie con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La corriente I define la corriente de entrada (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 para la cual la salida será 0. La ganancia del OPAMP de salida (16) entrega –1.0 volt / década de corriente de entrada aprox (a Tº ambiente –0.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uestreo-Reten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97000" y="3527280"/>
            <a:ext cx="8084880" cy="2568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4796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43376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257800"/>
            <a:ext cx="838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523880"/>
            <a:ext cx="88394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Principio Básico de Funcionamient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Señal “digital”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activa o desactiva switch M. 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Muestreo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encendido, el condensador se carga al voltaje de entrada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on constante de tiempo  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= (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+ R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)C (ideal que </a:t>
            </a:r>
            <a:r>
              <a:rPr b="0" i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&lt;&lt;1). Notar que la corriente máxima de salida de los OPAMPs implican restricción a la velocidad de seguimiento (puede ser más restrictiva que la Slew Rate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Retención: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Cuando el switch está desactivado, el condensador se “descarga” con una gran constante de tiempo (es importante que las impedancias de entrada de los OPAMPs sean altas, idealmente entradas FETs)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Trade-Off en el valor de C: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se elige C “pequeño” entonces las corrientes parásitas de los OPAMPs y del switch provocarán un alto“droop” en el voltaje almacenado: C se carga según dV/dt=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parásita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C. Por otro lado, si se elige C “grande”, la constante de tiempo para el muestreo será alta implicando filtrado de componentes de alta frecu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Telefonía y Jerarquía E1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BD07153_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973080" cy="10666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895480" y="182880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1" idx="3"/>
            <a:endCxn id="182" idx="2"/>
          </p:cNvCxnSpPr>
          <p:nvPr/>
        </p:nvCxnSpPr>
        <p:spPr>
          <a:xfrm flipV="1">
            <a:off x="1506600" y="2351880"/>
            <a:ext cx="13896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886200" y="3048120"/>
            <a:ext cx="1371600" cy="8380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209680"/>
            <a:ext cx="1371600" cy="8384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2" idx="3"/>
            <a:endCxn id="184" idx="1"/>
          </p:cNvCxnSpPr>
          <p:nvPr/>
        </p:nvCxnSpPr>
        <p:spPr>
          <a:xfrm>
            <a:off x="3476520" y="2666520"/>
            <a:ext cx="991440" cy="591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84" idx="5"/>
            <a:endCxn id="185" idx="3"/>
          </p:cNvCxnSpPr>
          <p:nvPr/>
        </p:nvCxnSpPr>
        <p:spPr>
          <a:xfrm flipV="1">
            <a:off x="5257800" y="3047400"/>
            <a:ext cx="1038600" cy="3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2" idx="4"/>
            <a:endCxn id="185" idx="2"/>
          </p:cNvCxnSpPr>
          <p:nvPr/>
        </p:nvCxnSpPr>
        <p:spPr>
          <a:xfrm>
            <a:off x="4057560" y="2352240"/>
            <a:ext cx="165816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1676520" y="17524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2847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1: 32 Canales Digitales (MUX tempo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886200"/>
            <a:ext cx="85345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¿Qué debemos tener en la interfaz canal analógico/E1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X analógico (MUX normal controla compuertas de transmisión CMOS). Permite seleccionar un canal analógico de entrada en forma secu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Muestro-Retención (S/H): Para trabajar con una muestra de la señal analóg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nversor A/D: Para digitalizar la muestra analógica a la salida del S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ncronización (Reloj y “Subrelojes”), Multiplexación y Control (Enrutamiento) de las diversas “muestras” que viajan por la misma “ruta local” (E1). Por ejemplo, para llegar desde CC1 a CC3 es posible utilizar la ruta directa CC1-CC3 o la “alternativa” (CC1-CC2-CC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1"/>
            <a:endCxn id="185" idx="4"/>
          </p:cNvCxnSpPr>
          <p:nvPr/>
        </p:nvCxnSpPr>
        <p:spPr>
          <a:xfrm flipH="1" flipV="1">
            <a:off x="6876720" y="2733120"/>
            <a:ext cx="104832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4" name=""/>
          <p:cNvSpPr/>
          <p:nvPr/>
        </p:nvSpPr>
        <p:spPr>
          <a:xfrm>
            <a:off x="7010280" y="216216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1 Can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clon_ch" descr=""/>
          <p:cNvPicPr/>
          <p:nvPr/>
        </p:nvPicPr>
        <p:blipFill>
          <a:blip r:embed="rId2"/>
          <a:stretch/>
        </p:blipFill>
        <p:spPr>
          <a:xfrm>
            <a:off x="7924680" y="266688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AMPs generan soluciones a problemas de precis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ortamiento “real” de los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ser considerado, puede afectar el desempeño notori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mparadores: “OPAMPs modificados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 Posi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aradores (Schmitt Trigger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dores de Relajación (más sobre osciladores pronto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CO: Oscilador Controlado por Voltaj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ircuitos Integrados Prácti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mer 555: Flip-Flop + Comparadores + Resistencias + Transis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1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Sistemas Analógico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PAMPs y retroalimen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 Controlado por Voltaje (VCO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el integrado 555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Amplificador logarítmic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Sample and Hold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77120" y="175212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En comparadores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1 como integrado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1 se carga y descarga a una corriente de </a:t>
            </a:r>
            <a:br>
              <a:rPr sz="1400"/>
            </a:b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200 m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mparador 2 Schmitt-Trigger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atura y corta a transistor Q1 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-Q2: “Switch”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orta y pone a tierra a R4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Provoca la carga o descarga de C1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05740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6781680" cy="4606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troalimentación: VCO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(Oscilador Controlado por Voltaje 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29040" y="1752120"/>
            <a:ext cx="2438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enera On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Triangular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Cuadrada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f = 150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Si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es proporcional a  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, entonces f es independiente de ambas.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En otras palabras tenemos un VC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Oscilador Controlado por Voltaje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Bloque importante en comunicaciones (PLL)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74320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03976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rian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1/3, 2/3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971800"/>
            <a:ext cx="1219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uad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0, 1)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mer Chip 555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ajo costo, versátil, BJT y C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CMOS_555_Simplificado" descr=""/>
          <p:cNvPicPr/>
          <p:nvPr/>
        </p:nvPicPr>
        <p:blipFill>
          <a:blip r:embed="rId1"/>
          <a:stretch/>
        </p:blipFill>
        <p:spPr>
          <a:xfrm>
            <a:off x="152280" y="2841480"/>
            <a:ext cx="6248520" cy="3578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3657240" y="3124080"/>
            <a:ext cx="152388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2895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lip-Flop 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1371600" cy="1676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495680"/>
            <a:ext cx="1371600" cy="10670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5410080"/>
            <a:ext cx="3045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uede ser un BJT con Resistencia en l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1905120"/>
            <a:ext cx="2514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Diseñar(*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entes de Sierra (Sawtoo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du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WM (Pulse Width Modulator)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*) Buscar Datasheets con Application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7756560" cy="4397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629080" y="5735520"/>
                <a:ext cx="5106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050920"/>
            <a:ext cx="8001000" cy="4502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jemplo 1: Oscilador “Astab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31520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8221680" y="311148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 flipH="1">
            <a:off x="73152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221680" y="4635360"/>
                <a:ext cx="541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372280"/>
                <a:ext cx="21333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2578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97180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57120" y="2533680"/>
                <a:ext cx="2233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n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53341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76840" y="2523960"/>
                <a:ext cx="16700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f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724280" y="5200560"/>
                <a:ext cx="2998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ty cicle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n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Comercial: 555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jemplo 2: PWM (Pulse Width Modulator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Útil para definir valor promedio de señal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Fija, ancho de pulso modul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4405320"/>
            <a:ext cx="3353040" cy="16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la salida debe colocarse una resistencia alta para no cargar al 555. En el esquemático se colocó una resistencia baja a propósito para notar las señales de entrada y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280" y="2895480"/>
            <a:ext cx="5356440" cy="3521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638680" y="2133720"/>
            <a:ext cx="335304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trol de Motores (Define valor promedio de potencia con pérdidas mínimas comparado con divis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Fuentes Reguladas de Voltaje “Switch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odulador (Información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Depto. Ing. Electrica</cp:lastModifiedBy>
  <dcterms:modified xsi:type="dcterms:W3CDTF">2003-10-22T14:50:14Z</dcterms:modified>
  <cp:revision>912</cp:revision>
  <dc:subject>Sistemas Analógicos (I)</dc:subject>
  <dc:title>Clase 21</dc:title>
</cp:coreProperties>
</file>