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C1E7-980F-4E07-A88B-3D5918461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6687-EB25-43D3-BBB6-CE5818256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B1C1-DBA6-48A3-9A3B-18521C0E6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6B80-9057-44B3-AE9F-7BF78F511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DB3-6E87-4FC6-9266-2F576C2234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AE8-D7B7-40C2-B398-0C2C8A4A7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281-0DCA-490F-ACBA-756EAFDCEC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4B4-8047-4BAB-B80B-B878E4C05E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D1B-FC99-4E7F-A11D-430A0C4F9C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813-DE4F-48ED-B302-B9008D9B44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267-D532-45C2-A8F8-F55BEB985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5892-2A88-42FD-BAEF-95ED5D0ED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BA6-2929-43CE-8E5A-C38A962FFE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E1A-9717-4B35-AC0C-0B3DC715B3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DDE-F357-4058-BE42-E016BCE9D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5B6-85AF-4B2E-8D7F-240AAA6916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70A-FE16-4E0D-9D97-1B7CD311B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FDF3-C6FC-4723-9C05-C36BF8470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8314-B1D5-4444-B8E9-EA83138DC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602B-B01D-459A-863E-5F3990AEA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6A51-A252-47B0-B620-39C3B123F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0444-2FAB-4389-BFDC-55897CDCE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32B7-5D88-46E2-9AEB-84A2B0F87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75BF-D4A8-4D87-A9CA-A762EC955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667-9DB4-4C01-A7A4-115EC2493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128B-8AFC-4408-A5CE-9412F8DE0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pulsos (PW) es ~ proporcional a la amplitud de la señal modu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 pulsos se generan cuando lo indica el “flanco negativo” de la señal trigg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7848720" cy="443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2971800"/>
            <a:ext cx="266688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cho del pulso determinado cuando el voltaje en el condensador alcanza la señal modulante - Para que exista proporción exacta reemplaz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por fuente de corriente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Trigger puede ser generado por 555 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38480" y="5697360"/>
                <a:ext cx="3683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lgunas Aplicaciones Analóg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de gran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rumentación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uladores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s Activos, 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versores A/D (Más adela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esante 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“comprimir” el rango dinámico de una señ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acilidad de procesamiento (Ley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ncia de la temperatura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458784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82520" y="1981080"/>
            <a:ext cx="3932280" cy="2484720"/>
            <a:chOff x="182520" y="1981080"/>
            <a:chExt cx="3932280" cy="24847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82520" y="1981080"/>
              <a:ext cx="3932280" cy="24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7432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30621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49320" y="5180040"/>
                <a:ext cx="198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2360" y="5654520"/>
                <a:ext cx="36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 de 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de 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minimizad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ede minimizarse utilizando por ejemplo a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o una resistencia dependiente de la temperatur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de saturación inversa elimi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 Pendiente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702400"/>
                <a:ext cx="5315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08800" cy="304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32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8240" y="4800600"/>
                <a:ext cx="4890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000" y="1752480"/>
            <a:ext cx="59659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48120" y="1905120"/>
                <a:ext cx="281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52280" y="3276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8098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876920"/>
                <a:ext cx="231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 flipV="1">
            <a:off x="38862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ensación en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3280"/>
            <a:ext cx="304776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1 es necesario porque Q1 no entrega retroalimentación par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negativo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evado breakdown puede dañar a Q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otro lado, C1 cumple funciones de compensación para el conjunto amplificador OPAMP-Q1 (operación estable para diversas frecuenci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ara eliminar la dependencia en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 puede utilizar una resistencia con coeficiente de temperatura positivo en serie con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corriente I define la corriente de entrada (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 para la cual la salida será 0. La ganancia del OPAMP de salida (16) entrega –1.0 volt / década de corriente de entrada aprox (a Tº ambiente –0.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estreo-Reten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000" y="3527280"/>
            <a:ext cx="8084880" cy="25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4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43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3880"/>
            <a:ext cx="8839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incipio Básico de Funcionamient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Señal “digital”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activa o desactiva switch M. 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uestre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encendido, el condensador se carga al voltaje de entrad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n constante de tiempo 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C (ideal que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lt;&lt;1). Notar que la corriente máxima de salida de los OPAMPs implican restricción a la velocidad de seguimiento (puede ser más restrictiva que la Slew Rate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tención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desactivado, el condensador se “descarga” con una gran constante de tiempo (es importante que las impedancias de entrada de los OPAMPs sean altas, idealmente entradas FETs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Trade-Off en el valor de C: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se elige C “pequeño” entonces las corrientes parásitas de los OPAMPs y del switch provocarán un alto“droop” en el voltaje almacenado: C se carga según dV/dt=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parásita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C. Por otro lado, si se elige C “grande”, la constante de tiempo para el muestreo será alta implicando filtrado de componentes de alt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Telefonía y Jerarquía E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7153_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97308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95480" y="182880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2"/>
          </p:cNvCxnSpPr>
          <p:nvPr/>
        </p:nvCxnSpPr>
        <p:spPr>
          <a:xfrm flipV="1">
            <a:off x="1506600" y="2351880"/>
            <a:ext cx="1389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886200" y="304812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3"/>
            <a:endCxn id="184" idx="1"/>
          </p:cNvCxnSpPr>
          <p:nvPr/>
        </p:nvCxnSpPr>
        <p:spPr>
          <a:xfrm>
            <a:off x="3476520" y="2666520"/>
            <a:ext cx="9914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4" idx="5"/>
            <a:endCxn id="185" idx="3"/>
          </p:cNvCxnSpPr>
          <p:nvPr/>
        </p:nvCxnSpPr>
        <p:spPr>
          <a:xfrm flipV="1">
            <a:off x="5257800" y="3047400"/>
            <a:ext cx="1038600" cy="3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2" idx="4"/>
            <a:endCxn id="185" idx="2"/>
          </p:cNvCxnSpPr>
          <p:nvPr/>
        </p:nvCxnSpPr>
        <p:spPr>
          <a:xfrm>
            <a:off x="4057560" y="2352240"/>
            <a:ext cx="165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1676520" y="1752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847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1: 32 Canales Digitales (MUX temp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86200"/>
            <a:ext cx="85345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¿Qué debemos tener en la interfaz canal analógico/E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X analógico (MUX normal controla compuertas de transmisión CMOS). Permite seleccionar un canal analógico de entrada en form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estro-Retención (S/H): Para trabajar con una muestra de la señal analó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versor A/D: Para digitalizar la muestra analógica a la salida del S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ncronización (Reloj y “Subrelojes”), Multiplexación y Control (Enrutamiento) de las diversas “muestras” que viajan por la misma “ruta local” (E1). Por ejemplo, para llegar desde CC1 a CC3 es posible utilizar la ruta directa CC1-CC3 o la “alternativa” (CC1-CC2-CC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1"/>
            <a:endCxn id="185" idx="4"/>
          </p:cNvCxnSpPr>
          <p:nvPr/>
        </p:nvCxnSpPr>
        <p:spPr>
          <a:xfrm flipH="1" flipV="1">
            <a:off x="6876720" y="2733120"/>
            <a:ext cx="10483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7010280" y="2162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clon_ch" descr=""/>
          <p:cNvPicPr/>
          <p:nvPr/>
        </p:nvPicPr>
        <p:blipFill>
          <a:blip r:embed="rId2"/>
          <a:stretch/>
        </p:blipFill>
        <p:spPr>
          <a:xfrm>
            <a:off x="7924680" y="26668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 generan soluciones a problema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“real” de los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considerado, puede afectar el desempeño notori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: “OPAMPs modificad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es (Schmitt Trigg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dores de Relajación (más sobre osciladores pront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: Oscilador Controlado por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ircuitos Integrados Prácti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mer 555: Flip-Flop + Comparadores + Resistencias + Transis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 Controlado por Voltaje (VCO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el integrado 55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mplificador logarítm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ample and Ho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7120" y="175212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 comparador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1 como integ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1 se carga y descarga a una corriente de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200 m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2 Schmitt-Trigg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atura y corta a transistor Q1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-Q2: “Switch”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rta y pone a tierra a R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rovoca la carga o descarga de C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05740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9040" y="175212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enera On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adra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 = 150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 proporcional a 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entonces f es independiente de amba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 otras palabras tenemos un VC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cilador Controlado por Voltaj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Bloque importante en comunicaciones (PL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3976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mer Chip 555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o costo, versátil, BJT y C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MOS_555_Simplificado" descr=""/>
          <p:cNvPicPr/>
          <p:nvPr/>
        </p:nvPicPr>
        <p:blipFill>
          <a:blip r:embed="rId1"/>
          <a:stretch/>
        </p:blipFill>
        <p:spPr>
          <a:xfrm>
            <a:off x="152280" y="2841480"/>
            <a:ext cx="6248520" cy="357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3657240" y="3124080"/>
            <a:ext cx="15238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lip-Flop 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495680"/>
            <a:ext cx="137160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10080"/>
            <a:ext cx="3045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uede ser un BJT con Resistencia en 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905120"/>
            <a:ext cx="2514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Diseñar(*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entes de Sierra (Sawtoo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WM (Pulse Width Modulator)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*) Buscar Datasheets con Applicatio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775656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29080" y="5735520"/>
                <a:ext cx="510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50920"/>
            <a:ext cx="8001000" cy="4502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15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21680" y="311148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>
            <a:off x="73152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21680" y="463536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37228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971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7120" y="2533680"/>
                <a:ext cx="2233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41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76840" y="2523960"/>
                <a:ext cx="167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724280" y="5200560"/>
                <a:ext cx="299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 cicle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 (Pulse Width Modulato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Útil para definir valor promedio de señ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Fija, ancho de pulso modul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05320"/>
            <a:ext cx="335304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la salida debe colocarse una resistencia alta para no cargar al 555. En el esquemático se colocó una resistencia baja a propósito para notar las señales de entrada y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56440" cy="3521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2133720"/>
            <a:ext cx="335304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trol de Motores (Define valor promedio de potencia con pérdidas mínimas comparado con divis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entes Reguladas de Voltaje “Switch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dulador (Información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50:14Z</dcterms:modified>
  <cp:revision>912</cp:revision>
  <dc:subject>Sistemas Analógicos (I)</dc:subject>
  <dc:title>Clase 21</dc:title>
</cp:coreProperties>
</file>