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4.wmf" ContentType="image/x-wmf"/>
  <Override PartName="/ppt/media/image3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17.wmf" ContentType="image/x-wmf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FF62-E1D4-44BB-A3C0-8743B27D7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E7DD-7BEE-4132-95D7-112F7922E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D035-1D7F-45A1-836D-6FB7DA7AC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B329-783C-4D9C-9BDE-5F7A9FAE0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432-86AC-4936-A9DA-D4BBA56485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0FB-8CA0-48CD-A607-E58CF40923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978-F38A-4A71-A05D-68DC37BEAB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E65-264C-4C3E-B889-E1BFAA5754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F94-3B37-4018-B51B-8A400DCF41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469-7BA0-4F08-912A-83331EBC2A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3F5-C710-4AD6-ADC9-016DD525A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779E-DE72-4AA2-AF96-61A0CCC7A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4C2-9382-4007-A6E8-7123FBFD9F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370-EB81-407A-9A00-8B300CB582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456-E94D-42D4-8D2E-9ABA85FA44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470-116F-4FCB-85CC-850CF2DDE5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645-E75E-4D78-A21F-FF0C32D393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425B-E97D-46B6-8C54-737A25B0B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95A2-220C-474A-ADF2-C505B80CC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C4DA-8DBF-48CC-AFB0-C5087DD43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C567-52CC-47ED-87F5-8DD1C190F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9F90-1912-45DB-915A-159C95665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EDDA-A27A-4F8A-9B0A-5B4A49B1B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5BCB-7C16-4379-A191-A45BF29E8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D85E-417F-4B1A-BAEB-88F969F9A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0102-CF9B-474C-B387-4D7F886FB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miento de seguidor de voltaj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233440"/>
            <a:ext cx="77724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: Estab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plica un escalón en la entrada de 0.1 V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6280" y="2971800"/>
            <a:ext cx="4359240" cy="307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05520" y="3200400"/>
            <a:ext cx="3886200" cy="27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1 V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0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posi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salida crecerá hasta que el terminal inversor alcance el voltaje de la entrada no invers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860480"/>
            <a:ext cx="8534520" cy="4632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43400" y="4343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70188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ines Diferenciales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Igua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419720"/>
            <a:ext cx="9907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5149800"/>
            <a:ext cx="3505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asa de crecimiento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.4V/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 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2394000"/>
            <a:ext cx="4953240" cy="3228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 en t=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5562720"/>
            <a:ext cx="1905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uente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V 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5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2205000"/>
            <a:ext cx="388620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C des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y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2=1.5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nega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Por otro lado C se cargará con una constante de tiempo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C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voltaje diferencial (función de ambas velocidades) define la estabilidad del sistema: Si el condensador es “muy rápido”(es decir la salida del OPAMP no cambia en la escala de tiempo RC) “gana” la retroalimentación posi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81200" y="2409840"/>
                <a:ext cx="11998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514600" y="5560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PAMP LM324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 = 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;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~ 10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2514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segú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10080" y="3200400"/>
                <a:ext cx="3657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43480" y="4114800"/>
                <a:ext cx="3637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033960" y="4962600"/>
                <a:ext cx="19670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320" y="2606760"/>
            <a:ext cx="5235480" cy="341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14400" y="2590920"/>
                <a:ext cx="12002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763120" cy="4778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5562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p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ns &lt;&l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 Retroalimentación positiva siempre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5053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44197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7432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25290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200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771560"/>
            <a:ext cx="8458200" cy="4781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5943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” ~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 gana 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1905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8195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5334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2670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657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9080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553080" y="37339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4343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2514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266688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33526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791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iempos ~ ms gana retroalimentación posi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estabilida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” se comporta en forma inestable a propó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alcanza valores de saturación rápid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aradores con histéresis (Schmitt Trigg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iltros: 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&gt;A y ancho de banda “selectiv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dores (Relajación, sinusoidale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chmitt-Trig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-Regenerativ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Histéresis: importante en labores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3208320"/>
            <a:ext cx="6172200" cy="342108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52280" y="3224160"/>
            <a:ext cx="5867640" cy="2971800"/>
            <a:chOff x="152280" y="3224160"/>
            <a:chExt cx="5867640" cy="2971800"/>
          </a:xfrm>
        </p:grpSpPr>
        <p:sp>
          <p:nvSpPr>
            <p:cNvPr id="195" name=""/>
            <p:cNvSpPr/>
            <p:nvPr/>
          </p:nvSpPr>
          <p:spPr>
            <a:xfrm>
              <a:off x="3067200" y="3224160"/>
              <a:ext cx="0" cy="297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120" y="47242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65840" y="4406760"/>
                  <a:ext cx="10540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4419720"/>
                  <a:ext cx="105408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090960" y="4253040"/>
                  <a:ext cx="1562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o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g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3124080" y="33526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3124080" y="58672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Útil en labores d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6095880" cy="3440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35737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62720" y="1730520"/>
            <a:ext cx="3581280" cy="30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09680" y="4508640"/>
                <a:ext cx="2590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600200" y="5824440"/>
                <a:ext cx="2362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952880" y="604368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3808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a 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149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y descarga toman el mismo tiempo. Si se define por t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 tiempo que transcurre desde que el condensador tiene el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hasta que alcanz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, el período T 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upuesto: inici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a voltaje V co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oma val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“se carga” a voltaje -V co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repite el cic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2833560"/>
            <a:ext cx="7086600" cy="3872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410080" y="2962440"/>
            <a:ext cx="3657600" cy="31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86000" y="533412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 (Oscilador de Relaj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: Slew-Rate (máxima velocidad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: Compar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5257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v/s Comparad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bor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licación práctic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queña diferencia entre terminal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voca saturación en el OPAMP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se requiere “comportamiento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PAMP: Slew Rate es una limitación, pero para este tipo de aplicación ¿Importa la estabilidad?... N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a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OPAMP diseñado especialmente para labores de compar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no posee condensador de compens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la Slew Rate ya no es problema (~ 5000V/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esencia de Ruido en la entrada implica transiciones no deseadas dada la gran sensibilidad del dispositivo a diferencias de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dad de Histéresis, Idea: Retroalimentación positiva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438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Comparado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ilar a un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eñado para tener una slew-rate alta (5000 V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 compens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troalimentación positiva puede ser inestab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en configuración retroalimentada positiv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 Típ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trada diferencial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“Open-Collector con Emisor a tierr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: permite excursión completa de la señal de salida [0,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y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Retroalimentación “Dominante”: Análisis de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ones para que “pines sean igual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 Slew Rate o máxima velocidad de respuesta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s constantes de tiempo del sistema en cuest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puede ser úti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 con Histéresis: Schmitt-Trigg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o de Metodología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algunos ejemplos Pedagógicos (no práctic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jemplos de Retroalimentación Posi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Metodología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tectar si la configuración es “estable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 ser así encontrar zona de operación line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contrario analizar las “constantes de tiempo del sistema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general se asumirá que la impedancia de entrada a un OPAMP es mucho mayor que las impedancias DC del sistem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stabil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sume que el OPAMP se encuentra en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“aplica” una variación “pequeña” en la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naliza el efecto en el voltaje diferencial (Determinación de “Retroalimentación Dominante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opone a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able (Retroalimentación Nega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efuerza e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nestable (Retroalimentación Posi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el Sistema es estable la hipótesis original es consist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caso contrario el sistema “diverge” (Satura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: “Pines a igual voltaj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9240" y="1752480"/>
            <a:ext cx="4708440" cy="260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045040" y="1981080"/>
                <a:ext cx="1181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04920" y="2971800"/>
            <a:ext cx="40384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 y Zona Lineal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sólo el terminal inversor aumenta (no inversor fijo a tierra) por lo que la entrada diferencial disminuye oponiéndose al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Retroalimentación negativ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ines iguale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429080" y="4419720"/>
                <a:ext cx="4105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04920" y="5029200"/>
            <a:ext cx="4343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encuentra acotado p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tricción sobre amplitud de entrad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724280" y="5334120"/>
                <a:ext cx="3749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edbac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257800" y="5791320"/>
                <a:ext cx="19494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Particu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640" y="2666880"/>
            <a:ext cx="554688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193920"/>
                <a:ext cx="2568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ona</m:t>
                        </m:r>
                        <m:r>
                          <m:rPr>
                            <m:lit/>
                            <m:nor/>
                          </m:rPr>
                          <m:t xml:space="preserve">Lineal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8</m:t>
                        </m:r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400800" y="4343400"/>
                <a:ext cx="2381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281320"/>
            <a:ext cx="7848720" cy="42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2514600"/>
                <a:ext cx="993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906560" y="3832200"/>
            <a:ext cx="0" cy="2263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95280" y="4648320"/>
                <a:ext cx="561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16280" y="3962520"/>
                <a:ext cx="693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743200" y="2590920"/>
            <a:ext cx="0" cy="310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9718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248520" y="4114800"/>
                <a:ext cx="1368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666880" y="2438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057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59436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105520"/>
            <a:ext cx="1219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4952880" cy="2979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on pequeñas comparadas con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tonce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33880" y="3095640"/>
                <a:ext cx="110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67000" y="5256360"/>
                <a:ext cx="2448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V="1">
            <a:off x="5334120" y="48002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1400" y="4390920"/>
                <a:ext cx="2757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" y="4995720"/>
                <a:ext cx="2457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Ω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47920" y="5638680"/>
                <a:ext cx="9763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57200" y="60800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seguidor de voltaj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6668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ambos terminales (inversor y no inversor) aumentan, sin embargo el inversor aumenta en una mayor propor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Gana retroalimentación negati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5:24Z</dcterms:modified>
  <cp:revision>961</cp:revision>
  <dc:subject>Retroalimentación (II)</dc:subject>
  <dc:title>Clase 20</dc:title>
</cp:coreProperties>
</file>