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13.wmf" ContentType="image/x-wmf"/>
  <Override PartName="/ppt/media/image9.png" ContentType="image/png"/>
  <Override PartName="/ppt/media/image17.wmf" ContentType="image/x-wmf"/>
  <Override PartName="/ppt/media/image12.wmf" ContentType="image/x-wmf"/>
  <Override PartName="/ppt/media/image4.png" ContentType="image/png"/>
  <Override PartName="/ppt/media/image8.png" ContentType="image/png"/>
  <Override PartName="/ppt/media/image16.wmf" ContentType="image/x-wmf"/>
  <Override PartName="/ppt/media/image11.wmf" ContentType="image/x-wmf"/>
  <Override PartName="/ppt/media/image3.png" ContentType="image/png"/>
  <Override PartName="/ppt/media/image7.png" ContentType="image/png"/>
  <Override PartName="/ppt/media/image6.png" ContentType="image/png"/>
  <Override PartName="/ppt/media/image26.wmf" ContentType="image/x-wmf"/>
  <Override PartName="/ppt/media/image15.png" ContentType="image/png"/>
  <Override PartName="/ppt/media/image24.wmf" ContentType="image/x-wmf"/>
  <Override PartName="/ppt/media/image23.wmf" ContentType="image/x-wmf"/>
  <Override PartName="/ppt/media/image22.wmf" ContentType="image/x-wmf"/>
  <Override PartName="/ppt/media/image21.png" ContentType="image/png"/>
  <Override PartName="/ppt/media/image20.png" ContentType="image/png"/>
  <Override PartName="/ppt/media/image19.wmf" ContentType="image/x-wmf"/>
  <Override PartName="/ppt/media/image25.png" ContentType="image/png"/>
  <Override PartName="/ppt/media/image2.png" ContentType="image/png"/>
  <Override PartName="/ppt/media/image18.wmf" ContentType="image/x-wmf"/>
  <Override PartName="/ppt/media/image1.png" ContentType="image/png"/>
  <Override PartName="/ppt/media/image14.png" ContentType="image/pn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88188" cy="10220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01EF5-7753-49F7-AFD2-887542B5D4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3E0A8-F305-458C-A7C2-026A360686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B31E7-8380-40D7-AD6A-4454C6D390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1D75C-1871-4BC3-B0AC-418D478ED2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8893-8BD0-4888-98A6-74BF0729772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7A43-4043-417C-ACB5-86B86838BA1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3DEB-7312-49D3-B319-CE5ECC77150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6E06-23B8-40EB-8FCA-7D67C44C7BA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18D7-3404-4A2E-A18F-BC8662A032A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29C6-BC6B-4CAA-ADAB-FD57A57225C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A14F-67E5-497B-B20A-F57C53CEE83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4FF2F-4AA1-4068-908E-AD835DEB8A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05CB-8D6A-4DD3-A912-9D5295397C0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62A3-3593-4BF9-BE59-C3E31C6E6DB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2D1E-A51B-400D-9521-E9F88EBFDED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7F86-D42C-4589-B685-9E39B921866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6B32-4D4D-4589-8D53-F32C883CB5C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AD319-17A7-4A9E-ADBB-D61121E67C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82DAB-2CF2-40EA-A302-B2FB32B20C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3769A-28F3-4F3F-8B43-E57DA843A7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4C7C4-B436-4EFB-8861-9F249CDC35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EC92E-3275-4C1A-8CB4-F2BE850321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78CF5-572A-4B16-AB5B-0067CB546F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F6A2B-39FA-44BA-9BFE-9AE7CF888F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2346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F09F1-645F-44EA-9978-36C8E90BCC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04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Num" idx="3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A11EA-B889-428D-BE83-1D034382AC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3"/>
          <p:cNvSpPr>
            <a:spLocks noGrp="1"/>
          </p:cNvSpPr>
          <p:nvPr>
            <p:ph type="ftr" idx="4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EL42A Circuitos Electrónicos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Semestre Primavera 2003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858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Departamento de Ingeniería Eléctrica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troalimentación: Efectos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52280" y="1676160"/>
            <a:ext cx="457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ncho de Banda Aument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roducto Gain-Bandwidth permanece constant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1828800" y="2743200"/>
                <a:ext cx="194004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ω</m:t>
                            </m:r>
                          </m:e>
                        </m:d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ω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38" name=""/>
          <p:cNvGrpSpPr/>
          <p:nvPr/>
        </p:nvGrpSpPr>
        <p:grpSpPr>
          <a:xfrm>
            <a:off x="6095880" y="4724280"/>
            <a:ext cx="2880000" cy="1684440"/>
            <a:chOff x="6095880" y="4724280"/>
            <a:chExt cx="2880000" cy="1684440"/>
          </a:xfrm>
        </p:grpSpPr>
        <p:pic>
          <p:nvPicPr>
            <p:cNvPr id="239" name="" descr=""/>
            <p:cNvPicPr/>
            <p:nvPr/>
          </p:nvPicPr>
          <p:blipFill>
            <a:blip r:embed="rId1"/>
            <a:stretch/>
          </p:blipFill>
          <p:spPr>
            <a:xfrm>
              <a:off x="6095880" y="4724280"/>
              <a:ext cx="2880000" cy="168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"/>
            <p:cNvSpPr/>
            <p:nvPr/>
          </p:nvSpPr>
          <p:spPr>
            <a:xfrm>
              <a:off x="8292960" y="5456160"/>
              <a:ext cx="533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8642520" y="5271840"/>
              <a:ext cx="0" cy="67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388200" y="5470560"/>
              <a:ext cx="533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400800" y="5259240"/>
              <a:ext cx="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228600" y="3533760"/>
                <a:ext cx="525780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/</m:t>
                        </m:r>
                        <m:r>
                          <m:t xml:space="preserve">jωC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/</m:t>
                        </m:r>
                        <m:r>
                          <m:t xml:space="preserve">jωC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den>
                    </m:f>
                    <m:r>
                      <m:t xml:space="preserve">≡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ω</m:t>
                        </m:r>
                        <m:r>
                          <m:t xml:space="preserve">/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den>
                    </m:f>
                    <m:r>
                      <m:t xml:space="preserve">;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≡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311040" y="4343400"/>
                <a:ext cx="5175360" cy="70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ω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den>
                    </m:f>
                    <m:r>
                      <m:t xml:space="preserve">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/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ω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H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</m:d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β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/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ω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H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1244520" y="5064120"/>
                <a:ext cx="3022560" cy="14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ω</m:t>
                            </m:r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  <m:r>
                                  <m:t xml:space="preserve">f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ω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Hf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den>
                        </m:f>
                        <m:r>
                          <m:t xml:space="preserve">;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≡</m:t>
                        </m:r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βA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r>
                          <m:t xml:space="preserve">;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f</m:t>
                            </m:r>
                          </m:sub>
                        </m:sSub>
                        <m:r>
                          <m:t xml:space="preserve">≡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βA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47" name=""/>
          <p:cNvGrpSpPr/>
          <p:nvPr/>
        </p:nvGrpSpPr>
        <p:grpSpPr>
          <a:xfrm>
            <a:off x="5410080" y="1447920"/>
            <a:ext cx="3733920" cy="3120840"/>
            <a:chOff x="5410080" y="1447920"/>
            <a:chExt cx="3733920" cy="3120840"/>
          </a:xfrm>
        </p:grpSpPr>
        <p:grpSp>
          <p:nvGrpSpPr>
            <p:cNvPr id="248" name=""/>
            <p:cNvGrpSpPr/>
            <p:nvPr/>
          </p:nvGrpSpPr>
          <p:grpSpPr>
            <a:xfrm>
              <a:off x="5730840" y="1447920"/>
              <a:ext cx="3057480" cy="2322360"/>
              <a:chOff x="5730840" y="1447920"/>
              <a:chExt cx="3057480" cy="2322360"/>
            </a:xfrm>
          </p:grpSpPr>
          <p:pic>
            <p:nvPicPr>
              <p:cNvPr id="249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730840" y="1957320"/>
                <a:ext cx="3057480" cy="1280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0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036840" y="1447920"/>
                <a:ext cx="2548080" cy="23223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51" name=""/>
            <p:cNvSpPr/>
            <p:nvPr/>
          </p:nvSpPr>
          <p:spPr>
            <a:xfrm>
              <a:off x="6949800" y="2703600"/>
              <a:ext cx="304920" cy="284040"/>
            </a:xfrm>
            <a:prstGeom prst="flowChartDecis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061040" y="2666880"/>
              <a:ext cx="1066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(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+ 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- 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908760" y="2684520"/>
              <a:ext cx="406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908760" y="2798640"/>
              <a:ext cx="406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10080" y="1765440"/>
              <a:ext cx="609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410080" y="2895480"/>
              <a:ext cx="609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400800" y="2362320"/>
              <a:ext cx="736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(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+ 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- 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- 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689440" y="2428920"/>
              <a:ext cx="1066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213320" y="2209680"/>
              <a:ext cx="10670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858000" y="1484280"/>
              <a:ext cx="880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pos 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&gt; 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858000" y="3465360"/>
              <a:ext cx="934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neg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 &lt; 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807240" y="3554280"/>
              <a:ext cx="101520" cy="93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807240" y="1569960"/>
              <a:ext cx="101520" cy="93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858000" y="1598760"/>
              <a:ext cx="0" cy="23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858000" y="3375000"/>
              <a:ext cx="0" cy="23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534160" y="2325600"/>
              <a:ext cx="609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486400" y="2335320"/>
              <a:ext cx="5713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in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8" name=""/>
            <p:cNvGrpSpPr/>
            <p:nvPr/>
          </p:nvGrpSpPr>
          <p:grpSpPr>
            <a:xfrm>
              <a:off x="7010280" y="4038480"/>
              <a:ext cx="914400" cy="530280"/>
              <a:chOff x="7010280" y="4038480"/>
              <a:chExt cx="914400" cy="530280"/>
            </a:xfrm>
          </p:grpSpPr>
          <p:grpSp>
            <p:nvGrpSpPr>
              <p:cNvPr id="269" name=""/>
              <p:cNvGrpSpPr/>
              <p:nvPr/>
            </p:nvGrpSpPr>
            <p:grpSpPr>
              <a:xfrm>
                <a:off x="7391160" y="4267080"/>
                <a:ext cx="141480" cy="301680"/>
                <a:chOff x="7391160" y="4267080"/>
                <a:chExt cx="141480" cy="301680"/>
              </a:xfrm>
            </p:grpSpPr>
            <p:grpSp>
              <p:nvGrpSpPr>
                <p:cNvPr id="270" name=""/>
                <p:cNvGrpSpPr/>
                <p:nvPr/>
              </p:nvGrpSpPr>
              <p:grpSpPr>
                <a:xfrm>
                  <a:off x="7391160" y="4506120"/>
                  <a:ext cx="141480" cy="62640"/>
                  <a:chOff x="7391160" y="4506120"/>
                  <a:chExt cx="141480" cy="62640"/>
                </a:xfrm>
              </p:grpSpPr>
              <p:sp>
                <p:nvSpPr>
                  <p:cNvPr id="271" name=""/>
                  <p:cNvSpPr/>
                  <p:nvPr/>
                </p:nvSpPr>
                <p:spPr>
                  <a:xfrm>
                    <a:off x="7391160" y="4506120"/>
                    <a:ext cx="1414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>
                    <a:off x="7414560" y="4537440"/>
                    <a:ext cx="943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>
                    <a:off x="7437960" y="4568760"/>
                    <a:ext cx="471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74" name=""/>
                <p:cNvSpPr/>
                <p:nvPr/>
              </p:nvSpPr>
              <p:spPr>
                <a:xfrm>
                  <a:off x="7463880" y="4270680"/>
                  <a:ext cx="0" cy="235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7425000" y="4267080"/>
                  <a:ext cx="80280" cy="763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6" name=""/>
              <p:cNvSpPr/>
              <p:nvPr/>
            </p:nvSpPr>
            <p:spPr>
              <a:xfrm>
                <a:off x="7010280" y="4038480"/>
                <a:ext cx="914400" cy="368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77" name=""/>
            <p:cNvCxnSpPr>
              <a:stCxn id="249" idx="3"/>
              <a:endCxn id="276" idx="3"/>
            </p:cNvCxnSpPr>
            <p:nvPr/>
          </p:nvCxnSpPr>
          <p:spPr>
            <a:xfrm flipH="1">
              <a:off x="7923960" y="2598840"/>
              <a:ext cx="864360" cy="1629360"/>
            </a:xfrm>
            <a:prstGeom prst="bentConnector3">
              <a:avLst>
                <a:gd name="adj1" fmla="val -2645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8" name=""/>
            <p:cNvCxnSpPr>
              <a:stCxn id="276" idx="1"/>
              <a:endCxn id="256" idx="2"/>
            </p:cNvCxnSpPr>
            <p:nvPr/>
          </p:nvCxnSpPr>
          <p:spPr>
            <a:xfrm rot="10800000">
              <a:off x="5714280" y="3199680"/>
              <a:ext cx="1296000" cy="1027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troalimentación: Resume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Retroalimentación Negativa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educe Ganancia respectiva y puede hacerse muy estable (si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 &gt;&gt;1 ganancia ~ 1/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stable: Variaciones en temperatura, Diferencias entre componentes (matching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Linealidad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umenta Ancho de Band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roducto “Gain-Bandwidth” permanece constant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ltera las impedancias de entrada y salid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epende de la configura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e tal forma que el efecto es “deseable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troalimentación: Ejempl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52280" y="1980720"/>
            <a:ext cx="38102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spejo de corrient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sistencia de emiso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umenta impedancia por colecto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962160" y="1980720"/>
            <a:ext cx="28954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-24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mplificador EC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27400" indent="-202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mplificador de transconductancia, retroalimentación corriente-seri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27400" indent="-202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umenta la impedancia mirando por el colecto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457200" y="3809880"/>
            <a:ext cx="3124080" cy="23241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85" name=""/>
              <p:cNvSpPr txBox="1"/>
              <p:nvPr/>
            </p:nvSpPr>
            <p:spPr>
              <a:xfrm>
                <a:off x="1066680" y="5638680"/>
                <a:ext cx="191772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f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286" name="" descr=""/>
          <p:cNvPicPr/>
          <p:nvPr/>
        </p:nvPicPr>
        <p:blipFill>
          <a:blip r:embed="rId2"/>
          <a:stretch/>
        </p:blipFill>
        <p:spPr>
          <a:xfrm>
            <a:off x="7026120" y="1600200"/>
            <a:ext cx="1889280" cy="29494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87" name=""/>
              <p:cNvSpPr txBox="1"/>
              <p:nvPr/>
            </p:nvSpPr>
            <p:spPr>
              <a:xfrm>
                <a:off x="5715000" y="4572000"/>
                <a:ext cx="3230640" cy="6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/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/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5987880" y="5334120"/>
                <a:ext cx="2683080" cy="6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f>
                      <m:num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PAMPs y Retroalimentació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OPAMP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deal para retroalimentación negativ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La relación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 &gt;&gt; 1 se cumple para un amplio rango de frecuencia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umenta ancho de Band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Ganancia lineal (1/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mportante ¿Cómo opera el OPAMP Retroalimentado?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Ganancia lineal exige que el OPAMP este fuera de saturación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trabaja en la zona lineal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egla de oro 1”: Los terminales de entrada del OPAMP se mantienen con voltajes “iguales”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mpedancia de entrada cambi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Retroalimentación (algo)-serie aumenta impedancia de entrada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“Regla de oro 2”: Corriente en la entrada diferencial es despreciable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jemplo: Buffer de Voltaj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52280" y="1980720"/>
            <a:ext cx="792504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3000"/>
          </a:bodyPr>
          <a:p>
            <a:pPr marL="216000" indent="-216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xiste retroalimentación negativ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68000" indent="-180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68000" indent="-180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ines en la entrada diferencial a “igual” </a:t>
            </a:r>
            <a:br>
              <a:rPr sz="2000"/>
            </a:b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otencial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=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68000" indent="-180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mpedancia de entrada crece en factor (1+A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68000" indent="-180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mpedancia de Salida disminuye en factor (1+A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68000" indent="-180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or lo tanto es un buffer de voltaj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estriccion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68000" indent="-180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out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no puede superar los voltajes de alimentación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in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=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tampoco. Buffer Opera para voltajes de entrada estrictamente comprendidos en el rango impuesto por la alimenta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68000" indent="-180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elocidad de respuesta: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no puede cambiar más rápido que la Slew Rate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in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=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tampoco. Restricción a la máxima componente de frecuencia a la entrad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68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5722920" y="1828800"/>
            <a:ext cx="3116160" cy="17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6248520" y="1523880"/>
            <a:ext cx="2743200" cy="236700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mplificador no Inversor: Gananci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51920" y="1905120"/>
            <a:ext cx="3886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mplificador no-inverso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etroalimentación negativ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Trata de mantener los pines 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“+” y “-” al mismo potencial (</a:t>
            </a: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se revisará en Análisis Transitorio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152280" y="3200400"/>
                <a:ext cx="137160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pu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8001000" y="3870360"/>
                <a:ext cx="106668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pu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put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9" name=""/>
          <p:cNvSpPr/>
          <p:nvPr/>
        </p:nvSpPr>
        <p:spPr>
          <a:xfrm>
            <a:off x="5867280" y="3930480"/>
            <a:ext cx="228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Ganancia lazo cerrad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426708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Restricciones zona lineal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6515280" y="5029200"/>
                <a:ext cx="1942920" cy="36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⇔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g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put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o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6553080" y="5486400"/>
                <a:ext cx="169560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⇔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  <m:r>
                      <m:t xml:space="preserve">&lt;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put</m:t>
                        </m:r>
                      </m:sub>
                    </m:sSub>
                    <m:r>
                      <m:t xml:space="preserve">&lt;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6943680" y="4572000"/>
                <a:ext cx="1352520" cy="36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g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o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"/>
              <p:cNvSpPr txBox="1"/>
              <p:nvPr/>
            </p:nvSpPr>
            <p:spPr>
              <a:xfrm>
                <a:off x="4089240" y="2895480"/>
                <a:ext cx="101628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ia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1692360" y="3352680"/>
                <a:ext cx="745920" cy="32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pu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2563920" y="3276720"/>
                <a:ext cx="221904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pu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put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ia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4910040" y="3208320"/>
                <a:ext cx="225288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pu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put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ias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put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308" name=""/>
          <p:cNvGrpSpPr/>
          <p:nvPr/>
        </p:nvGrpSpPr>
        <p:grpSpPr>
          <a:xfrm>
            <a:off x="0" y="3886200"/>
            <a:ext cx="6095880" cy="2673360"/>
            <a:chOff x="0" y="3886200"/>
            <a:chExt cx="6095880" cy="2673360"/>
          </a:xfrm>
        </p:grpSpPr>
        <p:pic>
          <p:nvPicPr>
            <p:cNvPr id="309" name="" descr=""/>
            <p:cNvPicPr/>
            <p:nvPr/>
          </p:nvPicPr>
          <p:blipFill>
            <a:blip r:embed="rId2"/>
            <a:stretch/>
          </p:blipFill>
          <p:spPr>
            <a:xfrm>
              <a:off x="0" y="3886200"/>
              <a:ext cx="6095880" cy="267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"/>
            <p:cNvSpPr/>
            <p:nvPr/>
          </p:nvSpPr>
          <p:spPr>
            <a:xfrm>
              <a:off x="533520" y="4267080"/>
              <a:ext cx="2590560" cy="520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Análisis realizado con PSPICE: </a:t>
              </a:r>
              <a:br>
                <a:rPr sz="1400"/>
              </a:b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Análisis “DC Sweep”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mplificador no Inversor: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spuesta en Frecuenci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52280" y="1905120"/>
            <a:ext cx="381024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fectos retroalimenta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isminución ganancia: (92000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11: factor ~ 8400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umento ancho de banda: (frecuencia de corte 10 Hz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92KHz: factor ~ 9200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1"/>
          <a:stretch/>
        </p:blipFill>
        <p:spPr>
          <a:xfrm>
            <a:off x="0" y="3733920"/>
            <a:ext cx="6781680" cy="289692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2"/>
          <a:stretch/>
        </p:blipFill>
        <p:spPr>
          <a:xfrm>
            <a:off x="3657600" y="1676520"/>
            <a:ext cx="5486400" cy="2133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7238880" y="3809880"/>
                <a:ext cx="128916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6" name=""/>
          <p:cNvSpPr/>
          <p:nvPr/>
        </p:nvSpPr>
        <p:spPr>
          <a:xfrm>
            <a:off x="6781680" y="528624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Producto 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“Gain- Bandwidth” ~ c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6705720" y="4554360"/>
                <a:ext cx="235584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≡</m:t>
                    </m:r>
                    <m:r>
                      <m:t xml:space="preserve">1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β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920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840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mplificador no Inversor: Retroalimentación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52280" y="1904760"/>
            <a:ext cx="45720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mplificador no-inverso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etroalimentación negativ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Ganancia Lazo Abierto: A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Ganancia Lazo Cerrado: A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ntrada Opamp: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=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-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alida Opamp: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etroalimentación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: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ivisor de tensión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retroalimentación “voltaje-serie”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5105520" y="1828800"/>
            <a:ext cx="3573360" cy="2610000"/>
            <a:chOff x="5105520" y="1828800"/>
            <a:chExt cx="3573360" cy="2610000"/>
          </a:xfrm>
        </p:grpSpPr>
        <p:pic>
          <p:nvPicPr>
            <p:cNvPr id="321" name="" descr=""/>
            <p:cNvPicPr/>
            <p:nvPr/>
          </p:nvPicPr>
          <p:blipFill>
            <a:blip r:embed="rId1"/>
            <a:stretch/>
          </p:blipFill>
          <p:spPr>
            <a:xfrm>
              <a:off x="5105520" y="1828800"/>
              <a:ext cx="3573360" cy="261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>
              <a:off x="5791320" y="2286000"/>
              <a:ext cx="1143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238880" y="2224080"/>
              <a:ext cx="1143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o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5867280" y="4495680"/>
                <a:ext cx="266724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pu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put</m:t>
                            </m:r>
                          </m:sub>
                        </m:sSub>
                      </m:e>
                    </m:d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pu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5592600" y="4876920"/>
                <a:ext cx="3218040" cy="78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pu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βA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put</m:t>
                        </m:r>
                      </m:sub>
                    </m:sSub>
                    <m:r>
                      <m:t xml:space="preserve">≡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pu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326" name=""/>
          <p:cNvGrpSpPr/>
          <p:nvPr/>
        </p:nvGrpSpPr>
        <p:grpSpPr>
          <a:xfrm>
            <a:off x="304920" y="4784760"/>
            <a:ext cx="5105160" cy="1539720"/>
            <a:chOff x="304920" y="4784760"/>
            <a:chExt cx="5105160" cy="1539720"/>
          </a:xfrm>
        </p:grpSpPr>
        <p:sp>
          <p:nvSpPr>
            <p:cNvPr id="327" name=""/>
            <p:cNvSpPr/>
            <p:nvPr/>
          </p:nvSpPr>
          <p:spPr>
            <a:xfrm>
              <a:off x="990720" y="478476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600200" y="4784760"/>
              <a:ext cx="914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2000" spc="-1" strike="noStrike" baseline="-25000">
                  <a:solidFill>
                    <a:srgbClr val="000000"/>
                  </a:solidFill>
                  <a:latin typeface="Times New Roman"/>
                </a:rPr>
                <a:t>i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371600" y="4954680"/>
              <a:ext cx="457200" cy="457200"/>
            </a:xfrm>
            <a:prstGeom prst="flowChartSummingJuncti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30" name=""/>
                <p:cNvSpPr txBox="1"/>
                <p:nvPr/>
              </p:nvSpPr>
              <p:spPr>
                <a:xfrm>
                  <a:off x="2595600" y="4871880"/>
                  <a:ext cx="752400" cy="608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out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in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31" name=""/>
                <p:cNvSpPr txBox="1"/>
                <p:nvPr/>
              </p:nvSpPr>
              <p:spPr>
                <a:xfrm>
                  <a:off x="2514600" y="5716440"/>
                  <a:ext cx="987480" cy="608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β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cxnSp>
          <p:nvCxnSpPr>
            <p:cNvPr id="332" name=""/>
            <p:cNvCxnSpPr>
              <a:stCxn id="329" idx="6"/>
            </p:cNvCxnSpPr>
            <p:nvPr/>
          </p:nvCxnSpPr>
          <p:spPr>
            <a:xfrm flipV="1">
              <a:off x="1828800" y="5176440"/>
              <a:ext cx="767520" cy="7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33" name=""/>
            <p:cNvCxnSpPr>
              <a:endCxn id="329" idx="2"/>
            </p:cNvCxnSpPr>
            <p:nvPr/>
          </p:nvCxnSpPr>
          <p:spPr>
            <a:xfrm>
              <a:off x="761760" y="5181120"/>
              <a:ext cx="610200" cy="2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lg" type="oval" w="lg"/>
              <a:tailEnd len="med" type="triangle" w="med"/>
            </a:ln>
          </p:spPr>
        </p:cxnSp>
        <p:cxnSp>
          <p:nvCxnSpPr>
            <p:cNvPr id="334" name=""/>
            <p:cNvCxnSpPr/>
            <p:nvPr/>
          </p:nvCxnSpPr>
          <p:spPr>
            <a:xfrm>
              <a:off x="3348000" y="5176800"/>
              <a:ext cx="154800" cy="845280"/>
            </a:xfrm>
            <a:prstGeom prst="bentConnector3">
              <a:avLst>
                <a:gd name="adj1" fmla="val 59370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35" name=""/>
            <p:cNvCxnSpPr>
              <a:endCxn id="329" idx="4"/>
            </p:cNvCxnSpPr>
            <p:nvPr/>
          </p:nvCxnSpPr>
          <p:spPr>
            <a:xfrm rot="10800000">
              <a:off x="1599480" y="5411160"/>
              <a:ext cx="915120" cy="610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36" name=""/>
            <p:cNvSpPr/>
            <p:nvPr/>
          </p:nvSpPr>
          <p:spPr>
            <a:xfrm>
              <a:off x="1143000" y="533376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04920" y="5073480"/>
              <a:ext cx="6858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2000" spc="-1" strike="noStrike" baseline="-25000">
                  <a:solidFill>
                    <a:srgbClr val="000000"/>
                  </a:solidFill>
                  <a:latin typeface="Times New Roman"/>
                </a:rPr>
                <a:t>inpu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495680" y="5073480"/>
              <a:ext cx="914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2000" spc="-1" strike="noStrike" baseline="-25000">
                  <a:solidFill>
                    <a:srgbClr val="000000"/>
                  </a:solidFill>
                  <a:latin typeface="Times New Roman"/>
                </a:rPr>
                <a:t>outpu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447920" y="5470560"/>
              <a:ext cx="914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2000" spc="-1" strike="noStrike" baseline="-25000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260960" y="517824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mplificador no Inversor: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nálisis Transitorio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75960" y="1752120"/>
            <a:ext cx="5257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e aplica señal escalón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input (0.1V, Td=20ns, Tr=100ns)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Régimen Transitorio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Le toma tiempo al Opamp responder a la señal (no “detecta” inicialmente la retroalimentación)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Culpable: Retrasos asociados a los dispositivos que conforman el OPAMP + Slew Rate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5410080" y="1679400"/>
            <a:ext cx="3733920" cy="2279880"/>
          </a:xfrm>
          <a:prstGeom prst="rect">
            <a:avLst/>
          </a:prstGeom>
          <a:ln w="0">
            <a:noFill/>
          </a:ln>
        </p:spPr>
      </p:pic>
      <p:pic>
        <p:nvPicPr>
          <p:cNvPr id="344" name="" descr=""/>
          <p:cNvPicPr/>
          <p:nvPr/>
        </p:nvPicPr>
        <p:blipFill>
          <a:blip r:embed="rId2"/>
          <a:stretch/>
        </p:blipFill>
        <p:spPr>
          <a:xfrm>
            <a:off x="50760" y="3448080"/>
            <a:ext cx="7416720" cy="318132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/>
          <p:nvPr/>
        </p:nvSpPr>
        <p:spPr>
          <a:xfrm>
            <a:off x="6477120" y="5410080"/>
            <a:ext cx="259056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Análisis realizado con PSPICE: </a:t>
            </a:r>
            <a:br>
              <a:rPr sz="1400"/>
            </a:b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Análisis “Transient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mplificador no Inversor: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nálisis Transitorio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76320" y="1981080"/>
            <a:ext cx="54100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e alcanza régimen permanent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ines de la entrada diferencial casi al mismo potencial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= 100mV; 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= 99.765mV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”bias”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Ganancia de “lazo cerrado” &lt;&lt; “lazo abierto”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5410080" y="1676520"/>
            <a:ext cx="3733920" cy="227952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2"/>
          <a:stretch/>
        </p:blipFill>
        <p:spPr>
          <a:xfrm>
            <a:off x="50760" y="3448080"/>
            <a:ext cx="7416720" cy="318132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>
            <a:off x="4038480" y="4038480"/>
            <a:ext cx="2971800" cy="85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Régimen permanente: 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Ganancia “lazo cerrado”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11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Pin “-” iguala al pin “+”: 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Capítulo III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Electrónica Analógic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Clase Nº 19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Retroalimentación (I)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mplificador no Inversor: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nálisis Transitorio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76320" y="1981080"/>
            <a:ext cx="54100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n régimen permanent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ines de la entrada diferencial casi al mismo potencial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= 100mV; 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= 99.765mV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bias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=0.235mV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e tiene que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+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bia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5410080" y="1676520"/>
            <a:ext cx="3733920" cy="2279520"/>
          </a:xfrm>
          <a:prstGeom prst="rect">
            <a:avLst/>
          </a:prstGeom>
          <a:ln w="0">
            <a:noFill/>
          </a:ln>
        </p:spPr>
      </p:pic>
      <p:grpSp>
        <p:nvGrpSpPr>
          <p:cNvPr id="354" name=""/>
          <p:cNvGrpSpPr/>
          <p:nvPr/>
        </p:nvGrpSpPr>
        <p:grpSpPr>
          <a:xfrm>
            <a:off x="0" y="3535200"/>
            <a:ext cx="7284960" cy="3170520"/>
            <a:chOff x="0" y="3535200"/>
            <a:chExt cx="7284960" cy="3170520"/>
          </a:xfrm>
        </p:grpSpPr>
        <p:pic>
          <p:nvPicPr>
            <p:cNvPr id="355" name="" descr=""/>
            <p:cNvPicPr/>
            <p:nvPr/>
          </p:nvPicPr>
          <p:blipFill>
            <a:blip r:embed="rId2"/>
            <a:stretch/>
          </p:blipFill>
          <p:spPr>
            <a:xfrm>
              <a:off x="0" y="3535200"/>
              <a:ext cx="7284960" cy="317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6" name=""/>
            <p:cNvSpPr/>
            <p:nvPr/>
          </p:nvSpPr>
          <p:spPr>
            <a:xfrm>
              <a:off x="3962520" y="4800600"/>
              <a:ext cx="2971800" cy="1067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Régimen permanente: </a:t>
              </a:r>
              <a:br>
                <a:rPr sz="1600"/>
              </a:b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Bias  implica diferencia respecto al valor 11*100 mV=1.1 V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mplificador no Inversor: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nálisis Transitorio (IV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76320" y="1904760"/>
            <a:ext cx="54100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OPAMP tiene tiempo de respuesta ~ 10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Se aplica Vinput (0.1V, Td=20ns, </a:t>
            </a: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Tr=20us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Notar que “no se retrasa en responder”, a diferencia de cuando tenía Tr=100ns=0.1us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Razón: “se da cuenta” tempranamente que existe retroalimentación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5410080" y="1676520"/>
            <a:ext cx="3733920" cy="227952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"/>
          <p:cNvPicPr/>
          <p:nvPr/>
        </p:nvPicPr>
        <p:blipFill>
          <a:blip r:embed="rId2"/>
          <a:stretch/>
        </p:blipFill>
        <p:spPr>
          <a:xfrm>
            <a:off x="0" y="3352680"/>
            <a:ext cx="7391520" cy="317052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3200400" y="3714840"/>
            <a:ext cx="3886200" cy="131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Fabricante: 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Indica la “slew-rate” del Opamp. Esta entrega la máxima tasa de crecimiento de la entrada que el Opamp es capaz de seguir.</a:t>
            </a:r>
            <a:br>
              <a:rPr sz="1600"/>
            </a:b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Valor Típico: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1V /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jemplo 1: Fuente de Corrient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51920" y="1828800"/>
            <a:ext cx="4496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onversor Voltaje a Corrient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Funcionamiento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mbos operacionales tienen retroalimentación negativa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pines a igual potencial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rriente por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es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/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y circula por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también (alta impedancia OPAMP)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tiene voltaje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in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/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 I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=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in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/ (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4575240" y="1752480"/>
            <a:ext cx="4263840" cy="432144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/>
          <p:nvPr/>
        </p:nvSpPr>
        <p:spPr>
          <a:xfrm>
            <a:off x="822960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7620120" y="3809880"/>
            <a:ext cx="7617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jemplo 2: Rectificador Activo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ectificador con diodo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eñales deben superar 0.6V: No es de precis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ectificador Activo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Uso de OPAMP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Útil en aplicaciones de precis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roblema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nfiguración propuesta no considera el efecto de la Slew Rat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elocidad de conmutación del diodo es important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4495680" y="2819520"/>
            <a:ext cx="4648320" cy="32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jemplo 2: Rectificador Activo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1"/>
          <a:stretch/>
        </p:blipFill>
        <p:spPr>
          <a:xfrm>
            <a:off x="0" y="2209680"/>
            <a:ext cx="8001000" cy="434340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/>
          <p:nvPr/>
        </p:nvSpPr>
        <p:spPr>
          <a:xfrm>
            <a:off x="457200" y="182880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imulación PSPICE: f=1kHz, diodo 1N4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2"/>
          <a:stretch/>
        </p:blipFill>
        <p:spPr>
          <a:xfrm>
            <a:off x="6095880" y="1427040"/>
            <a:ext cx="2971800" cy="20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jemplo 2: Rectificador Activo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0" y="2003400"/>
            <a:ext cx="8381880" cy="454968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 flipV="1">
            <a:off x="1676520" y="3733560"/>
            <a:ext cx="10666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09480" y="4419720"/>
            <a:ext cx="259092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Problema </a:t>
            </a:r>
            <a:r>
              <a:rPr b="1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 la Slew Rate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¿Qué lo provoca? 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Respuesta: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Diodo “lento” (1N400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2"/>
          <a:stretch/>
        </p:blipFill>
        <p:spPr>
          <a:xfrm>
            <a:off x="6172200" y="1427040"/>
            <a:ext cx="2971800" cy="207828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/>
          <p:nvPr/>
        </p:nvSpPr>
        <p:spPr>
          <a:xfrm>
            <a:off x="457200" y="160020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imulación PSPICE: f=100kHz, diodo 1N4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jemplo 2: Rectificador Activo (IV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1"/>
          <a:stretch/>
        </p:blipFill>
        <p:spPr>
          <a:xfrm>
            <a:off x="0" y="2060640"/>
            <a:ext cx="8305920" cy="4508280"/>
          </a:xfrm>
          <a:prstGeom prst="rect">
            <a:avLst/>
          </a:prstGeom>
          <a:ln w="0">
            <a:noFill/>
          </a:ln>
        </p:spPr>
      </p:pic>
      <p:sp>
        <p:nvSpPr>
          <p:cNvPr id="382" name=""/>
          <p:cNvSpPr/>
          <p:nvPr/>
        </p:nvSpPr>
        <p:spPr>
          <a:xfrm>
            <a:off x="838080" y="4419720"/>
            <a:ext cx="23623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Efecto Slew R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V="1">
            <a:off x="2666880" y="3428640"/>
            <a:ext cx="16002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4648320"/>
            <a:ext cx="152388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743200" y="457200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2"/>
          <a:stretch/>
        </p:blipFill>
        <p:spPr>
          <a:xfrm>
            <a:off x="6172200" y="1427040"/>
            <a:ext cx="2971800" cy="207828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457200" y="160020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imulación PSPICE: f=100 kHz, diodo 1N414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jemplo 2: Rectificador Activo. Solución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540972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roblema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lew Rate + saturación negativa de la salid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olucion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lew Rate: Cambiar OPAMP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aturación Negativa: Evitar que la salida “baje” tanto: Diodo D2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1"/>
          <a:stretch/>
        </p:blipFill>
        <p:spPr>
          <a:xfrm>
            <a:off x="76320" y="2416320"/>
            <a:ext cx="5410080" cy="40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jemplo 2: Rectificador Activo: Solución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0" y="2184480"/>
            <a:ext cx="8077320" cy="4384440"/>
          </a:xfrm>
          <a:prstGeom prst="rect">
            <a:avLst/>
          </a:prstGeom>
          <a:ln w="0">
            <a:noFill/>
          </a:ln>
        </p:spPr>
      </p:pic>
      <p:pic>
        <p:nvPicPr>
          <p:cNvPr id="393" name="" descr=""/>
          <p:cNvPicPr/>
          <p:nvPr/>
        </p:nvPicPr>
        <p:blipFill>
          <a:blip r:embed="rId2"/>
          <a:stretch/>
        </p:blipFill>
        <p:spPr>
          <a:xfrm>
            <a:off x="5943600" y="1452600"/>
            <a:ext cx="3200400" cy="241452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/>
          <p:nvPr/>
        </p:nvSpPr>
        <p:spPr>
          <a:xfrm>
            <a:off x="152280" y="1812960"/>
            <a:ext cx="601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imulación PSPICE: f=100 kHz (Notar cambio de fa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sume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etroalimentació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ltera características de: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mplificación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ncho de Band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mpedancia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OPAMPs: Ideales para retroalimentación Negativ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ermite analizar en forma simple el </a:t>
            </a:r>
            <a:br>
              <a:rPr sz="2000"/>
            </a:b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mportamiento del OPAMP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rrientes de entrada despreciable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ines entrada diferencial al mismo potencial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striccione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sociadas a características reales de los OPAMPs y los dispositivos existentes en los lazos de retroalimentación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Estudiar los efectos de la retroalimentación negativa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Ganancia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Respuesta en frecuencia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Impedancia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Estudiar aplicaciones básicas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Poner atención a las limitaciones de los dispositivos y su efecto en los circuito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troalimentació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Permite alterar comportamiento de amplificadore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Impedancias de entrada-salid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Ganancia, respuesta en frecuenci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stabilidad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Linealidad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En dos “sabores”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etroalimentación negativ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etroalimentación positiv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troalimentación: Topología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4114800"/>
            <a:ext cx="74674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Bloque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omparador: Entrega señal diferencia entre entrada y la señal retroalimentada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Amplificador Básico (puede ser voltaje o corriente)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Muestreador: Recoje una “muestra” de la señal en la etapa de salida 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(voltaje o corriente)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Red Retroalimentación: Toma la muestra de la señal de salida y la amplifica por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. Entrega al comparador la señal de retroalimentación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152280" y="1828800"/>
            <a:ext cx="8839440" cy="2362320"/>
            <a:chOff x="152280" y="1828800"/>
            <a:chExt cx="8839440" cy="2362320"/>
          </a:xfrm>
        </p:grpSpPr>
        <p:sp>
          <p:nvSpPr>
            <p:cNvPr id="99" name=""/>
            <p:cNvSpPr/>
            <p:nvPr/>
          </p:nvSpPr>
          <p:spPr>
            <a:xfrm>
              <a:off x="152280" y="2209680"/>
              <a:ext cx="990720" cy="609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Fuen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600200" y="2209680"/>
              <a:ext cx="1219320" cy="609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Comparad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505320" y="1981080"/>
              <a:ext cx="2514600" cy="99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Amplificador Básic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Ganancia lazo abierto </a:t>
              </a: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705720" y="2209680"/>
              <a:ext cx="1371600" cy="609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Muestread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" name=""/>
            <p:cNvGrpSpPr/>
            <p:nvPr/>
          </p:nvGrpSpPr>
          <p:grpSpPr>
            <a:xfrm>
              <a:off x="1143000" y="2286000"/>
              <a:ext cx="456840" cy="457200"/>
              <a:chOff x="1143000" y="2286000"/>
              <a:chExt cx="456840" cy="457200"/>
            </a:xfrm>
          </p:grpSpPr>
          <p:sp>
            <p:nvSpPr>
              <p:cNvPr id="104" name=""/>
              <p:cNvSpPr/>
              <p:nvPr/>
            </p:nvSpPr>
            <p:spPr>
              <a:xfrm>
                <a:off x="1143000" y="2286000"/>
                <a:ext cx="456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1143000" y="2743200"/>
                <a:ext cx="456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"/>
            <p:cNvGrpSpPr/>
            <p:nvPr/>
          </p:nvGrpSpPr>
          <p:grpSpPr>
            <a:xfrm>
              <a:off x="2819520" y="2286000"/>
              <a:ext cx="685080" cy="457200"/>
              <a:chOff x="2819520" y="2286000"/>
              <a:chExt cx="685080" cy="457200"/>
            </a:xfrm>
          </p:grpSpPr>
          <p:sp>
            <p:nvSpPr>
              <p:cNvPr id="107" name=""/>
              <p:cNvSpPr/>
              <p:nvPr/>
            </p:nvSpPr>
            <p:spPr>
              <a:xfrm>
                <a:off x="2819520" y="2286000"/>
                <a:ext cx="685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2819520" y="2743200"/>
                <a:ext cx="685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6019920" y="2286000"/>
              <a:ext cx="685080" cy="457200"/>
              <a:chOff x="6019920" y="2286000"/>
              <a:chExt cx="685080" cy="457200"/>
            </a:xfrm>
          </p:grpSpPr>
          <p:sp>
            <p:nvSpPr>
              <p:cNvPr id="110" name=""/>
              <p:cNvSpPr/>
              <p:nvPr/>
            </p:nvSpPr>
            <p:spPr>
              <a:xfrm>
                <a:off x="6019920" y="2286000"/>
                <a:ext cx="685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19920" y="2743200"/>
                <a:ext cx="685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" name=""/>
            <p:cNvGrpSpPr/>
            <p:nvPr/>
          </p:nvGrpSpPr>
          <p:grpSpPr>
            <a:xfrm>
              <a:off x="8457840" y="2362320"/>
              <a:ext cx="152640" cy="336600"/>
              <a:chOff x="8457840" y="2362320"/>
              <a:chExt cx="152640" cy="336600"/>
            </a:xfrm>
          </p:grpSpPr>
          <p:sp>
            <p:nvSpPr>
              <p:cNvPr id="113" name=""/>
              <p:cNvSpPr/>
              <p:nvPr/>
            </p:nvSpPr>
            <p:spPr>
              <a:xfrm rot="5400000">
                <a:off x="8562240" y="2336760"/>
                <a:ext cx="22320" cy="73080"/>
              </a:xfrm>
              <a:custGeom>
                <a:avLst/>
                <a:gdLst/>
                <a:ahLst/>
                <a:rect l="l" t="t" r="r" b="b"/>
                <a:pathLst>
                  <a:path w="14" h="46">
                    <a:moveTo>
                      <a:pt x="0" y="46"/>
                    </a:move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8458200" y="2384280"/>
                <a:ext cx="152280" cy="57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458200" y="2441880"/>
                <a:ext cx="152280" cy="56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V="1">
                <a:off x="8458200" y="2498400"/>
                <a:ext cx="152280" cy="57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8458200" y="2556000"/>
                <a:ext cx="152280" cy="57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V="1">
                <a:off x="8458200" y="2612880"/>
                <a:ext cx="152280" cy="57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5400000">
                <a:off x="8480160" y="2648160"/>
                <a:ext cx="28440" cy="73080"/>
              </a:xfrm>
              <a:custGeom>
                <a:avLst/>
                <a:gdLst/>
                <a:ahLst/>
                <a:rect l="l" t="t" r="r" b="b"/>
                <a:pathLst>
                  <a:path w="18" h="46">
                    <a:moveTo>
                      <a:pt x="0" y="46"/>
                    </a:moveTo>
                    <a:lnTo>
                      <a:pt x="1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8534520" y="2330280"/>
              <a:ext cx="4572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8077320" y="2286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534520" y="22827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077320" y="27432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534520" y="2693880"/>
              <a:ext cx="1440" cy="49320"/>
            </a:xfrm>
            <a:custGeom>
              <a:avLst/>
              <a:gdLst/>
              <a:ahLst/>
              <a:rect l="l" t="t" r="r" b="b"/>
              <a:pathLst>
                <a:path w="1" h="31">
                  <a:moveTo>
                    <a:pt x="0" y="0"/>
                  </a:moveTo>
                  <a:lnTo>
                    <a:pt x="1" y="31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438280" y="3505320"/>
              <a:ext cx="4724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1981080" y="2819520"/>
              <a:ext cx="457200" cy="304560"/>
              <a:chOff x="1981080" y="2819520"/>
              <a:chExt cx="457200" cy="304560"/>
            </a:xfrm>
          </p:grpSpPr>
          <p:sp>
            <p:nvSpPr>
              <p:cNvPr id="127" name=""/>
              <p:cNvSpPr/>
              <p:nvPr/>
            </p:nvSpPr>
            <p:spPr>
              <a:xfrm>
                <a:off x="2438280" y="281952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1981080" y="281952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7162920" y="2819520"/>
              <a:ext cx="457200" cy="304560"/>
              <a:chOff x="7162920" y="2819520"/>
              <a:chExt cx="457200" cy="304560"/>
            </a:xfrm>
          </p:grpSpPr>
          <p:sp>
            <p:nvSpPr>
              <p:cNvPr id="130" name=""/>
              <p:cNvSpPr/>
              <p:nvPr/>
            </p:nvSpPr>
            <p:spPr>
              <a:xfrm>
                <a:off x="7620120" y="281952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7162920" y="281952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32" name=""/>
            <p:cNvCxnSpPr>
              <a:stCxn id="131" idx="0"/>
              <a:endCxn id="125" idx="0"/>
            </p:cNvCxnSpPr>
            <p:nvPr/>
          </p:nvCxnSpPr>
          <p:spPr>
            <a:xfrm>
              <a:off x="7159320" y="3120840"/>
              <a:ext cx="3960" cy="384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3" name=""/>
            <p:cNvCxnSpPr>
              <a:stCxn id="127" idx="0"/>
              <a:endCxn id="125" idx="0"/>
            </p:cNvCxnSpPr>
            <p:nvPr/>
          </p:nvCxnSpPr>
          <p:spPr>
            <a:xfrm>
              <a:off x="2435400" y="3120840"/>
              <a:ext cx="3600" cy="384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34" name=""/>
            <p:cNvSpPr/>
            <p:nvPr/>
          </p:nvSpPr>
          <p:spPr>
            <a:xfrm>
              <a:off x="1981080" y="3962520"/>
              <a:ext cx="563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5" name=""/>
            <p:cNvCxnSpPr>
              <a:stCxn id="128" idx="0"/>
              <a:endCxn id="134" idx="0"/>
            </p:cNvCxnSpPr>
            <p:nvPr/>
          </p:nvCxnSpPr>
          <p:spPr>
            <a:xfrm>
              <a:off x="1978200" y="3120840"/>
              <a:ext cx="3600" cy="842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6" name=""/>
            <p:cNvCxnSpPr>
              <a:stCxn id="130" idx="0"/>
              <a:endCxn id="134" idx="1"/>
            </p:cNvCxnSpPr>
            <p:nvPr/>
          </p:nvCxnSpPr>
          <p:spPr>
            <a:xfrm>
              <a:off x="7616520" y="3120840"/>
              <a:ext cx="3960" cy="842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37" name=""/>
            <p:cNvSpPr/>
            <p:nvPr/>
          </p:nvSpPr>
          <p:spPr>
            <a:xfrm>
              <a:off x="3886200" y="3276720"/>
              <a:ext cx="182880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Red</a:t>
              </a:r>
              <a:br>
                <a:rPr sz="1800"/>
              </a:b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Retroalimenta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(Ganancia </a:t>
              </a:r>
              <a:r>
                <a:rPr b="0" i="1" lang="es-ES_tradnl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429000" y="342900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429000" y="373392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429000" y="3581280"/>
              <a:ext cx="533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895480" y="220968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895480" y="251460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895480" y="2362320"/>
              <a:ext cx="533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095880" y="220968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095880" y="251460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095880" y="236232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8001000" y="220968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001000" y="251460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001000" y="2362320"/>
              <a:ext cx="533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0" name=""/>
            <p:cNvGrpSpPr/>
            <p:nvPr/>
          </p:nvGrpSpPr>
          <p:grpSpPr>
            <a:xfrm>
              <a:off x="2895480" y="1828800"/>
              <a:ext cx="533520" cy="459720"/>
              <a:chOff x="2895480" y="1828800"/>
              <a:chExt cx="533520" cy="459720"/>
            </a:xfrm>
          </p:grpSpPr>
          <p:sp>
            <p:nvSpPr>
              <p:cNvPr id="151" name=""/>
              <p:cNvSpPr/>
              <p:nvPr/>
            </p:nvSpPr>
            <p:spPr>
              <a:xfrm>
                <a:off x="2895480" y="1828800"/>
                <a:ext cx="53352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i="1" lang="es-ES_tradnl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2895480" y="1981440"/>
                <a:ext cx="533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" name=""/>
            <p:cNvGrpSpPr/>
            <p:nvPr/>
          </p:nvGrpSpPr>
          <p:grpSpPr>
            <a:xfrm>
              <a:off x="6095880" y="1828800"/>
              <a:ext cx="533520" cy="459720"/>
              <a:chOff x="6095880" y="1828800"/>
              <a:chExt cx="533520" cy="459720"/>
            </a:xfrm>
          </p:grpSpPr>
          <p:sp>
            <p:nvSpPr>
              <p:cNvPr id="154" name=""/>
              <p:cNvSpPr/>
              <p:nvPr/>
            </p:nvSpPr>
            <p:spPr>
              <a:xfrm>
                <a:off x="6095880" y="1828800"/>
                <a:ext cx="533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095880" y="1981440"/>
                <a:ext cx="533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" name=""/>
            <p:cNvGrpSpPr/>
            <p:nvPr/>
          </p:nvGrpSpPr>
          <p:grpSpPr>
            <a:xfrm>
              <a:off x="1905120" y="3581280"/>
              <a:ext cx="533160" cy="459720"/>
              <a:chOff x="1905120" y="3581280"/>
              <a:chExt cx="533160" cy="459720"/>
            </a:xfrm>
          </p:grpSpPr>
          <p:sp>
            <p:nvSpPr>
              <p:cNvPr id="157" name=""/>
              <p:cNvSpPr/>
              <p:nvPr/>
            </p:nvSpPr>
            <p:spPr>
              <a:xfrm>
                <a:off x="1905120" y="3581280"/>
                <a:ext cx="53316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i="1" lang="es-ES_tradnl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1905120" y="3733920"/>
                <a:ext cx="5331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143000" y="220968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143000" y="251460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143000" y="2362320"/>
              <a:ext cx="533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2" name=""/>
            <p:cNvGrpSpPr/>
            <p:nvPr/>
          </p:nvGrpSpPr>
          <p:grpSpPr>
            <a:xfrm>
              <a:off x="1143000" y="1828800"/>
              <a:ext cx="533520" cy="459720"/>
              <a:chOff x="1143000" y="1828800"/>
              <a:chExt cx="533520" cy="459720"/>
            </a:xfrm>
          </p:grpSpPr>
          <p:sp>
            <p:nvSpPr>
              <p:cNvPr id="163" name=""/>
              <p:cNvSpPr/>
              <p:nvPr/>
            </p:nvSpPr>
            <p:spPr>
              <a:xfrm>
                <a:off x="1143000" y="1828800"/>
                <a:ext cx="53352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i="1" lang="es-ES_tradnl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143000" y="1981440"/>
                <a:ext cx="533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8001000" y="1828800"/>
              <a:ext cx="533520" cy="459720"/>
              <a:chOff x="8001000" y="1828800"/>
              <a:chExt cx="533520" cy="459720"/>
            </a:xfrm>
          </p:grpSpPr>
          <p:sp>
            <p:nvSpPr>
              <p:cNvPr id="166" name=""/>
              <p:cNvSpPr/>
              <p:nvPr/>
            </p:nvSpPr>
            <p:spPr>
              <a:xfrm>
                <a:off x="8001000" y="1828800"/>
                <a:ext cx="53352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i="1" lang="es-ES_tradnl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001000" y="1981440"/>
                <a:ext cx="533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troalimentación: Topología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aracterística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mparador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omparador serie (voltaje): aumenta la impedancia de entrada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omparador paralelo (corriente): reduce la impedancia de entrada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Muestreador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oltaje: reduce la impedancia de salida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orriente: aumenta la impedancia de salida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ed de Retroalimentación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Formada usualmente por elementos pasivos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osibles Topologías: cuatro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(Combinaciones entre las topologías de 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muestra (Voltaje-Corriente) y comparación (Serie- Paralelo))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Notación: la topología de feedback se denotará </a:t>
            </a:r>
            <a:br>
              <a:rPr sz="1800"/>
            </a:b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Muestra-Comparación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jemplo: topología voltaje-serie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(toma muestra de voltaje a la 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salida y la una parte de esta se ubica en serie al circuito de la entrada)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troalimentación: Características Básica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876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Electrónica Analógica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mplificador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oltaj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Transconductanci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rrient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Transimpedanci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etroalimentación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Muestreo”: Corriente, Voltaj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mparación”: Voltaje (serie), Corriente (paralelo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5181480" y="1981080"/>
            <a:ext cx="3124080" cy="1371600"/>
            <a:chOff x="5181480" y="1981080"/>
            <a:chExt cx="3124080" cy="1371600"/>
          </a:xfrm>
        </p:grpSpPr>
        <p:grpSp>
          <p:nvGrpSpPr>
            <p:cNvPr id="173" name=""/>
            <p:cNvGrpSpPr/>
            <p:nvPr/>
          </p:nvGrpSpPr>
          <p:grpSpPr>
            <a:xfrm>
              <a:off x="5181480" y="1981080"/>
              <a:ext cx="3124080" cy="1371600"/>
              <a:chOff x="5181480" y="1981080"/>
              <a:chExt cx="3124080" cy="1371600"/>
            </a:xfrm>
          </p:grpSpPr>
          <p:grpSp>
            <p:nvGrpSpPr>
              <p:cNvPr id="174" name=""/>
              <p:cNvGrpSpPr/>
              <p:nvPr/>
            </p:nvGrpSpPr>
            <p:grpSpPr>
              <a:xfrm>
                <a:off x="5410080" y="2209680"/>
                <a:ext cx="2895480" cy="1143000"/>
                <a:chOff x="5410080" y="2209680"/>
                <a:chExt cx="2895480" cy="114300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6476760" y="2209680"/>
                  <a:ext cx="914400" cy="457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_tradnl" sz="2000" spc="-1" strike="noStrike">
                      <a:solidFill>
                        <a:srgbClr val="000000"/>
                      </a:solidFill>
                      <a:latin typeface="Times New Roman"/>
                    </a:rPr>
                    <a:t>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6476760" y="2895480"/>
                  <a:ext cx="914400" cy="457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_tradnl" sz="1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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5714640" y="2253960"/>
                  <a:ext cx="381240" cy="380880"/>
                </a:xfrm>
                <a:prstGeom prst="flowChartSummingJunction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178" name=""/>
                <p:cNvCxnSpPr>
                  <a:stCxn id="177" idx="4"/>
                  <a:endCxn id="176" idx="1"/>
                </p:cNvCxnSpPr>
                <p:nvPr/>
              </p:nvCxnSpPr>
              <p:spPr>
                <a:xfrm flipH="1" rot="16200000">
                  <a:off x="5945760" y="2593080"/>
                  <a:ext cx="489600" cy="572040"/>
                </a:xfrm>
                <a:prstGeom prst="bentConnector2">
                  <a:avLst/>
                </a:prstGeom>
                <a:ln w="9360">
                  <a:solidFill>
                    <a:srgbClr val="000000"/>
                  </a:solidFill>
                  <a:miter/>
                  <a:headEnd len="med" type="triangle" w="med"/>
                </a:ln>
              </p:spPr>
            </p:cxnSp>
            <p:cxnSp>
              <p:nvCxnSpPr>
                <p:cNvPr id="179" name=""/>
                <p:cNvCxnSpPr>
                  <a:stCxn id="177" idx="6"/>
                  <a:endCxn id="175" idx="1"/>
                </p:cNvCxnSpPr>
                <p:nvPr/>
              </p:nvCxnSpPr>
              <p:spPr>
                <a:xfrm flipV="1">
                  <a:off x="6095880" y="2437560"/>
                  <a:ext cx="381600" cy="684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sp>
              <p:nvSpPr>
                <p:cNvPr id="180" name=""/>
                <p:cNvSpPr/>
                <p:nvPr/>
              </p:nvSpPr>
              <p:spPr>
                <a:xfrm>
                  <a:off x="7391160" y="2438280"/>
                  <a:ext cx="457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181" name=""/>
                <p:cNvCxnSpPr>
                  <a:stCxn id="176" idx="3"/>
                  <a:endCxn id="180" idx="0"/>
                </p:cNvCxnSpPr>
                <p:nvPr/>
              </p:nvCxnSpPr>
              <p:spPr>
                <a:xfrm flipV="1">
                  <a:off x="7391160" y="2437560"/>
                  <a:ext cx="457920" cy="686520"/>
                </a:xfrm>
                <a:prstGeom prst="bentConnector2">
                  <a:avLst/>
                </a:prstGeom>
                <a:ln w="9360">
                  <a:solidFill>
                    <a:srgbClr val="000000"/>
                  </a:solidFill>
                  <a:miter/>
                  <a:headEnd len="med" type="triangle" w="med"/>
                </a:ln>
              </p:spPr>
            </p:cxnSp>
            <p:sp>
              <p:nvSpPr>
                <p:cNvPr id="182" name=""/>
                <p:cNvSpPr/>
                <p:nvPr/>
              </p:nvSpPr>
              <p:spPr>
                <a:xfrm>
                  <a:off x="5410080" y="2438280"/>
                  <a:ext cx="304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7848360" y="2438280"/>
                  <a:ext cx="457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lg" type="oval" w="lg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4" name=""/>
              <p:cNvSpPr/>
              <p:nvPr/>
            </p:nvSpPr>
            <p:spPr>
              <a:xfrm>
                <a:off x="7543440" y="1981080"/>
                <a:ext cx="68580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20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s-ES_tradnl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181480" y="1981080"/>
                <a:ext cx="68580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20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s-ES_tradnl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943240" y="1981080"/>
                <a:ext cx="68580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20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s-ES_tradnl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5867280" y="2666880"/>
                <a:ext cx="68580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20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s-ES_tradnl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5486040" y="2025360"/>
              <a:ext cx="838440" cy="826560"/>
              <a:chOff x="5486040" y="2025360"/>
              <a:chExt cx="838440" cy="826560"/>
            </a:xfrm>
          </p:grpSpPr>
          <p:sp>
            <p:nvSpPr>
              <p:cNvPr id="189" name=""/>
              <p:cNvSpPr/>
              <p:nvPr/>
            </p:nvSpPr>
            <p:spPr>
              <a:xfrm>
                <a:off x="5486040" y="2025360"/>
                <a:ext cx="457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5867280" y="2514600"/>
                <a:ext cx="457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–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5410080" y="3581280"/>
                <a:ext cx="15242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7315200" y="3581280"/>
                <a:ext cx="104616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β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122800" y="4267080"/>
                <a:ext cx="364032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β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⇒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β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troalimentación: Efectos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Ganancia Lazo Cerrado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i A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&gt;&gt;1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1/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La ganancia se estabiliza (antes variaba bastante, ahora es tan estable como lo es la red de retroalimentación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Mejora la Linealidad!!!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Impedancia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jemplo: Amplificador de Voltaje con retroalimentación voltaje-seri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mpedancia de entrada aumenta: R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inf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(1+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mpedancia de salida disminuye: R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outf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o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/(1+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5715000" y="2057400"/>
                <a:ext cx="230040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β</m:t>
                        </m:r>
                        <m:r>
                          <m:t xml:space="preserve">A</m:t>
                        </m:r>
                      </m:den>
                    </m:f>
                    <m:r>
                      <m:t xml:space="preserve">≈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β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97" name=""/>
          <p:cNvGrpSpPr/>
          <p:nvPr/>
        </p:nvGrpSpPr>
        <p:grpSpPr>
          <a:xfrm>
            <a:off x="5029200" y="3048120"/>
            <a:ext cx="3733920" cy="3120840"/>
            <a:chOff x="5029200" y="3048120"/>
            <a:chExt cx="3733920" cy="3120840"/>
          </a:xfrm>
        </p:grpSpPr>
        <p:grpSp>
          <p:nvGrpSpPr>
            <p:cNvPr id="198" name=""/>
            <p:cNvGrpSpPr/>
            <p:nvPr/>
          </p:nvGrpSpPr>
          <p:grpSpPr>
            <a:xfrm>
              <a:off x="5349960" y="3048120"/>
              <a:ext cx="3057480" cy="2322360"/>
              <a:chOff x="5349960" y="3048120"/>
              <a:chExt cx="3057480" cy="2322360"/>
            </a:xfrm>
          </p:grpSpPr>
          <p:pic>
            <p:nvPicPr>
              <p:cNvPr id="19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5349960" y="3557520"/>
                <a:ext cx="3057480" cy="1280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0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655960" y="3048120"/>
                <a:ext cx="2548080" cy="23223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01" name=""/>
            <p:cNvSpPr/>
            <p:nvPr/>
          </p:nvSpPr>
          <p:spPr>
            <a:xfrm>
              <a:off x="6568920" y="4303800"/>
              <a:ext cx="304920" cy="284040"/>
            </a:xfrm>
            <a:prstGeom prst="flowChartDecis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680160" y="4267080"/>
              <a:ext cx="1066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(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+ 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- 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527880" y="4284720"/>
              <a:ext cx="406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527880" y="4398840"/>
              <a:ext cx="406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029200" y="3365640"/>
              <a:ext cx="609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029200" y="4495680"/>
              <a:ext cx="609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019920" y="3962520"/>
              <a:ext cx="736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(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+ 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- 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- 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308560" y="4029120"/>
              <a:ext cx="1066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832440" y="3809880"/>
              <a:ext cx="10670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477120" y="3084480"/>
              <a:ext cx="880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pos 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&gt; 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477120" y="5065560"/>
              <a:ext cx="934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neg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 &lt; 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426360" y="5154480"/>
              <a:ext cx="101520" cy="93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426360" y="3170160"/>
              <a:ext cx="101520" cy="93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477120" y="3198960"/>
              <a:ext cx="0" cy="23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477120" y="4975200"/>
              <a:ext cx="0" cy="23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8153280" y="3925800"/>
              <a:ext cx="609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105520" y="3935520"/>
              <a:ext cx="5713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in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8" name=""/>
            <p:cNvGrpSpPr/>
            <p:nvPr/>
          </p:nvGrpSpPr>
          <p:grpSpPr>
            <a:xfrm>
              <a:off x="6629400" y="5638680"/>
              <a:ext cx="914400" cy="530280"/>
              <a:chOff x="6629400" y="5638680"/>
              <a:chExt cx="914400" cy="530280"/>
            </a:xfrm>
          </p:grpSpPr>
          <p:grpSp>
            <p:nvGrpSpPr>
              <p:cNvPr id="219" name=""/>
              <p:cNvGrpSpPr/>
              <p:nvPr/>
            </p:nvGrpSpPr>
            <p:grpSpPr>
              <a:xfrm>
                <a:off x="7010280" y="5867280"/>
                <a:ext cx="141480" cy="301680"/>
                <a:chOff x="7010280" y="5867280"/>
                <a:chExt cx="141480" cy="30168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7010280" y="6106320"/>
                  <a:ext cx="141480" cy="62640"/>
                  <a:chOff x="7010280" y="6106320"/>
                  <a:chExt cx="141480" cy="6264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7010280" y="6106320"/>
                    <a:ext cx="1414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7033680" y="6137640"/>
                    <a:ext cx="943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7057080" y="6168960"/>
                    <a:ext cx="471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4" name=""/>
                <p:cNvSpPr/>
                <p:nvPr/>
              </p:nvSpPr>
              <p:spPr>
                <a:xfrm>
                  <a:off x="7083000" y="5870880"/>
                  <a:ext cx="0" cy="235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7044120" y="5867280"/>
                  <a:ext cx="80280" cy="763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6" name=""/>
              <p:cNvSpPr/>
              <p:nvPr/>
            </p:nvSpPr>
            <p:spPr>
              <a:xfrm>
                <a:off x="6629400" y="5638680"/>
                <a:ext cx="914400" cy="368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27" name=""/>
            <p:cNvCxnSpPr>
              <a:stCxn id="199" idx="3"/>
              <a:endCxn id="226" idx="3"/>
            </p:cNvCxnSpPr>
            <p:nvPr/>
          </p:nvCxnSpPr>
          <p:spPr>
            <a:xfrm flipH="1">
              <a:off x="7543080" y="4199040"/>
              <a:ext cx="864360" cy="1629360"/>
            </a:xfrm>
            <a:prstGeom prst="bentConnector3">
              <a:avLst>
                <a:gd name="adj1" fmla="val -2645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28" name=""/>
            <p:cNvCxnSpPr>
              <a:stCxn id="226" idx="1"/>
              <a:endCxn id="206" idx="2"/>
            </p:cNvCxnSpPr>
            <p:nvPr/>
          </p:nvCxnSpPr>
          <p:spPr>
            <a:xfrm rot="10800000">
              <a:off x="5333400" y="4799880"/>
              <a:ext cx="1296000" cy="1027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troalimentación: Efectos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Impedancias: Genera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La variable “muestreada” mejora su desempeño (Salida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Muestreo voltaje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impedancia de salida menor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Muestreo corriente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impedancia de salida mayor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La variable “comparada” mejora su desempeño (Entrada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erie (voltaje)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impedancia de entrada mayor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aralelo (corriente)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impedancia de entrada menor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4648320" y="1752480"/>
                <a:ext cx="4438440" cy="12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β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β</m:t>
                                </m:r>
                                <m:r>
                                  <m:t xml:space="preserve">A</m:t>
                                </m:r>
                              </m:num>
                              <m:den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β</m:t>
                                </m:r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5213520" y="3048120"/>
                <a:ext cx="3369960" cy="77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den>
                    </m:f>
                    <m:r>
                      <m:t xml:space="preserve">≡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f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β</m:t>
                        </m:r>
                        <m:r>
                          <m:t xml:space="preserve">A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&gt;&gt;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5257800" y="4114800"/>
                <a:ext cx="3392640" cy="79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β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ut</m:t>
                                </m:r>
                              </m:sub>
                            </m:sSub>
                          </m:e>
                        </m:d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5398920" y="5040360"/>
                <a:ext cx="3164040" cy="77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</m:den>
                    </m:f>
                    <m:r>
                      <m:t xml:space="preserve">≡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β</m:t>
                        </m:r>
                        <m:r>
                          <m:t xml:space="preserve">A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&lt;&lt;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7T02:28:57Z</dcterms:created>
  <dc:creator>Domingo Morales Lizama</dc:creator>
  <dc:description/>
  <dc:language>en-US</dc:language>
  <cp:lastModifiedBy>Depto. Ing. Electrica</cp:lastModifiedBy>
  <dcterms:modified xsi:type="dcterms:W3CDTF">2003-10-22T14:43:44Z</dcterms:modified>
  <cp:revision>895</cp:revision>
  <dc:subject>Retroalimentación (I)</dc:subject>
  <dc:title>Clase 19</dc:title>
</cp:coreProperties>
</file>