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25.png" ContentType="image/png"/>
  <Override PartName="/ppt/media/image2.png" ContentType="image/png"/>
  <Override PartName="/ppt/media/image18.wmf" ContentType="image/x-wmf"/>
  <Override PartName="/ppt/media/image1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A3C0-7526-49C5-B8A3-3409DF7EF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5D31-BC99-4FFC-8D51-9A2A49A53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AE7D-62F8-4E9D-B00A-BE1F553FC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9646-F97A-450A-A1CF-E406083DA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06D-E0F6-441D-84D0-D7FBAB3BB9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2BA-462C-4953-835D-89CAD182B1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8679-41AB-4A2E-B1DC-9948D1CA55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385-3386-40BD-B8F1-20C5B794DC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735-10CE-4A20-ADE6-73E6F8247E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D054-0ED5-400E-AA07-6152674B9D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B3D-7FA6-46C2-9773-1A56D8D6F8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70A6-22FF-4117-8C5F-CC3211B9F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34C-C4E2-4C7C-A460-6692D32E10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758-554A-4726-9294-A5688DACC1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27A-593D-4763-8086-D17C69EA6F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4673-6A79-4601-AA84-FCAF7F6A18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634-80EE-46B3-8787-6040F0AFC9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8A81-E365-46AD-8214-47F5034BF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FB5D-643D-4A1F-A6D7-0CB565BFA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3EF0-6F4E-4171-9137-FE99BC93E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5F40-D8A6-4D65-874E-61377BF55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70CA-B9CB-459E-A409-FE334CE24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D909-F63B-4E38-847A-705E5F598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DBF2-BE64-4B8F-9096-84F719C0E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A0F7-FED0-43FA-99E8-6768A2361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B350-A8BB-42B2-B5D0-B8535E4DE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cho de Banda Aumen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ducto Gain-Bandwidth permanece cons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828800" y="2743200"/>
                <a:ext cx="1940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8" name=""/>
          <p:cNvGrpSpPr/>
          <p:nvPr/>
        </p:nvGrpSpPr>
        <p:grpSpPr>
          <a:xfrm>
            <a:off x="6095880" y="4724280"/>
            <a:ext cx="2880000" cy="1684440"/>
            <a:chOff x="6095880" y="4724280"/>
            <a:chExt cx="2880000" cy="168444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6095880" y="4724280"/>
              <a:ext cx="28800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92960" y="54561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42520" y="5271840"/>
              <a:ext cx="0" cy="6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8200" y="547056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00800" y="52592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28600" y="3533760"/>
                <a:ext cx="5257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1040" y="4343400"/>
                <a:ext cx="51753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244520" y="5064120"/>
                <a:ext cx="3022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f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f</m:t>
                            </m:r>
                          </m:sub>
                        </m:sSub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410080" y="1447920"/>
            <a:ext cx="3733920" cy="3120840"/>
            <a:chOff x="5410080" y="1447920"/>
            <a:chExt cx="3733920" cy="3120840"/>
          </a:xfrm>
        </p:grpSpPr>
        <p:grpSp>
          <p:nvGrpSpPr>
            <p:cNvPr id="248" name=""/>
            <p:cNvGrpSpPr/>
            <p:nvPr/>
          </p:nvGrpSpPr>
          <p:grpSpPr>
            <a:xfrm>
              <a:off x="5730840" y="1447920"/>
              <a:ext cx="3057480" cy="2322360"/>
              <a:chOff x="5730840" y="1447920"/>
              <a:chExt cx="3057480" cy="2322360"/>
            </a:xfrm>
          </p:grpSpPr>
          <p:pic>
            <p:nvPicPr>
              <p:cNvPr id="2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30840" y="19573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36840" y="14479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1" name=""/>
            <p:cNvSpPr/>
            <p:nvPr/>
          </p:nvSpPr>
          <p:spPr>
            <a:xfrm>
              <a:off x="6949800" y="27036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1040" y="26668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08760" y="26845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08760" y="27986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17654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28954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0800" y="23623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89440" y="24289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13320" y="22096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58000" y="14842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0" y="34653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07240" y="35542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07240" y="15699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58000" y="15987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0" y="33750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34160" y="23256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6400" y="23353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7010280" y="4038480"/>
              <a:ext cx="914400" cy="530280"/>
              <a:chOff x="7010280" y="4038480"/>
              <a:chExt cx="914400" cy="5302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7391160" y="4267080"/>
                <a:ext cx="141480" cy="301680"/>
                <a:chOff x="7391160" y="4267080"/>
                <a:chExt cx="141480" cy="30168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7391160" y="4506120"/>
                  <a:ext cx="141480" cy="62640"/>
                  <a:chOff x="7391160" y="4506120"/>
                  <a:chExt cx="141480" cy="626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7391160" y="45061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414560" y="45374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437960" y="45687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" name=""/>
                <p:cNvSpPr/>
                <p:nvPr/>
              </p:nvSpPr>
              <p:spPr>
                <a:xfrm>
                  <a:off x="7463880" y="42706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25000" y="42670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7010280" y="40384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7" name=""/>
            <p:cNvCxnSpPr>
              <a:stCxn id="249" idx="3"/>
              <a:endCxn id="276" idx="3"/>
            </p:cNvCxnSpPr>
            <p:nvPr/>
          </p:nvCxnSpPr>
          <p:spPr>
            <a:xfrm flipH="1">
              <a:off x="7923960" y="25988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76" idx="1"/>
              <a:endCxn id="256" idx="2"/>
            </p:cNvCxnSpPr>
            <p:nvPr/>
          </p:nvCxnSpPr>
          <p:spPr>
            <a:xfrm rot="10800000">
              <a:off x="5714280" y="31996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duce Ganancia respectiva y puede hacerse muy estable (si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 &gt;&gt;1 ganancia ~ 1/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le: Variaciones en temperatura, Diferencias entre componentes (matching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ducto “Gain-Bandwidth” permanece consta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era las impedancias de entrada y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 de la config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tal forma que el efecto es “deseable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jemp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3810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pejo de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mi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impedancia por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962160" y="1980720"/>
            <a:ext cx="289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 E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, retroalimentación corrient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menta la impedancia mirando por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3124080" cy="232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066680" y="5638680"/>
                <a:ext cx="1917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026120" y="1600200"/>
            <a:ext cx="1889280" cy="2949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715000" y="4572000"/>
                <a:ext cx="3230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987880" y="5334120"/>
                <a:ext cx="26830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PAM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deal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rel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&gt;&gt; 1 se cumple para un amplio rango de frecue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a 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(1/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 ¿Cómo opera el OPAMP Retroalimentado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lineal exige que el OPAMP este fuera de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baja en la zona lineal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gla de oro 1”: Los terminales de entrada del OPAMP se mantienen con voltajes “iguales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entrada camb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(algo)-serie aumenta impedancia de entrad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“Regla de oro 2”: Corriente en la entrada diferencial es despreciabl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Buffer de Voltaj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es en la entrada diferencial a “igual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tenci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crec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 en factor (1+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 lo tanto es un buffer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puede superar los voltajes de 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Buffer Opera para voltajes de entrada estrictamente comprendidos en el rango impuesto por la 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respuest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no puede cambiar más rápido que la Slew Ra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ampoco. Restricción a la máxima componente de frecuencia a la entr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5722920" y="1828800"/>
            <a:ext cx="31161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743200" cy="2367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Gana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ta de mantener los pines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+” y “-” al mismo potencial (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se revisará en Análisis Transitorio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2280" y="3200400"/>
                <a:ext cx="1371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001000" y="3870360"/>
                <a:ext cx="1066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5867280" y="39304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4267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tricciones zona line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515280" y="5029200"/>
                <a:ext cx="1942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553080" y="5486400"/>
                <a:ext cx="1695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943680" y="4572000"/>
                <a:ext cx="1352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g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089240" y="2895480"/>
                <a:ext cx="1016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692360" y="3352680"/>
                <a:ext cx="745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563920" y="3276720"/>
                <a:ext cx="2219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i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910040" y="3208320"/>
                <a:ext cx="2252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ia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p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0" y="3886200"/>
            <a:ext cx="6095880" cy="2673360"/>
            <a:chOff x="0" y="3886200"/>
            <a:chExt cx="6095880" cy="267336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0" y="3886200"/>
              <a:ext cx="60958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33520" y="4267080"/>
              <a:ext cx="25905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realizado con PSPICE: </a:t>
              </a:r>
              <a:br>
                <a:rPr sz="1400"/>
              </a:b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nálisis “DC Sweep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3810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fectos 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minución ganancia: (92000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1: factor ~ 84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ancho de banda: (frecuencia de corte 10 Hz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92KHz: factor ~ 9200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6781680" cy="2896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657600" y="1676520"/>
            <a:ext cx="5486400" cy="213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238880" y="3809880"/>
                <a:ext cx="1289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781680" y="52862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duct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“Gain- Bandwidth” ~ c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705720" y="4554360"/>
                <a:ext cx="2355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≡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84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Retroaliment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no-invers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Abiert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Lazo Cerrado: A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lida Opamp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visor de tensión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oalimentación “voltaje-serie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105520" y="1828800"/>
            <a:ext cx="3573360" cy="2610000"/>
            <a:chOff x="5105520" y="1828800"/>
            <a:chExt cx="3573360" cy="2610000"/>
          </a:xfrm>
        </p:grpSpPr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5105520" y="1828800"/>
              <a:ext cx="357336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791320" y="228600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2224080"/>
              <a:ext cx="114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867280" y="4495680"/>
                <a:ext cx="2667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pu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592600" y="4876920"/>
                <a:ext cx="32180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304920" y="4784760"/>
            <a:ext cx="5105160" cy="1539720"/>
            <a:chOff x="304920" y="4784760"/>
            <a:chExt cx="5105160" cy="1539720"/>
          </a:xfrm>
        </p:grpSpPr>
        <p:sp>
          <p:nvSpPr>
            <p:cNvPr id="327" name=""/>
            <p:cNvSpPr/>
            <p:nvPr/>
          </p:nvSpPr>
          <p:spPr>
            <a:xfrm>
              <a:off x="990720" y="4784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00200" y="47847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4954680"/>
              <a:ext cx="457200" cy="45720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2595600" y="4871880"/>
                  <a:ext cx="752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2514600" y="5716440"/>
                  <a:ext cx="98748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cxnSp>
          <p:nvCxnSpPr>
            <p:cNvPr id="332" name=""/>
            <p:cNvCxnSpPr>
              <a:stCxn id="329" idx="6"/>
            </p:cNvCxnSpPr>
            <p:nvPr/>
          </p:nvCxnSpPr>
          <p:spPr>
            <a:xfrm flipV="1">
              <a:off x="1828800" y="5176440"/>
              <a:ext cx="76752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3" name=""/>
            <p:cNvCxnSpPr>
              <a:endCxn id="329" idx="2"/>
            </p:cNvCxnSpPr>
            <p:nvPr/>
          </p:nvCxnSpPr>
          <p:spPr>
            <a:xfrm>
              <a:off x="761760" y="5181120"/>
              <a:ext cx="6102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</p:cxnSp>
        <p:cxnSp>
          <p:nvCxnSpPr>
            <p:cNvPr id="334" name=""/>
            <p:cNvCxnSpPr/>
            <p:nvPr/>
          </p:nvCxnSpPr>
          <p:spPr>
            <a:xfrm>
              <a:off x="3348000" y="5176800"/>
              <a:ext cx="154800" cy="845280"/>
            </a:xfrm>
            <a:prstGeom prst="bentConnector3">
              <a:avLst>
                <a:gd name="adj1" fmla="val 59370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5" name=""/>
            <p:cNvCxnSpPr>
              <a:endCxn id="329" idx="4"/>
            </p:cNvCxnSpPr>
            <p:nvPr/>
          </p:nvCxnSpPr>
          <p:spPr>
            <a:xfrm rot="10800000">
              <a:off x="1599480" y="5411160"/>
              <a:ext cx="915120" cy="610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6" name=""/>
            <p:cNvSpPr/>
            <p:nvPr/>
          </p:nvSpPr>
          <p:spPr>
            <a:xfrm>
              <a:off x="1143000" y="53337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4920" y="50734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95680" y="50734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547056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60960" y="5178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5257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plica señal escal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input (0.1V, Td=20ns, Tr=100ns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égimen Transitori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e toma tiempo al Opamp responder a la señal (no “detecta” inicialmente la retroalimentación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lpable: Retrasos asociados a los dispositivos que conforman el OPAMP + Slew Rat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5410080" y="1679400"/>
            <a:ext cx="3733920" cy="22798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477120" y="5410080"/>
            <a:ext cx="2590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Análisis realizado con PSPICE: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Análisis “Transi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lcanza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bias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de “lazo cerrado” &lt;&lt; “lazo abiert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0760" y="3448080"/>
            <a:ext cx="7416720" cy="3181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038480" y="4038480"/>
            <a:ext cx="297180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égimen permane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 “lazo cerrado”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in “-” iguala al pin “+”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9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etroalimentación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régimen perman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de la entrada diferencial casi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100mV;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99.765mV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0.235mV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tiene qu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0" y="3535200"/>
            <a:ext cx="7284960" cy="3170520"/>
            <a:chOff x="0" y="3535200"/>
            <a:chExt cx="7284960" cy="317052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0" y="3535200"/>
              <a:ext cx="7284960" cy="31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962520" y="4800600"/>
              <a:ext cx="2971800" cy="106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égimen permanente: </a:t>
              </a:r>
              <a:br>
                <a:rPr sz="1600"/>
              </a:b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Bias  implica diferencia respecto al valor 11*100 mV=1.1 V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no Inversor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Transitori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320" y="190476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PAMP tiene tiempo de respuesta ~ 1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e aplica Vinput (0.1V, Td=20ns,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Tr=20u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tar que “no se retrasa en responder”, a diferencia de cuando tenía Tr=100ns=0.1u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azón: “se da cuenta” tempranamente que exist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733920" cy="2279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7391520" cy="3170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200400" y="3714840"/>
            <a:ext cx="38862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abricante: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ndica la “slew-rate” del Opamp. Esta entrega la máxima tasa de crecimiento de la entrada que el Opamp es capaz de seguir.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alor Típico: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V /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1: Fuente de Corrien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versor Voltaje a Corri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os operacionales tienen retroalimentación negativ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ines a igual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circula p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ambién (alta impedancia OPAMP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iene voltaje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 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5240" y="1752480"/>
            <a:ext cx="4263840" cy="4321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229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0120" y="380988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con d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ñales deben superar 0.6V: No 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ctificador Activ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o de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Útil en aplicacione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figuración propuesta no considera el efecto de la Slew Ra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 de conmutación del diodo es import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64832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57200" y="1828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6095880" y="1427040"/>
            <a:ext cx="29718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8381880" cy="45496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 flipV="1">
            <a:off x="1676520" y="37335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441972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la Slew Ra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¿Qué lo provoca?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Respuesta: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odo “lento” (1N4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kHz, diodo 1N4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38080" y="441972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fecto 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666880" y="342864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4648320"/>
            <a:ext cx="1523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172200" y="1427040"/>
            <a:ext cx="2971800" cy="2078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57200" y="16002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mulación PSPICE: f=100 kHz, diodo 1N4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. Solu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40972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 + saturación negativa de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lew Rate: Cambiar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Negativa: Evitar que la salida “baje” tanto: Diodo D2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6320" y="2416320"/>
            <a:ext cx="54100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 2: Rectificador Activo: Solu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2184480"/>
            <a:ext cx="8077320" cy="4384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943600" y="1452600"/>
            <a:ext cx="3200400" cy="2414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52280" y="181296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ulación PSPICE: f=100 kHz (Notar cambio de f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tera características d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de Band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: Ideales para retroalimentación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analizar en forma simple el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del OPA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s de entrada despreciab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es entrada diferencial al mismo potenci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tricc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ociadas a características reales de los OPAMPs y los dispositivos existentes en los lazos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los efectos de la retroalimentación negativa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Gana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Estudiar aplicaciones bás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ner atención a las limitaciones de los dispositivos y su efecto en los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ermite alterar comportamiento de amplific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 de entrada-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, respuesta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abi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dos “sabores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41148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loqu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: Entrega señal diferencia entre entrada y la señal retroaliment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mplificador Básico (puede ser 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eador: Recoje una “muestra” de la señal en la etapa de salid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voltaje o corriente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d Retroalimentación: Toma la muestra de la señal de salida y la amplifica p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. Entrega al comparador la señal de retroaliment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280" y="1828800"/>
            <a:ext cx="8839440" cy="2362320"/>
            <a:chOff x="152280" y="1828800"/>
            <a:chExt cx="8839440" cy="2362320"/>
          </a:xfrm>
        </p:grpSpPr>
        <p:sp>
          <p:nvSpPr>
            <p:cNvPr id="99" name=""/>
            <p:cNvSpPr/>
            <p:nvPr/>
          </p:nvSpPr>
          <p:spPr>
            <a:xfrm>
              <a:off x="152280" y="2209680"/>
              <a:ext cx="9907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0200" y="2209680"/>
              <a:ext cx="121932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mpar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05320" y="1981080"/>
              <a:ext cx="251460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mplificador Bá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anancia lazo abierto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5720" y="2209680"/>
              <a:ext cx="1371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uestre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143000" y="2286000"/>
              <a:ext cx="456840" cy="457200"/>
              <a:chOff x="1143000" y="2286000"/>
              <a:chExt cx="456840" cy="457200"/>
            </a:xfrm>
          </p:grpSpPr>
          <p:sp>
            <p:nvSpPr>
              <p:cNvPr id="104" name=""/>
              <p:cNvSpPr/>
              <p:nvPr/>
            </p:nvSpPr>
            <p:spPr>
              <a:xfrm>
                <a:off x="1143000" y="22860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3000" y="27432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819520" y="2286000"/>
              <a:ext cx="685080" cy="457200"/>
              <a:chOff x="2819520" y="2286000"/>
              <a:chExt cx="685080" cy="457200"/>
            </a:xfrm>
          </p:grpSpPr>
          <p:sp>
            <p:nvSpPr>
              <p:cNvPr id="107" name=""/>
              <p:cNvSpPr/>
              <p:nvPr/>
            </p:nvSpPr>
            <p:spPr>
              <a:xfrm>
                <a:off x="28195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8195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019920" y="2286000"/>
              <a:ext cx="685080" cy="457200"/>
              <a:chOff x="6019920" y="2286000"/>
              <a:chExt cx="685080" cy="457200"/>
            </a:xfrm>
          </p:grpSpPr>
          <p:sp>
            <p:nvSpPr>
              <p:cNvPr id="110" name=""/>
              <p:cNvSpPr/>
              <p:nvPr/>
            </p:nvSpPr>
            <p:spPr>
              <a:xfrm>
                <a:off x="6019920" y="22860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19920" y="2743200"/>
                <a:ext cx="68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8457840" y="2362320"/>
              <a:ext cx="152640" cy="336600"/>
              <a:chOff x="8457840" y="2362320"/>
              <a:chExt cx="152640" cy="336600"/>
            </a:xfrm>
          </p:grpSpPr>
          <p:sp>
            <p:nvSpPr>
              <p:cNvPr id="113" name=""/>
              <p:cNvSpPr/>
              <p:nvPr/>
            </p:nvSpPr>
            <p:spPr>
              <a:xfrm rot="5400000">
                <a:off x="8562240" y="2336760"/>
                <a:ext cx="22320" cy="730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6"/>
                    </a:moveTo>
                    <a:lnTo>
                      <a:pt x="1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8458200" y="23842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458200" y="2441880"/>
                <a:ext cx="15228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8458200" y="24984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458200" y="255600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8458200" y="2612880"/>
                <a:ext cx="15228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8480160" y="2648160"/>
                <a:ext cx="28440" cy="730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8534520" y="23302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77320" y="2286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34520" y="22827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732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34520" y="269388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1" y="3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505320"/>
              <a:ext cx="472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981080" y="2819520"/>
              <a:ext cx="457200" cy="304560"/>
              <a:chOff x="1981080" y="2819520"/>
              <a:chExt cx="457200" cy="304560"/>
            </a:xfrm>
          </p:grpSpPr>
          <p:sp>
            <p:nvSpPr>
              <p:cNvPr id="127" name=""/>
              <p:cNvSpPr/>
              <p:nvPr/>
            </p:nvSpPr>
            <p:spPr>
              <a:xfrm>
                <a:off x="24382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8108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162920" y="2819520"/>
              <a:ext cx="457200" cy="304560"/>
              <a:chOff x="7162920" y="2819520"/>
              <a:chExt cx="45720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76201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62920" y="28195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2" name=""/>
            <p:cNvCxnSpPr>
              <a:stCxn id="131" idx="0"/>
              <a:endCxn id="125" idx="0"/>
            </p:cNvCxnSpPr>
            <p:nvPr/>
          </p:nvCxnSpPr>
          <p:spPr>
            <a:xfrm>
              <a:off x="7159320" y="3120840"/>
              <a:ext cx="396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7" idx="0"/>
              <a:endCxn id="125" idx="0"/>
            </p:cNvCxnSpPr>
            <p:nvPr/>
          </p:nvCxnSpPr>
          <p:spPr>
            <a:xfrm>
              <a:off x="2435400" y="3120840"/>
              <a:ext cx="3600" cy="38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1981080" y="3962520"/>
              <a:ext cx="563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8" idx="0"/>
              <a:endCxn id="134" idx="0"/>
            </p:cNvCxnSpPr>
            <p:nvPr/>
          </p:nvCxnSpPr>
          <p:spPr>
            <a:xfrm>
              <a:off x="1978200" y="3120840"/>
              <a:ext cx="360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30" idx="0"/>
              <a:endCxn id="134" idx="1"/>
            </p:cNvCxnSpPr>
            <p:nvPr/>
          </p:nvCxnSpPr>
          <p:spPr>
            <a:xfrm>
              <a:off x="7616520" y="3120840"/>
              <a:ext cx="3960" cy="84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" name=""/>
            <p:cNvSpPr/>
            <p:nvPr/>
          </p:nvSpPr>
          <p:spPr>
            <a:xfrm>
              <a:off x="3886200" y="3276720"/>
              <a:ext cx="18288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etroali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Ganancia 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429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29000" y="37339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5812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954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588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5880" y="23623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1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01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01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895480" y="1828800"/>
              <a:ext cx="533520" cy="459720"/>
              <a:chOff x="2895480" y="1828800"/>
              <a:chExt cx="533520" cy="459720"/>
            </a:xfrm>
          </p:grpSpPr>
          <p:sp>
            <p:nvSpPr>
              <p:cNvPr id="151" name=""/>
              <p:cNvSpPr/>
              <p:nvPr/>
            </p:nvSpPr>
            <p:spPr>
              <a:xfrm>
                <a:off x="289548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954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095880" y="1828800"/>
              <a:ext cx="533520" cy="459720"/>
              <a:chOff x="6095880" y="1828800"/>
              <a:chExt cx="533520" cy="459720"/>
            </a:xfrm>
          </p:grpSpPr>
          <p:sp>
            <p:nvSpPr>
              <p:cNvPr id="154" name=""/>
              <p:cNvSpPr/>
              <p:nvPr/>
            </p:nvSpPr>
            <p:spPr>
              <a:xfrm>
                <a:off x="6095880" y="182880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9588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905120" y="3581280"/>
              <a:ext cx="533160" cy="459720"/>
              <a:chOff x="1905120" y="3581280"/>
              <a:chExt cx="533160" cy="459720"/>
            </a:xfrm>
          </p:grpSpPr>
          <p:sp>
            <p:nvSpPr>
              <p:cNvPr id="157" name=""/>
              <p:cNvSpPr/>
              <p:nvPr/>
            </p:nvSpPr>
            <p:spPr>
              <a:xfrm>
                <a:off x="1905120" y="3581280"/>
                <a:ext cx="5331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905120" y="373392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143000" y="22096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43000" y="25146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23623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143000" y="1828800"/>
              <a:ext cx="533520" cy="459720"/>
              <a:chOff x="1143000" y="1828800"/>
              <a:chExt cx="533520" cy="459720"/>
            </a:xfrm>
          </p:grpSpPr>
          <p:sp>
            <p:nvSpPr>
              <p:cNvPr id="163" name=""/>
              <p:cNvSpPr/>
              <p:nvPr/>
            </p:nvSpPr>
            <p:spPr>
              <a:xfrm>
                <a:off x="1143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3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001000" y="1828800"/>
              <a:ext cx="533520" cy="459720"/>
              <a:chOff x="8001000" y="1828800"/>
              <a:chExt cx="533520" cy="459720"/>
            </a:xfrm>
          </p:grpSpPr>
          <p:sp>
            <p:nvSpPr>
              <p:cNvPr id="166" name=""/>
              <p:cNvSpPr/>
              <p:nvPr/>
            </p:nvSpPr>
            <p:spPr>
              <a:xfrm>
                <a:off x="8001000" y="1828800"/>
                <a:ext cx="53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s-ES_tradnl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01000" y="1981440"/>
                <a:ext cx="53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Topologí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serie (voltaje): aumenta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paralelo (corriente): reduce la impedancia de entr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ad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oltaje: reduce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: aumenta la impedancia de sali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 de Retro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ormada usualmente por elementos pasivo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bles Topologías: cuatro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Combinaciones entre las topologías de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uestra (Voltaje-Corriente) y comparación (Serie- Paralelo)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tación: la topología de feedback se denotará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Muestra-Compa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topología voltaje-serie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toma muestra de voltaje a la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lida y la una parte de esta se ubica en serie al circuito de la entrad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conduct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mpeda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estreo”: Corriente,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ción”: Voltaje (serie), Corriente (paralelo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81480" y="1981080"/>
            <a:ext cx="3124080" cy="1371600"/>
            <a:chOff x="5181480" y="1981080"/>
            <a:chExt cx="3124080" cy="1371600"/>
          </a:xfrm>
        </p:grpSpPr>
        <p:grpSp>
          <p:nvGrpSpPr>
            <p:cNvPr id="173" name=""/>
            <p:cNvGrpSpPr/>
            <p:nvPr/>
          </p:nvGrpSpPr>
          <p:grpSpPr>
            <a:xfrm>
              <a:off x="5181480" y="1981080"/>
              <a:ext cx="3124080" cy="1371600"/>
              <a:chOff x="5181480" y="1981080"/>
              <a:chExt cx="3124080" cy="13716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410080" y="2209680"/>
                <a:ext cx="2895480" cy="1143000"/>
                <a:chOff x="5410080" y="2209680"/>
                <a:chExt cx="2895480" cy="1143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476760" y="22096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76760" y="2895480"/>
                  <a:ext cx="914400" cy="45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14640" y="2253960"/>
                  <a:ext cx="381240" cy="380880"/>
                </a:xfrm>
                <a:prstGeom prst="flowChartSummingJunction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8" name=""/>
                <p:cNvCxnSpPr>
                  <a:stCxn id="177" idx="4"/>
                  <a:endCxn id="176" idx="1"/>
                </p:cNvCxnSpPr>
                <p:nvPr/>
              </p:nvCxnSpPr>
              <p:spPr>
                <a:xfrm flipH="1" rot="16200000">
                  <a:off x="5945760" y="2593080"/>
                  <a:ext cx="489600" cy="57204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cxnSp>
              <p:nvCxnSpPr>
                <p:cNvPr id="179" name=""/>
                <p:cNvCxnSpPr>
                  <a:stCxn id="177" idx="6"/>
                  <a:endCxn id="175" idx="1"/>
                </p:cNvCxnSpPr>
                <p:nvPr/>
              </p:nvCxnSpPr>
              <p:spPr>
                <a:xfrm flipV="1">
                  <a:off x="6095880" y="2437560"/>
                  <a:ext cx="381600" cy="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80" name=""/>
                <p:cNvSpPr/>
                <p:nvPr/>
              </p:nvSpPr>
              <p:spPr>
                <a:xfrm>
                  <a:off x="73911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1" name=""/>
                <p:cNvCxnSpPr>
                  <a:stCxn id="176" idx="3"/>
                  <a:endCxn id="180" idx="0"/>
                </p:cNvCxnSpPr>
                <p:nvPr/>
              </p:nvCxnSpPr>
              <p:spPr>
                <a:xfrm flipV="1">
                  <a:off x="7391160" y="2437560"/>
                  <a:ext cx="457920" cy="68652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</p:cxnSp>
            <p:sp>
              <p:nvSpPr>
                <p:cNvPr id="182" name=""/>
                <p:cNvSpPr/>
                <p:nvPr/>
              </p:nvSpPr>
              <p:spPr>
                <a:xfrm>
                  <a:off x="5410080" y="24382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848360" y="24382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lg" type="oval" w="lg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5434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8148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43240" y="19810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7280" y="266688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486040" y="2025360"/>
              <a:ext cx="838440" cy="826560"/>
              <a:chOff x="5486040" y="2025360"/>
              <a:chExt cx="838440" cy="826560"/>
            </a:xfrm>
          </p:grpSpPr>
          <p:sp>
            <p:nvSpPr>
              <p:cNvPr id="189" name=""/>
              <p:cNvSpPr/>
              <p:nvPr/>
            </p:nvSpPr>
            <p:spPr>
              <a:xfrm>
                <a:off x="5486040" y="202536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7280" y="25146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10080" y="3581280"/>
                <a:ext cx="1524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315200" y="3581280"/>
                <a:ext cx="1046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β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122800" y="4267080"/>
                <a:ext cx="36403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Ganancia Lazo Cerra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1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/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ganancia se estabiliza (antes variaba bastante, ahora es tan estable como lo es la red de retroaliment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 la Linealidad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: Amplificador de Voltaje con retroalimentación voltaje-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umenta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salida disminuye: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f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(1+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715000" y="2057400"/>
                <a:ext cx="23004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7" name=""/>
          <p:cNvGrpSpPr/>
          <p:nvPr/>
        </p:nvGrpSpPr>
        <p:grpSpPr>
          <a:xfrm>
            <a:off x="5029200" y="3048120"/>
            <a:ext cx="3733920" cy="3120840"/>
            <a:chOff x="5029200" y="3048120"/>
            <a:chExt cx="3733920" cy="3120840"/>
          </a:xfrm>
        </p:grpSpPr>
        <p:grpSp>
          <p:nvGrpSpPr>
            <p:cNvPr id="198" name=""/>
            <p:cNvGrpSpPr/>
            <p:nvPr/>
          </p:nvGrpSpPr>
          <p:grpSpPr>
            <a:xfrm>
              <a:off x="5349960" y="3048120"/>
              <a:ext cx="3057480" cy="2322360"/>
              <a:chOff x="5349960" y="3048120"/>
              <a:chExt cx="3057480" cy="2322360"/>
            </a:xfrm>
          </p:grpSpPr>
          <p:pic>
            <p:nvPicPr>
              <p:cNvPr id="1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49960" y="3557520"/>
                <a:ext cx="3057480" cy="128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5960" y="3048120"/>
                <a:ext cx="2548080" cy="2322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1" name=""/>
            <p:cNvSpPr/>
            <p:nvPr/>
          </p:nvSpPr>
          <p:spPr>
            <a:xfrm>
              <a:off x="6568920" y="4303800"/>
              <a:ext cx="304920" cy="2840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0160" y="426708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27880" y="428472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27880" y="4398840"/>
              <a:ext cx="40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9200" y="336564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29200" y="449568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19920" y="3962520"/>
              <a:ext cx="736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(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- 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08560" y="4029120"/>
              <a:ext cx="106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32440" y="3809880"/>
              <a:ext cx="1067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77120" y="3084480"/>
              <a:ext cx="88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pos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77120" y="5065560"/>
              <a:ext cx="934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eg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&lt;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26360" y="5154480"/>
              <a:ext cx="101520" cy="9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26360" y="3170160"/>
              <a:ext cx="101520" cy="9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31989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77120" y="497520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3280" y="392580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5520" y="3935520"/>
              <a:ext cx="571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6629400" y="5638680"/>
              <a:ext cx="914400" cy="530280"/>
              <a:chOff x="6629400" y="5638680"/>
              <a:chExt cx="914400" cy="53028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7010280" y="5867280"/>
                <a:ext cx="141480" cy="301680"/>
                <a:chOff x="7010280" y="5867280"/>
                <a:chExt cx="141480" cy="30168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7010280" y="6106320"/>
                  <a:ext cx="141480" cy="62640"/>
                  <a:chOff x="7010280" y="6106320"/>
                  <a:chExt cx="141480" cy="6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7010280" y="6106320"/>
                    <a:ext cx="141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33680" y="6137640"/>
                    <a:ext cx="94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057080" y="6168960"/>
                    <a:ext cx="47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>
                  <a:off x="7083000" y="5870880"/>
                  <a:ext cx="0" cy="23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044120" y="5867280"/>
                  <a:ext cx="802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6629400" y="56386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7" name=""/>
            <p:cNvCxnSpPr>
              <a:stCxn id="199" idx="3"/>
              <a:endCxn id="226" idx="3"/>
            </p:cNvCxnSpPr>
            <p:nvPr/>
          </p:nvCxnSpPr>
          <p:spPr>
            <a:xfrm flipH="1">
              <a:off x="7543080" y="4199040"/>
              <a:ext cx="864360" cy="1629360"/>
            </a:xfrm>
            <a:prstGeom prst="bentConnector3">
              <a:avLst>
                <a:gd name="adj1" fmla="val -264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6" idx="1"/>
              <a:endCxn id="206" idx="2"/>
            </p:cNvCxnSpPr>
            <p:nvPr/>
          </p:nvCxnSpPr>
          <p:spPr>
            <a:xfrm rot="10800000">
              <a:off x="5333400" y="4799880"/>
              <a:ext cx="129600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Efect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mpedancias: Gener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muestreada” mejora su desempeño (Sali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estreo corri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sali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variable “comparada” mejora su desempeño (Entrad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rie (voltaj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ay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lelo (corriente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de entrada men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648320" y="1752480"/>
                <a:ext cx="44384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213520" y="3048120"/>
                <a:ext cx="33699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&gt;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257800" y="4114800"/>
                <a:ext cx="3392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398920" y="5040360"/>
                <a:ext cx="31640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43:44Z</dcterms:modified>
  <cp:revision>895</cp:revision>
  <dc:subject>Retroalimentación (I)</dc:subject>
  <dc:title>Clase 19</dc:title>
</cp:coreProperties>
</file>