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B7C76-6786-42A3-886A-DE63902899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AA513-0497-49B3-887A-0277E4E03A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12AA0-9AB4-421B-B84F-AC2F580E54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FFFF4-1395-4AE9-AFB4-2178960CDD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F9C7-8B0B-40CC-88A1-EC2D06974E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F6C9-DCF1-449B-B909-BAB9358032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21CC-FC3D-482E-B58C-42C6D5227B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07B6-C798-4142-9A76-3EA703CBAE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DC1F-DE75-4613-8892-500DF1C8A0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6EE3-8863-4D98-A5FA-FF5CFB35FA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2129-F8F0-4350-89B6-6145508BC7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F86D3-1F02-440F-9223-1144618D4B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C313-06A2-4F7A-8E9B-F985B88EF3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EABE-3BB2-4C77-BFA5-F4EA9FC51D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F66F-1A32-4B11-BBB1-765C4643DE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C26A-5304-4585-B34A-4E9DED0B0D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DF80-3CEB-40FB-9353-AEA24E4DC7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F9585-3DAA-4A13-91C0-6D47A13D12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E60D1-04D2-4361-8ED9-BE63EB9224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0145E-7284-4787-BEB7-1D293654C4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85A3B-D582-4671-8D3A-7DF8D99409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085EF-AFC9-47D3-9398-A69F3D4E74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0B114-4AFB-455F-8B45-C3CE012CE5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D9E22-063C-4AB1-A61B-057FB315B3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5840-8B3F-4F5F-AC91-620318489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B9F7-E24F-4479-8F67-97D48C60C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Entrad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uente de Corriente “arriba” (Q8+Q9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ga Activa “abajo” (Q5+Q6+Q7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 Miller mínim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lectores de Q1 y Q2 “fijos” a 15-0.7 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figuración Cascod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1+Q3 y Q2+Q4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ermite gran impedancia de Salida (colectores de Q4 y Q6 en paralelo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114800" y="1523880"/>
            <a:ext cx="4694400" cy="46404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114800" y="289548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19920" y="289548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411480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4495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9920" y="44197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Entrad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álisi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larización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rantizar que los Transistores se encuentren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zona Ac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termina valores de impedancias y gan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pagación de Variacione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ortamiento Dinámic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álisis será a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baja frecuencia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ntroduce filtro pasabajos, por lo qu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amplificación dependerá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 la frecuencia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449600" y="1523880"/>
            <a:ext cx="4694400" cy="4640400"/>
            <a:chOff x="4449600" y="1523880"/>
            <a:chExt cx="4694400" cy="464040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4449600" y="1523880"/>
              <a:ext cx="4694400" cy="464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449600" y="289548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54720" y="289548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35800" y="411480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07000" y="4495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354720" y="441972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Entrada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pagación de Variacion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Diferencial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 “fijo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: Colector de Q6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114800" y="1523880"/>
            <a:ext cx="4694400" cy="4640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114800" y="289548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289548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001000" y="411480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72200" y="4495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19920" y="44197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523880" y="3090960"/>
                <a:ext cx="13716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5181480" y="35812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887400" y="3471840"/>
                <a:ext cx="26478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876240" y="3929040"/>
                <a:ext cx="272412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914400" y="4314960"/>
                <a:ext cx="268776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y  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371600" y="5638680"/>
                <a:ext cx="18032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065240" y="4924440"/>
                <a:ext cx="23860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4648320" y="3473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33973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33973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91320" y="3473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4540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57800" y="434340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Entrada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962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Ent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de Transconduct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84280" y="2286000"/>
                <a:ext cx="34178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μ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k</m:t>
                        </m:r>
                      </m:den>
                    </m:f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80" name=""/>
          <p:cNvGrpSpPr/>
          <p:nvPr/>
        </p:nvGrpSpPr>
        <p:grpSpPr>
          <a:xfrm>
            <a:off x="4297320" y="1523880"/>
            <a:ext cx="4694400" cy="4640400"/>
            <a:chOff x="4297320" y="1523880"/>
            <a:chExt cx="4694400" cy="4640400"/>
          </a:xfrm>
        </p:grpSpPr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4297320" y="1523880"/>
              <a:ext cx="4694400" cy="464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4297320" y="289548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26120" y="289548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183520" y="411480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54720" y="4495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02440" y="441972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64000" y="358128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30840" y="3473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30840" y="339732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73840" y="339732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73840" y="3473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73840" y="4540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40320" y="434340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29718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609480" y="5257800"/>
                <a:ext cx="32767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μA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8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066680" y="3336840"/>
                <a:ext cx="262116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03040" y="4059360"/>
                <a:ext cx="405468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μA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304920" y="48006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 (Q4//Q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1676520" y="56386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6095880"/>
            <a:ext cx="3962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iendo estricto debería considerarse una corrección 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por retroalimentación, pero es despreci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Entrada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delo Amplificad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de Transconduct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ayor ganancia implica impedancia de carga al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k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-0.18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838080" y="4044960"/>
            <a:ext cx="5867640" cy="1720800"/>
            <a:chOff x="838080" y="4044960"/>
            <a:chExt cx="5867640" cy="1720800"/>
          </a:xfrm>
        </p:grpSpPr>
        <p:cxnSp>
          <p:nvCxnSpPr>
            <p:cNvPr id="204" name=""/>
            <p:cNvCxnSpPr>
              <a:stCxn id="205" idx="6"/>
              <a:endCxn id="206" idx="0"/>
            </p:cNvCxnSpPr>
            <p:nvPr/>
          </p:nvCxnSpPr>
          <p:spPr>
            <a:xfrm>
              <a:off x="1398600" y="4106520"/>
              <a:ext cx="705240" cy="631080"/>
            </a:xfrm>
            <a:prstGeom prst="bentConnector3">
              <a:avLst>
                <a:gd name="adj1" fmla="val 100919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207" name=""/>
            <p:cNvGrpSpPr/>
            <p:nvPr/>
          </p:nvGrpSpPr>
          <p:grpSpPr>
            <a:xfrm>
              <a:off x="1996920" y="4740120"/>
              <a:ext cx="204480" cy="455040"/>
              <a:chOff x="1996920" y="4740120"/>
              <a:chExt cx="204480" cy="455040"/>
            </a:xfrm>
          </p:grpSpPr>
          <p:sp>
            <p:nvSpPr>
              <p:cNvPr id="206" name=""/>
              <p:cNvSpPr/>
              <p:nvPr/>
            </p:nvSpPr>
            <p:spPr>
              <a:xfrm rot="5400000">
                <a:off x="2137320" y="4705920"/>
                <a:ext cx="29880" cy="9792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1996920" y="4769640"/>
                <a:ext cx="2044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996920" y="4847760"/>
                <a:ext cx="204480" cy="7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1996920" y="4924440"/>
                <a:ext cx="2044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996920" y="5002200"/>
                <a:ext cx="2044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1996920" y="5079240"/>
                <a:ext cx="2044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5400000">
                <a:off x="2027160" y="5127120"/>
                <a:ext cx="38160" cy="9792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4" name=""/>
            <p:cNvCxnSpPr>
              <a:stCxn id="213" idx="0"/>
              <a:endCxn id="215" idx="6"/>
            </p:cNvCxnSpPr>
            <p:nvPr/>
          </p:nvCxnSpPr>
          <p:spPr>
            <a:xfrm flipH="1">
              <a:off x="1398240" y="5192640"/>
              <a:ext cx="695520" cy="510480"/>
            </a:xfrm>
            <a:prstGeom prst="bentConnector3">
              <a:avLst>
                <a:gd name="adj1" fmla="val -1346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16" name=""/>
            <p:cNvSpPr/>
            <p:nvPr/>
          </p:nvSpPr>
          <p:spPr>
            <a:xfrm>
              <a:off x="2133720" y="4724280"/>
              <a:ext cx="1218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n(dif)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=1M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68400" y="432756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68400" y="505152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76440" y="4638600"/>
              <a:ext cx="615960" cy="61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0" name=""/>
            <p:cNvCxnSpPr>
              <a:stCxn id="219" idx="0"/>
              <a:endCxn id="221" idx="2"/>
            </p:cNvCxnSpPr>
            <p:nvPr/>
          </p:nvCxnSpPr>
          <p:spPr>
            <a:xfrm flipH="1" flipV="1" rot="5400000">
              <a:off x="4869360" y="2926080"/>
              <a:ext cx="527760" cy="2898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2" name=""/>
            <p:cNvCxnSpPr>
              <a:stCxn id="223" idx="3"/>
              <a:endCxn id="219" idx="4"/>
            </p:cNvCxnSpPr>
            <p:nvPr/>
          </p:nvCxnSpPr>
          <p:spPr>
            <a:xfrm flipV="1" rot="16200000">
              <a:off x="4894920" y="4043880"/>
              <a:ext cx="494640" cy="2914920"/>
            </a:xfrm>
            <a:prstGeom prst="bentConnector3">
              <a:avLst>
                <a:gd name="adj1" fmla="val 866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4" name=""/>
            <p:cNvSpPr/>
            <p:nvPr/>
          </p:nvSpPr>
          <p:spPr>
            <a:xfrm>
              <a:off x="3341520" y="47847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5181840" y="4740120"/>
              <a:ext cx="206640" cy="455040"/>
              <a:chOff x="5181840" y="4740120"/>
              <a:chExt cx="206640" cy="455040"/>
            </a:xfrm>
          </p:grpSpPr>
          <p:sp>
            <p:nvSpPr>
              <p:cNvPr id="226" name=""/>
              <p:cNvSpPr/>
              <p:nvPr/>
            </p:nvSpPr>
            <p:spPr>
              <a:xfrm rot="5400000">
                <a:off x="5323680" y="4705560"/>
                <a:ext cx="29880" cy="9900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5182200" y="4769640"/>
                <a:ext cx="2062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182200" y="4847760"/>
                <a:ext cx="206280" cy="7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5182200" y="4924440"/>
                <a:ext cx="2062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82200" y="5002200"/>
                <a:ext cx="2062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5182200" y="5079240"/>
                <a:ext cx="2062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5400000">
                <a:off x="5212080" y="5126400"/>
                <a:ext cx="38160" cy="9900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33" name=""/>
            <p:cNvCxnSpPr>
              <a:stCxn id="226" idx="0"/>
            </p:cNvCxnSpPr>
            <p:nvPr/>
          </p:nvCxnSpPr>
          <p:spPr>
            <a:xfrm flipV="1">
              <a:off x="5287680" y="4122000"/>
              <a:ext cx="1080" cy="61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34" name=""/>
            <p:cNvSpPr/>
            <p:nvPr/>
          </p:nvSpPr>
          <p:spPr>
            <a:xfrm>
              <a:off x="5284800" y="518148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80120" y="4768920"/>
              <a:ext cx="1425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(dif)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=8M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33920" y="4419720"/>
              <a:ext cx="1371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(-1/5)mA/V  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76200" y="404496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76200" y="5640480"/>
              <a:ext cx="12240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81880" y="564192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581880" y="4049640"/>
              <a:ext cx="12384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8080" y="474012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Ganancia Intermedi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5867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Entrada requiere alta impedanci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baja gan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 necesaria etapa de ganancia adicion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querimient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 “alta” (para tener gran voltaje de entrada) pero “pequeña” comparada con la de salida de la etapa diferencial (para no cargar la fuen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en voltaje al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16 Seguidor de Emis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17 Emisor Común con carga ac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ablemente cumplirá con los requisit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705720" y="1447920"/>
            <a:ext cx="19526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Ganancia Intermedi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álisi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Q13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paralelo con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Q17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irando” por la base de Q16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“grande”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6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6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6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9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7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“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(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ensador Cc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odificación de Respuesta en frecuencia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écnica de separación de polos para brindar estabilidad en lazo cerrado (próxima clas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705720" y="1447920"/>
            <a:ext cx="19526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Ganancia Intermedia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tapa de Ganancia Intermed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Q16 seguidor de emi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27432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Q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595440" y="3191040"/>
                <a:ext cx="380664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k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441360" y="3657600"/>
                <a:ext cx="44067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μA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k</m:t>
                        </m:r>
                        <m:r>
                          <m:t xml:space="preserve">‖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A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44640" y="4481640"/>
                <a:ext cx="338436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k</m:t>
                        </m:r>
                        <m:r>
                          <m:t xml:space="preserve">‖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304920" y="49528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e Salida Q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227240" y="5410080"/>
                <a:ext cx="26938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k</m:t>
                    </m:r>
                    <m:r>
                      <m:t xml:space="preserve">‖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if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492200" y="5943600"/>
                <a:ext cx="21477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k</m:t>
                    </m:r>
                    <m:r>
                      <m:t xml:space="preserve">‖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k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6705720" y="1447920"/>
            <a:ext cx="19526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Ganancia Intermedia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590920" y="3200400"/>
                <a:ext cx="15318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76320" y="189396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 Q17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28600" y="2362320"/>
                <a:ext cx="35640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A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768920" y="2498760"/>
                <a:ext cx="7477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587760" y="1876320"/>
                <a:ext cx="174636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‖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76320" y="49528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de Voltaje Q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460520" y="5429160"/>
                <a:ext cx="30621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Q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76320" y="38098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 Q17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496880" y="4343400"/>
                <a:ext cx="31147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705720" y="1447920"/>
            <a:ext cx="19526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Ganancia Intermedia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delo Amplificad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quivalente del conjun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es en Casc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7000920" y="5519880"/>
                <a:ext cx="10922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Q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6781680" y="4114800"/>
                <a:ext cx="1400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000080" y="6137280"/>
                <a:ext cx="138600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0" name=""/>
          <p:cNvGrpSpPr/>
          <p:nvPr/>
        </p:nvGrpSpPr>
        <p:grpSpPr>
          <a:xfrm>
            <a:off x="457200" y="4437000"/>
            <a:ext cx="3733920" cy="1700280"/>
            <a:chOff x="457200" y="4437000"/>
            <a:chExt cx="3733920" cy="1700280"/>
          </a:xfrm>
        </p:grpSpPr>
        <p:cxnSp>
          <p:nvCxnSpPr>
            <p:cNvPr id="271" name=""/>
            <p:cNvCxnSpPr>
              <a:endCxn id="272" idx="0"/>
            </p:cNvCxnSpPr>
            <p:nvPr/>
          </p:nvCxnSpPr>
          <p:spPr>
            <a:xfrm flipH="1" rot="16200000">
              <a:off x="925560" y="4404960"/>
              <a:ext cx="581400" cy="857880"/>
            </a:xfrm>
            <a:prstGeom prst="bentConnector4">
              <a:avLst>
                <a:gd name="adj1" fmla="val -681"/>
                <a:gd name="adj2" fmla="val 99958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273" name=""/>
            <p:cNvGrpSpPr/>
            <p:nvPr/>
          </p:nvGrpSpPr>
          <p:grpSpPr>
            <a:xfrm>
              <a:off x="1551600" y="5126040"/>
              <a:ext cx="187200" cy="433080"/>
              <a:chOff x="1551600" y="5126040"/>
              <a:chExt cx="187200" cy="433080"/>
            </a:xfrm>
          </p:grpSpPr>
          <p:sp>
            <p:nvSpPr>
              <p:cNvPr id="272" name=""/>
              <p:cNvSpPr/>
              <p:nvPr/>
            </p:nvSpPr>
            <p:spPr>
              <a:xfrm rot="5400000">
                <a:off x="1679400" y="5095440"/>
                <a:ext cx="28440" cy="8964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1551960" y="515448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551960" y="5228280"/>
                <a:ext cx="18684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1551960" y="53013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51960" y="53751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1551960" y="54489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5400000">
                <a:off x="1578240" y="5496120"/>
                <a:ext cx="36360" cy="8964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80" name=""/>
            <p:cNvCxnSpPr>
              <a:stCxn id="279" idx="0"/>
            </p:cNvCxnSpPr>
            <p:nvPr/>
          </p:nvCxnSpPr>
          <p:spPr>
            <a:xfrm flipH="1">
              <a:off x="761400" y="5557680"/>
              <a:ext cx="878760" cy="504000"/>
            </a:xfrm>
            <a:prstGeom prst="bentConnector3">
              <a:avLst>
                <a:gd name="adj1" fmla="val -90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81" name=""/>
            <p:cNvSpPr/>
            <p:nvPr/>
          </p:nvSpPr>
          <p:spPr>
            <a:xfrm>
              <a:off x="1600200" y="5146560"/>
              <a:ext cx="824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n(Q1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200" y="47322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200" y="541944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7200" y="512280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3213360" y="4437000"/>
              <a:ext cx="415440" cy="196560"/>
              <a:chOff x="3213360" y="4437000"/>
              <a:chExt cx="415440" cy="196560"/>
            </a:xfrm>
          </p:grpSpPr>
          <p:sp>
            <p:nvSpPr>
              <p:cNvPr id="286" name=""/>
              <p:cNvSpPr/>
              <p:nvPr/>
            </p:nvSpPr>
            <p:spPr>
              <a:xfrm>
                <a:off x="3213360" y="4437000"/>
                <a:ext cx="27360" cy="9432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 flipV="1">
                <a:off x="324072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3311280" y="4437000"/>
                <a:ext cx="7020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 flipV="1">
                <a:off x="338184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345240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 flipV="1">
                <a:off x="352296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593880" y="4539240"/>
                <a:ext cx="34920" cy="9432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2419560" y="5027400"/>
              <a:ext cx="563400" cy="58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4" name=""/>
            <p:cNvCxnSpPr>
              <a:stCxn id="293" idx="0"/>
              <a:endCxn id="286" idx="0"/>
            </p:cNvCxnSpPr>
            <p:nvPr/>
          </p:nvCxnSpPr>
          <p:spPr>
            <a:xfrm flipH="1" flipV="1" rot="5400000">
              <a:off x="2709000" y="4523040"/>
              <a:ext cx="497520" cy="511920"/>
            </a:xfrm>
            <a:prstGeom prst="bentConnector3">
              <a:avLst>
                <a:gd name="adj1" fmla="val 9833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5" name=""/>
            <p:cNvCxnSpPr>
              <a:stCxn id="292" idx="0"/>
            </p:cNvCxnSpPr>
            <p:nvPr/>
          </p:nvCxnSpPr>
          <p:spPr>
            <a:xfrm flipH="1" flipV="1" rot="5400000">
              <a:off x="3870000" y="4295160"/>
              <a:ext cx="3600" cy="486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6" name=""/>
            <p:cNvCxnSpPr>
              <a:endCxn id="293" idx="4"/>
            </p:cNvCxnSpPr>
            <p:nvPr/>
          </p:nvCxnSpPr>
          <p:spPr>
            <a:xfrm rot="10800000">
              <a:off x="2701440" y="5615640"/>
              <a:ext cx="1413360" cy="445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97" name=""/>
            <p:cNvSpPr/>
            <p:nvPr/>
          </p:nvSpPr>
          <p:spPr>
            <a:xfrm>
              <a:off x="2982960" y="5084640"/>
              <a:ext cx="9795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vQ!6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71680" y="4929120"/>
              <a:ext cx="65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78160" y="5225760"/>
              <a:ext cx="65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76560" y="4592520"/>
              <a:ext cx="885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(Q1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5800" y="44607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85800" y="598464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38840" y="4460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038840" y="59846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249640" y="4125960"/>
                <a:ext cx="239868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M</m:t>
                    </m:r>
                    <m:r>
                      <m:t xml:space="preserve">‖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602240" y="6157800"/>
                <a:ext cx="2396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t xml:space="preserve">β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4419720" y="512280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~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/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4495680" y="4437000"/>
            <a:ext cx="3733560" cy="1700280"/>
            <a:chOff x="4495680" y="4437000"/>
            <a:chExt cx="3733560" cy="1700280"/>
          </a:xfrm>
        </p:grpSpPr>
        <p:cxnSp>
          <p:nvCxnSpPr>
            <p:cNvPr id="309" name=""/>
            <p:cNvCxnSpPr>
              <a:endCxn id="310" idx="0"/>
            </p:cNvCxnSpPr>
            <p:nvPr/>
          </p:nvCxnSpPr>
          <p:spPr>
            <a:xfrm flipH="1" rot="16200000">
              <a:off x="4963680" y="4404960"/>
              <a:ext cx="581400" cy="857880"/>
            </a:xfrm>
            <a:prstGeom prst="bentConnector4">
              <a:avLst>
                <a:gd name="adj1" fmla="val -681"/>
                <a:gd name="adj2" fmla="val 99958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311" name=""/>
            <p:cNvGrpSpPr/>
            <p:nvPr/>
          </p:nvGrpSpPr>
          <p:grpSpPr>
            <a:xfrm>
              <a:off x="5589720" y="5126040"/>
              <a:ext cx="187200" cy="433080"/>
              <a:chOff x="5589720" y="5126040"/>
              <a:chExt cx="187200" cy="433080"/>
            </a:xfrm>
          </p:grpSpPr>
          <p:sp>
            <p:nvSpPr>
              <p:cNvPr id="310" name=""/>
              <p:cNvSpPr/>
              <p:nvPr/>
            </p:nvSpPr>
            <p:spPr>
              <a:xfrm rot="5400000">
                <a:off x="5717520" y="5095440"/>
                <a:ext cx="28440" cy="8964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V="1">
                <a:off x="5590080" y="515448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590080" y="5228280"/>
                <a:ext cx="18684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5590080" y="53013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590080" y="53751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5590080" y="54489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5400000">
                <a:off x="5616360" y="5496120"/>
                <a:ext cx="36360" cy="8964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18" name=""/>
            <p:cNvCxnSpPr>
              <a:stCxn id="317" idx="0"/>
            </p:cNvCxnSpPr>
            <p:nvPr/>
          </p:nvCxnSpPr>
          <p:spPr>
            <a:xfrm flipH="1">
              <a:off x="4799520" y="5557680"/>
              <a:ext cx="878760" cy="504000"/>
            </a:xfrm>
            <a:prstGeom prst="bentConnector3">
              <a:avLst>
                <a:gd name="adj1" fmla="val -90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19" name=""/>
            <p:cNvSpPr/>
            <p:nvPr/>
          </p:nvSpPr>
          <p:spPr>
            <a:xfrm>
              <a:off x="5638680" y="5146560"/>
              <a:ext cx="823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n(Q17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495680" y="47322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495680" y="541944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7251480" y="4437000"/>
              <a:ext cx="415440" cy="196560"/>
              <a:chOff x="7251480" y="4437000"/>
              <a:chExt cx="415440" cy="196560"/>
            </a:xfrm>
          </p:grpSpPr>
          <p:sp>
            <p:nvSpPr>
              <p:cNvPr id="323" name=""/>
              <p:cNvSpPr/>
              <p:nvPr/>
            </p:nvSpPr>
            <p:spPr>
              <a:xfrm>
                <a:off x="7251480" y="4437000"/>
                <a:ext cx="27360" cy="9432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 flipV="1">
                <a:off x="727884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7349400" y="4437000"/>
                <a:ext cx="7020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741996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749052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 flipV="1">
                <a:off x="756108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632000" y="4539240"/>
                <a:ext cx="34920" cy="9432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6457680" y="5027400"/>
              <a:ext cx="563760" cy="58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1" name=""/>
            <p:cNvCxnSpPr>
              <a:stCxn id="330" idx="0"/>
              <a:endCxn id="323" idx="0"/>
            </p:cNvCxnSpPr>
            <p:nvPr/>
          </p:nvCxnSpPr>
          <p:spPr>
            <a:xfrm flipH="1" flipV="1" rot="5400000">
              <a:off x="6747120" y="4523040"/>
              <a:ext cx="497520" cy="511920"/>
            </a:xfrm>
            <a:prstGeom prst="bentConnector3">
              <a:avLst>
                <a:gd name="adj1" fmla="val 9833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2" name=""/>
            <p:cNvCxnSpPr>
              <a:stCxn id="329" idx="0"/>
            </p:cNvCxnSpPr>
            <p:nvPr/>
          </p:nvCxnSpPr>
          <p:spPr>
            <a:xfrm flipH="1" flipV="1" rot="5400000">
              <a:off x="7908480" y="4295160"/>
              <a:ext cx="3600" cy="486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3" name=""/>
            <p:cNvCxnSpPr>
              <a:endCxn id="330" idx="4"/>
            </p:cNvCxnSpPr>
            <p:nvPr/>
          </p:nvCxnSpPr>
          <p:spPr>
            <a:xfrm rot="10800000">
              <a:off x="6739560" y="5615640"/>
              <a:ext cx="1413720" cy="445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34" name=""/>
            <p:cNvSpPr/>
            <p:nvPr/>
          </p:nvSpPr>
          <p:spPr>
            <a:xfrm>
              <a:off x="7021440" y="5084640"/>
              <a:ext cx="979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vQ17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/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10160" y="4929120"/>
              <a:ext cx="65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416280" y="5225760"/>
              <a:ext cx="65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115040" y="4592520"/>
              <a:ext cx="885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(Q17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724280" y="4460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724280" y="59846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76960" y="4460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76960" y="59846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3103560" y="5527800"/>
                <a:ext cx="6764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Q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"/>
          <p:cNvSpPr/>
          <p:nvPr/>
        </p:nvSpPr>
        <p:spPr>
          <a:xfrm>
            <a:off x="4572000" y="272880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4648320" y="2043000"/>
            <a:ext cx="3733560" cy="1700280"/>
            <a:chOff x="4648320" y="2043000"/>
            <a:chExt cx="3733560" cy="1700280"/>
          </a:xfrm>
        </p:grpSpPr>
        <p:cxnSp>
          <p:nvCxnSpPr>
            <p:cNvPr id="345" name=""/>
            <p:cNvCxnSpPr>
              <a:endCxn id="346" idx="0"/>
            </p:cNvCxnSpPr>
            <p:nvPr/>
          </p:nvCxnSpPr>
          <p:spPr>
            <a:xfrm flipH="1" rot="16200000">
              <a:off x="5116320" y="2010960"/>
              <a:ext cx="581400" cy="857880"/>
            </a:xfrm>
            <a:prstGeom prst="bentConnector4">
              <a:avLst>
                <a:gd name="adj1" fmla="val -681"/>
                <a:gd name="adj2" fmla="val 99958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347" name=""/>
            <p:cNvGrpSpPr/>
            <p:nvPr/>
          </p:nvGrpSpPr>
          <p:grpSpPr>
            <a:xfrm>
              <a:off x="5742360" y="2732040"/>
              <a:ext cx="187200" cy="433080"/>
              <a:chOff x="5742360" y="2732040"/>
              <a:chExt cx="187200" cy="433080"/>
            </a:xfrm>
          </p:grpSpPr>
          <p:sp>
            <p:nvSpPr>
              <p:cNvPr id="346" name=""/>
              <p:cNvSpPr/>
              <p:nvPr/>
            </p:nvSpPr>
            <p:spPr>
              <a:xfrm rot="5400000">
                <a:off x="5870160" y="2701440"/>
                <a:ext cx="28440" cy="8964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5742720" y="276048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742720" y="2834280"/>
                <a:ext cx="18684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5742720" y="29073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742720" y="29811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5742720" y="30549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5400000">
                <a:off x="5769000" y="3102120"/>
                <a:ext cx="36360" cy="8964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54" name=""/>
            <p:cNvCxnSpPr>
              <a:stCxn id="353" idx="0"/>
            </p:cNvCxnSpPr>
            <p:nvPr/>
          </p:nvCxnSpPr>
          <p:spPr>
            <a:xfrm flipH="1">
              <a:off x="4952160" y="3163680"/>
              <a:ext cx="878760" cy="504000"/>
            </a:xfrm>
            <a:prstGeom prst="bentConnector3">
              <a:avLst>
                <a:gd name="adj1" fmla="val -90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55" name=""/>
            <p:cNvSpPr/>
            <p:nvPr/>
          </p:nvSpPr>
          <p:spPr>
            <a:xfrm>
              <a:off x="5791320" y="2752560"/>
              <a:ext cx="8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1.5M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648320" y="23382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648320" y="302544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7404120" y="2043000"/>
              <a:ext cx="415440" cy="196560"/>
              <a:chOff x="7404120" y="2043000"/>
              <a:chExt cx="415440" cy="196560"/>
            </a:xfrm>
          </p:grpSpPr>
          <p:sp>
            <p:nvSpPr>
              <p:cNvPr id="359" name=""/>
              <p:cNvSpPr/>
              <p:nvPr/>
            </p:nvSpPr>
            <p:spPr>
              <a:xfrm>
                <a:off x="7404120" y="2043000"/>
                <a:ext cx="27360" cy="9432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 flipV="1">
                <a:off x="7431480" y="2043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7502040" y="2043000"/>
                <a:ext cx="7020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 flipV="1">
                <a:off x="7572600" y="2043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7643160" y="2043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 flipV="1">
                <a:off x="7713720" y="2043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784640" y="2145240"/>
                <a:ext cx="34920" cy="9432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6610320" y="2633400"/>
              <a:ext cx="563760" cy="58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7" name=""/>
            <p:cNvCxnSpPr>
              <a:stCxn id="366" idx="0"/>
              <a:endCxn id="359" idx="0"/>
            </p:cNvCxnSpPr>
            <p:nvPr/>
          </p:nvCxnSpPr>
          <p:spPr>
            <a:xfrm flipH="1" flipV="1" rot="5400000">
              <a:off x="6899760" y="2129040"/>
              <a:ext cx="497520" cy="511920"/>
            </a:xfrm>
            <a:prstGeom prst="bentConnector3">
              <a:avLst>
                <a:gd name="adj1" fmla="val 9833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8" name=""/>
            <p:cNvCxnSpPr>
              <a:stCxn id="365" idx="0"/>
            </p:cNvCxnSpPr>
            <p:nvPr/>
          </p:nvCxnSpPr>
          <p:spPr>
            <a:xfrm flipH="1" flipV="1" rot="5400000">
              <a:off x="8061120" y="1901160"/>
              <a:ext cx="3600" cy="486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9" name=""/>
            <p:cNvCxnSpPr>
              <a:endCxn id="366" idx="4"/>
            </p:cNvCxnSpPr>
            <p:nvPr/>
          </p:nvCxnSpPr>
          <p:spPr>
            <a:xfrm rot="10800000">
              <a:off x="6892200" y="3221640"/>
              <a:ext cx="1413720" cy="445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70" name=""/>
            <p:cNvSpPr/>
            <p:nvPr/>
          </p:nvSpPr>
          <p:spPr>
            <a:xfrm>
              <a:off x="7174080" y="2690640"/>
              <a:ext cx="97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-0.7k V/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562800" y="2535120"/>
              <a:ext cx="65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568920" y="2831760"/>
              <a:ext cx="65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267680" y="2198520"/>
              <a:ext cx="88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100k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876920" y="2066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76920" y="35906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229600" y="2066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229600" y="35906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733920" y="2743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38280" y="3276720"/>
            <a:ext cx="685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7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mplificadores Operacionales (OPAMPs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533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alida: Seguidor Push-Pul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sumamos Q14 activo (Q20 cortado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Q22 multiemisor, sirve de buffer entre etapa intermedia y etapa de salid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(sal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14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 27) ~ 500k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(sal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25+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14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(int)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(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1)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~ 70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¡¡¡El Buffer de Voltaje es vital!!!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49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quivalente Total DC (Baja frecuencia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catenación de Etap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quivalente Tot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ta Ganancia (~103dB), e Impedancia de Salida Baja (~ 70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284040" y="3552840"/>
            <a:ext cx="8173800" cy="1171440"/>
            <a:chOff x="284040" y="3552840"/>
            <a:chExt cx="8173800" cy="1171440"/>
          </a:xfrm>
        </p:grpSpPr>
        <p:grpSp>
          <p:nvGrpSpPr>
            <p:cNvPr id="386" name=""/>
            <p:cNvGrpSpPr/>
            <p:nvPr/>
          </p:nvGrpSpPr>
          <p:grpSpPr>
            <a:xfrm>
              <a:off x="5835240" y="3552840"/>
              <a:ext cx="2622600" cy="1166760"/>
              <a:chOff x="5835240" y="3552840"/>
              <a:chExt cx="2622600" cy="1166760"/>
            </a:xfrm>
          </p:grpSpPr>
          <p:cxnSp>
            <p:nvCxnSpPr>
              <p:cNvPr id="387" name=""/>
              <p:cNvCxnSpPr>
                <a:stCxn id="388" idx="6"/>
                <a:endCxn id="389" idx="0"/>
              </p:cNvCxnSpPr>
              <p:nvPr/>
            </p:nvCxnSpPr>
            <p:spPr>
              <a:xfrm>
                <a:off x="6130440" y="3620880"/>
                <a:ext cx="353160" cy="402480"/>
              </a:xfrm>
              <a:prstGeom prst="bentConnector3">
                <a:avLst>
                  <a:gd name="adj1" fmla="val 99081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390" name=""/>
              <p:cNvGrpSpPr/>
              <p:nvPr/>
            </p:nvGrpSpPr>
            <p:grpSpPr>
              <a:xfrm>
                <a:off x="6410160" y="4025880"/>
                <a:ext cx="145800" cy="296280"/>
                <a:chOff x="6410160" y="4025880"/>
                <a:chExt cx="145800" cy="296280"/>
              </a:xfrm>
            </p:grpSpPr>
            <p:sp>
              <p:nvSpPr>
                <p:cNvPr id="389" name=""/>
                <p:cNvSpPr/>
                <p:nvPr/>
              </p:nvSpPr>
              <p:spPr>
                <a:xfrm rot="5400000">
                  <a:off x="6510960" y="4000680"/>
                  <a:ext cx="19440" cy="6984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V="1">
                  <a:off x="6410160" y="404532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410160" y="4095720"/>
                  <a:ext cx="145800" cy="5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V="1">
                  <a:off x="6410160" y="414612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410160" y="419652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V="1">
                  <a:off x="6410160" y="424692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rot="5400000">
                  <a:off x="6432480" y="4274640"/>
                  <a:ext cx="248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97" name=""/>
              <p:cNvCxnSpPr>
                <a:stCxn id="396" idx="0"/>
                <a:endCxn id="398" idx="6"/>
              </p:cNvCxnSpPr>
              <p:nvPr/>
            </p:nvCxnSpPr>
            <p:spPr>
              <a:xfrm flipV="1" rot="10800000">
                <a:off x="6130080" y="4318920"/>
                <a:ext cx="346680" cy="347760"/>
              </a:xfrm>
              <a:prstGeom prst="bentConnector3">
                <a:avLst>
                  <a:gd name="adj1" fmla="val 415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99" name=""/>
              <p:cNvSpPr/>
              <p:nvPr/>
            </p:nvSpPr>
            <p:spPr>
              <a:xfrm>
                <a:off x="6448320" y="4039920"/>
                <a:ext cx="639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500k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835240" y="3755880"/>
                <a:ext cx="41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835240" y="4227480"/>
                <a:ext cx="41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2" name=""/>
              <p:cNvGrpSpPr/>
              <p:nvPr/>
            </p:nvGrpSpPr>
            <p:grpSpPr>
              <a:xfrm>
                <a:off x="7698960" y="3552840"/>
                <a:ext cx="322200" cy="134640"/>
                <a:chOff x="7698960" y="3552840"/>
                <a:chExt cx="322200" cy="13464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7698960" y="3552840"/>
                  <a:ext cx="21240" cy="6444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H="1" flipV="1">
                  <a:off x="7720200" y="355284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V="1">
                  <a:off x="7774920" y="3552840"/>
                  <a:ext cx="5436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 flipV="1">
                  <a:off x="7829640" y="355284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V="1">
                  <a:off x="7884360" y="355284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H="1" flipV="1">
                  <a:off x="7939080" y="355284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7994160" y="3622680"/>
                  <a:ext cx="27000" cy="6444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7084800" y="3957480"/>
                <a:ext cx="436680" cy="40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11" name=""/>
              <p:cNvCxnSpPr>
                <a:stCxn id="410" idx="0"/>
                <a:endCxn id="403" idx="0"/>
              </p:cNvCxnSpPr>
              <p:nvPr/>
            </p:nvCxnSpPr>
            <p:spPr>
              <a:xfrm flipH="1" flipV="1" rot="5400000">
                <a:off x="7330320" y="3588840"/>
                <a:ext cx="342000" cy="396000"/>
              </a:xfrm>
              <a:prstGeom prst="bentConnector3">
                <a:avLst>
                  <a:gd name="adj1" fmla="val 98314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2" name=""/>
              <p:cNvCxnSpPr>
                <a:stCxn id="409" idx="0"/>
              </p:cNvCxnSpPr>
              <p:nvPr/>
            </p:nvCxnSpPr>
            <p:spPr>
              <a:xfrm flipH="1" flipV="1" rot="5400000">
                <a:off x="8208360" y="3431520"/>
                <a:ext cx="3960" cy="37836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3" name=""/>
              <p:cNvCxnSpPr>
                <a:endCxn id="410" idx="4"/>
              </p:cNvCxnSpPr>
              <p:nvPr/>
            </p:nvCxnSpPr>
            <p:spPr>
              <a:xfrm rot="10800000">
                <a:off x="7302960" y="4361760"/>
                <a:ext cx="1096200" cy="30528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14" name=""/>
              <p:cNvSpPr/>
              <p:nvPr/>
            </p:nvSpPr>
            <p:spPr>
              <a:xfrm>
                <a:off x="7521480" y="3997080"/>
                <a:ext cx="758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1 V/V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046640" y="3890880"/>
                <a:ext cx="509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051320" y="4093920"/>
                <a:ext cx="511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594200" y="3659040"/>
                <a:ext cx="685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70 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013080" y="3568680"/>
                <a:ext cx="11772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013080" y="4614840"/>
                <a:ext cx="11772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340480" y="3568680"/>
                <a:ext cx="11736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340480" y="4614840"/>
                <a:ext cx="11736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284040" y="3578040"/>
              <a:ext cx="3504960" cy="1143000"/>
              <a:chOff x="284040" y="3578040"/>
              <a:chExt cx="3504960" cy="1143000"/>
            </a:xfrm>
          </p:grpSpPr>
          <p:cxnSp>
            <p:nvCxnSpPr>
              <p:cNvPr id="421" name=""/>
              <p:cNvCxnSpPr>
                <a:stCxn id="422" idx="6"/>
                <a:endCxn id="423" idx="0"/>
              </p:cNvCxnSpPr>
              <p:nvPr/>
            </p:nvCxnSpPr>
            <p:spPr>
              <a:xfrm>
                <a:off x="705960" y="3619440"/>
                <a:ext cx="531000" cy="419760"/>
              </a:xfrm>
              <a:prstGeom prst="bentConnector3">
                <a:avLst>
                  <a:gd name="adj1" fmla="val 100881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424" name=""/>
              <p:cNvGrpSpPr/>
              <p:nvPr/>
            </p:nvGrpSpPr>
            <p:grpSpPr>
              <a:xfrm>
                <a:off x="1157400" y="4040280"/>
                <a:ext cx="154080" cy="302760"/>
                <a:chOff x="1157400" y="4040280"/>
                <a:chExt cx="154080" cy="302760"/>
              </a:xfrm>
            </p:grpSpPr>
            <p:sp>
              <p:nvSpPr>
                <p:cNvPr id="423" name=""/>
                <p:cNvSpPr/>
                <p:nvPr/>
              </p:nvSpPr>
              <p:spPr>
                <a:xfrm rot="5400000">
                  <a:off x="1264320" y="4013280"/>
                  <a:ext cx="19800" cy="7380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V="1">
                  <a:off x="1157760" y="4059720"/>
                  <a:ext cx="15372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157760" y="4111920"/>
                  <a:ext cx="153720" cy="5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flipV="1">
                  <a:off x="1157760" y="4162680"/>
                  <a:ext cx="15372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1157760" y="4214520"/>
                  <a:ext cx="15372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flipV="1">
                  <a:off x="1157760" y="4265640"/>
                  <a:ext cx="15372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rot="5400000">
                  <a:off x="1181520" y="4293360"/>
                  <a:ext cx="25560" cy="7380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31" name=""/>
              <p:cNvCxnSpPr>
                <a:stCxn id="430" idx="0"/>
                <a:endCxn id="432" idx="6"/>
              </p:cNvCxnSpPr>
              <p:nvPr/>
            </p:nvCxnSpPr>
            <p:spPr>
              <a:xfrm flipH="1">
                <a:off x="705960" y="4339800"/>
                <a:ext cx="524160" cy="338760"/>
              </a:xfrm>
              <a:prstGeom prst="bentConnector3">
                <a:avLst>
                  <a:gd name="adj1" fmla="val -1305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33" name=""/>
              <p:cNvSpPr/>
              <p:nvPr/>
            </p:nvSpPr>
            <p:spPr>
              <a:xfrm>
                <a:off x="1045800" y="4029120"/>
                <a:ext cx="917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1M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80880" y="3765600"/>
                <a:ext cx="54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80880" y="4246560"/>
                <a:ext cx="54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738080" y="3971880"/>
                <a:ext cx="465120" cy="409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37" name=""/>
              <p:cNvCxnSpPr>
                <a:stCxn id="436" idx="0"/>
                <a:endCxn id="438" idx="2"/>
              </p:cNvCxnSpPr>
              <p:nvPr/>
            </p:nvCxnSpPr>
            <p:spPr>
              <a:xfrm flipH="1" flipV="1" rot="5400000">
                <a:off x="2658240" y="2934720"/>
                <a:ext cx="349920" cy="172476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39" name=""/>
              <p:cNvCxnSpPr>
                <a:stCxn id="440" idx="3"/>
                <a:endCxn id="436" idx="4"/>
              </p:cNvCxnSpPr>
              <p:nvPr/>
            </p:nvCxnSpPr>
            <p:spPr>
              <a:xfrm flipV="1" rot="16200000">
                <a:off x="2676600" y="3675240"/>
                <a:ext cx="327600" cy="1739160"/>
              </a:xfrm>
              <a:prstGeom prst="bentConnector3">
                <a:avLst>
                  <a:gd name="adj1" fmla="val 726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41" name=""/>
              <p:cNvSpPr/>
              <p:nvPr/>
            </p:nvSpPr>
            <p:spPr>
              <a:xfrm>
                <a:off x="1712520" y="4070160"/>
                <a:ext cx="54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2" name=""/>
              <p:cNvGrpSpPr/>
              <p:nvPr/>
            </p:nvGrpSpPr>
            <p:grpSpPr>
              <a:xfrm>
                <a:off x="2951280" y="4040280"/>
                <a:ext cx="155520" cy="302760"/>
                <a:chOff x="2951280" y="4040280"/>
                <a:chExt cx="155520" cy="302760"/>
              </a:xfrm>
            </p:grpSpPr>
            <p:sp>
              <p:nvSpPr>
                <p:cNvPr id="443" name=""/>
                <p:cNvSpPr/>
                <p:nvPr/>
              </p:nvSpPr>
              <p:spPr>
                <a:xfrm rot="5400000">
                  <a:off x="3059280" y="4012920"/>
                  <a:ext cx="19800" cy="7452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flipV="1">
                  <a:off x="2951640" y="4059720"/>
                  <a:ext cx="15516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2951640" y="4111920"/>
                  <a:ext cx="155160" cy="5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flipV="1">
                  <a:off x="2951640" y="4162680"/>
                  <a:ext cx="15516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2951640" y="4214520"/>
                  <a:ext cx="15516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flipV="1">
                  <a:off x="2951640" y="4265640"/>
                  <a:ext cx="15516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5400000">
                  <a:off x="2975760" y="4293000"/>
                  <a:ext cx="25560" cy="7452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50" name=""/>
              <p:cNvCxnSpPr>
                <a:stCxn id="443" idx="0"/>
              </p:cNvCxnSpPr>
              <p:nvPr/>
            </p:nvCxnSpPr>
            <p:spPr>
              <a:xfrm flipV="1">
                <a:off x="3029760" y="3629880"/>
                <a:ext cx="1080" cy="408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51" name=""/>
              <p:cNvSpPr/>
              <p:nvPr/>
            </p:nvSpPr>
            <p:spPr>
              <a:xfrm>
                <a:off x="3028680" y="4333680"/>
                <a:ext cx="0" cy="35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950920" y="4059000"/>
                <a:ext cx="838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8M 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068200" y="4065480"/>
                <a:ext cx="1035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(-1/5) mA/V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4160" y="3578040"/>
                <a:ext cx="9216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14160" y="4638600"/>
                <a:ext cx="9216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695400" y="4638600"/>
                <a:ext cx="93600" cy="82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695400" y="3581280"/>
                <a:ext cx="9360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84040" y="4040280"/>
                <a:ext cx="7459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3517560" y="3557520"/>
              <a:ext cx="2622600" cy="1166760"/>
              <a:chOff x="3517560" y="3557520"/>
              <a:chExt cx="2622600" cy="1166760"/>
            </a:xfrm>
          </p:grpSpPr>
          <p:cxnSp>
            <p:nvCxnSpPr>
              <p:cNvPr id="456" name=""/>
              <p:cNvCxnSpPr>
                <a:stCxn id="457" idx="6"/>
                <a:endCxn id="458" idx="0"/>
              </p:cNvCxnSpPr>
              <p:nvPr/>
            </p:nvCxnSpPr>
            <p:spPr>
              <a:xfrm>
                <a:off x="3812760" y="3625560"/>
                <a:ext cx="353160" cy="402480"/>
              </a:xfrm>
              <a:prstGeom prst="bentConnector3">
                <a:avLst>
                  <a:gd name="adj1" fmla="val 99081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459" name=""/>
              <p:cNvGrpSpPr/>
              <p:nvPr/>
            </p:nvGrpSpPr>
            <p:grpSpPr>
              <a:xfrm>
                <a:off x="4092480" y="4030560"/>
                <a:ext cx="145800" cy="296280"/>
                <a:chOff x="4092480" y="4030560"/>
                <a:chExt cx="145800" cy="296280"/>
              </a:xfrm>
            </p:grpSpPr>
            <p:sp>
              <p:nvSpPr>
                <p:cNvPr id="458" name=""/>
                <p:cNvSpPr/>
                <p:nvPr/>
              </p:nvSpPr>
              <p:spPr>
                <a:xfrm rot="5400000">
                  <a:off x="4193280" y="4005360"/>
                  <a:ext cx="19440" cy="6984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flipV="1">
                  <a:off x="4092480" y="405000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4092480" y="4100400"/>
                  <a:ext cx="145800" cy="5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flipV="1">
                  <a:off x="4092480" y="415080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4092480" y="420120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V="1">
                  <a:off x="4092480" y="425160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rot="5400000">
                  <a:off x="4114800" y="4279320"/>
                  <a:ext cx="248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66" name=""/>
              <p:cNvCxnSpPr>
                <a:stCxn id="465" idx="0"/>
                <a:endCxn id="467" idx="6"/>
              </p:cNvCxnSpPr>
              <p:nvPr/>
            </p:nvCxnSpPr>
            <p:spPr>
              <a:xfrm flipV="1" rot="10800000">
                <a:off x="3812400" y="4323600"/>
                <a:ext cx="346680" cy="347760"/>
              </a:xfrm>
              <a:prstGeom prst="bentConnector3">
                <a:avLst>
                  <a:gd name="adj1" fmla="val 415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68" name=""/>
              <p:cNvSpPr/>
              <p:nvPr/>
            </p:nvSpPr>
            <p:spPr>
              <a:xfrm>
                <a:off x="4130640" y="4044600"/>
                <a:ext cx="639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1.5M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517560" y="3760560"/>
                <a:ext cx="41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517560" y="4232160"/>
                <a:ext cx="41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1" name=""/>
              <p:cNvGrpSpPr/>
              <p:nvPr/>
            </p:nvGrpSpPr>
            <p:grpSpPr>
              <a:xfrm>
                <a:off x="5381280" y="3557520"/>
                <a:ext cx="322200" cy="134640"/>
                <a:chOff x="5381280" y="3557520"/>
                <a:chExt cx="322200" cy="13464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5381280" y="3557520"/>
                  <a:ext cx="21240" cy="6444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H="1" flipV="1">
                  <a:off x="5402520" y="355752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V="1">
                  <a:off x="5457240" y="3557520"/>
                  <a:ext cx="5436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H="1" flipV="1">
                  <a:off x="5511960" y="355752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V="1">
                  <a:off x="5566680" y="355752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H="1" flipV="1">
                  <a:off x="5621400" y="355752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5676480" y="3627360"/>
                  <a:ext cx="27000" cy="6444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9" name=""/>
              <p:cNvSpPr/>
              <p:nvPr/>
            </p:nvSpPr>
            <p:spPr>
              <a:xfrm>
                <a:off x="4767120" y="3962160"/>
                <a:ext cx="436680" cy="40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80" name=""/>
              <p:cNvCxnSpPr>
                <a:stCxn id="479" idx="0"/>
                <a:endCxn id="472" idx="0"/>
              </p:cNvCxnSpPr>
              <p:nvPr/>
            </p:nvCxnSpPr>
            <p:spPr>
              <a:xfrm flipH="1" flipV="1" rot="5400000">
                <a:off x="5012640" y="3593520"/>
                <a:ext cx="342000" cy="396000"/>
              </a:xfrm>
              <a:prstGeom prst="bentConnector3">
                <a:avLst>
                  <a:gd name="adj1" fmla="val 98314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81" name=""/>
              <p:cNvCxnSpPr>
                <a:stCxn id="478" idx="0"/>
              </p:cNvCxnSpPr>
              <p:nvPr/>
            </p:nvCxnSpPr>
            <p:spPr>
              <a:xfrm flipH="1" flipV="1" rot="5400000">
                <a:off x="5890680" y="3436200"/>
                <a:ext cx="3960" cy="37836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82" name=""/>
              <p:cNvCxnSpPr>
                <a:endCxn id="479" idx="4"/>
              </p:cNvCxnSpPr>
              <p:nvPr/>
            </p:nvCxnSpPr>
            <p:spPr>
              <a:xfrm rot="10800000">
                <a:off x="4985280" y="4366440"/>
                <a:ext cx="1096200" cy="30528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83" name=""/>
              <p:cNvSpPr/>
              <p:nvPr/>
            </p:nvSpPr>
            <p:spPr>
              <a:xfrm>
                <a:off x="5203800" y="4001760"/>
                <a:ext cx="758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-0.7k V/V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728960" y="3895560"/>
                <a:ext cx="509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733640" y="4098600"/>
                <a:ext cx="511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276520" y="3663720"/>
                <a:ext cx="685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100k 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695400" y="3573360"/>
                <a:ext cx="11772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695400" y="4619520"/>
                <a:ext cx="11772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022800" y="3573360"/>
                <a:ext cx="11736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022800" y="4619520"/>
                <a:ext cx="11736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9" name=""/>
          <p:cNvGrpSpPr/>
          <p:nvPr/>
        </p:nvGrpSpPr>
        <p:grpSpPr>
          <a:xfrm>
            <a:off x="3048120" y="5081760"/>
            <a:ext cx="2622600" cy="1166760"/>
            <a:chOff x="3048120" y="5081760"/>
            <a:chExt cx="2622600" cy="1166760"/>
          </a:xfrm>
        </p:grpSpPr>
        <p:cxnSp>
          <p:nvCxnSpPr>
            <p:cNvPr id="490" name=""/>
            <p:cNvCxnSpPr>
              <a:stCxn id="491" idx="6"/>
              <a:endCxn id="492" idx="0"/>
            </p:cNvCxnSpPr>
            <p:nvPr/>
          </p:nvCxnSpPr>
          <p:spPr>
            <a:xfrm>
              <a:off x="3343320" y="5149800"/>
              <a:ext cx="353160" cy="402480"/>
            </a:xfrm>
            <a:prstGeom prst="bentConnector3">
              <a:avLst>
                <a:gd name="adj1" fmla="val 99081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493" name=""/>
            <p:cNvGrpSpPr/>
            <p:nvPr/>
          </p:nvGrpSpPr>
          <p:grpSpPr>
            <a:xfrm>
              <a:off x="3623040" y="5554800"/>
              <a:ext cx="145800" cy="296280"/>
              <a:chOff x="3623040" y="5554800"/>
              <a:chExt cx="145800" cy="296280"/>
            </a:xfrm>
          </p:grpSpPr>
          <p:sp>
            <p:nvSpPr>
              <p:cNvPr id="492" name=""/>
              <p:cNvSpPr/>
              <p:nvPr/>
            </p:nvSpPr>
            <p:spPr>
              <a:xfrm rot="5400000">
                <a:off x="3723840" y="5529600"/>
                <a:ext cx="19440" cy="6984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3623040" y="5574240"/>
                <a:ext cx="145800" cy="5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623040" y="5624640"/>
                <a:ext cx="14580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3623040" y="5675040"/>
                <a:ext cx="145800" cy="5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623040" y="5725440"/>
                <a:ext cx="145800" cy="5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3623040" y="5775840"/>
                <a:ext cx="145800" cy="5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5400000">
                <a:off x="3645360" y="5803560"/>
                <a:ext cx="24840" cy="6984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00" name=""/>
            <p:cNvCxnSpPr>
              <a:stCxn id="499" idx="0"/>
              <a:endCxn id="501" idx="6"/>
            </p:cNvCxnSpPr>
            <p:nvPr/>
          </p:nvCxnSpPr>
          <p:spPr>
            <a:xfrm flipV="1" rot="10800000">
              <a:off x="3342960" y="5847840"/>
              <a:ext cx="346680" cy="347760"/>
            </a:xfrm>
            <a:prstGeom prst="bentConnector3">
              <a:avLst>
                <a:gd name="adj1" fmla="val 41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02" name=""/>
            <p:cNvSpPr/>
            <p:nvPr/>
          </p:nvSpPr>
          <p:spPr>
            <a:xfrm>
              <a:off x="3661200" y="5568840"/>
              <a:ext cx="639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1M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048120" y="5284800"/>
              <a:ext cx="412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048120" y="5756400"/>
              <a:ext cx="412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4911840" y="5081760"/>
              <a:ext cx="322200" cy="134640"/>
              <a:chOff x="4911840" y="5081760"/>
              <a:chExt cx="322200" cy="134640"/>
            </a:xfrm>
          </p:grpSpPr>
          <p:sp>
            <p:nvSpPr>
              <p:cNvPr id="506" name=""/>
              <p:cNvSpPr/>
              <p:nvPr/>
            </p:nvSpPr>
            <p:spPr>
              <a:xfrm>
                <a:off x="4911840" y="5081760"/>
                <a:ext cx="21240" cy="6444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 flipV="1">
                <a:off x="4933080" y="5081760"/>
                <a:ext cx="5472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4987800" y="5081760"/>
                <a:ext cx="5436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 flipV="1">
                <a:off x="5042520" y="5081760"/>
                <a:ext cx="5472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5097240" y="5081760"/>
                <a:ext cx="5472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 flipV="1">
                <a:off x="5151960" y="5081760"/>
                <a:ext cx="5472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207040" y="5151600"/>
                <a:ext cx="27000" cy="6444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4297680" y="5486400"/>
              <a:ext cx="436680" cy="405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3" idx="0"/>
              <a:endCxn id="506" idx="0"/>
            </p:cNvCxnSpPr>
            <p:nvPr/>
          </p:nvCxnSpPr>
          <p:spPr>
            <a:xfrm flipH="1" flipV="1" rot="5400000">
              <a:off x="4543200" y="5117760"/>
              <a:ext cx="342000" cy="396000"/>
            </a:xfrm>
            <a:prstGeom prst="bentConnector3">
              <a:avLst>
                <a:gd name="adj1" fmla="val 9831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5" name=""/>
            <p:cNvCxnSpPr>
              <a:stCxn id="512" idx="0"/>
            </p:cNvCxnSpPr>
            <p:nvPr/>
          </p:nvCxnSpPr>
          <p:spPr>
            <a:xfrm flipH="1" flipV="1" rot="5400000">
              <a:off x="5421240" y="4960440"/>
              <a:ext cx="3960" cy="378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6" name=""/>
            <p:cNvCxnSpPr>
              <a:endCxn id="513" idx="4"/>
            </p:cNvCxnSpPr>
            <p:nvPr/>
          </p:nvCxnSpPr>
          <p:spPr>
            <a:xfrm rot="10800000">
              <a:off x="4515840" y="5890680"/>
              <a:ext cx="1096200" cy="305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17" name=""/>
            <p:cNvSpPr/>
            <p:nvPr/>
          </p:nvSpPr>
          <p:spPr>
            <a:xfrm>
              <a:off x="4734360" y="5526000"/>
              <a:ext cx="75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147k V/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259520" y="5419800"/>
              <a:ext cx="50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264200" y="5622840"/>
              <a:ext cx="51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807080" y="518796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70 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225960" y="5097600"/>
              <a:ext cx="11772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225960" y="6143760"/>
              <a:ext cx="11772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553360" y="5097600"/>
              <a:ext cx="11736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553360" y="6143760"/>
              <a:ext cx="11736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2971800" y="548640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s “Reales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PAMP ideal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Bias y Offset Nul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 Offset Nul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rivas térmicas nulas (parámetros anteriores)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infini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 cer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infini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locidad de respuesta (Slew Rate) infini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cho de Banda infini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máxima de salida infini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PAMPs reale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poseen estas características, sin embargo, dependiendo de la aplicación, pueden acercarse bast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Voltaje Offset: Asimetrías Intern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3576600" y="3352680"/>
            <a:ext cx="3287880" cy="288468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2895840" cy="181296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304920" y="594360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oltaje Offset Input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juste con potenciómetro en terminales de Offset 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14800" y="1905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oltaje Offset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76320" y="2133720"/>
            <a:ext cx="3500280" cy="3855960"/>
            <a:chOff x="76320" y="2133720"/>
            <a:chExt cx="3500280" cy="3855960"/>
          </a:xfrm>
        </p:grpSpPr>
        <p:grpSp>
          <p:nvGrpSpPr>
            <p:cNvPr id="532" name=""/>
            <p:cNvGrpSpPr/>
            <p:nvPr/>
          </p:nvGrpSpPr>
          <p:grpSpPr>
            <a:xfrm>
              <a:off x="76320" y="2133720"/>
              <a:ext cx="3500280" cy="3855960"/>
              <a:chOff x="76320" y="2133720"/>
              <a:chExt cx="3500280" cy="3855960"/>
            </a:xfrm>
          </p:grpSpPr>
          <p:pic>
            <p:nvPicPr>
              <p:cNvPr id="53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6320" y="2133720"/>
                <a:ext cx="3500280" cy="385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4" name=""/>
              <p:cNvSpPr/>
              <p:nvPr/>
            </p:nvSpPr>
            <p:spPr>
              <a:xfrm>
                <a:off x="76320" y="335268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971800" y="335268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971800" y="457200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2819520" y="495288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rriente Bi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5960" y="15238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Bias Inpu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IA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(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/ 2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Offset ent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lema: asimetría en red externa DC (resistencias). Provocan aparición de voltaj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la entrada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olución: “Simetrizar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empre debe existir retorno a tierra para DC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5334120" y="1523880"/>
            <a:ext cx="3352680" cy="2286000"/>
            <a:chOff x="5334120" y="1523880"/>
            <a:chExt cx="3352680" cy="2286000"/>
          </a:xfrm>
        </p:grpSpPr>
        <p:pic>
          <p:nvPicPr>
            <p:cNvPr id="541" name="" descr=""/>
            <p:cNvPicPr/>
            <p:nvPr/>
          </p:nvPicPr>
          <p:blipFill>
            <a:blip r:embed="rId1"/>
            <a:stretch/>
          </p:blipFill>
          <p:spPr>
            <a:xfrm>
              <a:off x="5334120" y="1523880"/>
              <a:ext cx="335268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5834160" y="1855080"/>
              <a:ext cx="44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834160" y="1523880"/>
              <a:ext cx="50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834160" y="2782440"/>
              <a:ext cx="44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834160" y="2451240"/>
              <a:ext cx="50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3504960" cy="2175120"/>
          </a:xfrm>
          <a:prstGeom prst="rect">
            <a:avLst/>
          </a:prstGeom>
          <a:ln w="0">
            <a:noFill/>
          </a:ln>
        </p:spPr>
      </p:pic>
      <p:grpSp>
        <p:nvGrpSpPr>
          <p:cNvPr id="547" name=""/>
          <p:cNvGrpSpPr/>
          <p:nvPr/>
        </p:nvGrpSpPr>
        <p:grpSpPr>
          <a:xfrm>
            <a:off x="5661000" y="3809880"/>
            <a:ext cx="3025800" cy="2325960"/>
            <a:chOff x="5661000" y="3809880"/>
            <a:chExt cx="3025800" cy="2325960"/>
          </a:xfrm>
        </p:grpSpPr>
        <p:pic>
          <p:nvPicPr>
            <p:cNvPr id="548" name="" descr=""/>
            <p:cNvPicPr/>
            <p:nvPr/>
          </p:nvPicPr>
          <p:blipFill>
            <a:blip r:embed="rId3"/>
            <a:stretch/>
          </p:blipFill>
          <p:spPr>
            <a:xfrm>
              <a:off x="5661000" y="3809880"/>
              <a:ext cx="3025800" cy="232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6491520" y="5314320"/>
              <a:ext cx="1661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=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||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4572000" y="5334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419720" y="48909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lew Ra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952520" y="1523880"/>
            <a:ext cx="403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-164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ensador C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6400" indent="-13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ega “estabilidad”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próxima clas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6400" indent="-13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 tiene tasa de cambio máxima: Slew Ra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48640" indent="-109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uando la entrada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iferencial es “grande”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~ 60mV) la corriente de polarización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0 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arga el condensador C y hace que la salida no cambie más rápido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ue una ramp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6400" indent="-13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LM741 (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20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52280" y="541008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tructura de OPAMP típica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diferencial, polarización con fuentes de corriente, espejo como carga, etapa de ganancia intermedia, etapa de salida “seguidor de voltaje” y condensador de “estabilida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6019920" y="5086440"/>
                <a:ext cx="2590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ut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μ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pF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0,67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μ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56" name=""/>
          <p:cNvGrpSpPr/>
          <p:nvPr/>
        </p:nvGrpSpPr>
        <p:grpSpPr>
          <a:xfrm>
            <a:off x="76320" y="1600200"/>
            <a:ext cx="5333760" cy="3890880"/>
            <a:chOff x="76320" y="1600200"/>
            <a:chExt cx="5333760" cy="3890880"/>
          </a:xfrm>
        </p:grpSpPr>
        <p:pic>
          <p:nvPicPr>
            <p:cNvPr id="557" name="" descr=""/>
            <p:cNvPicPr/>
            <p:nvPr/>
          </p:nvPicPr>
          <p:blipFill>
            <a:blip r:embed="rId1"/>
            <a:stretch/>
          </p:blipFill>
          <p:spPr>
            <a:xfrm>
              <a:off x="76320" y="1600200"/>
              <a:ext cx="5333760" cy="38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2438280" y="4267080"/>
              <a:ext cx="38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361960" y="388620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entari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742840" y="152352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tección de cortocircuito a la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Q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efinen máxima corriente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 salida en el OPAMP ~ 0.6V/25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24m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sempeños OPAMP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diferencial FET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enor corriente Bias y Offset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enor corriente de polarización (impedancia DC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Mayor Slew Rate (útil como comparador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de OPAMP grand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diferencial debe estar “casi” al mismo voltaje para que el OPAMP opere en la zona line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uando no se cumple la condición anterior, la salida del OPAMP tratará de “saturarse” a casi el voltaje de alimentación, con una velocidad máxima dada por la Slew Rate del dispositiv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22748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4191120" y="4754520"/>
                <a:ext cx="30477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⇒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ortancia del Análisis por Bloqu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s de entrada y salida definen “nivel de carga” a las etapas interconectad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álisis OPAMP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larización, Bloques Funcionales, propagación de vari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 OPAM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ta impedancia de entrada, Alta Ganancia,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Baja Impedancia de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PAMP reales: desvío de la condición ideal en diseñ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Offse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Bias, Offse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lew Rate, Corriente máxima de sali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peración en zona lineal (fuera de 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Discutir la estructura interna de un OPAMP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Reconocer la importancia del análisis por bloques funcion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studiar en detalle la estructura interna del OPAMP LM741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Analizar el funcionamiento del OPAMP LM741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Revisar características no-ideales de los OPAMPs “reales”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es Operacional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mplificador de Voltaje Diferenci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ran impedancia de Entra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ran Gana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 de Salida pequeñ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ispositivo Integrad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celente Matching entre transist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istencias no deben superar los 100k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es Operacionales: Análisi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lariz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unto de Operación de los transist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s, impedancias, etc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Entrada (Alta Impedancia de entrad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Intermedia (Gran Gananci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Salida (Baja Impedancia de Salid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lave del análisi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dentificar bloques funcional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alizar cada bloque por separado y después “juntarlos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teracción será dada por la carga entre etapas (impedancias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tallado: OPAMP LM741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OPAMP de propósito Gener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s comunes a otros OPAMP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nálisi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n lo que sigue se asumirá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h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h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fe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100 (representa condición normal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se hará distinción entre el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de un transistor pnp o de un np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 de Early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150V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peración a Temperatura Ambi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Bloques Funcional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1400" y="1149480"/>
            <a:ext cx="8569080" cy="5425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41120" y="2514600"/>
            <a:ext cx="2210040" cy="3733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990720" y="1447920"/>
            <a:ext cx="3276360" cy="4809600"/>
            <a:chOff x="990720" y="1447920"/>
            <a:chExt cx="3276360" cy="4809600"/>
          </a:xfrm>
        </p:grpSpPr>
        <p:sp>
          <p:nvSpPr>
            <p:cNvPr id="104" name=""/>
            <p:cNvSpPr/>
            <p:nvPr/>
          </p:nvSpPr>
          <p:spPr>
            <a:xfrm>
              <a:off x="990720" y="1447920"/>
              <a:ext cx="0" cy="9615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67080" y="1447920"/>
              <a:ext cx="0" cy="4809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0720" y="2409480"/>
              <a:ext cx="15724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63200" y="2409480"/>
              <a:ext cx="0" cy="3847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63200" y="6243120"/>
              <a:ext cx="170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90720" y="1454760"/>
              <a:ext cx="3276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7292880" y="1828800"/>
            <a:ext cx="1165320" cy="44197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43400" y="2743200"/>
            <a:ext cx="1600200" cy="35053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621648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Entrada Diferen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2164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olar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62485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Ganancia Interme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05520" y="118728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olarización Sal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62164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Etapa de Sal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313240" y="1720080"/>
            <a:ext cx="1905120" cy="2289240"/>
            <a:chOff x="5313240" y="1720080"/>
            <a:chExt cx="1905120" cy="2289240"/>
          </a:xfrm>
        </p:grpSpPr>
        <p:sp>
          <p:nvSpPr>
            <p:cNvPr id="118" name=""/>
            <p:cNvSpPr/>
            <p:nvPr/>
          </p:nvSpPr>
          <p:spPr>
            <a:xfrm>
              <a:off x="5313240" y="2557440"/>
              <a:ext cx="965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07200" y="1720080"/>
              <a:ext cx="0" cy="2289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13240" y="1725480"/>
              <a:ext cx="1905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69040" y="2556720"/>
              <a:ext cx="0" cy="144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62560" y="4005000"/>
              <a:ext cx="95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21160" y="1720080"/>
              <a:ext cx="0" cy="84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squemático Genera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52280" y="1143000"/>
            <a:ext cx="8839440" cy="5356080"/>
            <a:chOff x="152280" y="1143000"/>
            <a:chExt cx="8839440" cy="535608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152280" y="1143000"/>
              <a:ext cx="8458200" cy="53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152280" y="2666880"/>
              <a:ext cx="609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3: v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81080" y="2666880"/>
              <a:ext cx="609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2: v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2280" y="5287680"/>
              <a:ext cx="762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1:</a:t>
              </a:r>
              <a:br>
                <a:rPr sz="1200"/>
              </a:b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offset nu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05120" y="5257800"/>
              <a:ext cx="761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5:</a:t>
              </a:r>
              <a:br>
                <a:rPr sz="1200"/>
              </a:b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offset nu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77320" y="289548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6: </a:t>
              </a:r>
              <a:br>
                <a:rPr sz="1200"/>
              </a:b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09880" y="121896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7: V </a:t>
              </a:r>
              <a:r>
                <a:rPr b="0" i="1" lang="es-ES_tradnl" sz="1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09880" y="609588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4: V </a:t>
              </a:r>
              <a:r>
                <a:rPr b="0" i="1" lang="es-ES_tradnl" sz="12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648320" y="609588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15-Q21-Q24-Q23: protección cortocircu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6781680" y="4114440"/>
            <a:ext cx="1447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001000" y="4876920"/>
            <a:ext cx="990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vita saturación 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de Q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Característ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tapas OPAM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lariz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fine punto de operación (impedancias, ganancias, etc.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iferenci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ran Impedancia de Entra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MRR elevad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plificador de Transconduct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 Al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Ganancia Intermed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o de la ganancia de la etapa difer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guidor de Emisor Push-Pul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 pequeñ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10-06T14:07:04Z</dcterms:modified>
  <cp:revision>1232</cp:revision>
  <dc:subject>Amplificadores Operacionales (OPAMPs)</dc:subject>
  <dc:title>Clase 17</dc:title>
</cp:coreProperties>
</file>