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89D7-4A7D-4621-B91D-1B4F0D36B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C6FD-8CA1-4DB3-A7B9-1491C8FEA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8BB0-A2B1-48C8-AD52-834F6C6E5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F776-3CCA-403E-A0FC-D65F87B04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ED1-CD5C-4DD2-B281-30E7CA345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FA3-709E-4A13-B804-20B5CE7A59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6AD-053F-4479-BE92-E330FDD06F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0AE-89FF-4949-904B-D1E24AB14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CFE-8AD0-459D-AEDD-353B1D251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7DE-5F1B-4528-8DA7-7020AD5AE2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D02-D407-4858-A243-4D4729EDE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9B62-DBB3-4246-86FE-E47F7CAA3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670-0145-496E-8E85-907A838E31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F7B-CA78-41FD-8E5A-2C4978FF42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547-4879-4D3D-99B1-81F65CD51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6C6-5FE6-4550-84E4-A843CC0273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0FB-9EA9-4F22-9468-905F5F645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2B1B-FC6F-468F-997C-C9EDD0FB8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223B-C524-40C5-916D-029F81F2E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D416-76A8-4E75-A7B7-68CD6C30B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01BA-6862-4328-9B70-6FCFE0ADE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1CBD-8066-4AA3-93A8-C808A4770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181C-1BB9-455A-8C51-A548A2A0D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891D-7F85-47FE-87A4-B1EBD0444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DB39-87D2-4C29-9C5F-C1517FB8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E34-E078-44D1-9CAC-13CD38D45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nte de Corriente “arriba” (Q8+Q9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Activa “abajo” (Q5+Q6+Q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 Miller mínim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lectores de Q1 y Q2 “fijos” a 15-0.7 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Casco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+Q3 y Q2+Q4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rmite gran impedancia de Salida (colectores de Q4 y Q6 en paralel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1148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rantizar que los Transistores se encuentre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zon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termina valores de impedancias y 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será 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baja frecuenci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ntroduce filtro pasabajos, por lo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mplificación dependerá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la frecuenci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449600" y="1523880"/>
            <a:ext cx="4694400" cy="4640400"/>
            <a:chOff x="4449600" y="1523880"/>
            <a:chExt cx="4694400" cy="46404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44960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4960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47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35800" y="41148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0700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5472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pagación de Varia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 “fij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: Colector de Q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94400" cy="4640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148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28954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41148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4197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3090960"/>
                <a:ext cx="137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181480" y="35812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87400" y="3471840"/>
                <a:ext cx="26478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76240" y="3929040"/>
                <a:ext cx="2724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914400" y="4314960"/>
                <a:ext cx="268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y  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5638680"/>
                <a:ext cx="18032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5240" y="4924440"/>
                <a:ext cx="2386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648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3973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47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540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343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84280" y="2286000"/>
                <a:ext cx="3417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4297320" y="1523880"/>
            <a:ext cx="4694400" cy="4640400"/>
            <a:chOff x="4297320" y="1523880"/>
            <a:chExt cx="4694400" cy="46404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297320" y="1523880"/>
              <a:ext cx="4694400" cy="464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2973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6120" y="289548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83520" y="411480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4720" y="4495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02440" y="44197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64000" y="35812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30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30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73840" y="339732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73840" y="3473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73840" y="4540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40320" y="4343400"/>
              <a:ext cx="609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29718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09480" y="5257800"/>
                <a:ext cx="32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3336840"/>
                <a:ext cx="26211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03040" y="4059360"/>
                <a:ext cx="4054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μ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304920" y="48006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(Q4//Q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676520" y="56386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6095880"/>
            <a:ext cx="396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endo estricto debería considerarse una correc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retroalimentación, pero es desprec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Entrad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ganancia implica impedancia de carga al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0.18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838080" y="4044960"/>
            <a:ext cx="5867640" cy="1720800"/>
            <a:chOff x="838080" y="4044960"/>
            <a:chExt cx="5867640" cy="1720800"/>
          </a:xfrm>
        </p:grpSpPr>
        <p:cxnSp>
          <p:nvCxnSpPr>
            <p:cNvPr id="204" name=""/>
            <p:cNvCxnSpPr>
              <a:stCxn id="205" idx="6"/>
              <a:endCxn id="206" idx="0"/>
            </p:cNvCxnSpPr>
            <p:nvPr/>
          </p:nvCxnSpPr>
          <p:spPr>
            <a:xfrm>
              <a:off x="1398600" y="4106520"/>
              <a:ext cx="705240" cy="631080"/>
            </a:xfrm>
            <a:prstGeom prst="bentConnector3">
              <a:avLst>
                <a:gd name="adj1" fmla="val 100919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07" name=""/>
            <p:cNvGrpSpPr/>
            <p:nvPr/>
          </p:nvGrpSpPr>
          <p:grpSpPr>
            <a:xfrm>
              <a:off x="1996920" y="4740120"/>
              <a:ext cx="204480" cy="455040"/>
              <a:chOff x="1996920" y="4740120"/>
              <a:chExt cx="204480" cy="455040"/>
            </a:xfrm>
          </p:grpSpPr>
          <p:sp>
            <p:nvSpPr>
              <p:cNvPr id="206" name=""/>
              <p:cNvSpPr/>
              <p:nvPr/>
            </p:nvSpPr>
            <p:spPr>
              <a:xfrm rot="5400000">
                <a:off x="2137320" y="4705920"/>
                <a:ext cx="29880" cy="979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1996920" y="47696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96920" y="4847760"/>
                <a:ext cx="2044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996920" y="49244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6920" y="500220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996920" y="5079240"/>
                <a:ext cx="2044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2027160" y="5127120"/>
                <a:ext cx="38160" cy="979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4" name=""/>
            <p:cNvCxnSpPr>
              <a:stCxn id="213" idx="0"/>
              <a:endCxn id="215" idx="6"/>
            </p:cNvCxnSpPr>
            <p:nvPr/>
          </p:nvCxnSpPr>
          <p:spPr>
            <a:xfrm flipH="1">
              <a:off x="1398240" y="5192640"/>
              <a:ext cx="695520" cy="510480"/>
            </a:xfrm>
            <a:prstGeom prst="bentConnector3">
              <a:avLst>
                <a:gd name="adj1" fmla="val -1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6" name=""/>
            <p:cNvSpPr/>
            <p:nvPr/>
          </p:nvSpPr>
          <p:spPr>
            <a:xfrm>
              <a:off x="2133720" y="4724280"/>
              <a:ext cx="1218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1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400" y="43275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400" y="505152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6440" y="4638600"/>
              <a:ext cx="615960" cy="61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9" idx="0"/>
              <a:endCxn id="221" idx="2"/>
            </p:cNvCxnSpPr>
            <p:nvPr/>
          </p:nvCxnSpPr>
          <p:spPr>
            <a:xfrm flipH="1" flipV="1" rot="5400000">
              <a:off x="4869360" y="2926080"/>
              <a:ext cx="527760" cy="289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>
              <a:stCxn id="223" idx="3"/>
              <a:endCxn id="219" idx="4"/>
            </p:cNvCxnSpPr>
            <p:nvPr/>
          </p:nvCxnSpPr>
          <p:spPr>
            <a:xfrm flipV="1" rot="16200000">
              <a:off x="4894920" y="4043880"/>
              <a:ext cx="494640" cy="2914920"/>
            </a:xfrm>
            <a:prstGeom prst="bentConnector3">
              <a:avLst>
                <a:gd name="adj1" fmla="val 866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4" name=""/>
            <p:cNvSpPr/>
            <p:nvPr/>
          </p:nvSpPr>
          <p:spPr>
            <a:xfrm>
              <a:off x="3341520" y="47847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181840" y="4740120"/>
              <a:ext cx="206640" cy="455040"/>
              <a:chOff x="5181840" y="4740120"/>
              <a:chExt cx="206640" cy="455040"/>
            </a:xfrm>
          </p:grpSpPr>
          <p:sp>
            <p:nvSpPr>
              <p:cNvPr id="226" name=""/>
              <p:cNvSpPr/>
              <p:nvPr/>
            </p:nvSpPr>
            <p:spPr>
              <a:xfrm rot="5400000">
                <a:off x="5323680" y="4705560"/>
                <a:ext cx="29880" cy="990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182200" y="47696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82200" y="4847760"/>
                <a:ext cx="20628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182200" y="49244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82200" y="500220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5182200" y="5079240"/>
                <a:ext cx="206280" cy="7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5212080" y="5126400"/>
                <a:ext cx="38160" cy="990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3" name=""/>
            <p:cNvCxnSpPr>
              <a:stCxn id="226" idx="0"/>
            </p:cNvCxnSpPr>
            <p:nvPr/>
          </p:nvCxnSpPr>
          <p:spPr>
            <a:xfrm flipV="1">
              <a:off x="5287680" y="4122000"/>
              <a:ext cx="108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4" name=""/>
            <p:cNvSpPr/>
            <p:nvPr/>
          </p:nvSpPr>
          <p:spPr>
            <a:xfrm>
              <a:off x="5284800" y="51814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0120" y="4768920"/>
              <a:ext cx="142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dif)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8M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3920" y="4419720"/>
              <a:ext cx="137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(-1/5)mA/V 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4044960"/>
              <a:ext cx="12240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6200" y="564048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81880" y="5641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81880" y="4049640"/>
              <a:ext cx="12384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080" y="474012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867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requiere alta impedanci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baja gan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etapa de ganancia adicio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“alta” (para tener gran voltaje de entrada) pero “pequeña” comparada con la de salida de la etapa diferencial (para no cargar la fu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en voltaje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7 Emisor Común con carga ac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ablemente cumplirá con los requisit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3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paralelo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Q17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rando” por la base de Q16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“grande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6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9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E17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“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ificación de Respuesta en frecuenci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écnica de separación de polos para brindar estabilidad en lazo cerrado 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 de Ganancia Intermed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16 seguidor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4320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Q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95440" y="3191040"/>
                <a:ext cx="3806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41360" y="3657600"/>
                <a:ext cx="4406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μA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44640" y="4481640"/>
                <a:ext cx="3384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k</m:t>
                        </m:r>
                        <m:r>
                          <m:t xml:space="preserve">‖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 Salida Q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227240" y="5410080"/>
                <a:ext cx="2693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492200" y="5943600"/>
                <a:ext cx="21477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k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590920" y="3200400"/>
                <a:ext cx="1531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76320" y="189396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8600" y="2362320"/>
                <a:ext cx="35640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68920" y="2498760"/>
                <a:ext cx="747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87760" y="1876320"/>
                <a:ext cx="174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‖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76320" y="4952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Voltaje Q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460520" y="5429160"/>
                <a:ext cx="3062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38098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Q1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96880" y="4343400"/>
                <a:ext cx="311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1952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Ganancia Intermedia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delo Amplific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 del conju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en Casc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000920" y="5519880"/>
                <a:ext cx="10922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781680" y="4114800"/>
                <a:ext cx="1400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000080" y="6137280"/>
                <a:ext cx="13860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" name=""/>
          <p:cNvGrpSpPr/>
          <p:nvPr/>
        </p:nvGrpSpPr>
        <p:grpSpPr>
          <a:xfrm>
            <a:off x="457200" y="4437000"/>
            <a:ext cx="3733920" cy="1700280"/>
            <a:chOff x="457200" y="4437000"/>
            <a:chExt cx="3733920" cy="1700280"/>
          </a:xfrm>
        </p:grpSpPr>
        <p:cxnSp>
          <p:nvCxnSpPr>
            <p:cNvPr id="271" name=""/>
            <p:cNvCxnSpPr>
              <a:endCxn id="272" idx="0"/>
            </p:cNvCxnSpPr>
            <p:nvPr/>
          </p:nvCxnSpPr>
          <p:spPr>
            <a:xfrm flipH="1" rot="16200000">
              <a:off x="92556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273" name=""/>
            <p:cNvGrpSpPr/>
            <p:nvPr/>
          </p:nvGrpSpPr>
          <p:grpSpPr>
            <a:xfrm>
              <a:off x="1551600" y="5126040"/>
              <a:ext cx="187200" cy="433080"/>
              <a:chOff x="1551600" y="5126040"/>
              <a:chExt cx="187200" cy="433080"/>
            </a:xfrm>
          </p:grpSpPr>
          <p:sp>
            <p:nvSpPr>
              <p:cNvPr id="272" name=""/>
              <p:cNvSpPr/>
              <p:nvPr/>
            </p:nvSpPr>
            <p:spPr>
              <a:xfrm rot="5400000">
                <a:off x="167940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55196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5196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5196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5196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5196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157824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80" name=""/>
            <p:cNvCxnSpPr>
              <a:stCxn id="279" idx="0"/>
            </p:cNvCxnSpPr>
            <p:nvPr/>
          </p:nvCxnSpPr>
          <p:spPr>
            <a:xfrm flipH="1">
              <a:off x="76140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1" name=""/>
            <p:cNvSpPr/>
            <p:nvPr/>
          </p:nvSpPr>
          <p:spPr>
            <a:xfrm>
              <a:off x="1600200" y="5146560"/>
              <a:ext cx="82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47322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5419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" y="51228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213360" y="4437000"/>
              <a:ext cx="415440" cy="196560"/>
              <a:chOff x="3213360" y="4437000"/>
              <a:chExt cx="415440" cy="196560"/>
            </a:xfrm>
          </p:grpSpPr>
          <p:sp>
            <p:nvSpPr>
              <p:cNvPr id="286" name=""/>
              <p:cNvSpPr/>
              <p:nvPr/>
            </p:nvSpPr>
            <p:spPr>
              <a:xfrm>
                <a:off x="321336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32407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31128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381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345240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3522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388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9560" y="5027400"/>
              <a:ext cx="56340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>
              <a:stCxn id="293" idx="0"/>
              <a:endCxn id="286" idx="0"/>
            </p:cNvCxnSpPr>
            <p:nvPr/>
          </p:nvCxnSpPr>
          <p:spPr>
            <a:xfrm flipH="1" flipV="1" rot="5400000">
              <a:off x="270900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"/>
            <p:cNvCxnSpPr>
              <a:stCxn id="292" idx="0"/>
            </p:cNvCxnSpPr>
            <p:nvPr/>
          </p:nvCxnSpPr>
          <p:spPr>
            <a:xfrm flipH="1" flipV="1" rot="5400000">
              <a:off x="3870000" y="4295160"/>
              <a:ext cx="3600" cy="486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"/>
            <p:cNvCxnSpPr>
              <a:endCxn id="293" idx="4"/>
            </p:cNvCxnSpPr>
            <p:nvPr/>
          </p:nvCxnSpPr>
          <p:spPr>
            <a:xfrm rot="10800000">
              <a:off x="2701440" y="5615640"/>
              <a:ext cx="141336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7" name=""/>
            <p:cNvSpPr/>
            <p:nvPr/>
          </p:nvSpPr>
          <p:spPr>
            <a:xfrm>
              <a:off x="2982960" y="5084640"/>
              <a:ext cx="979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!6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71680" y="4929120"/>
              <a:ext cx="65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6560" y="4592520"/>
              <a:ext cx="885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" y="44607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800" y="59846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84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884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249640" y="4125960"/>
                <a:ext cx="23986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‖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02240" y="6157800"/>
                <a:ext cx="2396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419720" y="5122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~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5680" y="4437000"/>
            <a:ext cx="3733560" cy="1700280"/>
            <a:chOff x="4495680" y="4437000"/>
            <a:chExt cx="3733560" cy="1700280"/>
          </a:xfrm>
        </p:grpSpPr>
        <p:cxnSp>
          <p:nvCxnSpPr>
            <p:cNvPr id="309" name=""/>
            <p:cNvCxnSpPr>
              <a:endCxn id="310" idx="0"/>
            </p:cNvCxnSpPr>
            <p:nvPr/>
          </p:nvCxnSpPr>
          <p:spPr>
            <a:xfrm flipH="1" rot="16200000">
              <a:off x="4963680" y="4404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11" name=""/>
            <p:cNvGrpSpPr/>
            <p:nvPr/>
          </p:nvGrpSpPr>
          <p:grpSpPr>
            <a:xfrm>
              <a:off x="5589720" y="5126040"/>
              <a:ext cx="187200" cy="433080"/>
              <a:chOff x="5589720" y="5126040"/>
              <a:chExt cx="187200" cy="43308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5717520" y="5095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590080" y="5154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590080" y="5228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5590080" y="5301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590080" y="5375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590080" y="5448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5616360" y="5496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8" name=""/>
            <p:cNvCxnSpPr>
              <a:stCxn id="317" idx="0"/>
            </p:cNvCxnSpPr>
            <p:nvPr/>
          </p:nvCxnSpPr>
          <p:spPr>
            <a:xfrm flipH="1">
              <a:off x="4799520" y="5557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5638680" y="5146560"/>
              <a:ext cx="823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n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95680" y="4732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95680" y="5419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251480" y="4437000"/>
              <a:ext cx="415440" cy="196560"/>
              <a:chOff x="7251480" y="4437000"/>
              <a:chExt cx="415440" cy="19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7251480" y="4437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727884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7349400" y="4437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741996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49052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561080" y="4437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32000" y="4539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6457680" y="5027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0" idx="0"/>
              <a:endCxn id="323" idx="0"/>
            </p:cNvCxnSpPr>
            <p:nvPr/>
          </p:nvCxnSpPr>
          <p:spPr>
            <a:xfrm flipH="1" flipV="1" rot="5400000">
              <a:off x="6747120" y="4523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29" idx="0"/>
            </p:cNvCxnSpPr>
            <p:nvPr/>
          </p:nvCxnSpPr>
          <p:spPr>
            <a:xfrm flipH="1" flipV="1" rot="5400000">
              <a:off x="7908480" y="4295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33" name=""/>
            <p:cNvCxnSpPr>
              <a:endCxn id="330" idx="4"/>
            </p:cNvCxnSpPr>
            <p:nvPr/>
          </p:nvCxnSpPr>
          <p:spPr>
            <a:xfrm rot="10800000">
              <a:off x="6739560" y="5615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4" name=""/>
            <p:cNvSpPr/>
            <p:nvPr/>
          </p:nvSpPr>
          <p:spPr>
            <a:xfrm>
              <a:off x="7021440" y="5084640"/>
              <a:ext cx="979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vQ17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10160" y="4929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6280" y="5225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15040" y="4592520"/>
              <a:ext cx="885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ut(Q1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2428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76960" y="4460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6960" y="5984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103560" y="5527800"/>
                <a:ext cx="67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Q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4572000" y="27288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648320" y="2043000"/>
            <a:ext cx="3733560" cy="1700280"/>
            <a:chOff x="4648320" y="2043000"/>
            <a:chExt cx="3733560" cy="1700280"/>
          </a:xfrm>
        </p:grpSpPr>
        <p:cxnSp>
          <p:nvCxnSpPr>
            <p:cNvPr id="345" name=""/>
            <p:cNvCxnSpPr>
              <a:endCxn id="346" idx="0"/>
            </p:cNvCxnSpPr>
            <p:nvPr/>
          </p:nvCxnSpPr>
          <p:spPr>
            <a:xfrm flipH="1" rot="16200000">
              <a:off x="5116320" y="2010960"/>
              <a:ext cx="581400" cy="857880"/>
            </a:xfrm>
            <a:prstGeom prst="bentConnector4">
              <a:avLst>
                <a:gd name="adj1" fmla="val -681"/>
                <a:gd name="adj2" fmla="val 9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347" name=""/>
            <p:cNvGrpSpPr/>
            <p:nvPr/>
          </p:nvGrpSpPr>
          <p:grpSpPr>
            <a:xfrm>
              <a:off x="5742360" y="2732040"/>
              <a:ext cx="187200" cy="433080"/>
              <a:chOff x="5742360" y="2732040"/>
              <a:chExt cx="187200" cy="433080"/>
            </a:xfrm>
          </p:grpSpPr>
          <p:sp>
            <p:nvSpPr>
              <p:cNvPr id="346" name=""/>
              <p:cNvSpPr/>
              <p:nvPr/>
            </p:nvSpPr>
            <p:spPr>
              <a:xfrm rot="5400000">
                <a:off x="5870160" y="2701440"/>
                <a:ext cx="28440" cy="896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5742720" y="276048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42720" y="2834280"/>
                <a:ext cx="1868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742720" y="29073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42720" y="29811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742720" y="3054960"/>
                <a:ext cx="18684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400000">
                <a:off x="5769000" y="3102120"/>
                <a:ext cx="36360" cy="896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4" name=""/>
            <p:cNvCxnSpPr>
              <a:stCxn id="353" idx="0"/>
            </p:cNvCxnSpPr>
            <p:nvPr/>
          </p:nvCxnSpPr>
          <p:spPr>
            <a:xfrm flipH="1">
              <a:off x="4952160" y="3163680"/>
              <a:ext cx="878760" cy="504000"/>
            </a:xfrm>
            <a:prstGeom prst="bentConnector3">
              <a:avLst>
                <a:gd name="adj1" fmla="val -90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55" name=""/>
            <p:cNvSpPr/>
            <p:nvPr/>
          </p:nvSpPr>
          <p:spPr>
            <a:xfrm>
              <a:off x="5791320" y="27525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.5M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8320" y="233820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48320" y="30254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7404120" y="2043000"/>
              <a:ext cx="415440" cy="196560"/>
              <a:chOff x="7404120" y="2043000"/>
              <a:chExt cx="415440" cy="196560"/>
            </a:xfrm>
          </p:grpSpPr>
          <p:sp>
            <p:nvSpPr>
              <p:cNvPr id="359" name=""/>
              <p:cNvSpPr/>
              <p:nvPr/>
            </p:nvSpPr>
            <p:spPr>
              <a:xfrm>
                <a:off x="7404120" y="2043000"/>
                <a:ext cx="27360" cy="9432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743148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7502040" y="2043000"/>
                <a:ext cx="7020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757260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764316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7713720" y="2043000"/>
                <a:ext cx="70560" cy="19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784640" y="2145240"/>
                <a:ext cx="34920" cy="9432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6610320" y="2633400"/>
              <a:ext cx="563760" cy="58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7" name=""/>
            <p:cNvCxnSpPr>
              <a:stCxn id="366" idx="0"/>
              <a:endCxn id="359" idx="0"/>
            </p:cNvCxnSpPr>
            <p:nvPr/>
          </p:nvCxnSpPr>
          <p:spPr>
            <a:xfrm flipH="1" flipV="1" rot="5400000">
              <a:off x="6899760" y="2129040"/>
              <a:ext cx="497520" cy="511920"/>
            </a:xfrm>
            <a:prstGeom prst="bentConnector3">
              <a:avLst>
                <a:gd name="adj1" fmla="val 983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8" name=""/>
            <p:cNvCxnSpPr>
              <a:stCxn id="365" idx="0"/>
            </p:cNvCxnSpPr>
            <p:nvPr/>
          </p:nvCxnSpPr>
          <p:spPr>
            <a:xfrm flipH="1" flipV="1" rot="5400000">
              <a:off x="8061120" y="1901160"/>
              <a:ext cx="3600" cy="486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9" name=""/>
            <p:cNvCxnSpPr>
              <a:endCxn id="366" idx="4"/>
            </p:cNvCxnSpPr>
            <p:nvPr/>
          </p:nvCxnSpPr>
          <p:spPr>
            <a:xfrm rot="10800000">
              <a:off x="6892200" y="3221640"/>
              <a:ext cx="1413720" cy="445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0" name=""/>
            <p:cNvSpPr/>
            <p:nvPr/>
          </p:nvSpPr>
          <p:spPr>
            <a:xfrm>
              <a:off x="7174080" y="26906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-0.7k V/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62800" y="2535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68920" y="2831760"/>
              <a:ext cx="6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67680" y="2198520"/>
              <a:ext cx="8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100k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7692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692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229600" y="2066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9600" y="35906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7339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7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mplificadores Operacionales (OPAMPs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tap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lida: Seguidor Push-Pu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sumamos Q14 activo (Q20 cortad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22 multiemisor, sirve de buffer entre etapa intermedia y etapa de sali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27) ~ 500k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sal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25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14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(int)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~ 7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¡¡¡El Buffer de Voltaje es vital!!!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quivalente Total DC (Baja frecuencia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catenación de Etap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quivalente Tot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Ganancia (~103dB), e Impedancia de Salida Baja (~ 70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040" y="3552840"/>
            <a:ext cx="8173800" cy="1171440"/>
            <a:chOff x="284040" y="3552840"/>
            <a:chExt cx="8173800" cy="1171440"/>
          </a:xfrm>
        </p:grpSpPr>
        <p:grpSp>
          <p:nvGrpSpPr>
            <p:cNvPr id="386" name=""/>
            <p:cNvGrpSpPr/>
            <p:nvPr/>
          </p:nvGrpSpPr>
          <p:grpSpPr>
            <a:xfrm>
              <a:off x="5835240" y="3552840"/>
              <a:ext cx="2622600" cy="1166760"/>
              <a:chOff x="5835240" y="3552840"/>
              <a:chExt cx="2622600" cy="1166760"/>
            </a:xfrm>
          </p:grpSpPr>
          <p:cxnSp>
            <p:nvCxnSpPr>
              <p:cNvPr id="387" name=""/>
              <p:cNvCxnSpPr>
                <a:stCxn id="388" idx="6"/>
                <a:endCxn id="389" idx="0"/>
              </p:cNvCxnSpPr>
              <p:nvPr/>
            </p:nvCxnSpPr>
            <p:spPr>
              <a:xfrm>
                <a:off x="6130440" y="362088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390" name=""/>
              <p:cNvGrpSpPr/>
              <p:nvPr/>
            </p:nvGrpSpPr>
            <p:grpSpPr>
              <a:xfrm>
                <a:off x="6410160" y="4025880"/>
                <a:ext cx="145800" cy="296280"/>
                <a:chOff x="6410160" y="4025880"/>
                <a:chExt cx="145800" cy="296280"/>
              </a:xfrm>
            </p:grpSpPr>
            <p:sp>
              <p:nvSpPr>
                <p:cNvPr id="389" name=""/>
                <p:cNvSpPr/>
                <p:nvPr/>
              </p:nvSpPr>
              <p:spPr>
                <a:xfrm rot="5400000">
                  <a:off x="6510960" y="400068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410160" y="40453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10160" y="409572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6410160" y="41461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10160" y="41965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6410160" y="424692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400000">
                  <a:off x="6432480" y="427464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96" idx="0"/>
                <a:endCxn id="398" idx="6"/>
              </p:cNvCxnSpPr>
              <p:nvPr/>
            </p:nvCxnSpPr>
            <p:spPr>
              <a:xfrm flipV="1" rot="10800000">
                <a:off x="6130080" y="431892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/>
              <p:nvPr/>
            </p:nvSpPr>
            <p:spPr>
              <a:xfrm>
                <a:off x="6448320" y="403992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500k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35240" y="37558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35240" y="422748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698960" y="3552840"/>
                <a:ext cx="322200" cy="134640"/>
                <a:chOff x="7698960" y="3552840"/>
                <a:chExt cx="322200" cy="1346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698960" y="355284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772020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7774920" y="355284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2964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88436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 flipV="1">
                  <a:off x="7939080" y="355284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994160" y="362268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7084800" y="395748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10" idx="0"/>
                <a:endCxn id="403" idx="0"/>
              </p:cNvCxnSpPr>
              <p:nvPr/>
            </p:nvCxnSpPr>
            <p:spPr>
              <a:xfrm flipH="1" flipV="1" rot="5400000">
                <a:off x="7330320" y="358884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09" idx="0"/>
              </p:cNvCxnSpPr>
              <p:nvPr/>
            </p:nvCxnSpPr>
            <p:spPr>
              <a:xfrm flipH="1" flipV="1" rot="5400000">
                <a:off x="8208360" y="343152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3" name=""/>
              <p:cNvCxnSpPr>
                <a:endCxn id="410" idx="4"/>
              </p:cNvCxnSpPr>
              <p:nvPr/>
            </p:nvCxnSpPr>
            <p:spPr>
              <a:xfrm rot="10800000">
                <a:off x="7302960" y="436176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4" name=""/>
              <p:cNvSpPr/>
              <p:nvPr/>
            </p:nvSpPr>
            <p:spPr>
              <a:xfrm>
                <a:off x="7521480" y="399708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46640" y="389088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51320" y="409392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94200" y="365904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70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3080" y="356868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3080" y="461484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40480" y="356868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40480" y="461484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4040" y="3578040"/>
              <a:ext cx="3504960" cy="1143000"/>
              <a:chOff x="284040" y="3578040"/>
              <a:chExt cx="3504960" cy="1143000"/>
            </a:xfrm>
          </p:grpSpPr>
          <p:cxnSp>
            <p:nvCxnSpPr>
              <p:cNvPr id="421" name=""/>
              <p:cNvCxnSpPr>
                <a:stCxn id="422" idx="6"/>
                <a:endCxn id="423" idx="0"/>
              </p:cNvCxnSpPr>
              <p:nvPr/>
            </p:nvCxnSpPr>
            <p:spPr>
              <a:xfrm>
                <a:off x="705960" y="3619440"/>
                <a:ext cx="531000" cy="419760"/>
              </a:xfrm>
              <a:prstGeom prst="bentConnector3">
                <a:avLst>
                  <a:gd name="adj1" fmla="val 1008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24" name=""/>
              <p:cNvGrpSpPr/>
              <p:nvPr/>
            </p:nvGrpSpPr>
            <p:grpSpPr>
              <a:xfrm>
                <a:off x="1157400" y="4040280"/>
                <a:ext cx="154080" cy="302760"/>
                <a:chOff x="1157400" y="4040280"/>
                <a:chExt cx="154080" cy="302760"/>
              </a:xfrm>
            </p:grpSpPr>
            <p:sp>
              <p:nvSpPr>
                <p:cNvPr id="423" name=""/>
                <p:cNvSpPr/>
                <p:nvPr/>
              </p:nvSpPr>
              <p:spPr>
                <a:xfrm rot="5400000">
                  <a:off x="1264320" y="4013280"/>
                  <a:ext cx="19800" cy="7380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1157760" y="40597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57760" y="4111920"/>
                  <a:ext cx="15372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1157760" y="416268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157760" y="421452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1157760" y="4265640"/>
                  <a:ext cx="15372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5400000">
                  <a:off x="1181520" y="4293360"/>
                  <a:ext cx="25560" cy="7380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31" name=""/>
              <p:cNvCxnSpPr>
                <a:stCxn id="430" idx="0"/>
                <a:endCxn id="432" idx="6"/>
              </p:cNvCxnSpPr>
              <p:nvPr/>
            </p:nvCxnSpPr>
            <p:spPr>
              <a:xfrm flipH="1">
                <a:off x="705960" y="4339800"/>
                <a:ext cx="524160" cy="338760"/>
              </a:xfrm>
              <a:prstGeom prst="bentConnector3">
                <a:avLst>
                  <a:gd name="adj1" fmla="val -130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1045800" y="4029120"/>
                <a:ext cx="91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0880" y="376560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0880" y="4246560"/>
                <a:ext cx="54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38080" y="3971880"/>
                <a:ext cx="465120" cy="409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7" name=""/>
              <p:cNvCxnSpPr>
                <a:stCxn id="436" idx="0"/>
                <a:endCxn id="438" idx="2"/>
              </p:cNvCxnSpPr>
              <p:nvPr/>
            </p:nvCxnSpPr>
            <p:spPr>
              <a:xfrm flipH="1" flipV="1" rot="5400000">
                <a:off x="2658240" y="2934720"/>
                <a:ext cx="349920" cy="17247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39" name=""/>
              <p:cNvCxnSpPr>
                <a:stCxn id="440" idx="3"/>
                <a:endCxn id="436" idx="4"/>
              </p:cNvCxnSpPr>
              <p:nvPr/>
            </p:nvCxnSpPr>
            <p:spPr>
              <a:xfrm flipV="1" rot="16200000">
                <a:off x="2676600" y="3675240"/>
                <a:ext cx="327600" cy="1739160"/>
              </a:xfrm>
              <a:prstGeom prst="bentConnector3">
                <a:avLst>
                  <a:gd name="adj1" fmla="val 726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41" name=""/>
              <p:cNvSpPr/>
              <p:nvPr/>
            </p:nvSpPr>
            <p:spPr>
              <a:xfrm>
                <a:off x="1712520" y="4070160"/>
                <a:ext cx="54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2951280" y="4040280"/>
                <a:ext cx="155520" cy="302760"/>
                <a:chOff x="2951280" y="4040280"/>
                <a:chExt cx="155520" cy="302760"/>
              </a:xfrm>
            </p:grpSpPr>
            <p:sp>
              <p:nvSpPr>
                <p:cNvPr id="443" name=""/>
                <p:cNvSpPr/>
                <p:nvPr/>
              </p:nvSpPr>
              <p:spPr>
                <a:xfrm rot="5400000">
                  <a:off x="3059280" y="4012920"/>
                  <a:ext cx="19800" cy="7452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2951640" y="40597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951640" y="4111920"/>
                  <a:ext cx="155160" cy="5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V="1">
                  <a:off x="2951640" y="416268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951640" y="421452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2951640" y="4265640"/>
                  <a:ext cx="155160" cy="5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5400000">
                  <a:off x="2975760" y="4293000"/>
                  <a:ext cx="25560" cy="7452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0" name=""/>
              <p:cNvCxnSpPr>
                <a:stCxn id="443" idx="0"/>
              </p:cNvCxnSpPr>
              <p:nvPr/>
            </p:nvCxnSpPr>
            <p:spPr>
              <a:xfrm flipV="1">
                <a:off x="3029760" y="3629880"/>
                <a:ext cx="1080" cy="40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51" name=""/>
              <p:cNvSpPr/>
              <p:nvPr/>
            </p:nvSpPr>
            <p:spPr>
              <a:xfrm>
                <a:off x="3028680" y="4333680"/>
                <a:ext cx="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50920" y="4059000"/>
                <a:ext cx="83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8M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068200" y="4065480"/>
                <a:ext cx="103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(-1/5) mA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4160" y="357804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14160" y="4638600"/>
                <a:ext cx="9216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95400" y="4638600"/>
                <a:ext cx="93600" cy="82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95400" y="3581280"/>
                <a:ext cx="93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84040" y="4040280"/>
                <a:ext cx="7459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517560" y="3557520"/>
              <a:ext cx="2622600" cy="1166760"/>
              <a:chOff x="3517560" y="3557520"/>
              <a:chExt cx="2622600" cy="1166760"/>
            </a:xfrm>
          </p:grpSpPr>
          <p:cxnSp>
            <p:nvCxnSpPr>
              <p:cNvPr id="456" name=""/>
              <p:cNvCxnSpPr>
                <a:stCxn id="457" idx="6"/>
                <a:endCxn id="458" idx="0"/>
              </p:cNvCxnSpPr>
              <p:nvPr/>
            </p:nvCxnSpPr>
            <p:spPr>
              <a:xfrm>
                <a:off x="3812760" y="3625560"/>
                <a:ext cx="353160" cy="402480"/>
              </a:xfrm>
              <a:prstGeom prst="bentConnector3">
                <a:avLst>
                  <a:gd name="adj1" fmla="val 9908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59" name=""/>
              <p:cNvGrpSpPr/>
              <p:nvPr/>
            </p:nvGrpSpPr>
            <p:grpSpPr>
              <a:xfrm>
                <a:off x="4092480" y="4030560"/>
                <a:ext cx="145800" cy="296280"/>
                <a:chOff x="4092480" y="4030560"/>
                <a:chExt cx="145800" cy="296280"/>
              </a:xfrm>
            </p:grpSpPr>
            <p:sp>
              <p:nvSpPr>
                <p:cNvPr id="458" name=""/>
                <p:cNvSpPr/>
                <p:nvPr/>
              </p:nvSpPr>
              <p:spPr>
                <a:xfrm rot="5400000">
                  <a:off x="4193280" y="4005360"/>
                  <a:ext cx="19440" cy="698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4092480" y="40500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092480" y="4100400"/>
                  <a:ext cx="145800" cy="5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V="1">
                  <a:off x="4092480" y="41508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092480" y="42012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4092480" y="4251600"/>
                  <a:ext cx="145800" cy="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5400000">
                  <a:off x="4114800" y="4279320"/>
                  <a:ext cx="248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66" name=""/>
              <p:cNvCxnSpPr>
                <a:stCxn id="465" idx="0"/>
                <a:endCxn id="467" idx="6"/>
              </p:cNvCxnSpPr>
              <p:nvPr/>
            </p:nvCxnSpPr>
            <p:spPr>
              <a:xfrm flipV="1" rot="10800000">
                <a:off x="3812400" y="4323600"/>
                <a:ext cx="346680" cy="347760"/>
              </a:xfrm>
              <a:prstGeom prst="bentConnector3">
                <a:avLst>
                  <a:gd name="adj1" fmla="val 415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8" name=""/>
              <p:cNvSpPr/>
              <p:nvPr/>
            </p:nvSpPr>
            <p:spPr>
              <a:xfrm>
                <a:off x="4130640" y="4044600"/>
                <a:ext cx="639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.5M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517560" y="37605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517560" y="4232160"/>
                <a:ext cx="41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5381280" y="3557520"/>
                <a:ext cx="322200" cy="134640"/>
                <a:chOff x="5381280" y="3557520"/>
                <a:chExt cx="322200" cy="1346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381280" y="3557520"/>
                  <a:ext cx="21240" cy="64440"/>
                </a:xfrm>
                <a:custGeom>
                  <a:avLst/>
                  <a:gdLst/>
                  <a:ahLst/>
                  <a:rect l="l" t="t" r="r" b="b"/>
                  <a:pathLst>
                    <a:path w="14" h="46">
                      <a:moveTo>
                        <a:pt x="0" y="46"/>
                      </a:moveTo>
                      <a:lnTo>
                        <a:pt x="1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540252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457240" y="3557520"/>
                  <a:ext cx="543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551196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556668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 flipV="1">
                  <a:off x="5621400" y="3557520"/>
                  <a:ext cx="5472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676480" y="3627360"/>
                  <a:ext cx="27000" cy="64440"/>
                </a:xfrm>
                <a:custGeom>
                  <a:avLst/>
                  <a:gdLst/>
                  <a:ahLst/>
                  <a:rect l="l" t="t" r="r" b="b"/>
                  <a:pathLst>
                    <a:path w="18" h="46">
                      <a:moveTo>
                        <a:pt x="0" y="46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4767120" y="3962160"/>
                <a:ext cx="43668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0" name=""/>
              <p:cNvCxnSpPr>
                <a:stCxn id="479" idx="0"/>
                <a:endCxn id="472" idx="0"/>
              </p:cNvCxnSpPr>
              <p:nvPr/>
            </p:nvCxnSpPr>
            <p:spPr>
              <a:xfrm flipH="1" flipV="1" rot="5400000">
                <a:off x="5012640" y="3593520"/>
                <a:ext cx="342000" cy="396000"/>
              </a:xfrm>
              <a:prstGeom prst="bentConnector3">
                <a:avLst>
                  <a:gd name="adj1" fmla="val 98314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1" name=""/>
              <p:cNvCxnSpPr>
                <a:stCxn id="478" idx="0"/>
              </p:cNvCxnSpPr>
              <p:nvPr/>
            </p:nvCxnSpPr>
            <p:spPr>
              <a:xfrm flipH="1" flipV="1" rot="5400000">
                <a:off x="5890680" y="3436200"/>
                <a:ext cx="3960" cy="37836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82" name=""/>
              <p:cNvCxnSpPr>
                <a:endCxn id="479" idx="4"/>
              </p:cNvCxnSpPr>
              <p:nvPr/>
            </p:nvCxnSpPr>
            <p:spPr>
              <a:xfrm rot="10800000">
                <a:off x="4985280" y="4366440"/>
                <a:ext cx="1096200" cy="3052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/>
              <p:nvPr/>
            </p:nvSpPr>
            <p:spPr>
              <a:xfrm>
                <a:off x="5203800" y="4001760"/>
                <a:ext cx="75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-0.7k V/V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28960" y="3895560"/>
                <a:ext cx="50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33640" y="4098600"/>
                <a:ext cx="511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76520" y="3663720"/>
                <a:ext cx="685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100k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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95400" y="357336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95400" y="4619520"/>
                <a:ext cx="11772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22800" y="357336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22800" y="4619520"/>
                <a:ext cx="117360" cy="10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3048120" y="5081760"/>
            <a:ext cx="2622600" cy="1166760"/>
            <a:chOff x="3048120" y="5081760"/>
            <a:chExt cx="2622600" cy="1166760"/>
          </a:xfrm>
        </p:grpSpPr>
        <p:cxnSp>
          <p:nvCxnSpPr>
            <p:cNvPr id="490" name=""/>
            <p:cNvCxnSpPr>
              <a:stCxn id="491" idx="6"/>
              <a:endCxn id="492" idx="0"/>
            </p:cNvCxnSpPr>
            <p:nvPr/>
          </p:nvCxnSpPr>
          <p:spPr>
            <a:xfrm>
              <a:off x="3343320" y="5149800"/>
              <a:ext cx="353160" cy="402480"/>
            </a:xfrm>
            <a:prstGeom prst="bentConnector3">
              <a:avLst>
                <a:gd name="adj1" fmla="val 99081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493" name=""/>
            <p:cNvGrpSpPr/>
            <p:nvPr/>
          </p:nvGrpSpPr>
          <p:grpSpPr>
            <a:xfrm>
              <a:off x="3623040" y="5554800"/>
              <a:ext cx="145800" cy="296280"/>
              <a:chOff x="3623040" y="5554800"/>
              <a:chExt cx="145800" cy="296280"/>
            </a:xfrm>
          </p:grpSpPr>
          <p:sp>
            <p:nvSpPr>
              <p:cNvPr id="492" name=""/>
              <p:cNvSpPr/>
              <p:nvPr/>
            </p:nvSpPr>
            <p:spPr>
              <a:xfrm rot="5400000">
                <a:off x="3723840" y="552960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3623040" y="55742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23040" y="5624640"/>
                <a:ext cx="14580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23040" y="56750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23040" y="57254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3623040" y="5775840"/>
                <a:ext cx="14580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5400000">
                <a:off x="3645360" y="5803560"/>
                <a:ext cx="24840" cy="698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0" name=""/>
            <p:cNvCxnSpPr>
              <a:stCxn id="499" idx="0"/>
              <a:endCxn id="501" idx="6"/>
            </p:cNvCxnSpPr>
            <p:nvPr/>
          </p:nvCxnSpPr>
          <p:spPr>
            <a:xfrm flipV="1" rot="10800000">
              <a:off x="3342960" y="5847840"/>
              <a:ext cx="346680" cy="347760"/>
            </a:xfrm>
            <a:prstGeom prst="bentConnector3">
              <a:avLst>
                <a:gd name="adj1" fmla="val 41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02" name=""/>
            <p:cNvSpPr/>
            <p:nvPr/>
          </p:nvSpPr>
          <p:spPr>
            <a:xfrm>
              <a:off x="3661200" y="5568840"/>
              <a:ext cx="63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M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52848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5756400"/>
              <a:ext cx="4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911840" y="5081760"/>
              <a:ext cx="322200" cy="134640"/>
              <a:chOff x="4911840" y="5081760"/>
              <a:chExt cx="322200" cy="134640"/>
            </a:xfrm>
          </p:grpSpPr>
          <p:sp>
            <p:nvSpPr>
              <p:cNvPr id="506" name=""/>
              <p:cNvSpPr/>
              <p:nvPr/>
            </p:nvSpPr>
            <p:spPr>
              <a:xfrm>
                <a:off x="4911840" y="5081760"/>
                <a:ext cx="21240" cy="6444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493308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4987800" y="5081760"/>
                <a:ext cx="5436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04252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09724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151960" y="5081760"/>
                <a:ext cx="54720" cy="13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07040" y="5151600"/>
                <a:ext cx="27000" cy="6444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4297680" y="5486400"/>
              <a:ext cx="436680" cy="405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3" idx="0"/>
              <a:endCxn id="506" idx="0"/>
            </p:cNvCxnSpPr>
            <p:nvPr/>
          </p:nvCxnSpPr>
          <p:spPr>
            <a:xfrm flipH="1" flipV="1" rot="5400000">
              <a:off x="4543200" y="5117760"/>
              <a:ext cx="342000" cy="396000"/>
            </a:xfrm>
            <a:prstGeom prst="bentConnector3">
              <a:avLst>
                <a:gd name="adj1" fmla="val 98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512" idx="0"/>
            </p:cNvCxnSpPr>
            <p:nvPr/>
          </p:nvCxnSpPr>
          <p:spPr>
            <a:xfrm flipH="1" flipV="1" rot="5400000">
              <a:off x="5421240" y="4960440"/>
              <a:ext cx="396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endCxn id="513" idx="4"/>
            </p:cNvCxnSpPr>
            <p:nvPr/>
          </p:nvCxnSpPr>
          <p:spPr>
            <a:xfrm rot="10800000">
              <a:off x="4515840" y="5890680"/>
              <a:ext cx="1096200" cy="30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17" name=""/>
            <p:cNvSpPr/>
            <p:nvPr/>
          </p:nvSpPr>
          <p:spPr>
            <a:xfrm>
              <a:off x="4734360" y="5526000"/>
              <a:ext cx="75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147k V/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59520" y="5419800"/>
              <a:ext cx="50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4200" y="562284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07080" y="518796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i="1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25960" y="509760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225960" y="6143760"/>
              <a:ext cx="11772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53360" y="509760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53360" y="6143760"/>
              <a:ext cx="1173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71800" y="5486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“Re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ideal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y Offset Nul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Offset Nu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rivas térmicas nulas (parámetros anteriores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ce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 (Slew Rate)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cho de Banda infin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máxima de salida infini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s real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oseen estas características, sin embargo, dependiendo de la aplicación, pueden acercarse ba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oltaje Offset: Asimetrías Intern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576600" y="3352680"/>
            <a:ext cx="3287880" cy="288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895840" cy="18129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920" y="5943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Input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juste con potenciómetro en terminales de Offse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76320" y="2133720"/>
            <a:ext cx="3500280" cy="3855960"/>
            <a:chOff x="76320" y="2133720"/>
            <a:chExt cx="3500280" cy="3855960"/>
          </a:xfrm>
        </p:grpSpPr>
        <p:grpSp>
          <p:nvGrpSpPr>
            <p:cNvPr id="532" name=""/>
            <p:cNvGrpSpPr/>
            <p:nvPr/>
          </p:nvGrpSpPr>
          <p:grpSpPr>
            <a:xfrm>
              <a:off x="76320" y="2133720"/>
              <a:ext cx="3500280" cy="3855960"/>
              <a:chOff x="76320" y="2133720"/>
              <a:chExt cx="3500280" cy="3855960"/>
            </a:xfrm>
          </p:grpSpPr>
          <p:pic>
            <p:nvPicPr>
              <p:cNvPr id="5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0" y="2133720"/>
                <a:ext cx="350028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4" name=""/>
              <p:cNvSpPr/>
              <p:nvPr/>
            </p:nvSpPr>
            <p:spPr>
              <a:xfrm>
                <a:off x="76320" y="335268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1800" y="335268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71800" y="45720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19520" y="49528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rriente Bi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Bias Inp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(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/ 2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Offset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asimetría en red externa DC (resistencias). Provocan aparición de voltaj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entrada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: “Simetriza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empre debe existir retorno a tierra para DC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334120" y="1523880"/>
            <a:ext cx="3352680" cy="2286000"/>
            <a:chOff x="5334120" y="1523880"/>
            <a:chExt cx="3352680" cy="2286000"/>
          </a:xfrm>
        </p:grpSpPr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5334120" y="1523880"/>
              <a:ext cx="33526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834160" y="185508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34160" y="152388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2782440"/>
              <a:ext cx="44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34160" y="245124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3504960" cy="21751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5661000" y="3809880"/>
            <a:ext cx="3025800" cy="2325960"/>
            <a:chOff x="5661000" y="3809880"/>
            <a:chExt cx="3025800" cy="232596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5661000" y="3809880"/>
              <a:ext cx="3025800" cy="23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6491520" y="5314320"/>
              <a:ext cx="1661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=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||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57200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4890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2520" y="1523880"/>
            <a:ext cx="403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ga “estabilidad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próxima clas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tiene tasa de cambio máxima: Slew Ra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48640" indent="-109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uando la entra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ferencial es “grande”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~ 60mV) la corriente de polarización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rga el condensador C y hace que la salida no cambie más rápid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ue una ramp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LM741 (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2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280" y="54100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tructura de OPAMP típica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, polarización con fuentes de corriente, espejo como carga, etapa de ganancia intermedia, etapa de salida “seguidor de voltaje” y condensador de “estabilid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9920" y="508644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μ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pF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0,67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μ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76320" y="1600200"/>
            <a:ext cx="5333760" cy="3890880"/>
            <a:chOff x="76320" y="1600200"/>
            <a:chExt cx="5333760" cy="3890880"/>
          </a:xfrm>
        </p:grpSpPr>
        <p:pic>
          <p:nvPicPr>
            <p:cNvPr id="557" name="" descr=""/>
            <p:cNvPicPr/>
            <p:nvPr/>
          </p:nvPicPr>
          <p:blipFill>
            <a:blip r:embed="rId1"/>
            <a:stretch/>
          </p:blipFill>
          <p:spPr>
            <a:xfrm>
              <a:off x="76320" y="1600200"/>
              <a:ext cx="533376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2438280" y="426708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61960" y="38862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742840" y="15235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tección de cortocircuito a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efinen máxima corriente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 salida en el OPAMP ~ 0.6V/25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24m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empeños OPAM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FE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Bias y Offset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corriente de polarización (impedancia DC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ayor Slew Rate (útil como comparador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de OPAMP grand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diferencial debe estar “casi” al mismo voltaje para que el OPAMP opere en la zona 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uando no se cumple la condición anterior, la salida del OPAMP tratará de “saturarse” a casi el voltaje de alimentación, con una velocidad máxima dada por la Slew Rate del disposi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2748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4191120" y="4754520"/>
                <a:ext cx="3047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ortancia del Análisis por Bloq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s de entrada y salida definen “nivel de carga” a las etapas interconectad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OPAMP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, Bloques Funcionales, propagación de vari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a impedancia de entrada, Alta Ganancia,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a Impedanci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 reales: desvío de la condición ideal en diseñ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Bias, Offse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lew Rate, Corriente máxima de sali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eración en zona lineal (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Discutir la estructura interna de un OPAM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conocer la importancia del análisis por bloques funcion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Estudiar en detalle la estructura interna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nalizar el funcionamiento del OPAMP LM74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visar características no-ideales de los OPAMPs “real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mplificador de Voltaje Diferenci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ran Gana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spositivo Integrad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celente Matching entre transist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s no deben superar los 100k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es Operacionales: Análisi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unto de Operación de los transist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s, impedancias, etc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Entrada (Alta Impedancia de 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Ganancia Intermedia (Gran Gananci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(Baja Impedancia de 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lave del análisi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ntificar bloques funcio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alizar cada bloque por separado y después “juntarl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eracción será dada por la carga entre etapas (impedancia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Detallado: OPAMP LM74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PAMP de propósito Gener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 comunes a otros OPAMP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n lo que sigue se asumirá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100 (representa condición norma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hará distinción entre e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un transistor pnp o de un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de Earl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150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ción a Temperatura Amb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Bloques Funcional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0" y="1149480"/>
            <a:ext cx="8569080" cy="542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1120" y="2514600"/>
            <a:ext cx="2210040" cy="3733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1447920"/>
            <a:ext cx="3276360" cy="4809600"/>
            <a:chOff x="990720" y="1447920"/>
            <a:chExt cx="3276360" cy="4809600"/>
          </a:xfrm>
        </p:grpSpPr>
        <p:sp>
          <p:nvSpPr>
            <p:cNvPr id="104" name=""/>
            <p:cNvSpPr/>
            <p:nvPr/>
          </p:nvSpPr>
          <p:spPr>
            <a:xfrm>
              <a:off x="990720" y="1447920"/>
              <a:ext cx="0" cy="961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1447920"/>
              <a:ext cx="0" cy="4809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409480"/>
              <a:ext cx="1572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3200" y="2409480"/>
              <a:ext cx="0" cy="384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63200" y="6243120"/>
              <a:ext cx="170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454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92880" y="1828800"/>
            <a:ext cx="1165320" cy="441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743200"/>
            <a:ext cx="1600200" cy="35053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2164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ntrada Dif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2164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62485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1187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arización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6216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13240" y="1720080"/>
            <a:ext cx="1905120" cy="2289240"/>
            <a:chOff x="5313240" y="1720080"/>
            <a:chExt cx="1905120" cy="2289240"/>
          </a:xfrm>
        </p:grpSpPr>
        <p:sp>
          <p:nvSpPr>
            <p:cNvPr id="118" name=""/>
            <p:cNvSpPr/>
            <p:nvPr/>
          </p:nvSpPr>
          <p:spPr>
            <a:xfrm>
              <a:off x="5313240" y="2557440"/>
              <a:ext cx="965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07200" y="1720080"/>
              <a:ext cx="0" cy="2289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13240" y="172548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69040" y="25567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62560" y="4005000"/>
              <a:ext cx="95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21160" y="1720080"/>
              <a:ext cx="0" cy="84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Esquemático Gener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280" y="1143000"/>
            <a:ext cx="8839440" cy="5356080"/>
            <a:chOff x="152280" y="1143000"/>
            <a:chExt cx="8839440" cy="5356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52280" y="1143000"/>
              <a:ext cx="8458200" cy="53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522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3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2666880"/>
              <a:ext cx="609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2: 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287680"/>
              <a:ext cx="762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5120" y="5257800"/>
              <a:ext cx="761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br>
                <a:rPr sz="1200"/>
              </a:br>
              <a:r>
                <a:rPr b="0" i="1" lang="es-ES_tradnl" sz="1000" spc="-1" strike="noStrike">
                  <a:solidFill>
                    <a:srgbClr val="000000"/>
                  </a:solidFill>
                  <a:latin typeface="Times New Roman"/>
                </a:rPr>
                <a:t>offset 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7320" y="28954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6: </a:t>
              </a:r>
              <a:br>
                <a:rPr sz="1200"/>
              </a:b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9880" y="121896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7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9880" y="60958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4: V 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48320" y="6095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5-Q21-Q24-Q23: protección cortocircu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781680" y="41144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87692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vita saturación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e Q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 LM741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apas 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lariz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punto de operación (impedancias, ganancias, etc.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iferenci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ran Impedancia de Entra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MRR elev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Ganancia Intermed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 la ganancia de la etapa difer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guidor de Emisor Push-P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Salida pequeñ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10-06T14:07:04Z</dcterms:modified>
  <cp:revision>1232</cp:revision>
  <dc:subject>Amplificadores Operacionales (OPAMPs)</dc:subject>
  <dc:title>Clase 17</dc:title>
</cp:coreProperties>
</file>