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6BD8-695C-4BB3-BE60-4D61E7513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4393-6D04-40B1-BCF5-7E8C36C80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5C0F-D9DD-414E-A360-A6443E570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9063-62E3-488C-BC1F-D15430917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9F5-C013-48DB-BA71-1467013952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E885-6570-43A3-AACD-8B55BE841A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419-2DE5-4D32-8434-7507D3C98A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7B2-F9CA-49E4-BDE9-8ACC092EBE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446-CF58-4F12-9670-54839D1F1C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13D-EC8F-455C-AF05-04C3AFB9DC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5A8-2AE7-4E42-BC95-323A6D6CDB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4F8C-F4AB-4080-8C30-BF0C1DCDD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8D5-A6C6-48CA-A78A-001EB48D1D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A59-9C1B-4CD6-8571-523F711579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BD4-9BA8-411D-BD17-F05564596B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59E-B46A-4FE2-9B60-82961078E1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FFBB-DAD6-4B5D-B59B-4CE7B45493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34FA-0020-4E9B-902E-AD3E2E20C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3C70-CD33-437A-AD14-AA6886845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4195-ACDA-469E-886B-338BD7C13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24BF-6802-44AE-ACA6-9D595D931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C3823-E216-4EB6-BE2C-390A92437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F4B9-CAE4-4262-8396-E7847A2D0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A966-3A36-4840-930C-87B245B7D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DAA7-5A76-4692-834C-34903E71F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AD0B-983D-41AF-97E8-B8BBAB8DE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“arriba” (Q8+Q9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Activa “abajo” (Q5+Q6+Q7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Miller mínim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1 y Q2 “fijos” a 15-0.7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+Q3 y Q2+Q4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rmite gran impedancia de Salida (colectores de Q4 y Q6 en parale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1148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rantizar que los Transistores se encuentre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termina valores de impedancias y 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rtamiento Dinámic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será a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baja frecue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ntroduce filtro pasabajos, por lo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mplificación dependerá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la frecuenci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49600" y="1523880"/>
            <a:ext cx="4694400" cy="4640400"/>
            <a:chOff x="4449600" y="1523880"/>
            <a:chExt cx="4694400" cy="46404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44960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44960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47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35800" y="41148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070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5472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lector de Q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41148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3090960"/>
                <a:ext cx="13716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181480" y="3581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87400" y="3471840"/>
                <a:ext cx="26478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876240" y="3929040"/>
                <a:ext cx="27241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14400" y="4314960"/>
                <a:ext cx="26877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y 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71600" y="5638680"/>
                <a:ext cx="18032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65240" y="4924440"/>
                <a:ext cx="2386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648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4540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4343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84280" y="2286000"/>
                <a:ext cx="3417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k</m:t>
                        </m:r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4297320" y="1523880"/>
            <a:ext cx="4694400" cy="4640400"/>
            <a:chOff x="4297320" y="1523880"/>
            <a:chExt cx="4694400" cy="46404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29732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2973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61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83520" y="411480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5472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0244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64000" y="358128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30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30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3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73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3840" y="4540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40320" y="43434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2971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09480" y="5257800"/>
                <a:ext cx="3276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066680" y="3336840"/>
                <a:ext cx="26211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03040" y="4059360"/>
                <a:ext cx="4054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3049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(Q4//Q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676520" y="56386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609588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endo estricto debería considerarse una correc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or retroalimentación, pero es desprec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ganancia implica impedancia de carga al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0.18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8080" y="4044960"/>
            <a:ext cx="5867640" cy="1720800"/>
            <a:chOff x="838080" y="4044960"/>
            <a:chExt cx="5867640" cy="1720800"/>
          </a:xfrm>
        </p:grpSpPr>
        <p:cxnSp>
          <p:nvCxnSpPr>
            <p:cNvPr id="204" name=""/>
            <p:cNvCxnSpPr>
              <a:stCxn id="205" idx="6"/>
              <a:endCxn id="206" idx="0"/>
            </p:cNvCxnSpPr>
            <p:nvPr/>
          </p:nvCxnSpPr>
          <p:spPr>
            <a:xfrm>
              <a:off x="1398600" y="4106520"/>
              <a:ext cx="705240" cy="631080"/>
            </a:xfrm>
            <a:prstGeom prst="bentConnector3">
              <a:avLst>
                <a:gd name="adj1" fmla="val 100919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07" name=""/>
            <p:cNvGrpSpPr/>
            <p:nvPr/>
          </p:nvGrpSpPr>
          <p:grpSpPr>
            <a:xfrm>
              <a:off x="1996920" y="4740120"/>
              <a:ext cx="204480" cy="455040"/>
              <a:chOff x="1996920" y="4740120"/>
              <a:chExt cx="204480" cy="455040"/>
            </a:xfrm>
          </p:grpSpPr>
          <p:sp>
            <p:nvSpPr>
              <p:cNvPr id="206" name=""/>
              <p:cNvSpPr/>
              <p:nvPr/>
            </p:nvSpPr>
            <p:spPr>
              <a:xfrm rot="5400000">
                <a:off x="2137320" y="4705920"/>
                <a:ext cx="29880" cy="97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1996920" y="47696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996920" y="4847760"/>
                <a:ext cx="2044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996920" y="49244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96920" y="500220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1996920" y="50792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2027160" y="5127120"/>
                <a:ext cx="38160" cy="97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4" name=""/>
            <p:cNvCxnSpPr>
              <a:stCxn id="213" idx="0"/>
              <a:endCxn id="215" idx="6"/>
            </p:cNvCxnSpPr>
            <p:nvPr/>
          </p:nvCxnSpPr>
          <p:spPr>
            <a:xfrm flipH="1">
              <a:off x="1398240" y="5192640"/>
              <a:ext cx="695520" cy="510480"/>
            </a:xfrm>
            <a:prstGeom prst="bentConnector3">
              <a:avLst>
                <a:gd name="adj1" fmla="val -1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6" name=""/>
            <p:cNvSpPr/>
            <p:nvPr/>
          </p:nvSpPr>
          <p:spPr>
            <a:xfrm>
              <a:off x="2133720" y="4724280"/>
              <a:ext cx="1218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1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68400" y="43275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68400" y="505152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76440" y="4638600"/>
              <a:ext cx="615960" cy="61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9" idx="0"/>
              <a:endCxn id="221" idx="2"/>
            </p:cNvCxnSpPr>
            <p:nvPr/>
          </p:nvCxnSpPr>
          <p:spPr>
            <a:xfrm flipH="1" flipV="1" rot="5400000">
              <a:off x="4869360" y="2926080"/>
              <a:ext cx="527760" cy="2898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23" idx="3"/>
              <a:endCxn id="219" idx="4"/>
            </p:cNvCxnSpPr>
            <p:nvPr/>
          </p:nvCxnSpPr>
          <p:spPr>
            <a:xfrm flipV="1" rot="16200000">
              <a:off x="4894920" y="4043880"/>
              <a:ext cx="494640" cy="2914920"/>
            </a:xfrm>
            <a:prstGeom prst="bentConnector3">
              <a:avLst>
                <a:gd name="adj1" fmla="val 866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4" name=""/>
            <p:cNvSpPr/>
            <p:nvPr/>
          </p:nvSpPr>
          <p:spPr>
            <a:xfrm>
              <a:off x="3341520" y="47847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181840" y="4740120"/>
              <a:ext cx="206640" cy="455040"/>
              <a:chOff x="5181840" y="4740120"/>
              <a:chExt cx="206640" cy="455040"/>
            </a:xfrm>
          </p:grpSpPr>
          <p:sp>
            <p:nvSpPr>
              <p:cNvPr id="226" name=""/>
              <p:cNvSpPr/>
              <p:nvPr/>
            </p:nvSpPr>
            <p:spPr>
              <a:xfrm rot="5400000">
                <a:off x="5323680" y="4705560"/>
                <a:ext cx="29880" cy="990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182200" y="47696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82200" y="4847760"/>
                <a:ext cx="2062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5182200" y="49244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82200" y="500220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5182200" y="50792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400000">
                <a:off x="5212080" y="5126400"/>
                <a:ext cx="38160" cy="9900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3" name=""/>
            <p:cNvCxnSpPr>
              <a:stCxn id="226" idx="0"/>
            </p:cNvCxnSpPr>
            <p:nvPr/>
          </p:nvCxnSpPr>
          <p:spPr>
            <a:xfrm flipV="1">
              <a:off x="5287680" y="4122000"/>
              <a:ext cx="1080" cy="61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4" name=""/>
            <p:cNvSpPr/>
            <p:nvPr/>
          </p:nvSpPr>
          <p:spPr>
            <a:xfrm>
              <a:off x="5284800" y="51814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80120" y="4768920"/>
              <a:ext cx="142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8M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33920" y="4419720"/>
              <a:ext cx="1371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(-1/5)mA/V 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6200" y="404496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76200" y="5640480"/>
              <a:ext cx="12240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81880" y="56419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81880" y="4049640"/>
              <a:ext cx="1238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474012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867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requiere alta impedanci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baj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“alta” (para tener gran voltaje de entrada) pero “pequeña” comparada con la de salida de la etapa diferencial (para no cargar la fu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en voltaje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7 Emisor Común con carg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ablemente cumplirá con los requisi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3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paralelo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7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rando” por la base de Q1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“grande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9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7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“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c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ificación de Respuesta en frecuenci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écnica de separación de polos para brindar estabilidad en lazo cerrado 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 de Ganancia Intermed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432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Q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95440" y="3191040"/>
                <a:ext cx="3806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41360" y="3657600"/>
                <a:ext cx="4406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μA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44640" y="4481640"/>
                <a:ext cx="3384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3049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 Salida Q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27240" y="5410080"/>
                <a:ext cx="2693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492200" y="5943600"/>
                <a:ext cx="2147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k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590920" y="3200400"/>
                <a:ext cx="1531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76320" y="189396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28600" y="2362320"/>
                <a:ext cx="35640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768920" y="2498760"/>
                <a:ext cx="7477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587760" y="1876320"/>
                <a:ext cx="1746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‖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763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Q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460520" y="5429160"/>
                <a:ext cx="3062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76320" y="3809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496880" y="4343400"/>
                <a:ext cx="3114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 del conju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 en Casc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7000920" y="551988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781680" y="4114800"/>
                <a:ext cx="1400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00080" y="6137280"/>
                <a:ext cx="13860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457200" y="4437000"/>
            <a:ext cx="3733920" cy="1700280"/>
            <a:chOff x="457200" y="4437000"/>
            <a:chExt cx="3733920" cy="1700280"/>
          </a:xfrm>
        </p:grpSpPr>
        <p:cxnSp>
          <p:nvCxnSpPr>
            <p:cNvPr id="271" name=""/>
            <p:cNvCxnSpPr>
              <a:endCxn id="272" idx="0"/>
            </p:cNvCxnSpPr>
            <p:nvPr/>
          </p:nvCxnSpPr>
          <p:spPr>
            <a:xfrm flipH="1" rot="16200000">
              <a:off x="92556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73" name=""/>
            <p:cNvGrpSpPr/>
            <p:nvPr/>
          </p:nvGrpSpPr>
          <p:grpSpPr>
            <a:xfrm>
              <a:off x="1551600" y="5126040"/>
              <a:ext cx="187200" cy="433080"/>
              <a:chOff x="1551600" y="5126040"/>
              <a:chExt cx="187200" cy="433080"/>
            </a:xfrm>
          </p:grpSpPr>
          <p:sp>
            <p:nvSpPr>
              <p:cNvPr id="272" name=""/>
              <p:cNvSpPr/>
              <p:nvPr/>
            </p:nvSpPr>
            <p:spPr>
              <a:xfrm rot="5400000">
                <a:off x="167940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155196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5196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5196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5196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5196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157824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80" name=""/>
            <p:cNvCxnSpPr>
              <a:stCxn id="279" idx="0"/>
            </p:cNvCxnSpPr>
            <p:nvPr/>
          </p:nvCxnSpPr>
          <p:spPr>
            <a:xfrm flipH="1">
              <a:off x="76140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1" name=""/>
            <p:cNvSpPr/>
            <p:nvPr/>
          </p:nvSpPr>
          <p:spPr>
            <a:xfrm>
              <a:off x="1600200" y="514656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47322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5419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200" y="51228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213360" y="4437000"/>
              <a:ext cx="415440" cy="196560"/>
              <a:chOff x="3213360" y="4437000"/>
              <a:chExt cx="415440" cy="196560"/>
            </a:xfrm>
          </p:grpSpPr>
          <p:sp>
            <p:nvSpPr>
              <p:cNvPr id="286" name=""/>
              <p:cNvSpPr/>
              <p:nvPr/>
            </p:nvSpPr>
            <p:spPr>
              <a:xfrm>
                <a:off x="321336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32407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31128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3381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345240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3522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9388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2419560" y="5027400"/>
              <a:ext cx="56340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>
              <a:stCxn id="293" idx="0"/>
              <a:endCxn id="286" idx="0"/>
            </p:cNvCxnSpPr>
            <p:nvPr/>
          </p:nvCxnSpPr>
          <p:spPr>
            <a:xfrm flipH="1" flipV="1" rot="5400000">
              <a:off x="270900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5" name=""/>
            <p:cNvCxnSpPr>
              <a:stCxn id="292" idx="0"/>
            </p:cNvCxnSpPr>
            <p:nvPr/>
          </p:nvCxnSpPr>
          <p:spPr>
            <a:xfrm flipH="1" flipV="1" rot="5400000">
              <a:off x="3870000" y="4295160"/>
              <a:ext cx="3600" cy="486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" name=""/>
            <p:cNvCxnSpPr>
              <a:endCxn id="293" idx="4"/>
            </p:cNvCxnSpPr>
            <p:nvPr/>
          </p:nvCxnSpPr>
          <p:spPr>
            <a:xfrm rot="10800000">
              <a:off x="2701440" y="5615640"/>
              <a:ext cx="141336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7" name=""/>
            <p:cNvSpPr/>
            <p:nvPr/>
          </p:nvSpPr>
          <p:spPr>
            <a:xfrm>
              <a:off x="2982960" y="5084640"/>
              <a:ext cx="979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!6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71680" y="4929120"/>
              <a:ext cx="65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816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6560" y="4592520"/>
              <a:ext cx="88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5800" y="44607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5800" y="59846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84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3884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249640" y="4125960"/>
                <a:ext cx="2398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02240" y="6157800"/>
                <a:ext cx="2396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419720" y="5122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~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495680" y="4437000"/>
            <a:ext cx="3733560" cy="1700280"/>
            <a:chOff x="4495680" y="4437000"/>
            <a:chExt cx="3733560" cy="1700280"/>
          </a:xfrm>
        </p:grpSpPr>
        <p:cxnSp>
          <p:nvCxnSpPr>
            <p:cNvPr id="309" name=""/>
            <p:cNvCxnSpPr>
              <a:endCxn id="310" idx="0"/>
            </p:cNvCxnSpPr>
            <p:nvPr/>
          </p:nvCxnSpPr>
          <p:spPr>
            <a:xfrm flipH="1" rot="16200000">
              <a:off x="496368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11" name=""/>
            <p:cNvGrpSpPr/>
            <p:nvPr/>
          </p:nvGrpSpPr>
          <p:grpSpPr>
            <a:xfrm>
              <a:off x="5589720" y="5126040"/>
              <a:ext cx="187200" cy="433080"/>
              <a:chOff x="5589720" y="5126040"/>
              <a:chExt cx="187200" cy="433080"/>
            </a:xfrm>
          </p:grpSpPr>
          <p:sp>
            <p:nvSpPr>
              <p:cNvPr id="310" name=""/>
              <p:cNvSpPr/>
              <p:nvPr/>
            </p:nvSpPr>
            <p:spPr>
              <a:xfrm rot="5400000">
                <a:off x="571752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59008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9008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559008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9008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559008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400000">
                <a:off x="561636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8" name=""/>
            <p:cNvCxnSpPr>
              <a:stCxn id="317" idx="0"/>
            </p:cNvCxnSpPr>
            <p:nvPr/>
          </p:nvCxnSpPr>
          <p:spPr>
            <a:xfrm flipH="1">
              <a:off x="479952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9" name=""/>
            <p:cNvSpPr/>
            <p:nvPr/>
          </p:nvSpPr>
          <p:spPr>
            <a:xfrm>
              <a:off x="5638680" y="514656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95680" y="4732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95680" y="5419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251480" y="4437000"/>
              <a:ext cx="415440" cy="196560"/>
              <a:chOff x="7251480" y="4437000"/>
              <a:chExt cx="415440" cy="19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725148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7278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734940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7419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4905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56108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3200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6457680" y="5027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30" idx="0"/>
              <a:endCxn id="323" idx="0"/>
            </p:cNvCxnSpPr>
            <p:nvPr/>
          </p:nvCxnSpPr>
          <p:spPr>
            <a:xfrm flipH="1" flipV="1" rot="5400000">
              <a:off x="674712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2" name=""/>
            <p:cNvCxnSpPr>
              <a:stCxn id="329" idx="0"/>
            </p:cNvCxnSpPr>
            <p:nvPr/>
          </p:nvCxnSpPr>
          <p:spPr>
            <a:xfrm flipH="1" flipV="1" rot="5400000">
              <a:off x="7908480" y="4295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endCxn id="330" idx="4"/>
            </p:cNvCxnSpPr>
            <p:nvPr/>
          </p:nvCxnSpPr>
          <p:spPr>
            <a:xfrm rot="10800000">
              <a:off x="6739560" y="5615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4" name=""/>
            <p:cNvSpPr/>
            <p:nvPr/>
          </p:nvSpPr>
          <p:spPr>
            <a:xfrm>
              <a:off x="7021440" y="5084640"/>
              <a:ext cx="97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17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10160" y="4929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1628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15040" y="4592520"/>
              <a:ext cx="88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428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2428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7696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7696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103560" y="5527800"/>
                <a:ext cx="676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4572000" y="2728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648320" y="2043000"/>
            <a:ext cx="3733560" cy="1700280"/>
            <a:chOff x="4648320" y="2043000"/>
            <a:chExt cx="3733560" cy="1700280"/>
          </a:xfrm>
        </p:grpSpPr>
        <p:cxnSp>
          <p:nvCxnSpPr>
            <p:cNvPr id="345" name=""/>
            <p:cNvCxnSpPr>
              <a:endCxn id="346" idx="0"/>
            </p:cNvCxnSpPr>
            <p:nvPr/>
          </p:nvCxnSpPr>
          <p:spPr>
            <a:xfrm flipH="1" rot="16200000">
              <a:off x="5116320" y="2010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47" name=""/>
            <p:cNvGrpSpPr/>
            <p:nvPr/>
          </p:nvGrpSpPr>
          <p:grpSpPr>
            <a:xfrm>
              <a:off x="5742360" y="2732040"/>
              <a:ext cx="187200" cy="433080"/>
              <a:chOff x="5742360" y="2732040"/>
              <a:chExt cx="187200" cy="433080"/>
            </a:xfrm>
          </p:grpSpPr>
          <p:sp>
            <p:nvSpPr>
              <p:cNvPr id="346" name=""/>
              <p:cNvSpPr/>
              <p:nvPr/>
            </p:nvSpPr>
            <p:spPr>
              <a:xfrm rot="5400000">
                <a:off x="5870160" y="2701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5742720" y="2760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42720" y="2834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742720" y="2907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42720" y="2981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742720" y="3054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5400000">
                <a:off x="5769000" y="3102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4" name=""/>
            <p:cNvCxnSpPr>
              <a:stCxn id="353" idx="0"/>
            </p:cNvCxnSpPr>
            <p:nvPr/>
          </p:nvCxnSpPr>
          <p:spPr>
            <a:xfrm flipH="1">
              <a:off x="4952160" y="3163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55" name=""/>
            <p:cNvSpPr/>
            <p:nvPr/>
          </p:nvSpPr>
          <p:spPr>
            <a:xfrm>
              <a:off x="5791320" y="27525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.5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48320" y="2338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48320" y="3025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7404120" y="2043000"/>
              <a:ext cx="415440" cy="196560"/>
              <a:chOff x="7404120" y="2043000"/>
              <a:chExt cx="415440" cy="196560"/>
            </a:xfrm>
          </p:grpSpPr>
          <p:sp>
            <p:nvSpPr>
              <p:cNvPr id="359" name=""/>
              <p:cNvSpPr/>
              <p:nvPr/>
            </p:nvSpPr>
            <p:spPr>
              <a:xfrm>
                <a:off x="7404120" y="2043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743148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7502040" y="2043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757260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764316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771372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784640" y="2145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6610320" y="2633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7" name=""/>
            <p:cNvCxnSpPr>
              <a:stCxn id="366" idx="0"/>
              <a:endCxn id="359" idx="0"/>
            </p:cNvCxnSpPr>
            <p:nvPr/>
          </p:nvCxnSpPr>
          <p:spPr>
            <a:xfrm flipH="1" flipV="1" rot="5400000">
              <a:off x="6899760" y="2129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8" name=""/>
            <p:cNvCxnSpPr>
              <a:stCxn id="365" idx="0"/>
            </p:cNvCxnSpPr>
            <p:nvPr/>
          </p:nvCxnSpPr>
          <p:spPr>
            <a:xfrm flipH="1" flipV="1" rot="5400000">
              <a:off x="8061120" y="1901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9" name=""/>
            <p:cNvCxnSpPr>
              <a:endCxn id="366" idx="4"/>
            </p:cNvCxnSpPr>
            <p:nvPr/>
          </p:nvCxnSpPr>
          <p:spPr>
            <a:xfrm rot="10800000">
              <a:off x="6892200" y="3221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0" name=""/>
            <p:cNvSpPr/>
            <p:nvPr/>
          </p:nvSpPr>
          <p:spPr>
            <a:xfrm>
              <a:off x="7174080" y="269064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-0.7k V/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62800" y="2535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68920" y="2831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67680" y="2198520"/>
              <a:ext cx="8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00k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7692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2960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960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73392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3276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7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Operacionales (OPAMP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: Seguid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sumamos Q14 activo (Q20 cortad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22 multiemisor, sirve de buffer entre etapa intermedia y etap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27) ~ 500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25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int)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~ 7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El Buffer de Voltaje es vital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quivalente Total DC (Baja frecuenci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catenación de Etap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 Tot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Ganancia (~103dB), e Impedancia de Salida Baja (~ 70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84040" y="3552840"/>
            <a:ext cx="8173800" cy="1171440"/>
            <a:chOff x="284040" y="3552840"/>
            <a:chExt cx="8173800" cy="1171440"/>
          </a:xfrm>
        </p:grpSpPr>
        <p:grpSp>
          <p:nvGrpSpPr>
            <p:cNvPr id="386" name=""/>
            <p:cNvGrpSpPr/>
            <p:nvPr/>
          </p:nvGrpSpPr>
          <p:grpSpPr>
            <a:xfrm>
              <a:off x="5835240" y="3552840"/>
              <a:ext cx="2622600" cy="1166760"/>
              <a:chOff x="5835240" y="3552840"/>
              <a:chExt cx="2622600" cy="1166760"/>
            </a:xfrm>
          </p:grpSpPr>
          <p:cxnSp>
            <p:nvCxnSpPr>
              <p:cNvPr id="387" name=""/>
              <p:cNvCxnSpPr>
                <a:stCxn id="388" idx="6"/>
                <a:endCxn id="389" idx="0"/>
              </p:cNvCxnSpPr>
              <p:nvPr/>
            </p:nvCxnSpPr>
            <p:spPr>
              <a:xfrm>
                <a:off x="6130440" y="362088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90" name=""/>
              <p:cNvGrpSpPr/>
              <p:nvPr/>
            </p:nvGrpSpPr>
            <p:grpSpPr>
              <a:xfrm>
                <a:off x="6410160" y="4025880"/>
                <a:ext cx="145800" cy="296280"/>
                <a:chOff x="6410160" y="4025880"/>
                <a:chExt cx="145800" cy="296280"/>
              </a:xfrm>
            </p:grpSpPr>
            <p:sp>
              <p:nvSpPr>
                <p:cNvPr id="389" name=""/>
                <p:cNvSpPr/>
                <p:nvPr/>
              </p:nvSpPr>
              <p:spPr>
                <a:xfrm rot="5400000">
                  <a:off x="6510960" y="400068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6410160" y="40453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10160" y="409572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6410160" y="41461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410160" y="41965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6410160" y="42469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5400000">
                  <a:off x="6432480" y="427464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97" name=""/>
              <p:cNvCxnSpPr>
                <a:stCxn id="396" idx="0"/>
                <a:endCxn id="398" idx="6"/>
              </p:cNvCxnSpPr>
              <p:nvPr/>
            </p:nvCxnSpPr>
            <p:spPr>
              <a:xfrm flipV="1" rot="10800000">
                <a:off x="6130080" y="431892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99" name=""/>
              <p:cNvSpPr/>
              <p:nvPr/>
            </p:nvSpPr>
            <p:spPr>
              <a:xfrm>
                <a:off x="6448320" y="403992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500k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35240" y="37558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35240" y="42274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7698960" y="3552840"/>
                <a:ext cx="322200" cy="134640"/>
                <a:chOff x="7698960" y="3552840"/>
                <a:chExt cx="322200" cy="1346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698960" y="355284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 flipV="1">
                  <a:off x="772020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7774920" y="355284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782964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788436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flipV="1">
                  <a:off x="793908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994160" y="362268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7084800" y="395748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>
                <a:stCxn id="410" idx="0"/>
                <a:endCxn id="403" idx="0"/>
              </p:cNvCxnSpPr>
              <p:nvPr/>
            </p:nvCxnSpPr>
            <p:spPr>
              <a:xfrm flipH="1" flipV="1" rot="5400000">
                <a:off x="7330320" y="358884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2" name=""/>
              <p:cNvCxnSpPr>
                <a:stCxn id="409" idx="0"/>
              </p:cNvCxnSpPr>
              <p:nvPr/>
            </p:nvCxnSpPr>
            <p:spPr>
              <a:xfrm flipH="1" flipV="1" rot="5400000">
                <a:off x="8208360" y="343152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3" name=""/>
              <p:cNvCxnSpPr>
                <a:endCxn id="410" idx="4"/>
              </p:cNvCxnSpPr>
              <p:nvPr/>
            </p:nvCxnSpPr>
            <p:spPr>
              <a:xfrm rot="10800000">
                <a:off x="7302960" y="436176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4" name=""/>
              <p:cNvSpPr/>
              <p:nvPr/>
            </p:nvSpPr>
            <p:spPr>
              <a:xfrm>
                <a:off x="7521480" y="399708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46640" y="389088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51320" y="409392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594200" y="365904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70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13080" y="356868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013080" y="461484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40480" y="356868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340480" y="461484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84040" y="3578040"/>
              <a:ext cx="3504960" cy="1143000"/>
              <a:chOff x="284040" y="3578040"/>
              <a:chExt cx="3504960" cy="1143000"/>
            </a:xfrm>
          </p:grpSpPr>
          <p:cxnSp>
            <p:nvCxnSpPr>
              <p:cNvPr id="421" name=""/>
              <p:cNvCxnSpPr>
                <a:stCxn id="422" idx="6"/>
                <a:endCxn id="423" idx="0"/>
              </p:cNvCxnSpPr>
              <p:nvPr/>
            </p:nvCxnSpPr>
            <p:spPr>
              <a:xfrm>
                <a:off x="705960" y="3619440"/>
                <a:ext cx="531000" cy="419760"/>
              </a:xfrm>
              <a:prstGeom prst="bentConnector3">
                <a:avLst>
                  <a:gd name="adj1" fmla="val 1008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24" name=""/>
              <p:cNvGrpSpPr/>
              <p:nvPr/>
            </p:nvGrpSpPr>
            <p:grpSpPr>
              <a:xfrm>
                <a:off x="1157400" y="4040280"/>
                <a:ext cx="154080" cy="302760"/>
                <a:chOff x="1157400" y="4040280"/>
                <a:chExt cx="154080" cy="302760"/>
              </a:xfrm>
            </p:grpSpPr>
            <p:sp>
              <p:nvSpPr>
                <p:cNvPr id="423" name=""/>
                <p:cNvSpPr/>
                <p:nvPr/>
              </p:nvSpPr>
              <p:spPr>
                <a:xfrm rot="5400000">
                  <a:off x="1264320" y="4013280"/>
                  <a:ext cx="19800" cy="7380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1157760" y="40597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157760" y="4111920"/>
                  <a:ext cx="15372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1157760" y="416268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157760" y="42145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1157760" y="426564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5400000">
                  <a:off x="1181520" y="4293360"/>
                  <a:ext cx="25560" cy="7380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31" name=""/>
              <p:cNvCxnSpPr>
                <a:stCxn id="430" idx="0"/>
                <a:endCxn id="432" idx="6"/>
              </p:cNvCxnSpPr>
              <p:nvPr/>
            </p:nvCxnSpPr>
            <p:spPr>
              <a:xfrm flipH="1">
                <a:off x="705960" y="4339800"/>
                <a:ext cx="524160" cy="338760"/>
              </a:xfrm>
              <a:prstGeom prst="bentConnector3">
                <a:avLst>
                  <a:gd name="adj1" fmla="val -130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3" name=""/>
              <p:cNvSpPr/>
              <p:nvPr/>
            </p:nvSpPr>
            <p:spPr>
              <a:xfrm>
                <a:off x="1045800" y="4029120"/>
                <a:ext cx="91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0880" y="376560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0880" y="424656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38080" y="3971880"/>
                <a:ext cx="465120" cy="409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7" name=""/>
              <p:cNvCxnSpPr>
                <a:stCxn id="436" idx="0"/>
                <a:endCxn id="438" idx="2"/>
              </p:cNvCxnSpPr>
              <p:nvPr/>
            </p:nvCxnSpPr>
            <p:spPr>
              <a:xfrm flipH="1" flipV="1" rot="5400000">
                <a:off x="2658240" y="2934720"/>
                <a:ext cx="349920" cy="1724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9" name=""/>
              <p:cNvCxnSpPr>
                <a:stCxn id="440" idx="3"/>
                <a:endCxn id="436" idx="4"/>
              </p:cNvCxnSpPr>
              <p:nvPr/>
            </p:nvCxnSpPr>
            <p:spPr>
              <a:xfrm flipV="1" rot="16200000">
                <a:off x="2676600" y="3675240"/>
                <a:ext cx="327600" cy="1739160"/>
              </a:xfrm>
              <a:prstGeom prst="bentConnector3">
                <a:avLst>
                  <a:gd name="adj1" fmla="val 726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1" name=""/>
              <p:cNvSpPr/>
              <p:nvPr/>
            </p:nvSpPr>
            <p:spPr>
              <a:xfrm>
                <a:off x="1712520" y="4070160"/>
                <a:ext cx="54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2951280" y="4040280"/>
                <a:ext cx="155520" cy="302760"/>
                <a:chOff x="2951280" y="4040280"/>
                <a:chExt cx="155520" cy="302760"/>
              </a:xfrm>
            </p:grpSpPr>
            <p:sp>
              <p:nvSpPr>
                <p:cNvPr id="443" name=""/>
                <p:cNvSpPr/>
                <p:nvPr/>
              </p:nvSpPr>
              <p:spPr>
                <a:xfrm rot="5400000">
                  <a:off x="3059280" y="4012920"/>
                  <a:ext cx="19800" cy="7452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2951640" y="40597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951640" y="4111920"/>
                  <a:ext cx="15516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2951640" y="416268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951640" y="42145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2951640" y="426564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5400000">
                  <a:off x="2975760" y="4293000"/>
                  <a:ext cx="25560" cy="7452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0" name=""/>
              <p:cNvCxnSpPr>
                <a:stCxn id="443" idx="0"/>
              </p:cNvCxnSpPr>
              <p:nvPr/>
            </p:nvCxnSpPr>
            <p:spPr>
              <a:xfrm flipV="1">
                <a:off x="3029760" y="3629880"/>
                <a:ext cx="1080" cy="408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1" name=""/>
              <p:cNvSpPr/>
              <p:nvPr/>
            </p:nvSpPr>
            <p:spPr>
              <a:xfrm>
                <a:off x="3028680" y="4333680"/>
                <a:ext cx="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50920" y="405900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8M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068200" y="4065480"/>
                <a:ext cx="103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(-1/5) mA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4160" y="357804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4160" y="463860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95400" y="4638600"/>
                <a:ext cx="93600" cy="82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95400" y="3581280"/>
                <a:ext cx="936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4040" y="4040280"/>
                <a:ext cx="745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517560" y="3557520"/>
              <a:ext cx="2622600" cy="1166760"/>
              <a:chOff x="3517560" y="3557520"/>
              <a:chExt cx="2622600" cy="1166760"/>
            </a:xfrm>
          </p:grpSpPr>
          <p:cxnSp>
            <p:nvCxnSpPr>
              <p:cNvPr id="456" name=""/>
              <p:cNvCxnSpPr>
                <a:stCxn id="457" idx="6"/>
                <a:endCxn id="458" idx="0"/>
              </p:cNvCxnSpPr>
              <p:nvPr/>
            </p:nvCxnSpPr>
            <p:spPr>
              <a:xfrm>
                <a:off x="3812760" y="362556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59" name=""/>
              <p:cNvGrpSpPr/>
              <p:nvPr/>
            </p:nvGrpSpPr>
            <p:grpSpPr>
              <a:xfrm>
                <a:off x="4092480" y="4030560"/>
                <a:ext cx="145800" cy="296280"/>
                <a:chOff x="4092480" y="4030560"/>
                <a:chExt cx="145800" cy="296280"/>
              </a:xfrm>
            </p:grpSpPr>
            <p:sp>
              <p:nvSpPr>
                <p:cNvPr id="458" name=""/>
                <p:cNvSpPr/>
                <p:nvPr/>
              </p:nvSpPr>
              <p:spPr>
                <a:xfrm rot="5400000">
                  <a:off x="4193280" y="400536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4092480" y="40500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092480" y="410040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4092480" y="41508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092480" y="42012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4092480" y="42516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5400000">
                  <a:off x="4114800" y="427932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66" name=""/>
              <p:cNvCxnSpPr>
                <a:stCxn id="465" idx="0"/>
                <a:endCxn id="467" idx="6"/>
              </p:cNvCxnSpPr>
              <p:nvPr/>
            </p:nvCxnSpPr>
            <p:spPr>
              <a:xfrm flipV="1" rot="10800000">
                <a:off x="3812400" y="432360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68" name=""/>
              <p:cNvSpPr/>
              <p:nvPr/>
            </p:nvSpPr>
            <p:spPr>
              <a:xfrm>
                <a:off x="4130640" y="404460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.5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517560" y="37605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517560" y="42321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5381280" y="3557520"/>
                <a:ext cx="322200" cy="134640"/>
                <a:chOff x="5381280" y="3557520"/>
                <a:chExt cx="322200" cy="1346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5381280" y="355752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540252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5457240" y="355752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>
                  <a:off x="551196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56668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 flipV="1">
                  <a:off x="562140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676480" y="362736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4767120" y="396216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0" name=""/>
              <p:cNvCxnSpPr>
                <a:stCxn id="479" idx="0"/>
                <a:endCxn id="472" idx="0"/>
              </p:cNvCxnSpPr>
              <p:nvPr/>
            </p:nvCxnSpPr>
            <p:spPr>
              <a:xfrm flipH="1" flipV="1" rot="5400000">
                <a:off x="5012640" y="359352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1" name=""/>
              <p:cNvCxnSpPr>
                <a:stCxn id="478" idx="0"/>
              </p:cNvCxnSpPr>
              <p:nvPr/>
            </p:nvCxnSpPr>
            <p:spPr>
              <a:xfrm flipH="1" flipV="1" rot="5400000">
                <a:off x="5890680" y="343620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2" name=""/>
              <p:cNvCxnSpPr>
                <a:endCxn id="479" idx="4"/>
              </p:cNvCxnSpPr>
              <p:nvPr/>
            </p:nvCxnSpPr>
            <p:spPr>
              <a:xfrm rot="10800000">
                <a:off x="4985280" y="436644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3" name=""/>
              <p:cNvSpPr/>
              <p:nvPr/>
            </p:nvSpPr>
            <p:spPr>
              <a:xfrm>
                <a:off x="5203800" y="400176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-0.7k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28960" y="389556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33640" y="409860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76520" y="366372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00k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95400" y="357336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695400" y="461952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22800" y="357336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22800" y="461952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048120" y="5081760"/>
            <a:ext cx="2622600" cy="1166760"/>
            <a:chOff x="3048120" y="5081760"/>
            <a:chExt cx="2622600" cy="1166760"/>
          </a:xfrm>
        </p:grpSpPr>
        <p:cxnSp>
          <p:nvCxnSpPr>
            <p:cNvPr id="490" name=""/>
            <p:cNvCxnSpPr>
              <a:stCxn id="491" idx="6"/>
              <a:endCxn id="492" idx="0"/>
            </p:cNvCxnSpPr>
            <p:nvPr/>
          </p:nvCxnSpPr>
          <p:spPr>
            <a:xfrm>
              <a:off x="3343320" y="5149800"/>
              <a:ext cx="353160" cy="402480"/>
            </a:xfrm>
            <a:prstGeom prst="bentConnector3">
              <a:avLst>
                <a:gd name="adj1" fmla="val 9908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93" name=""/>
            <p:cNvGrpSpPr/>
            <p:nvPr/>
          </p:nvGrpSpPr>
          <p:grpSpPr>
            <a:xfrm>
              <a:off x="3623040" y="5554800"/>
              <a:ext cx="145800" cy="296280"/>
              <a:chOff x="3623040" y="5554800"/>
              <a:chExt cx="145800" cy="296280"/>
            </a:xfrm>
          </p:grpSpPr>
          <p:sp>
            <p:nvSpPr>
              <p:cNvPr id="492" name=""/>
              <p:cNvSpPr/>
              <p:nvPr/>
            </p:nvSpPr>
            <p:spPr>
              <a:xfrm rot="5400000">
                <a:off x="3723840" y="5529600"/>
                <a:ext cx="19440" cy="698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3623040" y="55742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23040" y="5624640"/>
                <a:ext cx="14580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623040" y="56750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23040" y="57254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623040" y="57758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5400000">
                <a:off x="3645360" y="5803560"/>
                <a:ext cx="24840" cy="698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0" name=""/>
            <p:cNvCxnSpPr>
              <a:stCxn id="499" idx="0"/>
              <a:endCxn id="501" idx="6"/>
            </p:cNvCxnSpPr>
            <p:nvPr/>
          </p:nvCxnSpPr>
          <p:spPr>
            <a:xfrm flipV="1" rot="10800000">
              <a:off x="3342960" y="5847840"/>
              <a:ext cx="346680" cy="347760"/>
            </a:xfrm>
            <a:prstGeom prst="bentConnector3">
              <a:avLst>
                <a:gd name="adj1" fmla="val 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2" name=""/>
            <p:cNvSpPr/>
            <p:nvPr/>
          </p:nvSpPr>
          <p:spPr>
            <a:xfrm>
              <a:off x="3661200" y="5568840"/>
              <a:ext cx="63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48120" y="52848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48120" y="57564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4911840" y="5081760"/>
              <a:ext cx="322200" cy="134640"/>
              <a:chOff x="4911840" y="5081760"/>
              <a:chExt cx="322200" cy="134640"/>
            </a:xfrm>
          </p:grpSpPr>
          <p:sp>
            <p:nvSpPr>
              <p:cNvPr id="506" name=""/>
              <p:cNvSpPr/>
              <p:nvPr/>
            </p:nvSpPr>
            <p:spPr>
              <a:xfrm>
                <a:off x="4911840" y="5081760"/>
                <a:ext cx="21240" cy="644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flipV="1">
                <a:off x="493308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4987800" y="5081760"/>
                <a:ext cx="5436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504252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09724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515196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07040" y="5151600"/>
                <a:ext cx="27000" cy="644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4297680" y="5486400"/>
              <a:ext cx="436680" cy="405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3" idx="0"/>
              <a:endCxn id="506" idx="0"/>
            </p:cNvCxnSpPr>
            <p:nvPr/>
          </p:nvCxnSpPr>
          <p:spPr>
            <a:xfrm flipH="1" flipV="1" rot="5400000">
              <a:off x="4543200" y="5117760"/>
              <a:ext cx="342000" cy="396000"/>
            </a:xfrm>
            <a:prstGeom prst="bentConnector3">
              <a:avLst>
                <a:gd name="adj1" fmla="val 98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"/>
            <p:cNvCxnSpPr>
              <a:stCxn id="512" idx="0"/>
            </p:cNvCxnSpPr>
            <p:nvPr/>
          </p:nvCxnSpPr>
          <p:spPr>
            <a:xfrm flipH="1" flipV="1" rot="5400000">
              <a:off x="5421240" y="4960440"/>
              <a:ext cx="3960" cy="37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6" name=""/>
            <p:cNvCxnSpPr>
              <a:endCxn id="513" idx="4"/>
            </p:cNvCxnSpPr>
            <p:nvPr/>
          </p:nvCxnSpPr>
          <p:spPr>
            <a:xfrm rot="10800000">
              <a:off x="4515840" y="5890680"/>
              <a:ext cx="1096200" cy="30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17" name=""/>
            <p:cNvSpPr/>
            <p:nvPr/>
          </p:nvSpPr>
          <p:spPr>
            <a:xfrm>
              <a:off x="4734360" y="5526000"/>
              <a:ext cx="75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47k V/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9520" y="541980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64200" y="562284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07080" y="51879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70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25960" y="509760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5960" y="614376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53360" y="509760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53360" y="614376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971800" y="5486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“Re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ideal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y Offset Nul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Offset Nu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rivas térmicas nulas (parámetros anteriores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ce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 (Slew Rate)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cho de Banda infin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máxima de sali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s real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oseen estas características, sin embargo, dependiendo de la aplicación, pueden acercarse ba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Voltaje Offset: Asimetrías Intern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576600" y="3352680"/>
            <a:ext cx="3287880" cy="28846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895840" cy="18129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04920" y="59436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Input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juste con potenciómetro en terminales de Offse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190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76320" y="2133720"/>
            <a:ext cx="3500280" cy="3855960"/>
            <a:chOff x="76320" y="2133720"/>
            <a:chExt cx="3500280" cy="3855960"/>
          </a:xfrm>
        </p:grpSpPr>
        <p:grpSp>
          <p:nvGrpSpPr>
            <p:cNvPr id="532" name=""/>
            <p:cNvGrpSpPr/>
            <p:nvPr/>
          </p:nvGrpSpPr>
          <p:grpSpPr>
            <a:xfrm>
              <a:off x="76320" y="2133720"/>
              <a:ext cx="3500280" cy="3855960"/>
              <a:chOff x="76320" y="2133720"/>
              <a:chExt cx="3500280" cy="3855960"/>
            </a:xfrm>
          </p:grpSpPr>
          <p:pic>
            <p:nvPicPr>
              <p:cNvPr id="5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320" y="2133720"/>
                <a:ext cx="3500280" cy="38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76320" y="335268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71800" y="335268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71800" y="45720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819520" y="49528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rriente B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5960" y="15238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Inp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(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Offset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asimetría en red externa DC (resistencias). Provocan aparición de voltaj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entrada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olución: “Simetriza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empre debe existir retorno a tierra para DC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334120" y="1523880"/>
            <a:ext cx="3352680" cy="2286000"/>
            <a:chOff x="5334120" y="1523880"/>
            <a:chExt cx="3352680" cy="2286000"/>
          </a:xfrm>
        </p:grpSpPr>
        <p:pic>
          <p:nvPicPr>
            <p:cNvPr id="541" name="" descr=""/>
            <p:cNvPicPr/>
            <p:nvPr/>
          </p:nvPicPr>
          <p:blipFill>
            <a:blip r:embed="rId1"/>
            <a:stretch/>
          </p:blipFill>
          <p:spPr>
            <a:xfrm>
              <a:off x="5334120" y="1523880"/>
              <a:ext cx="33526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834160" y="185508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34160" y="152388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34160" y="278244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34160" y="245124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3504960" cy="21751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5661000" y="3809880"/>
            <a:ext cx="3025800" cy="2325960"/>
            <a:chOff x="5661000" y="3809880"/>
            <a:chExt cx="3025800" cy="2325960"/>
          </a:xfrm>
        </p:grpSpPr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5661000" y="3809880"/>
              <a:ext cx="3025800" cy="23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6491520" y="5314320"/>
              <a:ext cx="1661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=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||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457200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9720" y="4890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lew R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2520" y="152388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ga “estabilidad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tiene tasa de cambio máxima: Slew Ra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uando la entra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ferencial es “grande”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~ 60mV) la corriente de polarización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rga el condensador C y hace que la salida no cambie más rápid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ue una ramp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LM741 (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54100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ructura de OPAMP típica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, polarización con fuentes de corriente, espejo como carga, etapa de ganancia intermedia, etapa de salida “seguidor de voltaje” y condensador de “estabilida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6019920" y="508644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μ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p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0,67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μ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76320" y="1600200"/>
            <a:ext cx="5333760" cy="3890880"/>
            <a:chOff x="76320" y="1600200"/>
            <a:chExt cx="5333760" cy="3890880"/>
          </a:xfrm>
        </p:grpSpPr>
        <p:pic>
          <p:nvPicPr>
            <p:cNvPr id="557" name="" descr=""/>
            <p:cNvPicPr/>
            <p:nvPr/>
          </p:nvPicPr>
          <p:blipFill>
            <a:blip r:embed="rId1"/>
            <a:stretch/>
          </p:blipFill>
          <p:spPr>
            <a:xfrm>
              <a:off x="76320" y="1600200"/>
              <a:ext cx="5333760" cy="38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2438280" y="426708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61960" y="38862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742840" y="15235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tección de cortocircuito a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n máxima corriente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salida en el OPAMP ~ 0.6V/25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24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empeños OPAM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FE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Bias y Offse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de polarización (impedancia DC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ayor Slew Rate (útil como comparador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OPAMP gran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debe estar “casi” al mismo voltaje para que el OPAMP opere en la zona 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uando no se cumple la condición anterior, la salida del OPAMP tratará de “saturarse” a casi el voltaje de alimentación, con una velocidad máxima dada por la Slew Rate del disposi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2748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191120" y="4754520"/>
                <a:ext cx="3047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cia del Análisis por Bloqu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 de entrada y salida definen “nivel de carga” a las etapas interconectad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OPAM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, Bloques Funcionales, propagación de vari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impedancia de entrada, Alta Ganancia,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aja 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reales: desvío de la condición ideal en dise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Bias,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lew Rate, Corriente máxim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en zona lineal (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iscutir la estructura interna de un OPAM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conocer la importancia del análisis por bloques funcion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en detalle la estructura interna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l funcionamiento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visar características no-ideales de los OPAMPs “real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 de Voltaje Difer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spositivo Integra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celente Matching entre transist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s no deben superar los 100k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: Análisi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 de los transist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, impedancias, etc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(Alta Impedancia de 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termedia (Gran Gananci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(Baja Impedancia de 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ve del 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ntificar bloques funcio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alizar cada bloque por separado y después “juntarlo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eracción será dada por la carga entre etapas (impedancia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tallado: OPAMP LM741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PAMP de propósito Gener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comunes a otros OPAMP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lo que sigue se asumir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100 (representa condición norma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hará distinción entre e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un transistor pnp o de un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de Earl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150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ción a Temperatura Amb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Bloques Fun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0" y="1149480"/>
            <a:ext cx="8569080" cy="5425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1120" y="2514600"/>
            <a:ext cx="2210040" cy="3733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90720" y="1447920"/>
            <a:ext cx="3276360" cy="4809600"/>
            <a:chOff x="990720" y="1447920"/>
            <a:chExt cx="3276360" cy="4809600"/>
          </a:xfrm>
        </p:grpSpPr>
        <p:sp>
          <p:nvSpPr>
            <p:cNvPr id="104" name=""/>
            <p:cNvSpPr/>
            <p:nvPr/>
          </p:nvSpPr>
          <p:spPr>
            <a:xfrm>
              <a:off x="990720" y="1447920"/>
              <a:ext cx="0" cy="961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1447920"/>
              <a:ext cx="0" cy="4809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2409480"/>
              <a:ext cx="1572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63200" y="2409480"/>
              <a:ext cx="0" cy="38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63200" y="6243120"/>
              <a:ext cx="170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720" y="1454760"/>
              <a:ext cx="327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292880" y="1828800"/>
            <a:ext cx="1165320" cy="4419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2743200"/>
            <a:ext cx="1600200" cy="35053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62164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216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624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Inter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118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62164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13240" y="1720080"/>
            <a:ext cx="1905120" cy="2289240"/>
            <a:chOff x="5313240" y="1720080"/>
            <a:chExt cx="1905120" cy="2289240"/>
          </a:xfrm>
        </p:grpSpPr>
        <p:sp>
          <p:nvSpPr>
            <p:cNvPr id="118" name=""/>
            <p:cNvSpPr/>
            <p:nvPr/>
          </p:nvSpPr>
          <p:spPr>
            <a:xfrm>
              <a:off x="5313240" y="2557440"/>
              <a:ext cx="96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7200" y="1720080"/>
              <a:ext cx="0" cy="2289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13240" y="172548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69040" y="2556720"/>
              <a:ext cx="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62560" y="4005000"/>
              <a:ext cx="95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21160" y="1720080"/>
              <a:ext cx="0" cy="84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squemático Gener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280" y="1143000"/>
            <a:ext cx="8839440" cy="5356080"/>
            <a:chOff x="152280" y="1143000"/>
            <a:chExt cx="8839440" cy="53560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52280" y="1143000"/>
              <a:ext cx="8458200" cy="53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522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3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5287680"/>
              <a:ext cx="762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5120" y="5257800"/>
              <a:ext cx="761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5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7320" y="28954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6: </a:t>
              </a:r>
              <a:br>
                <a:rPr sz="1200"/>
              </a:b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9880" y="121896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7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60958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4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648320" y="6095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5-Q21-Q24-Q23: protección cortocircu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781680" y="411444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487692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vita satura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 Q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punto de operación (impedancias, ganancias, etc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MRR elev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Ganancia Intermed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 la ganancia de la etapa difer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10-06T14:07:04Z</dcterms:modified>
  <cp:revision>1232</cp:revision>
  <dc:subject>Amplificadores Operacionales (OPAMPs)</dc:subject>
  <dc:title>Clase 17</dc:title>
</cp:coreProperties>
</file>