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4.png" ContentType="image/png"/>
  <Override PartName="/ppt/media/image8.wmf" ContentType="image/x-wmf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10.png" ContentType="image/png"/>
  <Override PartName="/ppt/media/image13.wmf" ContentType="image/x-wmf"/>
  <Override PartName="/ppt/media/image5.png" ContentType="image/png"/>
  <Override PartName="/ppt/media/image7.png" ContentType="image/png"/>
  <Override PartName="/ppt/media/image6.wmf" ContentType="image/x-wmf"/>
  <Override PartName="/ppt/media/image11.png" ContentType="image/png"/>
  <Override PartName="/ppt/media/image12.wmf" ContentType="image/x-wmf"/>
  <Override PartName="/ppt/media/image4.png" ContentType="image/png"/>
  <Override PartName="/ppt/embeddings/oleObject1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75CD66-DC48-4555-B2DB-8E4F15B18E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47217F-5474-4229-BD4B-7EEA8D79D2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0E1D6F-1C56-41E2-B1F3-EBC807BA97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8B192F-952F-4432-BFC5-E23CBF8227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CEE81-EC91-4E0D-ABA1-9ADAA69367F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78C97-DB1B-40C4-9BEF-CDF8B36B754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AAC92-112E-4D1F-8F3D-79B9D484B17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72EB5-2663-49F4-925D-F0503952449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1CDD5-EFE2-4BA4-919C-E869A8CE76F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BC2A3-58FE-4115-B67D-AB00348A8E2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7AC53-A743-4EAD-9ADD-E7184E2DD03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9AF43E-13D4-489E-93D8-0EA22B6470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A4ED7-A12F-41F1-A7C0-EA1BC539D19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0FC80-E39F-4CA5-A36F-C9397EB3DF0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2677C-41EF-4B23-8E52-A6FD7466CBE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0A9CA-71A1-4721-88AB-F367DA58D6D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44B49-9249-488C-850A-E5F08C7B915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2FDECF-1335-4085-B25E-F8E3894DFD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995828-2A3B-47E6-8359-DB1EA8936B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8D64CF-90A7-4F7E-B04B-6159F8344A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FCA143-814F-48E1-ACD7-2D2EE58464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60B51B-D257-4168-B217-713EE969F0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342580-A324-4B58-8AC1-3C3877453C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FDA392-23B6-433E-9326-B48242CF77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23464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8686800" y="6568560"/>
            <a:ext cx="457200" cy="2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6CDBF-7ECB-4C9F-A011-CEF98ACDBA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6566040"/>
            <a:ext cx="6961320" cy="0"/>
          </a:xfrm>
          <a:prstGeom prst="line">
            <a:avLst/>
          </a:prstGeom>
          <a:ln w="19080">
            <a:solidFill>
              <a:srgbClr val="2828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" name=""/>
          <p:cNvGraphicFramePr/>
          <p:nvPr/>
        </p:nvGraphicFramePr>
        <p:xfrm>
          <a:off x="7543800" y="6108840"/>
          <a:ext cx="438120" cy="64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43800" y="6108840"/>
                    <a:ext cx="43812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151920" y="6573960"/>
            <a:ext cx="5257800" cy="16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1eb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   </a:t>
            </a: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EL42A Circuitos Electrónicos                   Profesor: Domingo Morales Liza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04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ldNum" idx="3"/>
          </p:nvPr>
        </p:nvSpPr>
        <p:spPr>
          <a:xfrm>
            <a:off x="8686800" y="6568560"/>
            <a:ext cx="457200" cy="2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6E52D-BAD8-4041-A7A3-0736BBDE09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6566040"/>
            <a:ext cx="6961320" cy="0"/>
          </a:xfrm>
          <a:prstGeom prst="line">
            <a:avLst/>
          </a:prstGeom>
          <a:ln w="19080">
            <a:solidFill>
              <a:srgbClr val="2828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7543800" y="6108840"/>
          <a:ext cx="438120" cy="64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43800" y="6108840"/>
                    <a:ext cx="43812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PlaceHolder 3"/>
          <p:cNvSpPr>
            <a:spLocks noGrp="1"/>
          </p:cNvSpPr>
          <p:nvPr>
            <p:ph type="ftr" idx="4"/>
          </p:nvPr>
        </p:nvSpPr>
        <p:spPr>
          <a:xfrm>
            <a:off x="151920" y="6573960"/>
            <a:ext cx="5257800" cy="16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1eb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   </a:t>
            </a: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EL42A Circuitos Electrónicos                   Profesor: Domingo Morales Liza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EL42A Circuitos Electrónicos</a:t>
            </a:r>
            <a:br>
              <a:rPr sz="3600"/>
            </a:b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Semestre Primavera 2003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858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Departamento de Ingeniería Eléctrica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Universidad de Chil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mplificador Diferencial: Zona no lineal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Vital: Transistores con buen Matching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4419720" y="1676520"/>
            <a:ext cx="4647960" cy="4457520"/>
            <a:chOff x="4419720" y="1676520"/>
            <a:chExt cx="4647960" cy="4457520"/>
          </a:xfrm>
        </p:grpSpPr>
        <p:pic>
          <p:nvPicPr>
            <p:cNvPr id="164" name="" descr=""/>
            <p:cNvPicPr/>
            <p:nvPr/>
          </p:nvPicPr>
          <p:blipFill>
            <a:blip r:embed="rId1"/>
            <a:stretch/>
          </p:blipFill>
          <p:spPr>
            <a:xfrm>
              <a:off x="4572000" y="1676520"/>
              <a:ext cx="4359240" cy="445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4419720" y="3429000"/>
              <a:ext cx="6094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924680" y="2819520"/>
              <a:ext cx="9144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outp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458200" y="3581280"/>
              <a:ext cx="6094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8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629400" y="4191120"/>
              <a:ext cx="304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9920" y="3308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791320" y="3276720"/>
              <a:ext cx="7617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543800" y="2895480"/>
              <a:ext cx="0" cy="260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010280" y="2819520"/>
              <a:ext cx="762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543800" y="32767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010280" y="3276720"/>
              <a:ext cx="7621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924680" y="335268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696080" y="3276720"/>
              <a:ext cx="7621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1828800" y="3048120"/>
                <a:ext cx="13190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E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E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1308240" y="3657600"/>
                <a:ext cx="2349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B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E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B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E</m:t>
                        </m:r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1066680" y="4343400"/>
                <a:ext cx="2938680" cy="46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≈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BE</m:t>
                                </m:r>
                              </m:sub>
                            </m:sSub>
                            <m:r>
                              <m:t xml:space="preserve">/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≈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E</m:t>
                            </m:r>
                          </m:sub>
                        </m:sSub>
                        <m:r>
                          <m:t xml:space="preserve">/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1484280" y="5181480"/>
                <a:ext cx="2131920" cy="7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≈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E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  <m:r>
                              <m:t xml:space="preserve">/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mplificador Diferencial: Zona no lineal (I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46483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Zona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aturación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Lineal: Ganancia g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md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6320" y="2583000"/>
            <a:ext cx="7315200" cy="3970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4572000" y="4800600"/>
                <a:ext cx="137160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  <m:r>
                              <m:t xml:space="preserve">/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2025720" y="4343400"/>
                <a:ext cx="1357200" cy="61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≡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</m:e>
                          <m:sub>
                            <m:r>
                              <m:t xml:space="preserve">C</m:t>
                            </m:r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v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den>
                    </m:f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4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6" name=""/>
          <p:cNvSpPr/>
          <p:nvPr/>
        </p:nvSpPr>
        <p:spPr>
          <a:xfrm>
            <a:off x="762120" y="3930480"/>
            <a:ext cx="25146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Pendiente en la zona lineal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6172200" y="2819520"/>
            <a:ext cx="2895120" cy="3124080"/>
            <a:chOff x="6172200" y="2819520"/>
            <a:chExt cx="2895120" cy="3124080"/>
          </a:xfrm>
        </p:grpSpPr>
        <p:pic>
          <p:nvPicPr>
            <p:cNvPr id="188" name="" descr=""/>
            <p:cNvPicPr/>
            <p:nvPr/>
          </p:nvPicPr>
          <p:blipFill>
            <a:blip r:embed="rId2"/>
            <a:stretch/>
          </p:blipFill>
          <p:spPr>
            <a:xfrm>
              <a:off x="6199200" y="2819520"/>
              <a:ext cx="2868120" cy="312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"/>
            <p:cNvSpPr/>
            <p:nvPr/>
          </p:nvSpPr>
          <p:spPr>
            <a:xfrm>
              <a:off x="6172200" y="4253040"/>
              <a:ext cx="4003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8404560" y="3620160"/>
              <a:ext cx="6019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outp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647200" y="4253040"/>
              <a:ext cx="4006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4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550640" y="4582080"/>
              <a:ext cx="203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151760" y="3963240"/>
              <a:ext cx="0" cy="32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01640" y="3940200"/>
              <a:ext cx="5004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i="1" lang="es-ES_tradnl" sz="1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8154360" y="3674160"/>
              <a:ext cx="0" cy="182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804080" y="3620160"/>
              <a:ext cx="500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8154360" y="3940200"/>
              <a:ext cx="0" cy="26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804080" y="3940200"/>
              <a:ext cx="5004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i="1" lang="es-ES_tradnl" sz="1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8404560" y="3993840"/>
              <a:ext cx="251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254440" y="3940200"/>
              <a:ext cx="5018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i="1" lang="es-ES_tradnl" sz="12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01" name=""/>
              <p:cNvSpPr txBox="1"/>
              <p:nvPr/>
            </p:nvSpPr>
            <p:spPr>
              <a:xfrm>
                <a:off x="4551480" y="3124080"/>
                <a:ext cx="141264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  <m:r>
                              <m:t xml:space="preserve">/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mplificador Diferencial: Ejemplo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51920" y="1981080"/>
            <a:ext cx="441972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Modo Diferencial Zona Linea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A permanece Fijo en –0.7V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i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 (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+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-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)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Symbol" charset="2"/>
              <a:buChar char="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E1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 e i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E2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Symbol" charset="2"/>
              <a:buChar char="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C4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 e i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C2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i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carga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Límite: i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carga 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= I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=1mA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472040" indent="-2102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¿Factible? </a:t>
            </a:r>
            <a:r>
              <a:rPr b="0" i="1" lang="es-ES_tradnl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C2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1V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72040" indent="-2102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Todos los transistores en activa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i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 (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+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-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)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Symbol" charset="2"/>
              <a:buChar char="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E2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 e i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E1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Symbol" charset="2"/>
              <a:buChar char="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C2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 e i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C1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i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carga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(negativa)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Límite (corriente “más negativa”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4419720" y="2362320"/>
            <a:ext cx="4495680" cy="3859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6172200" y="434340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400800" y="228600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5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553080" y="583560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- 5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595440" y="5459400"/>
                <a:ext cx="138564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B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&lt;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6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2270160" y="5459400"/>
                <a:ext cx="131112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&gt;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6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1536840" y="5840280"/>
                <a:ext cx="140472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&gt;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mplificador Diferencial: Ejemplo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6095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Voltaje de Salida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0" y="2436840"/>
            <a:ext cx="7238880" cy="404028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5486400" y="3068640"/>
            <a:ext cx="335268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mplificador Diferencial: </a:t>
            </a:r>
            <a:br>
              <a:rPr sz="3600"/>
            </a:b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Impedancia de Entrada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49528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Impedancia de entrada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Variación diferencial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Polarización: i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E1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= i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E2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e1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= r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e2 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= r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Conviene tener Corrientes “pequeñas” (Importancia de espejos de corriente Wilson)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5257800" y="2057400"/>
            <a:ext cx="3878280" cy="3995640"/>
            <a:chOff x="5257800" y="2057400"/>
            <a:chExt cx="3878280" cy="3995640"/>
          </a:xfrm>
        </p:grpSpPr>
        <p:pic>
          <p:nvPicPr>
            <p:cNvPr id="218" name="" descr=""/>
            <p:cNvPicPr/>
            <p:nvPr/>
          </p:nvPicPr>
          <p:blipFill>
            <a:blip r:embed="rId1"/>
            <a:stretch/>
          </p:blipFill>
          <p:spPr>
            <a:xfrm>
              <a:off x="5410080" y="2057400"/>
              <a:ext cx="3726000" cy="399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"/>
            <p:cNvSpPr/>
            <p:nvPr/>
          </p:nvSpPr>
          <p:spPr>
            <a:xfrm>
              <a:off x="5257800" y="4343400"/>
              <a:ext cx="5713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019560" y="3809880"/>
              <a:ext cx="26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829120" y="3733920"/>
              <a:ext cx="5716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B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514920" y="3886200"/>
              <a:ext cx="5716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E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429320" y="3886200"/>
              <a:ext cx="5716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E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8153280" y="3352680"/>
              <a:ext cx="8380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- </a:t>
              </a:r>
              <a:r>
                <a:rPr b="0" i="1" lang="es-ES_tradnl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d </a:t>
              </a: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/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486400" y="3352680"/>
              <a:ext cx="8380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d </a:t>
              </a: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/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705360" y="419112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543800" y="419112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28" name=""/>
              <p:cNvSpPr txBox="1"/>
              <p:nvPr/>
            </p:nvSpPr>
            <p:spPr>
              <a:xfrm>
                <a:off x="1206360" y="3201840"/>
                <a:ext cx="115596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Δv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sSub>
                      <m:e>
                        <m:r>
                          <m:t xml:space="preserve">Δi</m:t>
                        </m:r>
                      </m:e>
                      <m:sub>
                        <m:r>
                          <m:t xml:space="preserve">E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" name=""/>
              <p:cNvSpPr txBox="1"/>
              <p:nvPr/>
            </p:nvSpPr>
            <p:spPr>
              <a:xfrm>
                <a:off x="2882880" y="3184560"/>
                <a:ext cx="222264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Δv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sSub>
                      <m:e>
                        <m:r>
                          <m:t xml:space="preserve">Δi</m:t>
                        </m:r>
                      </m:e>
                      <m:sub>
                        <m:r>
                          <m:t xml:space="preserve">E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sSub>
                      <m:e>
                        <m:r>
                          <m:t xml:space="preserve">Δi</m:t>
                        </m:r>
                      </m:e>
                      <m:sub>
                        <m:r>
                          <m:t xml:space="preserve">E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1359000" y="3809880"/>
                <a:ext cx="3746520" cy="69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d</m:t>
                            </m:r>
                          </m:e>
                        </m:d>
                      </m:sub>
                    </m:sSub>
                    <m:r>
                      <m:t xml:space="preserve">≡</m:t>
                    </m:r>
                    <m:f>
                      <m:num>
                        <m:sSub>
                          <m:e>
                            <m:r>
                              <m:t xml:space="preserve">Δv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Δi</m:t>
                            </m:r>
                          </m:e>
                          <m:sub>
                            <m:r>
                              <m:t xml:space="preserve">B</m:t>
                            </m:r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fe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=</m:t>
                    </m:r>
                    <m:r>
                      <m:t xml:space="preserve">2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fe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31" name=""/>
          <p:cNvSpPr/>
          <p:nvPr/>
        </p:nvSpPr>
        <p:spPr>
          <a:xfrm>
            <a:off x="685800" y="4572000"/>
            <a:ext cx="47242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jemplo: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fe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100, T=300 ºK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=1mA 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 r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in(d)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5k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=10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 r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in(d)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500k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Mejora Adicional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Entrada Diferencial Darlington (h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fe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fe</a:t>
            </a:r>
            <a:r>
              <a:rPr b="0" i="1" lang="es-ES_tradnl" sz="1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En el ejemplo r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in(d)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aumenta en factor 100 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Etapa Diferencial F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mplificador Diferencial: </a:t>
            </a:r>
            <a:br>
              <a:rPr sz="3600"/>
            </a:b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Impedancia de Salida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380988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Impedancia de Salida: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olectores de Q4 y Q2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quivalente paralelo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unto de Operación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orriente de Polarización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572000" y="1981080"/>
            <a:ext cx="4266720" cy="4152960"/>
            <a:chOff x="4572000" y="1981080"/>
            <a:chExt cx="4266720" cy="4152960"/>
          </a:xfrm>
        </p:grpSpPr>
        <p:pic>
          <p:nvPicPr>
            <p:cNvPr id="235" name="" descr=""/>
            <p:cNvPicPr/>
            <p:nvPr/>
          </p:nvPicPr>
          <p:blipFill>
            <a:blip r:embed="rId1"/>
            <a:stretch/>
          </p:blipFill>
          <p:spPr>
            <a:xfrm>
              <a:off x="4711680" y="1981080"/>
              <a:ext cx="4001760" cy="415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"/>
            <p:cNvSpPr/>
            <p:nvPr/>
          </p:nvSpPr>
          <p:spPr>
            <a:xfrm>
              <a:off x="4572000" y="3615120"/>
              <a:ext cx="5605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789680" y="3045960"/>
              <a:ext cx="8391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outp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8278200" y="3755520"/>
              <a:ext cx="5605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8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600600" y="4323600"/>
              <a:ext cx="279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040800" y="3501360"/>
              <a:ext cx="0" cy="425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830920" y="3471840"/>
              <a:ext cx="6991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439760" y="3116520"/>
              <a:ext cx="0" cy="24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950160" y="3045960"/>
              <a:ext cx="699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439760" y="3471840"/>
              <a:ext cx="0" cy="35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950160" y="3471840"/>
              <a:ext cx="6994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789680" y="3542400"/>
              <a:ext cx="34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579800" y="3471840"/>
              <a:ext cx="6980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907920" y="3809880"/>
                <a:ext cx="3560760" cy="71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ut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d</m:t>
                            </m:r>
                          </m:e>
                        </m:d>
                      </m:sub>
                    </m:sSub>
                    <m:r>
                      <m:t xml:space="preserve">≡</m:t>
                    </m:r>
                    <m:f>
                      <m:num>
                        <m:sSub>
                          <m:e>
                            <m:r>
                              <m:t xml:space="preserve">Δ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pu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Δi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C</m:t>
                        </m:r>
                        <m:r>
                          <m:t xml:space="preserve">4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C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49" name=""/>
          <p:cNvSpPr/>
          <p:nvPr/>
        </p:nvSpPr>
        <p:spPr>
          <a:xfrm>
            <a:off x="533520" y="4800600"/>
            <a:ext cx="40384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Ordenes de Magnitud (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~ 15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1mA 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 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out(d)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0.15M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20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 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out(d)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7.5M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mplificador Diferencial: Modelo </a:t>
            </a:r>
            <a:br>
              <a:rPr sz="3600"/>
            </a:b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(bajas frecuencias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0102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Amplificador de Transconductanci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¡¡¡Parámetros dependen del punto de operación!!!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ntrada Voltaje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Ideal Alta Impedancia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I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pequeño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alida Corriente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Ideal Alta Impedancia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I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pequeño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Amplificación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Ideal Alta Ganancia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I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grande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Trade-Off: I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pequeño + etapa de ganancia adiciona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457200" y="4159080"/>
            <a:ext cx="5967000" cy="2317680"/>
            <a:chOff x="457200" y="4159080"/>
            <a:chExt cx="5967000" cy="2317680"/>
          </a:xfrm>
        </p:grpSpPr>
        <p:grpSp>
          <p:nvGrpSpPr>
            <p:cNvPr id="253" name=""/>
            <p:cNvGrpSpPr/>
            <p:nvPr/>
          </p:nvGrpSpPr>
          <p:grpSpPr>
            <a:xfrm>
              <a:off x="1533240" y="4476240"/>
              <a:ext cx="453600" cy="205200"/>
              <a:chOff x="1533240" y="4476240"/>
              <a:chExt cx="453600" cy="205200"/>
            </a:xfrm>
          </p:grpSpPr>
          <p:sp>
            <p:nvSpPr>
              <p:cNvPr id="254" name=""/>
              <p:cNvSpPr/>
              <p:nvPr/>
            </p:nvSpPr>
            <p:spPr>
              <a:xfrm>
                <a:off x="1533240" y="4476240"/>
                <a:ext cx="29880" cy="98280"/>
              </a:xfrm>
              <a:custGeom>
                <a:avLst/>
                <a:gdLst/>
                <a:ahLst/>
                <a:rect l="l" t="t" r="r" b="b"/>
                <a:pathLst>
                  <a:path w="14" h="46">
                    <a:moveTo>
                      <a:pt x="0" y="46"/>
                    </a:moveTo>
                    <a:lnTo>
                      <a:pt x="14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flipH="1" flipV="1">
                <a:off x="1563120" y="4476240"/>
                <a:ext cx="77040" cy="205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flipV="1">
                <a:off x="1640160" y="4476240"/>
                <a:ext cx="76680" cy="205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flipH="1" flipV="1">
                <a:off x="1717200" y="4476240"/>
                <a:ext cx="77040" cy="205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flipV="1">
                <a:off x="1794240" y="4476240"/>
                <a:ext cx="77040" cy="205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flipH="1" flipV="1">
                <a:off x="1871280" y="4476240"/>
                <a:ext cx="77040" cy="205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1948680" y="4582800"/>
                <a:ext cx="38160" cy="98280"/>
              </a:xfrm>
              <a:custGeom>
                <a:avLst/>
                <a:gdLst/>
                <a:ahLst/>
                <a:rect l="l" t="t" r="r" b="b"/>
                <a:pathLst>
                  <a:path w="18" h="46">
                    <a:moveTo>
                      <a:pt x="0" y="46"/>
                    </a:moveTo>
                    <a:lnTo>
                      <a:pt x="18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662760" y="5095080"/>
              <a:ext cx="617040" cy="617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2" name=""/>
            <p:cNvCxnSpPr>
              <a:stCxn id="261" idx="0"/>
              <a:endCxn id="254" idx="0"/>
            </p:cNvCxnSpPr>
            <p:nvPr/>
          </p:nvCxnSpPr>
          <p:spPr>
            <a:xfrm flipH="1" flipV="1" rot="5400000">
              <a:off x="991440" y="4554000"/>
              <a:ext cx="520560" cy="561600"/>
            </a:xfrm>
            <a:prstGeom prst="bentConnector3">
              <a:avLst>
                <a:gd name="adj1" fmla="val 100000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63" name=""/>
            <p:cNvCxnSpPr>
              <a:stCxn id="260" idx="0"/>
              <a:endCxn id="264" idx="0"/>
            </p:cNvCxnSpPr>
            <p:nvPr/>
          </p:nvCxnSpPr>
          <p:spPr>
            <a:xfrm flipH="1" rot="16200000">
              <a:off x="2151360" y="4418280"/>
              <a:ext cx="610920" cy="939240"/>
            </a:xfrm>
            <a:prstGeom prst="bentConnector4">
              <a:avLst>
                <a:gd name="adj1" fmla="val -707"/>
                <a:gd name="adj2" fmla="val 99961"/>
              </a:avLst>
            </a:prstGeom>
            <a:ln w="9360">
              <a:solidFill>
                <a:srgbClr val="000000"/>
              </a:solidFill>
              <a:miter/>
            </a:ln>
          </p:spPr>
        </p:cxnSp>
        <p:grpSp>
          <p:nvGrpSpPr>
            <p:cNvPr id="265" name=""/>
            <p:cNvGrpSpPr/>
            <p:nvPr/>
          </p:nvGrpSpPr>
          <p:grpSpPr>
            <a:xfrm>
              <a:off x="2823480" y="5198040"/>
              <a:ext cx="205200" cy="453960"/>
              <a:chOff x="2823480" y="5198040"/>
              <a:chExt cx="205200" cy="453960"/>
            </a:xfrm>
          </p:grpSpPr>
          <p:sp>
            <p:nvSpPr>
              <p:cNvPr id="264" name=""/>
              <p:cNvSpPr/>
              <p:nvPr/>
            </p:nvSpPr>
            <p:spPr>
              <a:xfrm rot="5400000">
                <a:off x="2964600" y="5163840"/>
                <a:ext cx="29880" cy="98280"/>
              </a:xfrm>
              <a:custGeom>
                <a:avLst/>
                <a:gdLst/>
                <a:ahLst/>
                <a:rect l="l" t="t" r="r" b="b"/>
                <a:pathLst>
                  <a:path w="14" h="46">
                    <a:moveTo>
                      <a:pt x="0" y="46"/>
                    </a:moveTo>
                    <a:lnTo>
                      <a:pt x="14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flipV="1">
                <a:off x="2823480" y="5227920"/>
                <a:ext cx="205200" cy="77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2823480" y="5305320"/>
                <a:ext cx="205200" cy="76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flipV="1">
                <a:off x="2823480" y="5382000"/>
                <a:ext cx="205200" cy="77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2823480" y="5459040"/>
                <a:ext cx="205200" cy="77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flipV="1">
                <a:off x="2823480" y="5536440"/>
                <a:ext cx="205200" cy="77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 rot="5400000">
                <a:off x="2853720" y="5583600"/>
                <a:ext cx="38160" cy="98280"/>
              </a:xfrm>
              <a:custGeom>
                <a:avLst/>
                <a:gdLst/>
                <a:ahLst/>
                <a:rect l="l" t="t" r="r" b="b"/>
                <a:pathLst>
                  <a:path w="18" h="46">
                    <a:moveTo>
                      <a:pt x="0" y="46"/>
                    </a:moveTo>
                    <a:lnTo>
                      <a:pt x="18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272" name=""/>
            <p:cNvCxnSpPr>
              <a:stCxn id="271" idx="0"/>
              <a:endCxn id="261" idx="4"/>
            </p:cNvCxnSpPr>
            <p:nvPr/>
          </p:nvCxnSpPr>
          <p:spPr>
            <a:xfrm flipH="1">
              <a:off x="971280" y="5647680"/>
              <a:ext cx="1946880" cy="65160"/>
            </a:xfrm>
            <a:prstGeom prst="bentConnector4">
              <a:avLst>
                <a:gd name="adj1" fmla="val -110"/>
                <a:gd name="adj2" fmla="val 816111"/>
              </a:avLst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273" name=""/>
            <p:cNvSpPr/>
            <p:nvPr/>
          </p:nvSpPr>
          <p:spPr>
            <a:xfrm>
              <a:off x="457200" y="4785120"/>
              <a:ext cx="72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57200" y="5640840"/>
              <a:ext cx="72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–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309040" y="5198040"/>
              <a:ext cx="7203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in(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796040" y="4785120"/>
              <a:ext cx="718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796040" y="5508000"/>
              <a:ext cx="718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–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796040" y="5198040"/>
              <a:ext cx="7185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383120" y="4159080"/>
              <a:ext cx="7200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440880" y="5095080"/>
              <a:ext cx="617040" cy="617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1" name=""/>
            <p:cNvCxnSpPr>
              <a:stCxn id="280" idx="0"/>
            </p:cNvCxnSpPr>
            <p:nvPr/>
          </p:nvCxnSpPr>
          <p:spPr>
            <a:xfrm flipH="1" flipV="1" rot="5400000">
              <a:off x="3954240" y="4373640"/>
              <a:ext cx="516600" cy="926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82" name=""/>
            <p:cNvCxnSpPr>
              <a:endCxn id="283" idx="0"/>
            </p:cNvCxnSpPr>
            <p:nvPr/>
          </p:nvCxnSpPr>
          <p:spPr>
            <a:xfrm>
              <a:off x="4678200" y="4582080"/>
              <a:ext cx="1132200" cy="614880"/>
            </a:xfrm>
            <a:prstGeom prst="bentConnector3">
              <a:avLst>
                <a:gd name="adj1" fmla="val 100000"/>
              </a:avLst>
            </a:prstGeom>
            <a:ln w="9360">
              <a:solidFill>
                <a:srgbClr val="000000"/>
              </a:solidFill>
              <a:miter/>
            </a:ln>
          </p:spPr>
        </p:cxnSp>
        <p:grpSp>
          <p:nvGrpSpPr>
            <p:cNvPr id="284" name=""/>
            <p:cNvGrpSpPr/>
            <p:nvPr/>
          </p:nvGrpSpPr>
          <p:grpSpPr>
            <a:xfrm>
              <a:off x="5704200" y="5198040"/>
              <a:ext cx="205200" cy="453960"/>
              <a:chOff x="5704200" y="5198040"/>
              <a:chExt cx="205200" cy="453960"/>
            </a:xfrm>
          </p:grpSpPr>
          <p:sp>
            <p:nvSpPr>
              <p:cNvPr id="283" name=""/>
              <p:cNvSpPr/>
              <p:nvPr/>
            </p:nvSpPr>
            <p:spPr>
              <a:xfrm rot="5400000">
                <a:off x="5845320" y="5163840"/>
                <a:ext cx="29880" cy="98280"/>
              </a:xfrm>
              <a:custGeom>
                <a:avLst/>
                <a:gdLst/>
                <a:ahLst/>
                <a:rect l="l" t="t" r="r" b="b"/>
                <a:pathLst>
                  <a:path w="14" h="46">
                    <a:moveTo>
                      <a:pt x="0" y="46"/>
                    </a:moveTo>
                    <a:lnTo>
                      <a:pt x="14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flipV="1">
                <a:off x="5704200" y="5227920"/>
                <a:ext cx="205200" cy="77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5704200" y="5305320"/>
                <a:ext cx="205200" cy="76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flipV="1">
                <a:off x="5704200" y="5382000"/>
                <a:ext cx="205200" cy="77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5704200" y="5459040"/>
                <a:ext cx="205200" cy="77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flipV="1">
                <a:off x="5704200" y="5536440"/>
                <a:ext cx="205200" cy="77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5400000">
                <a:off x="5734440" y="5583600"/>
                <a:ext cx="38160" cy="98280"/>
              </a:xfrm>
              <a:custGeom>
                <a:avLst/>
                <a:gdLst/>
                <a:ahLst/>
                <a:rect l="l" t="t" r="r" b="b"/>
                <a:pathLst>
                  <a:path w="18" h="46">
                    <a:moveTo>
                      <a:pt x="0" y="46"/>
                    </a:moveTo>
                    <a:lnTo>
                      <a:pt x="18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291" name=""/>
            <p:cNvCxnSpPr>
              <a:stCxn id="290" idx="0"/>
              <a:endCxn id="280" idx="4"/>
            </p:cNvCxnSpPr>
            <p:nvPr/>
          </p:nvCxnSpPr>
          <p:spPr>
            <a:xfrm flipV="1" rot="10800000">
              <a:off x="3748680" y="5647680"/>
              <a:ext cx="2049840" cy="65160"/>
            </a:xfrm>
            <a:prstGeom prst="bentConnector4">
              <a:avLst>
                <a:gd name="adj1" fmla="val 193"/>
                <a:gd name="adj2" fmla="val 802777"/>
              </a:avLst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292" name=""/>
            <p:cNvSpPr/>
            <p:nvPr/>
          </p:nvSpPr>
          <p:spPr>
            <a:xfrm>
              <a:off x="3406680" y="5242320"/>
              <a:ext cx="72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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704200" y="4785120"/>
              <a:ext cx="72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704200" y="5506560"/>
              <a:ext cx="72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–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704200" y="5198040"/>
              <a:ext cx="7200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6" name=""/>
            <p:cNvGrpSpPr/>
            <p:nvPr/>
          </p:nvGrpSpPr>
          <p:grpSpPr>
            <a:xfrm>
              <a:off x="4572360" y="5198040"/>
              <a:ext cx="205200" cy="453960"/>
              <a:chOff x="4572360" y="5198040"/>
              <a:chExt cx="205200" cy="453960"/>
            </a:xfrm>
          </p:grpSpPr>
          <p:sp>
            <p:nvSpPr>
              <p:cNvPr id="297" name=""/>
              <p:cNvSpPr/>
              <p:nvPr/>
            </p:nvSpPr>
            <p:spPr>
              <a:xfrm rot="5400000">
                <a:off x="4713480" y="5163840"/>
                <a:ext cx="29880" cy="98280"/>
              </a:xfrm>
              <a:custGeom>
                <a:avLst/>
                <a:gdLst/>
                <a:ahLst/>
                <a:rect l="l" t="t" r="r" b="b"/>
                <a:pathLst>
                  <a:path w="14" h="46">
                    <a:moveTo>
                      <a:pt x="0" y="46"/>
                    </a:moveTo>
                    <a:lnTo>
                      <a:pt x="14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4572360" y="5227920"/>
                <a:ext cx="205200" cy="77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4572360" y="5305320"/>
                <a:ext cx="205200" cy="76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flipV="1">
                <a:off x="4572360" y="5382000"/>
                <a:ext cx="205200" cy="77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4572360" y="5459040"/>
                <a:ext cx="205200" cy="77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4572360" y="5536440"/>
                <a:ext cx="205200" cy="77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5400000">
                <a:off x="4602600" y="5583600"/>
                <a:ext cx="38160" cy="98280"/>
              </a:xfrm>
              <a:custGeom>
                <a:avLst/>
                <a:gdLst/>
                <a:ahLst/>
                <a:rect l="l" t="t" r="r" b="b"/>
                <a:pathLst>
                  <a:path w="18" h="46">
                    <a:moveTo>
                      <a:pt x="0" y="46"/>
                    </a:moveTo>
                    <a:lnTo>
                      <a:pt x="18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304" name=""/>
            <p:cNvCxnSpPr>
              <a:stCxn id="297" idx="0"/>
            </p:cNvCxnSpPr>
            <p:nvPr/>
          </p:nvCxnSpPr>
          <p:spPr>
            <a:xfrm flipV="1">
              <a:off x="4678200" y="4581720"/>
              <a:ext cx="1080" cy="614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305" name=""/>
            <p:cNvSpPr/>
            <p:nvPr/>
          </p:nvSpPr>
          <p:spPr>
            <a:xfrm>
              <a:off x="4675680" y="5652360"/>
              <a:ext cx="0" cy="515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641120" y="5198040"/>
              <a:ext cx="7203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out(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886920" y="5198040"/>
              <a:ext cx="8229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md</a:t>
              </a: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085360" y="5198040"/>
              <a:ext cx="7214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12000" y="4313520"/>
              <a:ext cx="2777760" cy="2163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103120" y="4502160"/>
              <a:ext cx="123120" cy="122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103120" y="6098040"/>
              <a:ext cx="123120" cy="1231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258520" y="6099840"/>
              <a:ext cx="122760" cy="122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258520" y="4502160"/>
              <a:ext cx="122760" cy="122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7315200" y="5334120"/>
                <a:ext cx="102384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ut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d</m:t>
                            </m:r>
                          </m:e>
                        </m:d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6934320" y="3809880"/>
                <a:ext cx="1741320" cy="69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d</m:t>
                            </m:r>
                          </m:e>
                        </m:d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fe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6" name=""/>
              <p:cNvSpPr txBox="1"/>
              <p:nvPr/>
            </p:nvSpPr>
            <p:spPr>
              <a:xfrm>
                <a:off x="7219800" y="4643280"/>
                <a:ext cx="1249560" cy="61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d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mplificador Diferencial: Efecto Miller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3152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Ganancia Implica “Multiplicación de Miller”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Juntura Colector Base: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Aparece como Filtro Pasabajos para la entrada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La capacidad está amplificada por la ganancia en voltaje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Idea: “Fijar el voltaje del colector”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De esta forma no existirá ganancia de voltaje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nfiguración Cascode: Buffer de corriente a la salida del amplificador emisor comú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9" name=""/>
          <p:cNvGrpSpPr/>
          <p:nvPr/>
        </p:nvGrpSpPr>
        <p:grpSpPr>
          <a:xfrm>
            <a:off x="838080" y="4659480"/>
            <a:ext cx="1908000" cy="1817280"/>
            <a:chOff x="838080" y="4659480"/>
            <a:chExt cx="1908000" cy="1817280"/>
          </a:xfrm>
        </p:grpSpPr>
        <p:sp>
          <p:nvSpPr>
            <p:cNvPr id="320" name=""/>
            <p:cNvSpPr/>
            <p:nvPr/>
          </p:nvSpPr>
          <p:spPr>
            <a:xfrm>
              <a:off x="838080" y="5308560"/>
              <a:ext cx="1766880" cy="9086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191600" y="5373360"/>
              <a:ext cx="141120" cy="129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2180880" y="5373360"/>
              <a:ext cx="141120" cy="129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686240" y="6022440"/>
              <a:ext cx="141480" cy="129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4" name=""/>
            <p:cNvGrpSpPr/>
            <p:nvPr/>
          </p:nvGrpSpPr>
          <p:grpSpPr>
            <a:xfrm>
              <a:off x="1615680" y="4919040"/>
              <a:ext cx="311760" cy="129600"/>
              <a:chOff x="1615680" y="4919040"/>
              <a:chExt cx="311760" cy="129600"/>
            </a:xfrm>
          </p:grpSpPr>
          <p:sp>
            <p:nvSpPr>
              <p:cNvPr id="325" name=""/>
              <p:cNvSpPr/>
              <p:nvPr/>
            </p:nvSpPr>
            <p:spPr>
              <a:xfrm>
                <a:off x="1615680" y="4919040"/>
                <a:ext cx="20520" cy="61920"/>
              </a:xfrm>
              <a:custGeom>
                <a:avLst/>
                <a:gdLst/>
                <a:ahLst/>
                <a:rect l="l" t="t" r="r" b="b"/>
                <a:pathLst>
                  <a:path w="14" h="46">
                    <a:moveTo>
                      <a:pt x="0" y="46"/>
                    </a:moveTo>
                    <a:lnTo>
                      <a:pt x="14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flipH="1" flipV="1">
                <a:off x="1635840" y="4919040"/>
                <a:ext cx="52920" cy="129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flipV="1">
                <a:off x="1689120" y="4919040"/>
                <a:ext cx="52560" cy="129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 flipH="1" flipV="1">
                <a:off x="1741680" y="4919040"/>
                <a:ext cx="52920" cy="129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 flipV="1">
                <a:off x="1794960" y="4919040"/>
                <a:ext cx="52920" cy="129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 flipH="1" flipV="1">
                <a:off x="1847880" y="4919040"/>
                <a:ext cx="52920" cy="129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901160" y="4986360"/>
                <a:ext cx="26280" cy="61920"/>
              </a:xfrm>
              <a:custGeom>
                <a:avLst/>
                <a:gdLst/>
                <a:ahLst/>
                <a:rect l="l" t="t" r="r" b="b"/>
                <a:pathLst>
                  <a:path w="18" h="46">
                    <a:moveTo>
                      <a:pt x="0" y="46"/>
                    </a:moveTo>
                    <a:lnTo>
                      <a:pt x="18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332" name=""/>
            <p:cNvCxnSpPr>
              <a:stCxn id="325" idx="0"/>
              <a:endCxn id="321" idx="0"/>
            </p:cNvCxnSpPr>
            <p:nvPr/>
          </p:nvCxnSpPr>
          <p:spPr>
            <a:xfrm rot="5400000">
              <a:off x="1242720" y="5000400"/>
              <a:ext cx="392400" cy="353880"/>
            </a:xfrm>
            <a:prstGeom prst="bentConnector3">
              <a:avLst>
                <a:gd name="adj1" fmla="val -3397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33" name=""/>
            <p:cNvCxnSpPr>
              <a:stCxn id="331" idx="0"/>
              <a:endCxn id="322" idx="0"/>
            </p:cNvCxnSpPr>
            <p:nvPr/>
          </p:nvCxnSpPr>
          <p:spPr>
            <a:xfrm flipH="1" rot="16200000">
              <a:off x="1896120" y="5017680"/>
              <a:ext cx="387360" cy="324360"/>
            </a:xfrm>
            <a:prstGeom prst="bentConnector3">
              <a:avLst>
                <a:gd name="adj1" fmla="val -2046"/>
              </a:avLst>
            </a:prstGeom>
            <a:ln w="9360">
              <a:solidFill>
                <a:srgbClr val="000000"/>
              </a:solidFill>
              <a:miter/>
            </a:ln>
          </p:spPr>
        </p:cxnSp>
        <p:grpSp>
          <p:nvGrpSpPr>
            <p:cNvPr id="334" name=""/>
            <p:cNvGrpSpPr/>
            <p:nvPr/>
          </p:nvGrpSpPr>
          <p:grpSpPr>
            <a:xfrm>
              <a:off x="1615680" y="6346800"/>
              <a:ext cx="282240" cy="129960"/>
              <a:chOff x="1615680" y="6346800"/>
              <a:chExt cx="282240" cy="129960"/>
            </a:xfrm>
          </p:grpSpPr>
          <p:sp>
            <p:nvSpPr>
              <p:cNvPr id="335" name=""/>
              <p:cNvSpPr/>
              <p:nvPr/>
            </p:nvSpPr>
            <p:spPr>
              <a:xfrm>
                <a:off x="1615680" y="6346800"/>
                <a:ext cx="282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686240" y="6411600"/>
                <a:ext cx="140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1717200" y="6476760"/>
                <a:ext cx="70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8" name=""/>
            <p:cNvSpPr/>
            <p:nvPr/>
          </p:nvSpPr>
          <p:spPr>
            <a:xfrm>
              <a:off x="1756800" y="6087600"/>
              <a:ext cx="0" cy="259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262160" y="5281200"/>
              <a:ext cx="4946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251800" y="5281200"/>
              <a:ext cx="4942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41" name=""/>
                <p:cNvSpPr txBox="1"/>
                <p:nvPr/>
              </p:nvSpPr>
              <p:spPr>
                <a:xfrm>
                  <a:off x="1615680" y="4659480"/>
                  <a:ext cx="223560" cy="205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42" name=""/>
          <p:cNvGrpSpPr/>
          <p:nvPr/>
        </p:nvGrpSpPr>
        <p:grpSpPr>
          <a:xfrm>
            <a:off x="3606840" y="4724280"/>
            <a:ext cx="4775040" cy="1752480"/>
            <a:chOff x="3606840" y="4724280"/>
            <a:chExt cx="4775040" cy="1752480"/>
          </a:xfrm>
        </p:grpSpPr>
        <p:grpSp>
          <p:nvGrpSpPr>
            <p:cNvPr id="343" name=""/>
            <p:cNvGrpSpPr/>
            <p:nvPr/>
          </p:nvGrpSpPr>
          <p:grpSpPr>
            <a:xfrm>
              <a:off x="3606840" y="5308560"/>
              <a:ext cx="4775040" cy="1168200"/>
              <a:chOff x="3606840" y="5308560"/>
              <a:chExt cx="4775040" cy="1168200"/>
            </a:xfrm>
          </p:grpSpPr>
          <p:sp>
            <p:nvSpPr>
              <p:cNvPr id="344" name=""/>
              <p:cNvSpPr/>
              <p:nvPr/>
            </p:nvSpPr>
            <p:spPr>
              <a:xfrm>
                <a:off x="5066640" y="5308560"/>
                <a:ext cx="1766160" cy="908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5420160" y="5373000"/>
                <a:ext cx="141120" cy="129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6409440" y="5373000"/>
                <a:ext cx="141120" cy="129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5914440" y="6022440"/>
                <a:ext cx="141480" cy="129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360" bIns="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48" name=""/>
              <p:cNvGrpSpPr/>
              <p:nvPr/>
            </p:nvGrpSpPr>
            <p:grpSpPr>
              <a:xfrm>
                <a:off x="5844240" y="6346800"/>
                <a:ext cx="282240" cy="129960"/>
                <a:chOff x="5844240" y="6346800"/>
                <a:chExt cx="282240" cy="129960"/>
              </a:xfrm>
            </p:grpSpPr>
            <p:sp>
              <p:nvSpPr>
                <p:cNvPr id="349" name=""/>
                <p:cNvSpPr/>
                <p:nvPr/>
              </p:nvSpPr>
              <p:spPr>
                <a:xfrm>
                  <a:off x="5844240" y="6346800"/>
                  <a:ext cx="2822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5914800" y="6411600"/>
                  <a:ext cx="1407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>
                  <a:off x="5945760" y="6476760"/>
                  <a:ext cx="702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52" name=""/>
              <p:cNvSpPr/>
              <p:nvPr/>
            </p:nvSpPr>
            <p:spPr>
              <a:xfrm>
                <a:off x="5985360" y="6087600"/>
                <a:ext cx="0" cy="259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353" name=""/>
              <p:cNvCxnSpPr>
                <a:endCxn id="345" idx="2"/>
              </p:cNvCxnSpPr>
              <p:nvPr/>
            </p:nvCxnSpPr>
            <p:spPr>
              <a:xfrm>
                <a:off x="4642560" y="5437800"/>
                <a:ext cx="777960" cy="1080"/>
              </a:xfrm>
              <a:prstGeom prst="bentConnector2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354" name=""/>
              <p:cNvCxnSpPr>
                <a:stCxn id="355" idx="0"/>
                <a:endCxn id="347" idx="2"/>
              </p:cNvCxnSpPr>
              <p:nvPr/>
            </p:nvCxnSpPr>
            <p:spPr>
              <a:xfrm flipH="1" rot="16200000">
                <a:off x="5277960" y="5452200"/>
                <a:ext cx="1800" cy="1271880"/>
              </a:xfrm>
              <a:prstGeom prst="bentConnector4">
                <a:avLst>
                  <a:gd name="adj1" fmla="val -300000"/>
                  <a:gd name="adj2" fmla="val 50000"/>
                </a:avLst>
              </a:prstGeom>
              <a:ln w="9360">
                <a:solidFill>
                  <a:srgbClr val="000000"/>
                </a:solidFill>
                <a:miter/>
              </a:ln>
            </p:spPr>
          </p:cxnSp>
          <p:grpSp>
            <p:nvGrpSpPr>
              <p:cNvPr id="356" name=""/>
              <p:cNvGrpSpPr/>
              <p:nvPr/>
            </p:nvGrpSpPr>
            <p:grpSpPr>
              <a:xfrm>
                <a:off x="4572360" y="5605920"/>
                <a:ext cx="141120" cy="286200"/>
                <a:chOff x="4572360" y="5605920"/>
                <a:chExt cx="141120" cy="286200"/>
              </a:xfrm>
            </p:grpSpPr>
            <p:sp>
              <p:nvSpPr>
                <p:cNvPr id="357" name=""/>
                <p:cNvSpPr/>
                <p:nvPr/>
              </p:nvSpPr>
              <p:spPr>
                <a:xfrm rot="5400000">
                  <a:off x="4670280" y="5581440"/>
                  <a:ext cx="18720" cy="67680"/>
                </a:xfrm>
                <a:custGeom>
                  <a:avLst/>
                  <a:gdLst/>
                  <a:ahLst/>
                  <a:rect l="l" t="t" r="r" b="b"/>
                  <a:pathLst>
                    <a:path w="14" h="46">
                      <a:moveTo>
                        <a:pt x="0" y="46"/>
                      </a:moveTo>
                      <a:lnTo>
                        <a:pt x="14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 flipV="1">
                  <a:off x="4572360" y="5624280"/>
                  <a:ext cx="141120" cy="4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>
                  <a:off x="4572360" y="5673600"/>
                  <a:ext cx="141120" cy="48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" bIns="1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 flipV="1">
                  <a:off x="4572360" y="5721480"/>
                  <a:ext cx="141120" cy="4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4572360" y="5770800"/>
                  <a:ext cx="141120" cy="4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 flipV="1">
                  <a:off x="4572360" y="5819040"/>
                  <a:ext cx="141120" cy="4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 rot="5400000">
                  <a:off x="4594320" y="5846040"/>
                  <a:ext cx="24120" cy="67680"/>
                </a:xfrm>
                <a:custGeom>
                  <a:avLst/>
                  <a:gdLst/>
                  <a:ahLst/>
                  <a:rect l="l" t="t" r="r" b="b"/>
                  <a:pathLst>
                    <a:path w="18" h="46">
                      <a:moveTo>
                        <a:pt x="0" y="46"/>
                      </a:moveTo>
                      <a:lnTo>
                        <a:pt x="18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cxnSp>
            <p:nvCxnSpPr>
              <p:cNvPr id="364" name=""/>
              <p:cNvCxnSpPr>
                <a:stCxn id="357" idx="0"/>
              </p:cNvCxnSpPr>
              <p:nvPr/>
            </p:nvCxnSpPr>
            <p:spPr>
              <a:xfrm flipV="1">
                <a:off x="4642560" y="5437800"/>
                <a:ext cx="1080" cy="1656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365" name=""/>
              <p:cNvSpPr/>
              <p:nvPr/>
            </p:nvSpPr>
            <p:spPr>
              <a:xfrm>
                <a:off x="4637160" y="5892840"/>
                <a:ext cx="5400" cy="19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5420160" y="5346000"/>
                <a:ext cx="49428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1600" spc="-1" strike="noStrike">
                    <a:solidFill>
                      <a:srgbClr val="000000"/>
                    </a:solidFill>
                    <a:latin typeface="Times New Roman"/>
                  </a:rPr>
                  <a:t>v</a:t>
                </a:r>
                <a:r>
                  <a:rPr b="0" i="1" lang="es-ES_tradnl" sz="16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6408000" y="5346000"/>
                <a:ext cx="49572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1600" spc="-1" strike="noStrike">
                    <a:solidFill>
                      <a:srgbClr val="000000"/>
                    </a:solidFill>
                    <a:latin typeface="Times New Roman"/>
                  </a:rPr>
                  <a:t>v</a:t>
                </a:r>
                <a:r>
                  <a:rPr b="0" i="1" lang="es-ES_tradnl" sz="16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368" name=""/>
                  <p:cNvSpPr txBox="1"/>
                  <p:nvPr/>
                </p:nvSpPr>
                <p:spPr>
                  <a:xfrm>
                    <a:off x="3606840" y="5501520"/>
                    <a:ext cx="894600" cy="5328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Z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K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p:grpSp>
            <p:nvGrpSpPr>
              <p:cNvPr id="369" name=""/>
              <p:cNvGrpSpPr/>
              <p:nvPr/>
            </p:nvGrpSpPr>
            <p:grpSpPr>
              <a:xfrm>
                <a:off x="7257240" y="5605920"/>
                <a:ext cx="141120" cy="286200"/>
                <a:chOff x="7257240" y="5605920"/>
                <a:chExt cx="141120" cy="286200"/>
              </a:xfrm>
            </p:grpSpPr>
            <p:sp>
              <p:nvSpPr>
                <p:cNvPr id="370" name=""/>
                <p:cNvSpPr/>
                <p:nvPr/>
              </p:nvSpPr>
              <p:spPr>
                <a:xfrm rot="5400000">
                  <a:off x="7355160" y="5581440"/>
                  <a:ext cx="18720" cy="67680"/>
                </a:xfrm>
                <a:custGeom>
                  <a:avLst/>
                  <a:gdLst/>
                  <a:ahLst/>
                  <a:rect l="l" t="t" r="r" b="b"/>
                  <a:pathLst>
                    <a:path w="14" h="46">
                      <a:moveTo>
                        <a:pt x="0" y="46"/>
                      </a:moveTo>
                      <a:lnTo>
                        <a:pt x="14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 flipV="1">
                  <a:off x="7257240" y="5624280"/>
                  <a:ext cx="141120" cy="4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>
                  <a:off x="7257240" y="5673600"/>
                  <a:ext cx="141120" cy="48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" bIns="1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 flipV="1">
                  <a:off x="7257240" y="5721480"/>
                  <a:ext cx="141120" cy="4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>
                  <a:off x="7257240" y="5770800"/>
                  <a:ext cx="141120" cy="4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 flipV="1">
                  <a:off x="7257240" y="5819040"/>
                  <a:ext cx="141120" cy="4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 rot="5400000">
                  <a:off x="7279200" y="5846040"/>
                  <a:ext cx="24120" cy="67680"/>
                </a:xfrm>
                <a:custGeom>
                  <a:avLst/>
                  <a:gdLst/>
                  <a:ahLst/>
                  <a:rect l="l" t="t" r="r" b="b"/>
                  <a:pathLst>
                    <a:path w="18" h="46">
                      <a:moveTo>
                        <a:pt x="0" y="46"/>
                      </a:moveTo>
                      <a:lnTo>
                        <a:pt x="18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cxnSp>
            <p:nvCxnSpPr>
              <p:cNvPr id="377" name=""/>
              <p:cNvCxnSpPr>
                <a:stCxn id="370" idx="0"/>
              </p:cNvCxnSpPr>
              <p:nvPr/>
            </p:nvCxnSpPr>
            <p:spPr>
              <a:xfrm flipV="1">
                <a:off x="7327440" y="5437800"/>
                <a:ext cx="1080" cy="1656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378" name=""/>
              <p:cNvSpPr/>
              <p:nvPr/>
            </p:nvSpPr>
            <p:spPr>
              <a:xfrm>
                <a:off x="7322040" y="5892840"/>
                <a:ext cx="5760" cy="19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6480000" y="5438160"/>
                <a:ext cx="847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5985360" y="6087600"/>
                <a:ext cx="1342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381" name=""/>
                  <p:cNvSpPr txBox="1"/>
                  <p:nvPr/>
                </p:nvSpPr>
                <p:spPr>
                  <a:xfrm>
                    <a:off x="7469280" y="5463720"/>
                    <a:ext cx="912600" cy="5324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ZK</m:t>
                            </m:r>
                          </m:num>
                          <m:den>
                            <m:r>
                              <m:t xml:space="preserve">K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382" name=""/>
                <p:cNvSpPr txBox="1"/>
                <p:nvPr/>
              </p:nvSpPr>
              <p:spPr>
                <a:xfrm>
                  <a:off x="5632200" y="4724280"/>
                  <a:ext cx="633960" cy="584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K</m:t>
                      </m:r>
                      <m:r>
                        <m:t xml:space="preserve">≡</m:t>
                      </m:r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83" name=""/>
              <p:cNvSpPr txBox="1"/>
              <p:nvPr/>
            </p:nvSpPr>
            <p:spPr>
              <a:xfrm>
                <a:off x="2847960" y="5445000"/>
                <a:ext cx="6094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⇔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onfiguracione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228240" y="1828800"/>
            <a:ext cx="4800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Norma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apacidad de transición en juntura base-colector ~ pF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Ganancia voltaje~ 100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apacitancia de Miller ~ 10</a:t>
            </a:r>
            <a:r>
              <a:rPr b="0" i="1" lang="es-ES_tradnl" sz="1800" spc="-1" strike="noStrike" baseline="30000">
                <a:solidFill>
                  <a:srgbClr val="000000"/>
                </a:solidFill>
                <a:latin typeface="Times New Roman"/>
              </a:rPr>
              <a:t>-10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Frecuencia de corte Filtro pasabajos de entrada ~ 10 MHz (incluye efecto Miller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5028840" y="1905120"/>
            <a:ext cx="38098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ascod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olector de Q1 “fijo”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Ganancia de voltaje mínima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No hay efecto multiplicación de Miller: Frecuencia de corte mayor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1"/>
          <a:stretch/>
        </p:blipFill>
        <p:spPr>
          <a:xfrm>
            <a:off x="1143000" y="3857760"/>
            <a:ext cx="3124080" cy="2695320"/>
          </a:xfrm>
          <a:prstGeom prst="rect">
            <a:avLst/>
          </a:prstGeom>
          <a:ln w="0">
            <a:noFill/>
          </a:ln>
        </p:spPr>
      </p:pic>
      <p:pic>
        <p:nvPicPr>
          <p:cNvPr id="388" name="" descr=""/>
          <p:cNvPicPr/>
          <p:nvPr/>
        </p:nvPicPr>
        <p:blipFill>
          <a:blip r:embed="rId2"/>
          <a:stretch/>
        </p:blipFill>
        <p:spPr>
          <a:xfrm>
            <a:off x="5943600" y="3733920"/>
            <a:ext cx="2689200" cy="28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ncho de Banda: Cascode v/s Normal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0" name="" descr=""/>
          <p:cNvPicPr/>
          <p:nvPr/>
        </p:nvPicPr>
        <p:blipFill>
          <a:blip r:embed="rId1"/>
          <a:stretch/>
        </p:blipFill>
        <p:spPr>
          <a:xfrm>
            <a:off x="76320" y="1828800"/>
            <a:ext cx="8321400" cy="4537080"/>
          </a:xfrm>
          <a:prstGeom prst="rect">
            <a:avLst/>
          </a:prstGeom>
          <a:ln w="0">
            <a:noFill/>
          </a:ln>
        </p:spPr>
      </p:pic>
      <p:pic>
        <p:nvPicPr>
          <p:cNvPr id="391" name="" descr=""/>
          <p:cNvPicPr/>
          <p:nvPr/>
        </p:nvPicPr>
        <p:blipFill>
          <a:blip r:embed="rId2"/>
          <a:stretch/>
        </p:blipFill>
        <p:spPr>
          <a:xfrm>
            <a:off x="76320" y="1866960"/>
            <a:ext cx="8321400" cy="4502160"/>
          </a:xfrm>
          <a:prstGeom prst="rect">
            <a:avLst/>
          </a:prstGeom>
          <a:ln w="0">
            <a:noFill/>
          </a:ln>
        </p:spPr>
      </p:pic>
      <p:sp>
        <p:nvSpPr>
          <p:cNvPr id="392" name=""/>
          <p:cNvSpPr/>
          <p:nvPr/>
        </p:nvSpPr>
        <p:spPr>
          <a:xfrm>
            <a:off x="6934320" y="25909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0000"/>
                </a:solidFill>
                <a:latin typeface="Times New Roman"/>
              </a:rPr>
              <a:t>Cas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4648320" y="32767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3333cc"/>
                </a:solidFill>
                <a:latin typeface="Times New Roman"/>
              </a:rPr>
              <a:t>No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Capítulo II</a:t>
            </a:r>
            <a:br>
              <a:rPr sz="3600"/>
            </a:b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Electrónica Analógica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240" y="3886200"/>
            <a:ext cx="6553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Clase Nº 16 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Amplificadores Diferenciales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plicación Digital: Familia ECL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Amplificadores Diferenciale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No sólo se usan en amplificació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Dan lugar a familia lógica de alta velocidad: EC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Familia Lógica Acoplada por Emisor (ECL)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aracterística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i los transistores del par diferencial nunca están saturados la conmutación es a alta velocidad (del orden de 1 ns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osto: disipación de potencia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No es tan famosa como CMOS o TTL, pero en interfaces de transceivers de fibra óptica es la solución (Gigabit Ethernet, ATM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Retrasos típicos: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Familia ECL 10K (10XXX): 2 ns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Familia ECL 100K (100XXX): 0.75ns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Familia  ECLinPS : </a:t>
            </a:r>
            <a:r>
              <a:rPr b="0" i="1" lang="es-ES_tradnl" sz="1800" spc="-1" strike="noStrike" u="sng">
                <a:solidFill>
                  <a:srgbClr val="000000"/>
                </a:solidFill>
                <a:uFillTx/>
                <a:latin typeface="Times New Roman"/>
              </a:rPr>
              <a:t>retraso máximo de 0.5ns!!!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Familia Lógica ECL 10K: Característica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7" name=""/>
          <p:cNvGrpSpPr/>
          <p:nvPr/>
        </p:nvGrpSpPr>
        <p:grpSpPr>
          <a:xfrm>
            <a:off x="0" y="1752480"/>
            <a:ext cx="6095880" cy="4191120"/>
            <a:chOff x="0" y="1752480"/>
            <a:chExt cx="6095880" cy="4191120"/>
          </a:xfrm>
        </p:grpSpPr>
        <p:pic>
          <p:nvPicPr>
            <p:cNvPr id="398" name="" descr=""/>
            <p:cNvPicPr/>
            <p:nvPr/>
          </p:nvPicPr>
          <p:blipFill>
            <a:blip r:embed="rId1"/>
            <a:stretch/>
          </p:blipFill>
          <p:spPr>
            <a:xfrm>
              <a:off x="0" y="1752480"/>
              <a:ext cx="6095880" cy="419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9" name=""/>
            <p:cNvSpPr/>
            <p:nvPr/>
          </p:nvSpPr>
          <p:spPr>
            <a:xfrm>
              <a:off x="5243400" y="3930480"/>
              <a:ext cx="85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000000"/>
                  </a:solidFill>
                  <a:latin typeface="Times New Roman"/>
                </a:rPr>
                <a:t>O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243400" y="2727720"/>
              <a:ext cx="85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000000"/>
                  </a:solidFill>
                  <a:latin typeface="Times New Roman"/>
                </a:rPr>
                <a:t>NO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1" name=""/>
          <p:cNvSpPr/>
          <p:nvPr/>
        </p:nvSpPr>
        <p:spPr>
          <a:xfrm>
            <a:off x="2209680" y="5638680"/>
            <a:ext cx="11224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EE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-5.2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146400" y="2522520"/>
            <a:ext cx="1508040" cy="3078360"/>
          </a:xfrm>
          <a:prstGeom prst="rect">
            <a:avLst/>
          </a:prstGeom>
          <a:noFill/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211560" y="1906560"/>
            <a:ext cx="1508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Referencia de voltaje es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1676520" y="2658960"/>
            <a:ext cx="1295280" cy="2941920"/>
          </a:xfrm>
          <a:prstGeom prst="rect">
            <a:avLst/>
          </a:prstGeom>
          <a:noFill/>
          <a:ln w="2556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1049400" y="1906560"/>
            <a:ext cx="2228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3333cc"/>
                </a:solidFill>
                <a:latin typeface="Times New Roman"/>
              </a:rPr>
              <a:t>Amplificador Diferencial </a:t>
            </a:r>
            <a:br>
              <a:rPr sz="1400"/>
            </a:br>
            <a:r>
              <a:rPr b="1" i="1" lang="es-ES_tradnl" sz="1400" spc="-1" strike="noStrike">
                <a:solidFill>
                  <a:srgbClr val="3333cc"/>
                </a:solidFill>
                <a:latin typeface="Times New Roman"/>
              </a:rPr>
              <a:t>“no-saturable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131760" y="4095720"/>
            <a:ext cx="45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1049400" y="4095720"/>
            <a:ext cx="45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095880" y="1752480"/>
            <a:ext cx="3048120" cy="34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Características: </a:t>
            </a:r>
            <a:br>
              <a:rPr sz="1600"/>
            </a:b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velocidad a costa de disipación de potencia: los transistores del par diferencial nunca están saturados, así hay una conmutación de mayor velocidad (t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almacenamiento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pequeño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Ventajas: </a:t>
            </a:r>
            <a:br>
              <a:rPr sz="1600"/>
            </a:b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Ruido provocado por variaciones en la alimentación aparece como modo común por lo que es despreciable (es importante que los colectores vayan a la “tierra” menos ruidos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Familia Lógica ECL 10K: Polarización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324480" y="1828800"/>
            <a:ext cx="2819520" cy="36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Polarización:</a:t>
            </a:r>
            <a:br>
              <a:rPr sz="1600"/>
            </a:b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Se desprecia la corriente base. El arreglo formado por Q4-D1-D2 es una referencia de voltaje estable (</a:t>
            </a: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compruébelo!!!(*)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) que fija un voltaje 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en el emisor de Q4. La polarización del par diferencial está fija (corriente I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) y puede ser conmutada cuando los voltajes de entrada difieren de 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en algunos cientos de milivolts. Note que los transistores Q1-Q3 y Q2 nunca se saturan!!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1" name=""/>
          <p:cNvGrpSpPr/>
          <p:nvPr/>
        </p:nvGrpSpPr>
        <p:grpSpPr>
          <a:xfrm>
            <a:off x="0" y="1676520"/>
            <a:ext cx="6324480" cy="4190760"/>
            <a:chOff x="0" y="1676520"/>
            <a:chExt cx="6324480" cy="4190760"/>
          </a:xfrm>
        </p:grpSpPr>
        <p:pic>
          <p:nvPicPr>
            <p:cNvPr id="412" name="" descr=""/>
            <p:cNvPicPr/>
            <p:nvPr/>
          </p:nvPicPr>
          <p:blipFill>
            <a:blip r:embed="rId1"/>
            <a:stretch/>
          </p:blipFill>
          <p:spPr>
            <a:xfrm>
              <a:off x="0" y="1676520"/>
              <a:ext cx="6324480" cy="419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3" name=""/>
            <p:cNvSpPr/>
            <p:nvPr/>
          </p:nvSpPr>
          <p:spPr>
            <a:xfrm>
              <a:off x="5440320" y="3854160"/>
              <a:ext cx="8841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900" spc="-1" strike="noStrike">
                  <a:solidFill>
                    <a:srgbClr val="000000"/>
                  </a:solidFill>
                  <a:latin typeface="Times New Roman"/>
                </a:rPr>
                <a:t>O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440320" y="2651400"/>
              <a:ext cx="8841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900" spc="-1" strike="noStrike">
                  <a:solidFill>
                    <a:srgbClr val="000000"/>
                  </a:solidFill>
                  <a:latin typeface="Times New Roman"/>
                </a:rPr>
                <a:t>NO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5" name=""/>
          <p:cNvSpPr/>
          <p:nvPr/>
        </p:nvSpPr>
        <p:spPr>
          <a:xfrm>
            <a:off x="2789280" y="5526000"/>
            <a:ext cx="95256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000" spc="-1" strike="noStrike" baseline="-25000">
                <a:solidFill>
                  <a:srgbClr val="000000"/>
                </a:solidFill>
                <a:latin typeface="Times New Roman"/>
              </a:rPr>
              <a:t>EE</a:t>
            </a: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=-5.2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129120" y="2995560"/>
            <a:ext cx="95076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s-ES_tradnl" sz="1000" spc="-1" strike="noStrike" baseline="-25000">
                <a:solidFill>
                  <a:srgbClr val="000000"/>
                </a:solidFill>
                <a:latin typeface="Times New Roman"/>
              </a:rPr>
              <a:t>4 </a:t>
            </a: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= 0,64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3741840" y="3198960"/>
            <a:ext cx="0" cy="206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2789280" y="4022640"/>
            <a:ext cx="95256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0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= -1.2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136440" y="4022640"/>
            <a:ext cx="476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087560" y="4022640"/>
            <a:ext cx="476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419720" y="3746520"/>
            <a:ext cx="95256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000" spc="-1" strike="noStrike" baseline="-25000">
                <a:solidFill>
                  <a:srgbClr val="000000"/>
                </a:solidFill>
                <a:latin typeface="Times New Roman"/>
              </a:rPr>
              <a:t>BB </a:t>
            </a: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= -0.5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4556160" y="4637160"/>
            <a:ext cx="95256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s-ES_tradnl" sz="1000" spc="-1" strike="noStrike" baseline="-25000">
                <a:solidFill>
                  <a:srgbClr val="000000"/>
                </a:solidFill>
                <a:latin typeface="Times New Roman"/>
              </a:rPr>
              <a:t>5 </a:t>
            </a: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= 0,65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4829040" y="4910040"/>
            <a:ext cx="0" cy="204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448000" y="4637160"/>
            <a:ext cx="95256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s-ES_tradnl" sz="1000" spc="-1" strike="noStrike" baseline="-25000">
                <a:solidFill>
                  <a:srgbClr val="000000"/>
                </a:solidFill>
                <a:latin typeface="Times New Roman"/>
              </a:rPr>
              <a:t>6 </a:t>
            </a: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= 4,12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448000" y="4703760"/>
            <a:ext cx="0" cy="206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228600" y="5896080"/>
            <a:ext cx="7315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(*) compruébelo: 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asuma una variación en algún parámetro del arreglo y muestre que la configuración se opone al cambio... ¡¡¡Retroalimentación negativa!!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552760" y="3489480"/>
            <a:ext cx="95256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000" spc="-1" strike="noStrike" baseline="-25000">
                <a:solidFill>
                  <a:srgbClr val="000000"/>
                </a:solidFill>
                <a:latin typeface="Times New Roman"/>
              </a:rPr>
              <a:t>OR </a:t>
            </a: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= -0.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1143000" y="3565440"/>
            <a:ext cx="95256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000" spc="-1" strike="noStrike" baseline="-25000">
                <a:solidFill>
                  <a:srgbClr val="000000"/>
                </a:solidFill>
                <a:latin typeface="Times New Roman"/>
              </a:rPr>
              <a:t>NOR </a:t>
            </a: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= -0.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Familia Lógica ECL 10K: Operación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6324480" y="1676520"/>
            <a:ext cx="2819520" cy="40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Funcionamiento:</a:t>
            </a:r>
            <a:br>
              <a:rPr sz="1600"/>
            </a:b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Referencia de voltaje (emisor de Q4) se usa como una de las entradas del amplificador diferencial. Las otras entradas A y B se comparan con ésta.</a:t>
            </a:r>
            <a:br>
              <a:rPr sz="1600"/>
            </a:b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Note que el circuito posee dos entradas A y B en una configuración lógica NOR. Basta una diferencia de algunos cientos de milivolts para que la corriente I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circule sólo a través de R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o sólo a través de R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. Al superarse esta diferencia la salida varía en unos 0,5 Volts adicional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1" name=""/>
          <p:cNvGrpSpPr/>
          <p:nvPr/>
        </p:nvGrpSpPr>
        <p:grpSpPr>
          <a:xfrm>
            <a:off x="0" y="1752480"/>
            <a:ext cx="6324120" cy="4267080"/>
            <a:chOff x="0" y="1752480"/>
            <a:chExt cx="6324120" cy="4267080"/>
          </a:xfrm>
        </p:grpSpPr>
        <p:grpSp>
          <p:nvGrpSpPr>
            <p:cNvPr id="432" name=""/>
            <p:cNvGrpSpPr/>
            <p:nvPr/>
          </p:nvGrpSpPr>
          <p:grpSpPr>
            <a:xfrm>
              <a:off x="0" y="1752480"/>
              <a:ext cx="6324120" cy="4267080"/>
              <a:chOff x="0" y="1752480"/>
              <a:chExt cx="6324120" cy="4267080"/>
            </a:xfrm>
          </p:grpSpPr>
          <p:pic>
            <p:nvPicPr>
              <p:cNvPr id="433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1752480"/>
                <a:ext cx="6324120" cy="4267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34" name=""/>
              <p:cNvSpPr/>
              <p:nvPr/>
            </p:nvSpPr>
            <p:spPr>
              <a:xfrm>
                <a:off x="5439960" y="3970080"/>
                <a:ext cx="883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900" spc="-1" strike="noStrike">
                    <a:solidFill>
                      <a:srgbClr val="000000"/>
                    </a:solidFill>
                    <a:latin typeface="Times New Roman"/>
                  </a:rPr>
                  <a:t>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5439960" y="2745360"/>
                <a:ext cx="883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900" spc="-1" strike="noStrike">
                    <a:solidFill>
                      <a:srgbClr val="000000"/>
                    </a:solidFill>
                    <a:latin typeface="Times New Roman"/>
                  </a:rPr>
                  <a:t>N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6" name=""/>
            <p:cNvSpPr/>
            <p:nvPr/>
          </p:nvSpPr>
          <p:spPr>
            <a:xfrm>
              <a:off x="2788560" y="5672520"/>
              <a:ext cx="95220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0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000" spc="-1" strike="noStrike" baseline="-25000">
                  <a:solidFill>
                    <a:srgbClr val="000000"/>
                  </a:solidFill>
                  <a:latin typeface="Times New Roman"/>
                </a:rPr>
                <a:t>EE</a:t>
              </a:r>
              <a:r>
                <a:rPr b="0" i="1" lang="es-ES_tradnl" sz="1000" spc="-1" strike="noStrike">
                  <a:solidFill>
                    <a:srgbClr val="000000"/>
                  </a:solidFill>
                  <a:latin typeface="Times New Roman"/>
                </a:rPr>
                <a:t>=-5.2V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128400" y="3096000"/>
              <a:ext cx="95076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i="1" lang="es-ES_tradnl" sz="1000" spc="-1" strike="noStrike" baseline="-25000">
                  <a:solidFill>
                    <a:srgbClr val="000000"/>
                  </a:solidFill>
                  <a:latin typeface="Times New Roman"/>
                </a:rPr>
                <a:t>4 </a:t>
              </a:r>
              <a:r>
                <a:rPr b="0" i="1" lang="es-ES_tradnl" sz="1000" spc="-1" strike="noStrike">
                  <a:solidFill>
                    <a:srgbClr val="000000"/>
                  </a:solidFill>
                  <a:latin typeface="Times New Roman"/>
                </a:rPr>
                <a:t>= 0,64m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3740760" y="3302280"/>
              <a:ext cx="0" cy="209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788560" y="4141080"/>
              <a:ext cx="95220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0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0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s-ES_tradnl" sz="1000" spc="-1" strike="noStrike">
                  <a:solidFill>
                    <a:srgbClr val="000000"/>
                  </a:solidFill>
                  <a:latin typeface="Times New Roman"/>
                </a:rPr>
                <a:t>= -1.29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6440" y="4141080"/>
              <a:ext cx="475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087200" y="4141080"/>
              <a:ext cx="476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4419360" y="3860640"/>
              <a:ext cx="95220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0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000" spc="-1" strike="noStrike" baseline="-25000">
                  <a:solidFill>
                    <a:srgbClr val="000000"/>
                  </a:solidFill>
                  <a:latin typeface="Times New Roman"/>
                </a:rPr>
                <a:t>BB </a:t>
              </a:r>
              <a:r>
                <a:rPr b="0" i="1" lang="es-ES_tradnl" sz="1000" spc="-1" strike="noStrike">
                  <a:solidFill>
                    <a:srgbClr val="000000"/>
                  </a:solidFill>
                  <a:latin typeface="Times New Roman"/>
                </a:rPr>
                <a:t>= -0.59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4556520" y="4766760"/>
              <a:ext cx="95220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i="1" lang="es-ES_tradnl" sz="1000" spc="-1" strike="noStrike" baseline="-25000">
                  <a:solidFill>
                    <a:srgbClr val="000000"/>
                  </a:solidFill>
                  <a:latin typeface="Times New Roman"/>
                </a:rPr>
                <a:t>5 </a:t>
              </a:r>
              <a:r>
                <a:rPr b="0" i="1" lang="es-ES_tradnl" sz="1000" spc="-1" strike="noStrike">
                  <a:solidFill>
                    <a:srgbClr val="000000"/>
                  </a:solidFill>
                  <a:latin typeface="Times New Roman"/>
                </a:rPr>
                <a:t>= 0,65m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4828320" y="5045040"/>
              <a:ext cx="0" cy="207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448000" y="4766760"/>
              <a:ext cx="95220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i="1" lang="es-ES_tradnl" sz="1000" spc="-1" strike="noStrike" baseline="-25000">
                  <a:solidFill>
                    <a:srgbClr val="000000"/>
                  </a:solidFill>
                  <a:latin typeface="Times New Roman"/>
                </a:rPr>
                <a:t>6 </a:t>
              </a:r>
              <a:r>
                <a:rPr b="0" i="1" lang="es-ES_tradnl" sz="1000" spc="-1" strike="noStrike">
                  <a:solidFill>
                    <a:srgbClr val="000000"/>
                  </a:solidFill>
                  <a:latin typeface="Times New Roman"/>
                </a:rPr>
                <a:t>= 4,12m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2448000" y="4835160"/>
              <a:ext cx="0" cy="209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7" name=""/>
          <p:cNvSpPr/>
          <p:nvPr/>
        </p:nvSpPr>
        <p:spPr>
          <a:xfrm>
            <a:off x="76320" y="5972040"/>
            <a:ext cx="6248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Salida: 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Las dos salidas (colectores del par Q1-Q3 y Q2) tienen buffers (Q5 y Q6) que permiten minimizar los efectos de carga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Familia Lógica ECL 10K: Parámetro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1981080" y="1981080"/>
            <a:ext cx="5638680" cy="4343400"/>
            <a:chOff x="1981080" y="1981080"/>
            <a:chExt cx="5638680" cy="4343400"/>
          </a:xfrm>
        </p:grpSpPr>
        <p:grpSp>
          <p:nvGrpSpPr>
            <p:cNvPr id="450" name=""/>
            <p:cNvGrpSpPr/>
            <p:nvPr/>
          </p:nvGrpSpPr>
          <p:grpSpPr>
            <a:xfrm>
              <a:off x="3047760" y="1981080"/>
              <a:ext cx="3353040" cy="4343400"/>
              <a:chOff x="3047760" y="1981080"/>
              <a:chExt cx="3353040" cy="4343400"/>
            </a:xfrm>
          </p:grpSpPr>
          <p:sp>
            <p:nvSpPr>
              <p:cNvPr id="451" name=""/>
              <p:cNvSpPr/>
              <p:nvPr/>
            </p:nvSpPr>
            <p:spPr>
              <a:xfrm>
                <a:off x="3429000" y="1981080"/>
                <a:ext cx="2590560" cy="838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2400" spc="-1" strike="noStrike">
                    <a:solidFill>
                      <a:srgbClr val="000000"/>
                    </a:solidFill>
                    <a:latin typeface="Times New Roman"/>
                  </a:rPr>
                  <a:t>Anormal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3429000" y="3276720"/>
                <a:ext cx="2590560" cy="457200"/>
              </a:xfrm>
              <a:prstGeom prst="rect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2400" spc="-1" strike="noStrike">
                    <a:solidFill>
                      <a:srgbClr val="000000"/>
                    </a:solidFill>
                    <a:latin typeface="Times New Roman"/>
                  </a:rPr>
                  <a:t>Noise Margin High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3429000" y="2819520"/>
                <a:ext cx="2590560" cy="457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2400" spc="-1" strike="noStrike">
                    <a:solidFill>
                      <a:srgbClr val="000000"/>
                    </a:solidFill>
                    <a:latin typeface="Times New Roman"/>
                  </a:rPr>
                  <a:t>High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3429000" y="3733920"/>
                <a:ext cx="2590560" cy="838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2400" spc="-1" strike="noStrike">
                    <a:solidFill>
                      <a:srgbClr val="000000"/>
                    </a:solidFill>
                    <a:latin typeface="Times New Roman"/>
                  </a:rPr>
                  <a:t>Anormal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3429000" y="4572000"/>
                <a:ext cx="2590560" cy="457200"/>
              </a:xfrm>
              <a:prstGeom prst="rect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2400" spc="-1" strike="noStrike">
                    <a:solidFill>
                      <a:srgbClr val="000000"/>
                    </a:solidFill>
                    <a:latin typeface="Times New Roman"/>
                  </a:rPr>
                  <a:t>Noise Margin Low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3429000" y="5029200"/>
                <a:ext cx="2590560" cy="457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2400" spc="-1" strike="noStrike">
                    <a:solidFill>
                      <a:srgbClr val="000000"/>
                    </a:solidFill>
                    <a:latin typeface="Times New Roman"/>
                  </a:rPr>
                  <a:t>Low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3429000" y="5486400"/>
                <a:ext cx="2590560" cy="838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2400" spc="-1" strike="noStrike">
                    <a:solidFill>
                      <a:srgbClr val="000000"/>
                    </a:solidFill>
                    <a:latin typeface="Times New Roman"/>
                  </a:rPr>
                  <a:t>Anormal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3047760" y="2819520"/>
                <a:ext cx="3353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3047760" y="3276720"/>
                <a:ext cx="3353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3047760" y="3733920"/>
                <a:ext cx="3353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3047760" y="4572000"/>
                <a:ext cx="3353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3047760" y="5029200"/>
                <a:ext cx="3353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3047760" y="5486400"/>
                <a:ext cx="3353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4" name=""/>
            <p:cNvSpPr/>
            <p:nvPr/>
          </p:nvSpPr>
          <p:spPr>
            <a:xfrm>
              <a:off x="1981080" y="2438280"/>
              <a:ext cx="14479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IHMAX</a:t>
              </a: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   -0.81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1981080" y="3429000"/>
              <a:ext cx="14479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IHMIN</a:t>
              </a: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   -1.10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981080" y="4267080"/>
              <a:ext cx="14479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ILMAX</a:t>
              </a: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   -1.47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1981080" y="5181480"/>
              <a:ext cx="14479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ILMIN</a:t>
              </a: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   -1.85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6172200" y="2438280"/>
              <a:ext cx="1447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OHMAX</a:t>
              </a: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   -0.81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6172200" y="2971800"/>
              <a:ext cx="1447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OHMIN</a:t>
              </a: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   -0.98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6172200" y="4724280"/>
              <a:ext cx="1447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OLMAX</a:t>
              </a: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   -1.63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6172200" y="5181480"/>
              <a:ext cx="1447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OLMIN</a:t>
              </a: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   -1.85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Otras Familias ECL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Familia 100K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Diferencia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EE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= -4.5V,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Retrasos de propagación menores (~0.75ns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Mayor consumo (~40mW contra los 20mW de 10K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Niveles lógicos diferente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Positive ECL (PECL)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ECL tiene buena inmunidad al ruido gracias a alimentarse negativament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Sin embargo no se puede interconectar con compuertas TTL o CMO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Resumen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Amplificadores Diferenciale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Zona Lineal: poseen modo diferencial (MD) y común (MC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MC: “eliminado” con una fuente de corriente en los emisore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Ganancia diferencial se puede “aumentar”: carga activ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Ganancias e impedancias dependen del punto de operación: conviene corriente de polarización pequeña, pero se puede requerir ganancia adiciona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Efecto Miller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apacidad base-colector aparece como filtro de entrada pasabajos con capacidad amplificada por la ganancia de voltaj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Idea: “Reducir la ganancia de voltaje” mediante “buffer de corriente”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nfiguración Cascode: aumenta el ancho de band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Familia Lógica ECL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Objetivo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Estudiar el funcionamiento de un Amplificador Diferencia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Ver cómo se genera la Familia lógica EC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mplificador Diferencial: Motivación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Amplificadores “Estándar”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Emisor Común, Colector Común y Base Común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Amplifican variaciones en la señal de voltaje respecto a tierr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Si tierra tiene ruido” este se sumará al nivel de voltaje de entrada al amplificador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Por lo tanto se amplifica la “señal útil” y el ruido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Prohibitivo para señales con razón señal a ruido baja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Solución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Amplificar la diferencia de la señal de entrada y su referencia: Amplificador Diferencial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mplificador Diferencial </a:t>
            </a:r>
            <a:br>
              <a:rPr sz="3600"/>
            </a:b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Figuras de Mérito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4648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Amplificador en “zona lineal”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alida: combinación lineal de las entradas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eñal de Modo Común” afecta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No da lo mismo: (1000005 y 1000000; 10 y 5)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xistirá amplificación de “Modo Común” (A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)y “Diferencial” (A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e define CMRR “Razón de Rechazo en Modo Común”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Ideal: CMRR “grande”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Determinación de ganancias: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=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=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input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=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input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/ 2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5181480" y="2057400"/>
            <a:ext cx="3657600" cy="990720"/>
            <a:chOff x="5181480" y="2057400"/>
            <a:chExt cx="3657600" cy="990720"/>
          </a:xfrm>
        </p:grpSpPr>
        <p:sp>
          <p:nvSpPr>
            <p:cNvPr id="99" name=""/>
            <p:cNvSpPr/>
            <p:nvPr/>
          </p:nvSpPr>
          <p:spPr>
            <a:xfrm flipH="1">
              <a:off x="6323760" y="2057400"/>
              <a:ext cx="1676520" cy="990720"/>
            </a:xfrm>
            <a:prstGeom prst="cube">
              <a:avLst>
                <a:gd name="adj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AMP Dif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562720" y="25146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638680" y="266688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8001000" y="26668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181480" y="2057400"/>
              <a:ext cx="6098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0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2000" spc="-1" strike="noStrike" baseline="-25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257800" y="2438280"/>
              <a:ext cx="609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0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20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229600" y="2209680"/>
              <a:ext cx="609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0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2000" spc="-1" strike="noStrike" baseline="-25000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6400800" y="3200400"/>
                <a:ext cx="1523880" cy="37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+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−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5595840" y="3778200"/>
                <a:ext cx="1482840" cy="75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≡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+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−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≡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+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−</m:t>
                                </m:r>
                              </m:sub>
                            </m:sSub>
                          </m:e>
                        </m:d>
                        <m:r>
                          <m:t xml:space="preserve">/</m:t>
                        </m:r>
                        <m:r>
                          <m:t xml:space="preserve">2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6129360" y="4692600"/>
                <a:ext cx="1816200" cy="37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6761160" y="5302080"/>
                <a:ext cx="1316160" cy="79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MRR</m:t>
                    </m:r>
                    <m:r>
                      <m:t xml:space="preserve">≡</m:t>
                    </m:r>
                    <m:d>
                      <m:dPr>
                        <m:begChr m:val="|"/>
                        <m:endChr m:val="|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7272360" y="3778200"/>
                <a:ext cx="1566720" cy="75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≡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  <m:r>
                          <m:t xml:space="preserve">/</m:t>
                        </m:r>
                        <m:r>
                          <m:t xml:space="preserve">2</m:t>
                        </m:r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≡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mplificador Diferencial Básico: </a:t>
            </a:r>
            <a:br>
              <a:rPr sz="3600"/>
            </a:b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Zona Lineal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472464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Zona Lineal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alida: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ingle ended output (ejemplo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alida diferencial: entre colectores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Ganancia Diferencia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Transistores “matched”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unto “A” queda fijo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1017720" y="4191120"/>
                <a:ext cx="302076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+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−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put</m:t>
                        </m:r>
                      </m:sub>
                    </m:sSub>
                    <m:r>
                      <m:t xml:space="preserve">/</m:t>
                    </m:r>
                    <m:r>
                      <m:t xml:space="preserve">2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pu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1087560" y="4648320"/>
                <a:ext cx="2646360" cy="79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utpu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put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806400" y="5562720"/>
                <a:ext cx="3460680" cy="79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≡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pu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pu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put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16" name=""/>
          <p:cNvGrpSpPr/>
          <p:nvPr/>
        </p:nvGrpSpPr>
        <p:grpSpPr>
          <a:xfrm>
            <a:off x="4648320" y="2286000"/>
            <a:ext cx="4419000" cy="3855960"/>
            <a:chOff x="4648320" y="2286000"/>
            <a:chExt cx="4419000" cy="3855960"/>
          </a:xfrm>
        </p:grpSpPr>
        <p:pic>
          <p:nvPicPr>
            <p:cNvPr id="117" name="" descr=""/>
            <p:cNvPicPr/>
            <p:nvPr/>
          </p:nvPicPr>
          <p:blipFill>
            <a:blip r:embed="rId1"/>
            <a:stretch/>
          </p:blipFill>
          <p:spPr>
            <a:xfrm>
              <a:off x="4701960" y="2286000"/>
              <a:ext cx="4289040" cy="385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"/>
            <p:cNvSpPr/>
            <p:nvPr/>
          </p:nvSpPr>
          <p:spPr>
            <a:xfrm>
              <a:off x="4648320" y="3900600"/>
              <a:ext cx="6094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924680" y="3214800"/>
              <a:ext cx="9140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outp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8458200" y="3900600"/>
              <a:ext cx="6091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8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629400" y="4387680"/>
              <a:ext cx="304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mplificador Diferencial Básico:</a:t>
            </a:r>
            <a:br>
              <a:rPr sz="3600"/>
            </a:b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Zona Lineal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42674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3000"/>
          </a:bodyPr>
          <a:p>
            <a:pPr marL="216000" indent="-2160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Zona Linea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68000" indent="-1800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Ganancia Modo Común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68000" indent="-1800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imetría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720000" indent="-1440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Corriente por R es el doble de la que aporta un solo transistor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4495680" y="2286000"/>
            <a:ext cx="4419720" cy="3855960"/>
            <a:chOff x="4495680" y="2286000"/>
            <a:chExt cx="4419720" cy="3855960"/>
          </a:xfrm>
        </p:grpSpPr>
        <p:pic>
          <p:nvPicPr>
            <p:cNvPr id="125" name="" descr=""/>
            <p:cNvPicPr/>
            <p:nvPr/>
          </p:nvPicPr>
          <p:blipFill>
            <a:blip r:embed="rId1"/>
            <a:stretch/>
          </p:blipFill>
          <p:spPr>
            <a:xfrm>
              <a:off x="4549680" y="2286000"/>
              <a:ext cx="4289400" cy="385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"/>
            <p:cNvSpPr/>
            <p:nvPr/>
          </p:nvSpPr>
          <p:spPr>
            <a:xfrm>
              <a:off x="4495680" y="3900600"/>
              <a:ext cx="6098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772400" y="3214800"/>
              <a:ext cx="9144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outp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8305920" y="3900600"/>
              <a:ext cx="6094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8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477120" y="4387680"/>
              <a:ext cx="30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1150920" y="3352680"/>
                <a:ext cx="250668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+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−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put</m:t>
                        </m:r>
                      </m:sub>
                    </m:sSub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pu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1143000" y="3733920"/>
                <a:ext cx="2514600" cy="70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utpu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  <m:r>
                          <m:t xml:space="preserve">R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pu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685800" y="4495680"/>
                <a:ext cx="3505320" cy="73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≡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pu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pu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put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  <m:r>
                          <m:t xml:space="preserve">R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380880" y="5257800"/>
            <a:ext cx="40388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MR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1006560" y="5638680"/>
                <a:ext cx="2997000" cy="8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rPr>
                        <m:lit/>
                        <m:nor/>
                      </m:rPr>
                      <m:t xml:space="preserve">CMRR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R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mplificador Diferencial Básico:</a:t>
            </a:r>
            <a:br>
              <a:rPr sz="3600"/>
            </a:b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Zona Lineal (I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47242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Objetivos: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Ganancia Diferencial “grande” </a:t>
            </a:r>
            <a:br>
              <a:rPr sz="2000"/>
            </a:b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“grande”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Carga Activ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MMR “pequeño”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R “grande”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Fuente de Corrient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4648320" y="2286000"/>
            <a:ext cx="4419000" cy="3855960"/>
            <a:chOff x="4648320" y="2286000"/>
            <a:chExt cx="4419000" cy="3855960"/>
          </a:xfrm>
        </p:grpSpPr>
        <p:pic>
          <p:nvPicPr>
            <p:cNvPr id="138" name="" descr=""/>
            <p:cNvPicPr/>
            <p:nvPr/>
          </p:nvPicPr>
          <p:blipFill>
            <a:blip r:embed="rId1"/>
            <a:stretch/>
          </p:blipFill>
          <p:spPr>
            <a:xfrm>
              <a:off x="4701960" y="2286000"/>
              <a:ext cx="4289040" cy="385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"/>
            <p:cNvSpPr/>
            <p:nvPr/>
          </p:nvSpPr>
          <p:spPr>
            <a:xfrm>
              <a:off x="4648320" y="3900600"/>
              <a:ext cx="6094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924680" y="3214800"/>
              <a:ext cx="9140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outp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458200" y="3900600"/>
              <a:ext cx="6091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8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629400" y="4387680"/>
              <a:ext cx="304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838080" y="5029200"/>
                <a:ext cx="299736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rPr>
                        <m:lit/>
                        <m:nor/>
                      </m:rPr>
                      <m:t xml:space="preserve">CMRR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R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730080" y="3962520"/>
                <a:ext cx="3461040" cy="79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≡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pu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pu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put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mplificador Diferencial: Zona no lineal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En modo diferencial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A permanece fijo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i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sube “mucho”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BE1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“grande” y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BE2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“chico”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i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E1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“grande” e i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E2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“chica”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Pero existe cota: </a:t>
            </a:r>
            <a:br>
              <a:rPr sz="2000"/>
            </a:b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E1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+ i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E2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= I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“constante”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Relación entre v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y i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No-lineal,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Presenta tramo linea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4419720" y="1676520"/>
            <a:ext cx="4647960" cy="4457520"/>
            <a:chOff x="4419720" y="1676520"/>
            <a:chExt cx="4647960" cy="4457520"/>
          </a:xfrm>
        </p:grpSpPr>
        <p:pic>
          <p:nvPicPr>
            <p:cNvPr id="148" name="" descr=""/>
            <p:cNvPicPr/>
            <p:nvPr/>
          </p:nvPicPr>
          <p:blipFill>
            <a:blip r:embed="rId1"/>
            <a:stretch/>
          </p:blipFill>
          <p:spPr>
            <a:xfrm>
              <a:off x="4572000" y="1676520"/>
              <a:ext cx="4359240" cy="445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4419720" y="3429000"/>
              <a:ext cx="6094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924680" y="2819520"/>
              <a:ext cx="9144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outp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458200" y="3581280"/>
              <a:ext cx="6094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8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629400" y="4191120"/>
              <a:ext cx="304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019920" y="3308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791320" y="3276720"/>
              <a:ext cx="7617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543800" y="2895480"/>
              <a:ext cx="0" cy="260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010280" y="2819520"/>
              <a:ext cx="762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543800" y="32767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10280" y="3276720"/>
              <a:ext cx="7621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924680" y="335268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696080" y="3276720"/>
              <a:ext cx="7621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7T02:28:57Z</dcterms:created>
  <dc:creator>Domingo Morales Lizama</dc:creator>
  <dc:description/>
  <dc:language>en-US</dc:language>
  <cp:lastModifiedBy>Leszek Szczecinski</cp:lastModifiedBy>
  <dcterms:modified xsi:type="dcterms:W3CDTF">2003-08-05T22:36:09Z</dcterms:modified>
  <cp:revision>1169</cp:revision>
  <dc:subject>Amplificadores Diferenciales</dc:subject>
  <dc:title>Clase 16</dc:title>
</cp:coreProperties>
</file>