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8.wmf" ContentType="image/x-wmf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16E75-283A-432E-B357-512958036B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9C0CD-1B16-465A-A530-5DF59FC257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D4A3F-39BA-4751-B6C7-FD86023845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8C177-D26B-4D1A-8447-93EB175F61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0F10-2F0A-470A-849B-A54E2852F5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6CDB-0E08-420E-A821-0C7962CE83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D1CE-42A8-44AB-811B-E5DD120C59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F928-6A7D-49A3-BD00-33F005EF3B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A22C-1A65-4C2B-9B12-7D9E430173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1444-D6CD-44AF-AA37-A2700140DF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88DF-0214-459F-8C53-DADC98010D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0AA01-2A13-4353-A8E8-E91B2D8286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84E8-875A-4A8E-99AB-84C81D10A8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0F07-617D-476C-B6CE-0CD3D943FF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1E72-97D5-4315-B571-1080ADEC42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51E0-AD1D-4D62-929D-7540702070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D692-1773-45A4-8AB0-91A5251102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A4A0F-4D14-4ADE-85FC-F5378F36DF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5C800-69E7-40AA-BF8B-F19C72F2B6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0BC90-907A-4941-B9BD-662F232144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DC151-2440-4690-8885-E61946B95A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232C0-37E2-4918-808B-BE7BC1B454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276E9-28C2-473C-8A6F-CD66B6D842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32626-36A3-4044-8863-C0EA2D37E0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C66D-E548-43ED-9C5A-D5790BDA9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B3C1-374E-4056-A186-BE0B08E1E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Zona no lineal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ital: Transistores con buen Matching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419720" y="1676520"/>
            <a:ext cx="4647960" cy="4457520"/>
            <a:chOff x="4419720" y="1676520"/>
            <a:chExt cx="4647960" cy="445752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4572000" y="1676520"/>
              <a:ext cx="4359240" cy="44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4419720" y="34290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924680" y="2819520"/>
              <a:ext cx="914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458200" y="358128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29400" y="419112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9920" y="3308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91320" y="3276720"/>
              <a:ext cx="761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43800" y="2895480"/>
              <a:ext cx="0" cy="26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10280" y="281952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4380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10280" y="327672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924680" y="33526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696080" y="327672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828800" y="3048120"/>
                <a:ext cx="1319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308240" y="3657600"/>
                <a:ext cx="2349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066680" y="4343400"/>
                <a:ext cx="29386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484280" y="5181480"/>
                <a:ext cx="21319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Zona no lineal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4648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Zon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ineal: Ganancia g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m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6320" y="2583000"/>
            <a:ext cx="7315200" cy="3970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572000" y="4800600"/>
                <a:ext cx="13716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025720" y="4343400"/>
                <a:ext cx="13572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762120" y="3930480"/>
            <a:ext cx="25146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endiente en la zona linea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6172200" y="2819520"/>
            <a:ext cx="2895120" cy="3124080"/>
            <a:chOff x="6172200" y="2819520"/>
            <a:chExt cx="2895120" cy="3124080"/>
          </a:xfrm>
        </p:grpSpPr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6199200" y="2819520"/>
              <a:ext cx="286812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6172200" y="4253040"/>
              <a:ext cx="400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404560" y="3620160"/>
              <a:ext cx="601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647200" y="4253040"/>
              <a:ext cx="400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550640" y="4582080"/>
              <a:ext cx="20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51760" y="3963240"/>
              <a:ext cx="0" cy="32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01640" y="3940200"/>
              <a:ext cx="500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154360" y="3674160"/>
              <a:ext cx="0" cy="18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804080" y="3620160"/>
              <a:ext cx="50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4360" y="3940200"/>
              <a:ext cx="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804080" y="3940200"/>
              <a:ext cx="500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404560" y="3993840"/>
              <a:ext cx="25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254440" y="3940200"/>
              <a:ext cx="501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551480" y="3124080"/>
                <a:ext cx="14126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Ejempl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4419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odo Diferencial Zona 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 permanece Fijo en –0.7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e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2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4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e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2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arg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ímite: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arga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1m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¿Factible?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2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1V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Todos los transistores en activa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2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e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2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e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1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arg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(negativa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ímite (corriente “más negativa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419720" y="2362320"/>
            <a:ext cx="4495680" cy="3859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1722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2286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5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553080" y="58356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- 5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95440" y="5459400"/>
                <a:ext cx="138564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270160" y="5459400"/>
                <a:ext cx="1311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536840" y="5840280"/>
                <a:ext cx="14047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Ejempl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095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Voltaje de Salida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2436840"/>
            <a:ext cx="7238880" cy="40402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486400" y="3068640"/>
            <a:ext cx="33526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mpedancia de Entra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4952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ariación diferencial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olarización: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2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2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nviene tener Corrientes “pequeñas” (Importancia de espejos de corriente Wilson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257800" y="2057400"/>
            <a:ext cx="3878280" cy="3995640"/>
            <a:chOff x="5257800" y="2057400"/>
            <a:chExt cx="3878280" cy="3995640"/>
          </a:xfrm>
        </p:grpSpPr>
        <p:pic>
          <p:nvPicPr>
            <p:cNvPr id="218" name="" descr=""/>
            <p:cNvPicPr/>
            <p:nvPr/>
          </p:nvPicPr>
          <p:blipFill>
            <a:blip r:embed="rId1"/>
            <a:stretch/>
          </p:blipFill>
          <p:spPr>
            <a:xfrm>
              <a:off x="5410080" y="2057400"/>
              <a:ext cx="3726000" cy="39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257800" y="4343400"/>
              <a:ext cx="571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019560" y="3809880"/>
              <a:ext cx="26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829120" y="3733920"/>
              <a:ext cx="571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514920" y="3886200"/>
              <a:ext cx="571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E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29320" y="3886200"/>
              <a:ext cx="571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E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53280" y="3352680"/>
              <a:ext cx="838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/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486400" y="3352680"/>
              <a:ext cx="838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/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05360" y="41911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543800" y="41911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206360" y="3201840"/>
                <a:ext cx="11559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2882880" y="3184560"/>
                <a:ext cx="22226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359000" y="3809880"/>
                <a:ext cx="374652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685800" y="4572000"/>
            <a:ext cx="47242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f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00, T=300 º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1mA 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n(d)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5k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10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n(d)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500k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ejora Adicional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Entrada Diferencial Darlington (h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fe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fe</a:t>
            </a:r>
            <a:r>
              <a:rPr b="0" i="1" lang="es-ES_tradnl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En el ejemplo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n(d)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aumenta en factor 100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Etapa Diferencial F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mpedancia de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8098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Salida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lectores de Q4 y Q2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quivalente paralelo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unto de Ope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 de Polariz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572000" y="1981080"/>
            <a:ext cx="4266720" cy="4152960"/>
            <a:chOff x="4572000" y="1981080"/>
            <a:chExt cx="4266720" cy="4152960"/>
          </a:xfrm>
        </p:grpSpPr>
        <p:pic>
          <p:nvPicPr>
            <p:cNvPr id="235" name="" descr=""/>
            <p:cNvPicPr/>
            <p:nvPr/>
          </p:nvPicPr>
          <p:blipFill>
            <a:blip r:embed="rId1"/>
            <a:stretch/>
          </p:blipFill>
          <p:spPr>
            <a:xfrm>
              <a:off x="4711680" y="1981080"/>
              <a:ext cx="4001760" cy="415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4572000" y="3615120"/>
              <a:ext cx="560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789680" y="3045960"/>
              <a:ext cx="839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278200" y="3755520"/>
              <a:ext cx="560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600600" y="4323600"/>
              <a:ext cx="27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040800" y="3501360"/>
              <a:ext cx="0" cy="42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830920" y="3471840"/>
              <a:ext cx="699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39760" y="3116520"/>
              <a:ext cx="0" cy="2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950160" y="3045960"/>
              <a:ext cx="69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439760" y="3471840"/>
              <a:ext cx="0" cy="35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950160" y="3471840"/>
              <a:ext cx="69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789680" y="3542400"/>
              <a:ext cx="34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79800" y="3471840"/>
              <a:ext cx="698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907920" y="3809880"/>
                <a:ext cx="35607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4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533520" y="4800600"/>
            <a:ext cx="4038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rdenes de Magnitud (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~ 15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mA 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(d)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0.15M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20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(d)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7.5M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Model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(bajas frecuencias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de Transconduct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¡¡¡Parámetros dependen del punto de operación!!!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Voltaj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deal Alta Impedanci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pequeñ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 Corrien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deal Alta Impedanci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pequeñ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mplific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deal Alta Gananci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grand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de-Off: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equeño + etapa de ganancia adicion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457200" y="4159080"/>
            <a:ext cx="5967000" cy="2317680"/>
            <a:chOff x="457200" y="4159080"/>
            <a:chExt cx="5967000" cy="2317680"/>
          </a:xfrm>
        </p:grpSpPr>
        <p:grpSp>
          <p:nvGrpSpPr>
            <p:cNvPr id="253" name=""/>
            <p:cNvGrpSpPr/>
            <p:nvPr/>
          </p:nvGrpSpPr>
          <p:grpSpPr>
            <a:xfrm>
              <a:off x="1533240" y="4476240"/>
              <a:ext cx="453600" cy="205200"/>
              <a:chOff x="1533240" y="4476240"/>
              <a:chExt cx="453600" cy="205200"/>
            </a:xfrm>
          </p:grpSpPr>
          <p:sp>
            <p:nvSpPr>
              <p:cNvPr id="254" name=""/>
              <p:cNvSpPr/>
              <p:nvPr/>
            </p:nvSpPr>
            <p:spPr>
              <a:xfrm>
                <a:off x="1533240" y="4476240"/>
                <a:ext cx="29880" cy="9828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flipV="1">
                <a:off x="1563120" y="4476240"/>
                <a:ext cx="77040" cy="20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1640160" y="4476240"/>
                <a:ext cx="76680" cy="20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flipV="1">
                <a:off x="1717200" y="4476240"/>
                <a:ext cx="77040" cy="20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1794240" y="4476240"/>
                <a:ext cx="77040" cy="20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 flipV="1">
                <a:off x="1871280" y="4476240"/>
                <a:ext cx="77040" cy="20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948680" y="4582800"/>
                <a:ext cx="38160" cy="9828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662760" y="5095080"/>
              <a:ext cx="617040" cy="617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2" name=""/>
            <p:cNvCxnSpPr>
              <a:stCxn id="261" idx="0"/>
              <a:endCxn id="254" idx="0"/>
            </p:cNvCxnSpPr>
            <p:nvPr/>
          </p:nvCxnSpPr>
          <p:spPr>
            <a:xfrm flipH="1" flipV="1" rot="5400000">
              <a:off x="991440" y="4554000"/>
              <a:ext cx="520560" cy="561600"/>
            </a:xfrm>
            <a:prstGeom prst="bentConnector3">
              <a:avLst>
                <a:gd name="adj1" fmla="val 1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63" name=""/>
            <p:cNvCxnSpPr>
              <a:stCxn id="260" idx="0"/>
              <a:endCxn id="264" idx="0"/>
            </p:cNvCxnSpPr>
            <p:nvPr/>
          </p:nvCxnSpPr>
          <p:spPr>
            <a:xfrm flipH="1" rot="16200000">
              <a:off x="2151360" y="4418280"/>
              <a:ext cx="610920" cy="939240"/>
            </a:xfrm>
            <a:prstGeom prst="bentConnector4">
              <a:avLst>
                <a:gd name="adj1" fmla="val -707"/>
                <a:gd name="adj2" fmla="val 99961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265" name=""/>
            <p:cNvGrpSpPr/>
            <p:nvPr/>
          </p:nvGrpSpPr>
          <p:grpSpPr>
            <a:xfrm>
              <a:off x="2823480" y="5198040"/>
              <a:ext cx="205200" cy="453960"/>
              <a:chOff x="2823480" y="5198040"/>
              <a:chExt cx="205200" cy="453960"/>
            </a:xfrm>
          </p:grpSpPr>
          <p:sp>
            <p:nvSpPr>
              <p:cNvPr id="264" name=""/>
              <p:cNvSpPr/>
              <p:nvPr/>
            </p:nvSpPr>
            <p:spPr>
              <a:xfrm rot="5400000">
                <a:off x="2964600" y="5163840"/>
                <a:ext cx="29880" cy="9828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2823480" y="522792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823480" y="5305320"/>
                <a:ext cx="205200" cy="7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2823480" y="538200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823480" y="545904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2823480" y="553644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5400000">
                <a:off x="2853720" y="5583600"/>
                <a:ext cx="38160" cy="9828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72" name=""/>
            <p:cNvCxnSpPr>
              <a:stCxn id="271" idx="0"/>
              <a:endCxn id="261" idx="4"/>
            </p:cNvCxnSpPr>
            <p:nvPr/>
          </p:nvCxnSpPr>
          <p:spPr>
            <a:xfrm flipH="1">
              <a:off x="971280" y="5647680"/>
              <a:ext cx="1946880" cy="65160"/>
            </a:xfrm>
            <a:prstGeom prst="bentConnector4">
              <a:avLst>
                <a:gd name="adj1" fmla="val -110"/>
                <a:gd name="adj2" fmla="val 816111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73" name=""/>
            <p:cNvSpPr/>
            <p:nvPr/>
          </p:nvSpPr>
          <p:spPr>
            <a:xfrm>
              <a:off x="457200" y="4785120"/>
              <a:ext cx="72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7200" y="5640840"/>
              <a:ext cx="72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309040" y="5198040"/>
              <a:ext cx="720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n(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796040" y="4785120"/>
              <a:ext cx="71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96040" y="5508000"/>
              <a:ext cx="71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96040" y="5198040"/>
              <a:ext cx="7185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383120" y="4159080"/>
              <a:ext cx="720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40880" y="5095080"/>
              <a:ext cx="617040" cy="617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1" name=""/>
            <p:cNvCxnSpPr>
              <a:stCxn id="280" idx="0"/>
            </p:cNvCxnSpPr>
            <p:nvPr/>
          </p:nvCxnSpPr>
          <p:spPr>
            <a:xfrm flipH="1" flipV="1" rot="5400000">
              <a:off x="3954240" y="4373640"/>
              <a:ext cx="516600" cy="926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2" name=""/>
            <p:cNvCxnSpPr>
              <a:endCxn id="283" idx="0"/>
            </p:cNvCxnSpPr>
            <p:nvPr/>
          </p:nvCxnSpPr>
          <p:spPr>
            <a:xfrm>
              <a:off x="4678200" y="4582080"/>
              <a:ext cx="1132200" cy="614880"/>
            </a:xfrm>
            <a:prstGeom prst="bentConnector3">
              <a:avLst>
                <a:gd name="adj1" fmla="val 1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284" name=""/>
            <p:cNvGrpSpPr/>
            <p:nvPr/>
          </p:nvGrpSpPr>
          <p:grpSpPr>
            <a:xfrm>
              <a:off x="5704200" y="5198040"/>
              <a:ext cx="205200" cy="453960"/>
              <a:chOff x="5704200" y="5198040"/>
              <a:chExt cx="205200" cy="453960"/>
            </a:xfrm>
          </p:grpSpPr>
          <p:sp>
            <p:nvSpPr>
              <p:cNvPr id="283" name=""/>
              <p:cNvSpPr/>
              <p:nvPr/>
            </p:nvSpPr>
            <p:spPr>
              <a:xfrm rot="5400000">
                <a:off x="5845320" y="5163840"/>
                <a:ext cx="29880" cy="9828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5704200" y="522792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704200" y="5305320"/>
                <a:ext cx="205200" cy="7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5704200" y="538200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704200" y="545904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5704200" y="553644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5400000">
                <a:off x="5734440" y="5583600"/>
                <a:ext cx="38160" cy="9828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91" name=""/>
            <p:cNvCxnSpPr>
              <a:stCxn id="290" idx="0"/>
              <a:endCxn id="280" idx="4"/>
            </p:cNvCxnSpPr>
            <p:nvPr/>
          </p:nvCxnSpPr>
          <p:spPr>
            <a:xfrm flipV="1" rot="10800000">
              <a:off x="3748680" y="5647680"/>
              <a:ext cx="2049840" cy="65160"/>
            </a:xfrm>
            <a:prstGeom prst="bentConnector4">
              <a:avLst>
                <a:gd name="adj1" fmla="val 193"/>
                <a:gd name="adj2" fmla="val 802777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92" name=""/>
            <p:cNvSpPr/>
            <p:nvPr/>
          </p:nvSpPr>
          <p:spPr>
            <a:xfrm>
              <a:off x="3406680" y="5242320"/>
              <a:ext cx="7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704200" y="4785120"/>
              <a:ext cx="72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704200" y="5506560"/>
              <a:ext cx="72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704200" y="5198040"/>
              <a:ext cx="720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4572360" y="5198040"/>
              <a:ext cx="205200" cy="453960"/>
              <a:chOff x="4572360" y="5198040"/>
              <a:chExt cx="205200" cy="453960"/>
            </a:xfrm>
          </p:grpSpPr>
          <p:sp>
            <p:nvSpPr>
              <p:cNvPr id="297" name=""/>
              <p:cNvSpPr/>
              <p:nvPr/>
            </p:nvSpPr>
            <p:spPr>
              <a:xfrm rot="5400000">
                <a:off x="4713480" y="5163840"/>
                <a:ext cx="29880" cy="9828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4572360" y="522792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72360" y="5305320"/>
                <a:ext cx="205200" cy="7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4572360" y="538200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572360" y="545904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4572360" y="5536440"/>
                <a:ext cx="20520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5400000">
                <a:off x="4602600" y="5583600"/>
                <a:ext cx="38160" cy="9828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04" name=""/>
            <p:cNvCxnSpPr>
              <a:stCxn id="297" idx="0"/>
            </p:cNvCxnSpPr>
            <p:nvPr/>
          </p:nvCxnSpPr>
          <p:spPr>
            <a:xfrm flipV="1">
              <a:off x="4678200" y="4581720"/>
              <a:ext cx="1080" cy="61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05" name=""/>
            <p:cNvSpPr/>
            <p:nvPr/>
          </p:nvSpPr>
          <p:spPr>
            <a:xfrm>
              <a:off x="4675680" y="5652360"/>
              <a:ext cx="0" cy="5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641120" y="5198040"/>
              <a:ext cx="720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ut(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86920" y="5198040"/>
              <a:ext cx="822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md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085360" y="5198040"/>
              <a:ext cx="721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12000" y="4313520"/>
              <a:ext cx="2777760" cy="2163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103120" y="4502160"/>
              <a:ext cx="123120" cy="122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103120" y="6098040"/>
              <a:ext cx="123120" cy="12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58520" y="6099840"/>
              <a:ext cx="122760" cy="122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258520" y="4502160"/>
              <a:ext cx="122760" cy="122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7315200" y="5334120"/>
                <a:ext cx="102384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934320" y="3809880"/>
                <a:ext cx="174132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7219800" y="4643280"/>
                <a:ext cx="12495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Efecto Miller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3152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Implica “Multiplicación de Miller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Juntura Colector Base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parece como Filtro Pasabajos para la entra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capacidad está amplificada por la ganancia en voltaj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dea: “Fijar el voltaje del colector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 esta forma no existirá ganancia de voltaj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figuración Cascode: Buffer de corriente a la salida del amplificador emisor comú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838080" y="4659480"/>
            <a:ext cx="1908000" cy="1817280"/>
            <a:chOff x="838080" y="4659480"/>
            <a:chExt cx="1908000" cy="1817280"/>
          </a:xfrm>
        </p:grpSpPr>
        <p:sp>
          <p:nvSpPr>
            <p:cNvPr id="320" name=""/>
            <p:cNvSpPr/>
            <p:nvPr/>
          </p:nvSpPr>
          <p:spPr>
            <a:xfrm>
              <a:off x="838080" y="5308560"/>
              <a:ext cx="1766880" cy="908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191600" y="5373360"/>
              <a:ext cx="14112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180880" y="5373360"/>
              <a:ext cx="14112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686240" y="6022440"/>
              <a:ext cx="141480" cy="129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1615680" y="4919040"/>
              <a:ext cx="311760" cy="129600"/>
              <a:chOff x="1615680" y="4919040"/>
              <a:chExt cx="311760" cy="129600"/>
            </a:xfrm>
          </p:grpSpPr>
          <p:sp>
            <p:nvSpPr>
              <p:cNvPr id="325" name=""/>
              <p:cNvSpPr/>
              <p:nvPr/>
            </p:nvSpPr>
            <p:spPr>
              <a:xfrm>
                <a:off x="1615680" y="4919040"/>
                <a:ext cx="20520" cy="6192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1635840" y="4919040"/>
                <a:ext cx="52920" cy="12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1689120" y="4919040"/>
                <a:ext cx="52560" cy="12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 flipV="1">
                <a:off x="1741680" y="4919040"/>
                <a:ext cx="52920" cy="12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1794960" y="4919040"/>
                <a:ext cx="52920" cy="12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 flipV="1">
                <a:off x="1847880" y="4919040"/>
                <a:ext cx="52920" cy="12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901160" y="4986360"/>
                <a:ext cx="26280" cy="6192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32" name=""/>
            <p:cNvCxnSpPr>
              <a:stCxn id="325" idx="0"/>
              <a:endCxn id="321" idx="0"/>
            </p:cNvCxnSpPr>
            <p:nvPr/>
          </p:nvCxnSpPr>
          <p:spPr>
            <a:xfrm rot="5400000">
              <a:off x="1242720" y="5000400"/>
              <a:ext cx="392400" cy="353880"/>
            </a:xfrm>
            <a:prstGeom prst="bentConnector3">
              <a:avLst>
                <a:gd name="adj1" fmla="val -339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3" name=""/>
            <p:cNvCxnSpPr>
              <a:stCxn id="331" idx="0"/>
              <a:endCxn id="322" idx="0"/>
            </p:cNvCxnSpPr>
            <p:nvPr/>
          </p:nvCxnSpPr>
          <p:spPr>
            <a:xfrm flipH="1" rot="16200000">
              <a:off x="1896120" y="5017680"/>
              <a:ext cx="387360" cy="324360"/>
            </a:xfrm>
            <a:prstGeom prst="bentConnector3">
              <a:avLst>
                <a:gd name="adj1" fmla="val -2046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334" name=""/>
            <p:cNvGrpSpPr/>
            <p:nvPr/>
          </p:nvGrpSpPr>
          <p:grpSpPr>
            <a:xfrm>
              <a:off x="1615680" y="6346800"/>
              <a:ext cx="282240" cy="129960"/>
              <a:chOff x="1615680" y="6346800"/>
              <a:chExt cx="282240" cy="129960"/>
            </a:xfrm>
          </p:grpSpPr>
          <p:sp>
            <p:nvSpPr>
              <p:cNvPr id="335" name=""/>
              <p:cNvSpPr/>
              <p:nvPr/>
            </p:nvSpPr>
            <p:spPr>
              <a:xfrm>
                <a:off x="1615680" y="6346800"/>
                <a:ext cx="28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686240" y="6411600"/>
                <a:ext cx="140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717200" y="6476760"/>
                <a:ext cx="7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1756800" y="6087600"/>
              <a:ext cx="0" cy="25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62160" y="5281200"/>
              <a:ext cx="49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251800" y="5281200"/>
              <a:ext cx="494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1615680" y="4659480"/>
                  <a:ext cx="223560" cy="20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2" name=""/>
          <p:cNvGrpSpPr/>
          <p:nvPr/>
        </p:nvGrpSpPr>
        <p:grpSpPr>
          <a:xfrm>
            <a:off x="3606840" y="4724280"/>
            <a:ext cx="4775040" cy="1752480"/>
            <a:chOff x="3606840" y="4724280"/>
            <a:chExt cx="4775040" cy="1752480"/>
          </a:xfrm>
        </p:grpSpPr>
        <p:grpSp>
          <p:nvGrpSpPr>
            <p:cNvPr id="343" name=""/>
            <p:cNvGrpSpPr/>
            <p:nvPr/>
          </p:nvGrpSpPr>
          <p:grpSpPr>
            <a:xfrm>
              <a:off x="3606840" y="5308560"/>
              <a:ext cx="4775040" cy="1168200"/>
              <a:chOff x="3606840" y="5308560"/>
              <a:chExt cx="4775040" cy="1168200"/>
            </a:xfrm>
          </p:grpSpPr>
          <p:sp>
            <p:nvSpPr>
              <p:cNvPr id="344" name=""/>
              <p:cNvSpPr/>
              <p:nvPr/>
            </p:nvSpPr>
            <p:spPr>
              <a:xfrm>
                <a:off x="5066640" y="5308560"/>
                <a:ext cx="1766160" cy="908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420160" y="5373000"/>
                <a:ext cx="141120" cy="129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409440" y="5373000"/>
                <a:ext cx="141120" cy="129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914440" y="6022440"/>
                <a:ext cx="141480" cy="129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5844240" y="6346800"/>
                <a:ext cx="282240" cy="129960"/>
                <a:chOff x="5844240" y="6346800"/>
                <a:chExt cx="282240" cy="12996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5844240" y="6346800"/>
                  <a:ext cx="282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914800" y="6411600"/>
                  <a:ext cx="140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5945760" y="6476760"/>
                  <a:ext cx="70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2" name=""/>
              <p:cNvSpPr/>
              <p:nvPr/>
            </p:nvSpPr>
            <p:spPr>
              <a:xfrm>
                <a:off x="5985360" y="6087600"/>
                <a:ext cx="0" cy="25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53" name=""/>
              <p:cNvCxnSpPr>
                <a:endCxn id="345" idx="2"/>
              </p:cNvCxnSpPr>
              <p:nvPr/>
            </p:nvCxnSpPr>
            <p:spPr>
              <a:xfrm>
                <a:off x="4642560" y="5437800"/>
                <a:ext cx="777960" cy="108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54" name=""/>
              <p:cNvCxnSpPr>
                <a:stCxn id="355" idx="0"/>
                <a:endCxn id="347" idx="2"/>
              </p:cNvCxnSpPr>
              <p:nvPr/>
            </p:nvCxnSpPr>
            <p:spPr>
              <a:xfrm flipH="1" rot="16200000">
                <a:off x="5277960" y="5452200"/>
                <a:ext cx="1800" cy="1271880"/>
              </a:xfrm>
              <a:prstGeom prst="bentConnector4">
                <a:avLst>
                  <a:gd name="adj1" fmla="val -300000"/>
                  <a:gd name="adj2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356" name=""/>
              <p:cNvGrpSpPr/>
              <p:nvPr/>
            </p:nvGrpSpPr>
            <p:grpSpPr>
              <a:xfrm>
                <a:off x="4572360" y="5605920"/>
                <a:ext cx="141120" cy="286200"/>
                <a:chOff x="4572360" y="5605920"/>
                <a:chExt cx="141120" cy="286200"/>
              </a:xfrm>
            </p:grpSpPr>
            <p:sp>
              <p:nvSpPr>
                <p:cNvPr id="357" name=""/>
                <p:cNvSpPr/>
                <p:nvPr/>
              </p:nvSpPr>
              <p:spPr>
                <a:xfrm rot="5400000">
                  <a:off x="4670280" y="5581440"/>
                  <a:ext cx="18720" cy="6768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V="1">
                  <a:off x="4572360" y="5624280"/>
                  <a:ext cx="14112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4572360" y="5673600"/>
                  <a:ext cx="141120" cy="4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V="1">
                  <a:off x="4572360" y="5721480"/>
                  <a:ext cx="14112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4572360" y="5770800"/>
                  <a:ext cx="14112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V="1">
                  <a:off x="4572360" y="5819040"/>
                  <a:ext cx="14112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rot="5400000">
                  <a:off x="4594320" y="5846040"/>
                  <a:ext cx="24120" cy="6768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64" name=""/>
              <p:cNvCxnSpPr>
                <a:stCxn id="357" idx="0"/>
              </p:cNvCxnSpPr>
              <p:nvPr/>
            </p:nvCxnSpPr>
            <p:spPr>
              <a:xfrm flipV="1">
                <a:off x="4642560" y="5437800"/>
                <a:ext cx="1080" cy="165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65" name=""/>
              <p:cNvSpPr/>
              <p:nvPr/>
            </p:nvSpPr>
            <p:spPr>
              <a:xfrm>
                <a:off x="4637160" y="5892840"/>
                <a:ext cx="5400" cy="19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420160" y="5346000"/>
                <a:ext cx="494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i="1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408000" y="5346000"/>
                <a:ext cx="495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i="1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68" name=""/>
                  <p:cNvSpPr txBox="1"/>
                  <p:nvPr/>
                </p:nvSpPr>
                <p:spPr>
                  <a:xfrm>
                    <a:off x="3606840" y="5501520"/>
                    <a:ext cx="894600" cy="532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69" name=""/>
              <p:cNvGrpSpPr/>
              <p:nvPr/>
            </p:nvGrpSpPr>
            <p:grpSpPr>
              <a:xfrm>
                <a:off x="7257240" y="5605920"/>
                <a:ext cx="141120" cy="286200"/>
                <a:chOff x="7257240" y="5605920"/>
                <a:chExt cx="141120" cy="286200"/>
              </a:xfrm>
            </p:grpSpPr>
            <p:sp>
              <p:nvSpPr>
                <p:cNvPr id="370" name=""/>
                <p:cNvSpPr/>
                <p:nvPr/>
              </p:nvSpPr>
              <p:spPr>
                <a:xfrm rot="5400000">
                  <a:off x="7355160" y="5581440"/>
                  <a:ext cx="18720" cy="6768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V="1">
                  <a:off x="7257240" y="5624280"/>
                  <a:ext cx="14112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257240" y="5673600"/>
                  <a:ext cx="141120" cy="4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flipV="1">
                  <a:off x="7257240" y="5721480"/>
                  <a:ext cx="14112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257240" y="5770800"/>
                  <a:ext cx="14112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flipV="1">
                  <a:off x="7257240" y="5819040"/>
                  <a:ext cx="14112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rot="5400000">
                  <a:off x="7279200" y="5846040"/>
                  <a:ext cx="24120" cy="6768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77" name=""/>
              <p:cNvCxnSpPr>
                <a:stCxn id="370" idx="0"/>
              </p:cNvCxnSpPr>
              <p:nvPr/>
            </p:nvCxnSpPr>
            <p:spPr>
              <a:xfrm flipV="1">
                <a:off x="7327440" y="5437800"/>
                <a:ext cx="1080" cy="165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78" name=""/>
              <p:cNvSpPr/>
              <p:nvPr/>
            </p:nvSpPr>
            <p:spPr>
              <a:xfrm>
                <a:off x="7322040" y="5892840"/>
                <a:ext cx="5760" cy="19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80000" y="5438160"/>
                <a:ext cx="847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985360" y="6087600"/>
                <a:ext cx="1342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81" name=""/>
                  <p:cNvSpPr txBox="1"/>
                  <p:nvPr/>
                </p:nvSpPr>
                <p:spPr>
                  <a:xfrm>
                    <a:off x="7469280" y="5463720"/>
                    <a:ext cx="912600" cy="532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ZK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82" name=""/>
                <p:cNvSpPr txBox="1"/>
                <p:nvPr/>
              </p:nvSpPr>
              <p:spPr>
                <a:xfrm>
                  <a:off x="5632200" y="4724280"/>
                  <a:ext cx="633960" cy="58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≡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2847960" y="5445000"/>
                <a:ext cx="609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figuracion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4800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pacidad de transición en juntura base-colector ~ pF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voltaje~ 100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pacitancia de Miller ~ 10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-10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recuencia de corte Filtro pasabajos de entrada ~ 10 MHz (incluye efecto Miller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028840" y="1905120"/>
            <a:ext cx="3809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scod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lector de Q1 “fijo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de voltaje mínim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hay efecto multiplicación de Miller: Frecuencia de corte may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143000" y="3857760"/>
            <a:ext cx="3124080" cy="269532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5943600" y="3733920"/>
            <a:ext cx="26892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cho de Banda: Cascode v/s Norma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76320" y="1828800"/>
            <a:ext cx="8321400" cy="453708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76320" y="1866960"/>
            <a:ext cx="8321400" cy="45021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693432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0000"/>
                </a:solidFill>
                <a:latin typeface="Times New Roman"/>
              </a:rPr>
              <a:t>Cas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648320" y="3276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6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Amplificadores Diferenciale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plicación Digital: Familia EC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dores Diferenci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 sólo se usan en amplific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an lugar a familia lógica de alta velocidad: EC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amilia Lógica Acoplada por Emisor (ECL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los transistores del par diferencial nunca están saturados la conmutación es a alta velocidad (del orden de 1 ns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sto: disipación de pote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es tan famosa como CMOS o TTL, pero en interfaces de transceivers de fibra óptica es la solución (Gigabit Ethernet, ATM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s típicos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amilia ECL 10K (10XXX): 2 n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amilia ECL 100K (100XXX): 0.75n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amilia  ECLinPS : </a:t>
            </a:r>
            <a:r>
              <a:rPr b="0" i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traso máximo de 0.5ns!!!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amilia Lógica ECL 10K: Característ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0" y="1752480"/>
            <a:ext cx="6095880" cy="4191120"/>
            <a:chOff x="0" y="1752480"/>
            <a:chExt cx="6095880" cy="4191120"/>
          </a:xfrm>
        </p:grpSpPr>
        <p:pic>
          <p:nvPicPr>
            <p:cNvPr id="398" name="" descr=""/>
            <p:cNvPicPr/>
            <p:nvPr/>
          </p:nvPicPr>
          <p:blipFill>
            <a:blip r:embed="rId1"/>
            <a:stretch/>
          </p:blipFill>
          <p:spPr>
            <a:xfrm>
              <a:off x="0" y="1752480"/>
              <a:ext cx="609588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5243400" y="3930480"/>
              <a:ext cx="85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43400" y="2727720"/>
              <a:ext cx="85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N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2209680" y="5638680"/>
            <a:ext cx="1122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EE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5.2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146400" y="2522520"/>
            <a:ext cx="1508040" cy="307836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211560" y="1906560"/>
            <a:ext cx="1508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Referencia de voltaje es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676520" y="2658960"/>
            <a:ext cx="1295280" cy="2941920"/>
          </a:xfrm>
          <a:prstGeom prst="rect">
            <a:avLst/>
          </a:prstGeom>
          <a:noFill/>
          <a:ln w="255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049400" y="1906560"/>
            <a:ext cx="222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3333cc"/>
                </a:solidFill>
                <a:latin typeface="Times New Roman"/>
              </a:rPr>
              <a:t>Amplificador Diferencial </a:t>
            </a:r>
            <a:br>
              <a:rPr sz="1400"/>
            </a:br>
            <a:r>
              <a:rPr b="1" i="1" lang="es-ES_tradnl" sz="1400" spc="-1" strike="noStrike">
                <a:solidFill>
                  <a:srgbClr val="3333cc"/>
                </a:solidFill>
                <a:latin typeface="Times New Roman"/>
              </a:rPr>
              <a:t>“no-saturabl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31760" y="4095720"/>
            <a:ext cx="45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049400" y="4095720"/>
            <a:ext cx="45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095880" y="1752480"/>
            <a:ext cx="3048120" cy="34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Características: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elocidad a costa de disipación de potencia: los transistores del par diferencial nunca están saturados, así hay una conmutación de mayor velocidad (t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almacenamiento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pequeño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Ventajas: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uido provocado por variaciones en la alimentación aparece como modo común por lo que es despreciable (es importante que los colectores vayan a la “tierra” menos ruidos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amilia Lógica ECL 10K: Polariz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324480" y="1828800"/>
            <a:ext cx="2819520" cy="36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olarización: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e desprecia la corriente base. El arreglo formado por Q4-D1-D2 es una referencia de voltaje estable (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compruébelo!!!(*)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 que fija un voltaje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en el emisor de Q4. La polarización del par diferencial está fija (corriente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) y puede ser conmutada cuando los voltajes de entrada difieren de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en algunos cientos de milivolts. Note que los transistores Q1-Q3 y Q2 nunca se saturan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0" y="1676520"/>
            <a:ext cx="6324480" cy="4190760"/>
            <a:chOff x="0" y="1676520"/>
            <a:chExt cx="6324480" cy="4190760"/>
          </a:xfrm>
        </p:grpSpPr>
        <p:pic>
          <p:nvPicPr>
            <p:cNvPr id="412" name="" descr=""/>
            <p:cNvPicPr/>
            <p:nvPr/>
          </p:nvPicPr>
          <p:blipFill>
            <a:blip r:embed="rId1"/>
            <a:stretch/>
          </p:blipFill>
          <p:spPr>
            <a:xfrm>
              <a:off x="0" y="1676520"/>
              <a:ext cx="6324480" cy="41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5440320" y="3854160"/>
              <a:ext cx="884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9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40320" y="2651400"/>
              <a:ext cx="884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900" spc="-1" strike="noStrike">
                  <a:solidFill>
                    <a:srgbClr val="000000"/>
                  </a:solidFill>
                  <a:latin typeface="Times New Roman"/>
                </a:rPr>
                <a:t>N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2789280" y="5526000"/>
            <a:ext cx="952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0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=-5.2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29120" y="2995560"/>
            <a:ext cx="9507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0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= 0,64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741840" y="3198960"/>
            <a:ext cx="0" cy="20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789280" y="4022640"/>
            <a:ext cx="952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= -1.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36440" y="402264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7560" y="402264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19720" y="3746520"/>
            <a:ext cx="952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000" spc="-1" strike="noStrike" baseline="-25000">
                <a:solidFill>
                  <a:srgbClr val="000000"/>
                </a:solidFill>
                <a:latin typeface="Times New Roman"/>
              </a:rPr>
              <a:t>BB </a:t>
            </a: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= -0.5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556160" y="4637160"/>
            <a:ext cx="952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0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= 0,65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829040" y="4910040"/>
            <a:ext cx="0" cy="20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448000" y="4637160"/>
            <a:ext cx="952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000" spc="-1" strike="noStrike" baseline="-25000">
                <a:solidFill>
                  <a:srgbClr val="000000"/>
                </a:solidFill>
                <a:latin typeface="Times New Roman"/>
              </a:rPr>
              <a:t>6 </a:t>
            </a: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= 4,12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48000" y="4703760"/>
            <a:ext cx="0" cy="20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28600" y="5896080"/>
            <a:ext cx="731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(*) compruébelo: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suma una variación en algún parámetro del arreglo y muestre que la configuración se opone al cambio... ¡¡¡Retroalimentación negativa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552760" y="3489480"/>
            <a:ext cx="952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000" spc="-1" strike="noStrike" baseline="-25000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= -0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143000" y="3565440"/>
            <a:ext cx="952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000" spc="-1" strike="noStrike" baseline="-25000">
                <a:solidFill>
                  <a:srgbClr val="000000"/>
                </a:solidFill>
                <a:latin typeface="Times New Roman"/>
              </a:rPr>
              <a:t>NOR </a:t>
            </a: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= -0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amilia Lógica ECL 10K: Oper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324480" y="1676520"/>
            <a:ext cx="281952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Funcionamiento: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ferencia de voltaje (emisor de Q4) se usa como una de las entradas del amplificador diferencial. Las otras entradas A y B se comparan con ésta.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te que el circuito posee dos entradas A y B en una configuración lógica NOR. Basta una diferencia de algunos cientos de milivolts para que la corriente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ircule sólo a través de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o sólo a través de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. Al superarse esta diferencia la salida varía en unos 0,5 Volts adicion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0" y="1752480"/>
            <a:ext cx="6324120" cy="4267080"/>
            <a:chOff x="0" y="1752480"/>
            <a:chExt cx="6324120" cy="4267080"/>
          </a:xfrm>
        </p:grpSpPr>
        <p:grpSp>
          <p:nvGrpSpPr>
            <p:cNvPr id="432" name=""/>
            <p:cNvGrpSpPr/>
            <p:nvPr/>
          </p:nvGrpSpPr>
          <p:grpSpPr>
            <a:xfrm>
              <a:off x="0" y="1752480"/>
              <a:ext cx="6324120" cy="4267080"/>
              <a:chOff x="0" y="1752480"/>
              <a:chExt cx="6324120" cy="4267080"/>
            </a:xfrm>
          </p:grpSpPr>
          <p:pic>
            <p:nvPicPr>
              <p:cNvPr id="43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1752480"/>
                <a:ext cx="6324120" cy="426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"/>
              <p:cNvSpPr/>
              <p:nvPr/>
            </p:nvSpPr>
            <p:spPr>
              <a:xfrm>
                <a:off x="5439960" y="3970080"/>
                <a:ext cx="883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900" spc="-1" strike="noStrike">
                    <a:solidFill>
                      <a:srgbClr val="000000"/>
                    </a:solidFill>
                    <a:latin typeface="Times New Roman"/>
                  </a:rPr>
                  <a:t>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439960" y="2745360"/>
                <a:ext cx="883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900" spc="-1" strike="noStrike">
                    <a:solidFill>
                      <a:srgbClr val="000000"/>
                    </a:solidFill>
                    <a:latin typeface="Times New Roman"/>
                  </a:rPr>
                  <a:t>N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2788560" y="5672520"/>
              <a:ext cx="95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0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=-5.2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28400" y="3096000"/>
              <a:ext cx="9507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000" spc="-1" strike="noStrike" baseline="-25000">
                  <a:solidFill>
                    <a:srgbClr val="000000"/>
                  </a:solidFill>
                  <a:latin typeface="Times New Roman"/>
                </a:rPr>
                <a:t>4 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= 0,64m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740760" y="3302280"/>
              <a:ext cx="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788560" y="4141080"/>
              <a:ext cx="95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0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= -1.2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6440" y="4141080"/>
              <a:ext cx="475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087200" y="4141080"/>
              <a:ext cx="476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419360" y="3860640"/>
              <a:ext cx="95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000" spc="-1" strike="noStrike" baseline="-25000">
                  <a:solidFill>
                    <a:srgbClr val="000000"/>
                  </a:solidFill>
                  <a:latin typeface="Times New Roman"/>
                </a:rPr>
                <a:t>BB 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= -0.5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556520" y="4766760"/>
              <a:ext cx="95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000" spc="-1" strike="noStrike" baseline="-25000">
                  <a:solidFill>
                    <a:srgbClr val="000000"/>
                  </a:solidFill>
                  <a:latin typeface="Times New Roman"/>
                </a:rPr>
                <a:t>5 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= 0,65m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828320" y="5045040"/>
              <a:ext cx="0" cy="20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448000" y="4766760"/>
              <a:ext cx="95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000" spc="-1" strike="noStrike" baseline="-25000">
                  <a:solidFill>
                    <a:srgbClr val="000000"/>
                  </a:solidFill>
                  <a:latin typeface="Times New Roman"/>
                </a:rPr>
                <a:t>6 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= 4,12m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448000" y="4835160"/>
              <a:ext cx="0" cy="20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76320" y="5972040"/>
            <a:ext cx="624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Salida: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as dos salidas (colectores del par Q1-Q3 y Q2) tienen buffers (Q5 y Q6) que permiten minimizar los efectos de carg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amilia Lógica ECL 10K: Parámetr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1981080" y="1981080"/>
            <a:ext cx="5638680" cy="4343400"/>
            <a:chOff x="1981080" y="1981080"/>
            <a:chExt cx="5638680" cy="4343400"/>
          </a:xfrm>
        </p:grpSpPr>
        <p:grpSp>
          <p:nvGrpSpPr>
            <p:cNvPr id="450" name=""/>
            <p:cNvGrpSpPr/>
            <p:nvPr/>
          </p:nvGrpSpPr>
          <p:grpSpPr>
            <a:xfrm>
              <a:off x="3047760" y="1981080"/>
              <a:ext cx="3353040" cy="4343400"/>
              <a:chOff x="3047760" y="1981080"/>
              <a:chExt cx="3353040" cy="4343400"/>
            </a:xfrm>
          </p:grpSpPr>
          <p:sp>
            <p:nvSpPr>
              <p:cNvPr id="451" name=""/>
              <p:cNvSpPr/>
              <p:nvPr/>
            </p:nvSpPr>
            <p:spPr>
              <a:xfrm>
                <a:off x="3429000" y="1981080"/>
                <a:ext cx="2590560" cy="838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Anorm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429000" y="3276720"/>
                <a:ext cx="2590560" cy="4572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Noise Margin Hig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429000" y="2819520"/>
                <a:ext cx="259056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429000" y="3733920"/>
                <a:ext cx="259056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Anorm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429000" y="4572000"/>
                <a:ext cx="2590560" cy="4572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Noise Margin Lo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429000" y="5029200"/>
                <a:ext cx="259056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429000" y="5486400"/>
                <a:ext cx="259056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Anorm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7760" y="2819520"/>
                <a:ext cx="335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047760" y="3276720"/>
                <a:ext cx="335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047760" y="3733920"/>
                <a:ext cx="335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047760" y="4572000"/>
                <a:ext cx="335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047760" y="5029200"/>
                <a:ext cx="335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7760" y="5486400"/>
                <a:ext cx="335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1981080" y="2438280"/>
              <a:ext cx="144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HMAX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  -0.8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981080" y="3429000"/>
              <a:ext cx="144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HMIN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  -1.1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981080" y="4267080"/>
              <a:ext cx="144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LMAX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  -1.47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981080" y="5181480"/>
              <a:ext cx="144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LMIN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  -1.8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172200" y="2438280"/>
              <a:ext cx="1447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HMAX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  -0.8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172200" y="2971800"/>
              <a:ext cx="1447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HMIN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  -0.9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172200" y="4724280"/>
              <a:ext cx="1447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LMAX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  -1.6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172200" y="5181480"/>
              <a:ext cx="1447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LMIN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  -1.8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tras Familias EC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amilia 100K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ferenci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-4.5V,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s de propagación menores (~0.75ns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ayor consumo (~40mW contra los 20mW de 10K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iveles lógicos diferent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ositive ECL (PECL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CL tiene buena inmunidad al ruido gracias a alimentarse negativam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n embargo no se puede interconectar con compuertas TTL o CM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dores Diferenci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Zona Lineal: poseen modo diferencial (MD) y común (MC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C: “eliminado” con una fuente de corriente en los emis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diferencial se puede “aumentar”: carga ac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s e impedancias dependen del punto de operación: conviene corriente de polarización pequeña, pero se puede requerir ganancia adicion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fecto Miller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pacidad base-colector aparece como filtro de entrada pasabajos con capacidad amplificada por la ganancia de volt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dea: “Reducir la ganancia de voltaje” mediante “buffer de corriente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figuración Cascode: aumenta el ancho de ban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amilia Lógica EC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Estudiar el funcionamiento de un Amplificador Diferencia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Ver cómo se genera la Familia lógica EC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Motiv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Amplificadores “Estándar”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misor Común, Colector Común y Base Comú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n variaciones en la señal de voltaje respecto a tier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 tierra tiene ruido” este se sumará al nivel de voltaje de entrada al amplificad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r lo tanto se amplifica la “señal útil” y el ruid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hibitivo para señales con razón señal a ruido baj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r la diferencia de la señal de entrada y su referencia: Amplificador Diferenci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guras de Mérit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en “zona lineal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: combinación lineal de las entrad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ñal de Modo Común” afec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da lo mismo: (1000005 y 1000000; 10 y 5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istirá amplificación de “Modo Común” (A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y “Diferencial” (A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define CMRR “Razón de Rechazo en Modo Común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deal: CMRR “grande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terminación de ganancias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 2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181480" y="2057400"/>
            <a:ext cx="3657600" cy="990720"/>
            <a:chOff x="5181480" y="2057400"/>
            <a:chExt cx="3657600" cy="990720"/>
          </a:xfrm>
        </p:grpSpPr>
        <p:sp>
          <p:nvSpPr>
            <p:cNvPr id="99" name=""/>
            <p:cNvSpPr/>
            <p:nvPr/>
          </p:nvSpPr>
          <p:spPr>
            <a:xfrm flipH="1">
              <a:off x="6323760" y="2057400"/>
              <a:ext cx="1676520" cy="9907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AMP Di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56272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638680" y="26668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01000" y="26668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181480" y="2057400"/>
              <a:ext cx="609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57800" y="243828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229600" y="220968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6400800" y="3200400"/>
                <a:ext cx="152388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595840" y="3778200"/>
                <a:ext cx="14828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≡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+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</m:sub>
                            </m:sSub>
                          </m:e>
                        </m:d>
                        <m:r>
                          <m:t xml:space="preserve">/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6129360" y="4692600"/>
                <a:ext cx="1816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6761160" y="5302080"/>
                <a:ext cx="13161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RR</m:t>
                    </m:r>
                    <m:r>
                      <m:t xml:space="preserve">≡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7272360" y="3778200"/>
                <a:ext cx="156672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≡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/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≡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 Básico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Zona Lineal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7246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Zona Line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lida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ngle ended output (ejemplo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 diferencial: entre colector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Diferenci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ransistores “matched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unto “A” queda fij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017720" y="4191120"/>
                <a:ext cx="30207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/</m:t>
                    </m:r>
                    <m:r>
                      <m:t xml:space="preserve">2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087560" y="4648320"/>
                <a:ext cx="26463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pu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806400" y="5562720"/>
                <a:ext cx="346068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6" name=""/>
          <p:cNvGrpSpPr/>
          <p:nvPr/>
        </p:nvGrpSpPr>
        <p:grpSpPr>
          <a:xfrm>
            <a:off x="4648320" y="2286000"/>
            <a:ext cx="4419000" cy="3855960"/>
            <a:chOff x="4648320" y="2286000"/>
            <a:chExt cx="4419000" cy="385596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4701960" y="2286000"/>
              <a:ext cx="4289040" cy="38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4648320" y="39006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24680" y="3214800"/>
              <a:ext cx="91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458200" y="3900600"/>
              <a:ext cx="609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629400" y="438768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 Básico: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Zona Lineal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267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Zona 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Modo Comú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metría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720000" indent="-144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rriente por R es el doble de la que aporta un solo transisto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495680" y="2286000"/>
            <a:ext cx="4419720" cy="3855960"/>
            <a:chOff x="4495680" y="2286000"/>
            <a:chExt cx="4419720" cy="385596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4549680" y="2286000"/>
              <a:ext cx="4289400" cy="38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4495680" y="3900600"/>
              <a:ext cx="609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72400" y="3214800"/>
              <a:ext cx="914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05920" y="39006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477120" y="438768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150920" y="3352680"/>
                <a:ext cx="25066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143000" y="3733920"/>
                <a:ext cx="251460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685800" y="4495680"/>
                <a:ext cx="350532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380880" y="5257800"/>
            <a:ext cx="4038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MR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006560" y="5638680"/>
                <a:ext cx="29970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CMRR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 Básico: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Zona Lineal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724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bjetivos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Diferencial “grande”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“grande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arga Ac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MMR “pequeño”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R “grande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Fuente de Corri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648320" y="2286000"/>
            <a:ext cx="4419000" cy="3855960"/>
            <a:chOff x="4648320" y="2286000"/>
            <a:chExt cx="4419000" cy="3855960"/>
          </a:xfrm>
        </p:grpSpPr>
        <p:pic>
          <p:nvPicPr>
            <p:cNvPr id="138" name="" descr=""/>
            <p:cNvPicPr/>
            <p:nvPr/>
          </p:nvPicPr>
          <p:blipFill>
            <a:blip r:embed="rId1"/>
            <a:stretch/>
          </p:blipFill>
          <p:spPr>
            <a:xfrm>
              <a:off x="4701960" y="2286000"/>
              <a:ext cx="4289040" cy="38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4648320" y="39006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24680" y="3214800"/>
              <a:ext cx="91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58200" y="3900600"/>
              <a:ext cx="609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629400" y="438768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838080" y="5029200"/>
                <a:ext cx="2997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CMRR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730080" y="3962520"/>
                <a:ext cx="346104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Diferencial: Zona no lineal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n modo diferenci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 permanece fij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ube “mucho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E1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“grande” y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E2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“chico”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1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grande” e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2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“chic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ro existe cota: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1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2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“constante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lación entre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y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-lineal,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esenta tramo 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419720" y="1676520"/>
            <a:ext cx="4647960" cy="4457520"/>
            <a:chOff x="4419720" y="1676520"/>
            <a:chExt cx="4647960" cy="445752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4572000" y="1676520"/>
              <a:ext cx="4359240" cy="44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4419720" y="34290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24680" y="2819520"/>
              <a:ext cx="914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458200" y="358128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629400" y="419112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19920" y="3308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91320" y="3276720"/>
              <a:ext cx="761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543800" y="2895480"/>
              <a:ext cx="0" cy="26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10280" y="281952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54380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327672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924680" y="33526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696080" y="327672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Leszek Szczecinski</cp:lastModifiedBy>
  <dcterms:modified xsi:type="dcterms:W3CDTF">2003-08-05T22:36:09Z</dcterms:modified>
  <cp:revision>1169</cp:revision>
  <dc:subject>Amplificadores Diferenciales</dc:subject>
  <dc:title>Clase 16</dc:title>
</cp:coreProperties>
</file>