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5.wmf" ContentType="image/x-wmf"/>
  <Override PartName="/ppt/media/image7.png" ContentType="image/png"/>
  <Override PartName="/ppt/media/image12.png" ContentType="image/png"/>
  <Override PartName="/ppt/media/image9.wmf" ContentType="image/x-wmf"/>
  <Override PartName="/ppt/media/image8.wmf" ContentType="image/x-wmf"/>
  <Override PartName="/ppt/media/image13.png" ContentType="image/png"/>
  <Override PartName="/ppt/media/image30.png" ContentType="image/png"/>
  <Override PartName="/ppt/media/image4.wmf" ContentType="image/x-wmf"/>
  <Override PartName="/ppt/media/image27.wmf" ContentType="image/x-wmf"/>
  <Override PartName="/ppt/media/image3.png" ContentType="image/png"/>
  <Override PartName="/ppt/media/image26.png" ContentType="image/png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17.png" ContentType="image/png"/>
  <Override PartName="/ppt/media/image20.png" ContentType="image/png"/>
  <Override PartName="/ppt/media/image19.png" ContentType="image/png"/>
  <Override PartName="/ppt/media/image18.png" ContentType="image/png"/>
  <Override PartName="/ppt/media/image21.wmf" ContentType="image/x-wmf"/>
  <Override PartName="/ppt/media/image22.png" ContentType="image/png"/>
  <Override PartName="/ppt/media/image23.png" ContentType="image/png"/>
  <Override PartName="/ppt/media/image24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300913" cy="9586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7BF2F-9116-4DD6-B534-8176AA515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8F6D7-F472-4349-8B25-AD5B03FE8C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EE43A-E116-4742-8A1A-256D69DDAE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68FF7-9DCD-45A4-92C0-3BC00CDC0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8105-4633-4FD3-B958-FA0F493EE2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A338-1AAD-4E9A-969A-F33305A7F7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9E52-7848-48DD-8329-9656FEDD0D9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5B03-1557-4795-8CC2-DA6806232E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BEF2-92F5-4C2E-9339-F15120A63F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8446-B715-4B36-A838-52F25AEF83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9967-14D9-45B9-BE48-96DA6E9F4E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76132-496C-4836-946A-78562D33AB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206B-7A4D-4E92-9CF4-CE76ADA54DF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594F-E2E2-4EB5-943C-4388DC6E97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4B35-7655-4FED-A556-654793F03AD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AF6F-3AC3-4AA2-9E1A-5F32A4A8F0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5B8E-AF8F-4402-98AD-A4DA1904AE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04F56-73FD-4DA4-98F1-CC3C8AF67C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63820-B6FE-4615-BF31-5B9CF83660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C2FE9-960A-4C0C-A0BD-263765CDCA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13E62-A369-45A3-A02F-96AB3AAF89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F5CB0-720C-4C13-8DB3-4837AC2C6A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3FFBB-C733-4A91-91A9-16F73FD3E6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1D0CB-67B0-46C2-B6D1-174BDCF7CB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346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7FE7-F673-43B4-AE6D-A446A6549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ldNum" idx="3"/>
          </p:nvPr>
        </p:nvSpPr>
        <p:spPr>
          <a:xfrm>
            <a:off x="8686800" y="6568560"/>
            <a:ext cx="457200" cy="2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C0F6-1B79-4DD9-B5A3-44762D9B8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566040"/>
            <a:ext cx="6961320" cy="0"/>
          </a:xfrm>
          <a:prstGeom prst="line">
            <a:avLst/>
          </a:prstGeom>
          <a:ln w="19080">
            <a:solidFill>
              <a:srgbClr val="2828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543800" y="6108840"/>
          <a:ext cx="43812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43800" y="6108840"/>
                    <a:ext cx="438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151920" y="6573960"/>
            <a:ext cx="5257800" cy="16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1eb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   </a:t>
            </a:r>
            <a:r>
              <a:rPr b="0" i="1" lang="en-US" sz="1200" spc="-1" strike="noStrike">
                <a:solidFill>
                  <a:srgbClr val="001eb1"/>
                </a:solidFill>
                <a:latin typeface="Times New Roman"/>
              </a:rPr>
              <a:t>EL42A Circuitos Electrónicos                   Profesor: Domingo Morales Liz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EL42A Circuitos Electrónicos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Semestre Primavera 2003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Departamento de Ingeniería Eléctric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Característic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315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SFET puede simular una carga: ¡¡¡Gran Integración!!!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: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no permite conmutación “total” (máximo voltaje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2058840"/>
            <a:ext cx="8305920" cy="44942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0" y="2058840"/>
            <a:ext cx="8305920" cy="44942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7010280" y="4038480"/>
            <a:ext cx="2133720" cy="20019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514600" y="5181480"/>
            <a:ext cx="9144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200400" y="5562720"/>
            <a:ext cx="9907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276720" y="2209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52680" y="32767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41911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48769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54100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15000" y="563868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6324480" y="3544920"/>
                <a:ext cx="144792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nversor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76197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99360" indent="-99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oblemas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: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280" indent="-8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Transistor Driver cortado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¡¡¡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= 3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!!!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215280" indent="-8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ara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G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Transistor Driver En saturación o Triode: Pendiente alta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transición poco abrupta (No es bueno para el Noise Margin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25909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33526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81480" y="42670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181480" y="49528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181480" y="548640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5791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7116840" y="2438280"/>
            <a:ext cx="2027160" cy="355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838080" y="3048120"/>
                <a:ext cx="144792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0" y="2548080"/>
            <a:ext cx="7543800" cy="40813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nversor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roblemas Noise Margin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2.8V; 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3.1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1.5V;  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4.5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oblemas con los Noise Margin High: NM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lt; 0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Mal funcionamient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181480" y="259092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181480" y="33526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181480" y="42670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495288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181480" y="5486400"/>
            <a:ext cx="10670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19920" y="5791320"/>
            <a:ext cx="106668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7116840" y="2620800"/>
            <a:ext cx="2027160" cy="3551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838080" y="3048120"/>
                <a:ext cx="1447920" cy="36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nversor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osibles soluciones a los problemas anteri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 no implic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debe a qu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gt; 0 para un dispositivo enhancement. Se usará un depletion (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0)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poco abrupta. Se debe a que tienen corrientes comparables. Idea: La carga Mosfet tendrá un K menor al del Mosfet Driver, o equivalentemente una razón W/L menor (tradeoff implica un (W/L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~ ¼ (W/L)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river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191120" y="4267080"/>
                <a:ext cx="305892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q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rPr>
                        <m:lit/>
                        <m:nor/>
                      </m:rPr>
                      <m:t xml:space="preserve">   </m:t>
                    </m:r>
                    <m:r>
                      <m:t xml:space="preserve">K</m:t>
                    </m:r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x</m:t>
                            </m:r>
                          </m:sub>
                        </m:sSub>
                      </m:den>
                    </m:f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752480" y="4343400"/>
                <a:ext cx="1981440" cy="50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NMOS con Resistencia: </a:t>
            </a:r>
            <a:br>
              <a:rPr sz="3600"/>
            </a:b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rade Off Velocidad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densador C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TOT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pacidad de salida (propia y carga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ción Salida Low – High (L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H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1 en corte (abierto)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carga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on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R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ransición Salida High – Low (H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1 en Triode (cerrado)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resistenci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 tierra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se descarga a un voltaje  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D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(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+ R ) con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= 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OUT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(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+R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ado que R &gt;&gt;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S(on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 la transición L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H toma más tiempo y exige que R sea pequeñ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 pequeño implica Menor Noise Marg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6012000" y="2362320"/>
            <a:ext cx="29797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es CM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CMOS: Complementary MOSFET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Driver N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Carga P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suelven los problemas de los inversores anterio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ipación estática miníma, sólo disipación de potencia dinámic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lta impedancia de entrada y baja impedancia de salid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mplio Noise Margi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tegración VLSI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nmutación en todo el rango lóg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Problema: velocidad (solución GaAsFETs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: Característica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5791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rreglo “similar” al Push Pull analóg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mínimo de “Potencia Estática”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(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es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/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renaj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~ 10 pA/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)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; A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drenaj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~ 0.5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)</a:t>
            </a:r>
            <a:r>
              <a:rPr b="0" i="1" lang="es-ES_tradn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de Potencia en la transi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Análisis Simplificado: Interruptores en Seri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specto Tecnológico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MOS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K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MOS 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ara una relación de aspecto igual (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i se desea simetría, PMOS requiere más “oblea” que N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249960" y="2498760"/>
            <a:ext cx="2817720" cy="35971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943680" y="287964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43680" y="524196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1600200" y="3048120"/>
                <a:ext cx="2573280" cy="4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t</m:t>
                        </m:r>
                      </m:sub>
                    </m:sSub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pA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: Característica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OS como Interruptores Seri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“pequeño” corta al NMOS y activa al P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Voltaje “grande” activa al NMOS y corta al PMO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249960" y="2498760"/>
            <a:ext cx="2817720" cy="35971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1243080" y="4846680"/>
                <a:ext cx="205740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G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861840" y="3505320"/>
                <a:ext cx="138780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938160" y="5989680"/>
                <a:ext cx="25192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1623960" y="4114800"/>
                <a:ext cx="15415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1" name=""/>
          <p:cNvSpPr/>
          <p:nvPr/>
        </p:nvSpPr>
        <p:spPr>
          <a:xfrm>
            <a:off x="6943680" y="287964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-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43680" y="5241960"/>
            <a:ext cx="1143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166760" y="5380200"/>
                <a:ext cx="252108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4854600" y="3733920"/>
                <a:ext cx="222120" cy="2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778280" y="2819520"/>
                <a:ext cx="239760" cy="27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5616720" y="3200400"/>
                <a:ext cx="555480" cy="27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A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7" name=""/>
              <p:cNvSpPr txBox="1"/>
              <p:nvPr/>
            </p:nvSpPr>
            <p:spPr>
              <a:xfrm>
                <a:off x="5311800" y="2209680"/>
                <a:ext cx="371520" cy="3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2471760" y="3505320"/>
                <a:ext cx="149076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u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79" name=""/>
          <p:cNvGrpSpPr/>
          <p:nvPr/>
        </p:nvGrpSpPr>
        <p:grpSpPr>
          <a:xfrm>
            <a:off x="5006520" y="2361960"/>
            <a:ext cx="762480" cy="2596320"/>
            <a:chOff x="5006520" y="2361960"/>
            <a:chExt cx="762480" cy="2596320"/>
          </a:xfrm>
        </p:grpSpPr>
        <p:sp>
          <p:nvSpPr>
            <p:cNvPr id="280" name=""/>
            <p:cNvSpPr/>
            <p:nvPr/>
          </p:nvSpPr>
          <p:spPr>
            <a:xfrm flipV="1">
              <a:off x="5235480" y="236196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5006520" y="2809800"/>
              <a:ext cx="22212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29000" y="363384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5033880" y="4230360"/>
              <a:ext cx="380880" cy="727920"/>
              <a:chOff x="5033880" y="4230360"/>
              <a:chExt cx="380880" cy="72792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5033880" y="4578120"/>
                <a:ext cx="380880" cy="380160"/>
                <a:chOff x="5033880" y="4578120"/>
                <a:chExt cx="380880" cy="3801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5033880" y="4806360"/>
                  <a:ext cx="380880" cy="151920"/>
                  <a:chOff x="5033880" y="4806360"/>
                  <a:chExt cx="380880" cy="15192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>
                    <a:off x="5033880" y="4806360"/>
                    <a:ext cx="3808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>
                    <a:off x="5109840" y="4882320"/>
                    <a:ext cx="228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186160" y="4958280"/>
                    <a:ext cx="75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9" name=""/>
                <p:cNvSpPr/>
                <p:nvPr/>
              </p:nvSpPr>
              <p:spPr>
                <a:xfrm flipV="1">
                  <a:off x="5227560" y="457812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90" name=""/>
              <p:cNvCxnSpPr>
                <a:stCxn id="282" idx="0"/>
                <a:endCxn id="289" idx="0"/>
              </p:cNvCxnSpPr>
              <p:nvPr/>
            </p:nvCxnSpPr>
            <p:spPr>
              <a:xfrm flipH="1">
                <a:off x="5227200" y="4230360"/>
                <a:ext cx="2160" cy="347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lg" type="oval" w="lg"/>
              </a:ln>
            </p:spPr>
          </p:cxnSp>
        </p:grpSp>
        <p:sp>
          <p:nvSpPr>
            <p:cNvPr id="291" name=""/>
            <p:cNvSpPr/>
            <p:nvPr/>
          </p:nvSpPr>
          <p:spPr>
            <a:xfrm>
              <a:off x="5235480" y="350496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235480" y="33526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3" name=""/>
          <p:cNvGraphicFramePr/>
          <p:nvPr/>
        </p:nvGraphicFramePr>
        <p:xfrm>
          <a:off x="4724280" y="5181480"/>
          <a:ext cx="1168560" cy="1004760"/>
        </p:xfrm>
        <a:graphic>
          <a:graphicData uri="http://schemas.openxmlformats.org/drawingml/2006/table">
            <a:tbl>
              <a:tblPr/>
              <a:tblGrid>
                <a:gridCol w="584280"/>
                <a:gridCol w="5842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: Curva de Carg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52280" y="1838160"/>
            <a:ext cx="8686800" cy="471492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152280" y="1838160"/>
            <a:ext cx="8686800" cy="4714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8458200" y="21337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458200" y="4191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4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458200" y="5486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3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458200" y="59785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2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320" y="5486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ff3300"/>
                </a:solidFill>
                <a:latin typeface="Times New Roman"/>
              </a:rPr>
              <a:t>- 3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320" y="57592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ff3300"/>
                </a:solidFill>
                <a:latin typeface="Times New Roman"/>
              </a:rPr>
              <a:t>- 2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60498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ff3300"/>
                </a:solidFill>
                <a:latin typeface="Times New Roman"/>
              </a:rPr>
              <a:t>- 2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838080" y="2013120"/>
            <a:ext cx="1593720" cy="1572120"/>
            <a:chOff x="838080" y="2013120"/>
            <a:chExt cx="1593720" cy="1572120"/>
          </a:xfrm>
        </p:grpSpPr>
        <p:sp>
          <p:nvSpPr>
            <p:cNvPr id="305" name=""/>
            <p:cNvSpPr/>
            <p:nvPr/>
          </p:nvSpPr>
          <p:spPr>
            <a:xfrm>
              <a:off x="847440" y="2394000"/>
              <a:ext cx="152388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4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ff3300"/>
                  </a:solidFill>
                  <a:latin typeface="Times New Roman"/>
                </a:rPr>
                <a:t>-4</a:t>
              </a:r>
              <a:br>
                <a:rPr sz="2400"/>
              </a:br>
              <a:r>
                <a:rPr b="0" i="1" lang="es-ES_tradnl" sz="24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ff3300"/>
                  </a:solidFill>
                  <a:latin typeface="Times New Roman"/>
                </a:rPr>
                <a:t>-3</a:t>
              </a:r>
              <a:br>
                <a:rPr sz="2400"/>
              </a:br>
              <a:r>
                <a:rPr b="0" i="1" lang="es-ES_tradnl" sz="24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i="1" lang="es-ES_tradnl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s-ES_tradnl" sz="2400" spc="-1" strike="noStrike">
                  <a:solidFill>
                    <a:srgbClr val="ff33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06" name=""/>
                <p:cNvSpPr txBox="1"/>
                <p:nvPr/>
              </p:nvSpPr>
              <p:spPr>
                <a:xfrm>
                  <a:off x="838080" y="2013120"/>
                  <a:ext cx="8474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NMOS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07" name=""/>
                <p:cNvSpPr txBox="1"/>
                <p:nvPr/>
              </p:nvSpPr>
              <p:spPr>
                <a:xfrm>
                  <a:off x="1609560" y="2013120"/>
                  <a:ext cx="822240" cy="48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GS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PMOS</m:t>
                              </m:r>
                            </m:sub>
                          </m:sSub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4800600" y="2666880"/>
                <a:ext cx="25210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MOS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4257720" y="6248520"/>
                <a:ext cx="7714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MOS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0" name=""/>
          <p:cNvSpPr/>
          <p:nvPr/>
        </p:nvSpPr>
        <p:spPr>
          <a:xfrm>
            <a:off x="8458200" y="57992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3333cc"/>
                </a:solidFill>
                <a:latin typeface="Times New Roman"/>
              </a:rPr>
              <a:t>2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CM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925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xiste consumo de potencia dinám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02320" indent="-20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 es proporcional a la frecuencia de conmut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2214720"/>
            <a:ext cx="7848720" cy="43383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914400" y="4495680"/>
            <a:ext cx="152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Off); P(Tri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2666880" y="4876560"/>
            <a:ext cx="2819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91320" y="5638680"/>
            <a:ext cx="152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Triode); P(Off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048120" y="449568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SAT)</a:t>
            </a:r>
            <a:br>
              <a:rPr sz="1200"/>
            </a:b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P(Trio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67080" y="487692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SAT)</a:t>
            </a:r>
            <a:br>
              <a:rPr sz="1200"/>
            </a:b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P(S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24080" y="5562720"/>
            <a:ext cx="9144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N(Triode)</a:t>
            </a:r>
            <a:br>
              <a:rPr sz="1200"/>
            </a:b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P(S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7086600" y="1828800"/>
                <a:ext cx="17971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i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</m:t>
                        </m:r>
                      </m:sub>
                    </m:sSub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L</m:t>
                        </m:r>
                        <m:r>
                          <m:t xml:space="preserve">↔</m:t>
                        </m:r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Capítulo II</a:t>
            </a:r>
            <a:br>
              <a:rPr sz="3600"/>
            </a:b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Electrónica Digital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Clase Nº 12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Inversores Lógico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4419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TTL (simplificad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udiaremos su funcionamient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Buscaremos mejora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iveles Lógic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0” lógico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oltaje de entrada “baj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1” lógico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voltaje de entrada “alt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648320" y="2209680"/>
            <a:ext cx="4495320" cy="3809880"/>
            <a:chOff x="4648320" y="2209680"/>
            <a:chExt cx="4495320" cy="3809880"/>
          </a:xfrm>
        </p:grpSpPr>
        <p:pic>
          <p:nvPicPr>
            <p:cNvPr id="324" name="" descr=""/>
            <p:cNvPicPr/>
            <p:nvPr/>
          </p:nvPicPr>
          <p:blipFill>
            <a:blip r:embed="rId1"/>
            <a:stretch/>
          </p:blipFill>
          <p:spPr>
            <a:xfrm>
              <a:off x="4648320" y="2209680"/>
              <a:ext cx="4495320" cy="38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5112720" y="4012920"/>
              <a:ext cx="128520" cy="135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Salida en Corte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TTL (simplificad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égimen Perman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r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en “0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1 saturado, Q2 y Q3 en corte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 Salida en “1”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4008600" y="2225520"/>
            <a:ext cx="5059080" cy="37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Salida Saturad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560" y="2361960"/>
            <a:ext cx="33526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versor TTL (simplificado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égimen Permanente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t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trada en “1”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Q1 en “inversa activa”, Q2 y Q3 en saturación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salida en “0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3733920" y="2362320"/>
            <a:ext cx="524196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Conmutació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talles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versión a “alta velocidad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rítico para Velocidad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Transición  Saturación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Corte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1 ayuda a reducir 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Primero: Q2 y Q3 saturados.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Si una entrada de Q1 cambia a “0” Q1 entra a zona activ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Q1 en activa ayuda a remover los portadores (carga) en exceso en Q2 y Q3 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ógica TTL posee alta velocidad de conmutación 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duce el delay en la respuest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Utiliza “fuente de corriente” para extraer los portadores en exceso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4861080" y="2087640"/>
            <a:ext cx="4054320" cy="3246480"/>
            <a:chOff x="4861080" y="2087640"/>
            <a:chExt cx="4054320" cy="324648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4861080" y="2087640"/>
              <a:ext cx="4054320" cy="32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5280120" y="3624120"/>
              <a:ext cx="115920" cy="1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Limitacion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4114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imitación de Interconex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Q3 en satur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Recibe corrientes de las etapas posteriores: Define Fan-Out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debe salir de Saturación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36120" indent="-219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o debe superar sus ratings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Fan Out depende del nivel de voltaje a la entrada para el “1” lógico. Si el voltaje es “grande” entonces habrá una gran corriente de base en Q3, a medida que el voltaje de “achica” también lo hace la corriente base disminuyendo el fan out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4572000" y="1523880"/>
            <a:ext cx="4054320" cy="3246480"/>
            <a:chOff x="4572000" y="1523880"/>
            <a:chExt cx="4054320" cy="3246480"/>
          </a:xfrm>
        </p:grpSpPr>
        <p:pic>
          <p:nvPicPr>
            <p:cNvPr id="340" name="" descr=""/>
            <p:cNvPicPr/>
            <p:nvPr/>
          </p:nvPicPr>
          <p:blipFill>
            <a:blip r:embed="rId1"/>
            <a:stretch/>
          </p:blipFill>
          <p:spPr>
            <a:xfrm>
              <a:off x="4572000" y="1523880"/>
              <a:ext cx="4054320" cy="32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4991040" y="3060360"/>
              <a:ext cx="115920" cy="1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4572000" y="4842000"/>
            <a:ext cx="4419720" cy="18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Ejemplo Fan-Out “optimista” (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): </a:t>
            </a:r>
            <a:br>
              <a:rPr sz="18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(1.2+N 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1) mA            i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6.5 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ondición de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Saturación: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6.5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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min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&gt; (1.2+N*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r lo tanto N &lt; 1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Básico: Limitacion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4419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nmutación a la salida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pacitancia de carg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lent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sistencia Pull-up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fine constante de tiempo muy alta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arga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condensador se carga desde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E(SAT)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a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C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ducir R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C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no es solución: aumenta disipación de potencia (no permite gran integración) y genera peaks de corrient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Solución: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 Tótem-Po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861080" y="2011320"/>
            <a:ext cx="4054320" cy="3246480"/>
            <a:chOff x="4861080" y="2011320"/>
            <a:chExt cx="4054320" cy="3246480"/>
          </a:xfrm>
        </p:grpSpPr>
        <p:pic>
          <p:nvPicPr>
            <p:cNvPr id="346" name="" descr=""/>
            <p:cNvPicPr/>
            <p:nvPr/>
          </p:nvPicPr>
          <p:blipFill>
            <a:blip r:embed="rId1"/>
            <a:stretch/>
          </p:blipFill>
          <p:spPr>
            <a:xfrm>
              <a:off x="4861080" y="2011320"/>
              <a:ext cx="4054320" cy="32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280120" y="3547800"/>
              <a:ext cx="115920" cy="115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 TTL Mejorado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tapa de Salida Tótem-Pole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3 es “reservorio” de corriente (descarga C)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4 es fuente de corriente (Carga)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2 como “phase-splitter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ción Low </a:t>
            </a:r>
            <a:r>
              <a:rPr b="0" i="1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High rápi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2-Q3 pasan de Saturación a corte. Salida permanece en 0.2 pues no puede cambiar instantáneamente por C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mplican Q4 en saturación, es decir baja impedancia y rápida descarga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Q4 funciona como“Pull-up Activo”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419720" y="2286000"/>
            <a:ext cx="4647960" cy="3473280"/>
            <a:chOff x="4419720" y="2286000"/>
            <a:chExt cx="4647960" cy="3473280"/>
          </a:xfrm>
        </p:grpSpPr>
        <p:pic>
          <p:nvPicPr>
            <p:cNvPr id="351" name="" descr=""/>
            <p:cNvPicPr/>
            <p:nvPr/>
          </p:nvPicPr>
          <p:blipFill>
            <a:blip r:embed="rId1"/>
            <a:stretch/>
          </p:blipFill>
          <p:spPr>
            <a:xfrm>
              <a:off x="4419720" y="2286000"/>
              <a:ext cx="4647960" cy="34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4822920" y="3998880"/>
              <a:ext cx="115920" cy="115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. TTL Mejorado: Curva de transfer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carga: [0, 1mA] incrementos de 100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152280" y="2662200"/>
            <a:ext cx="7010640" cy="385128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2514600" y="2471760"/>
            <a:ext cx="4213080" cy="35481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 flipV="1">
            <a:off x="1752480" y="3580920"/>
            <a:ext cx="0" cy="2590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358128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320" y="3321000"/>
            <a:ext cx="533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280" y="5683320"/>
            <a:ext cx="609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371600" y="61405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57400" y="62485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514600" y="6095520"/>
            <a:ext cx="76320" cy="304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57200" y="5975280"/>
            <a:ext cx="1905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520" y="3429000"/>
            <a:ext cx="1218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. TTL Mejorado: Curva de transferenc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Icarga: [0, 1mA] incrementos de 100</a:t>
            </a:r>
            <a:r>
              <a:rPr b="0" i="1" lang="es-ES_tradnl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152280" y="1784520"/>
            <a:ext cx="8610840" cy="472896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5181480" y="1857240"/>
            <a:ext cx="3886200" cy="32720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 flipV="1">
            <a:off x="1752480" y="3273480"/>
            <a:ext cx="1800" cy="289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320" y="2819520"/>
            <a:ext cx="587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2280" y="5643720"/>
            <a:ext cx="67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371600" y="6100920"/>
            <a:ext cx="8380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09680" y="6172200"/>
            <a:ext cx="8384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2735280" y="5943600"/>
            <a:ext cx="84240" cy="341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22160" y="5865840"/>
            <a:ext cx="209736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57200" y="2967120"/>
            <a:ext cx="1341360" cy="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80880" y="2209680"/>
            <a:ext cx="1143000" cy="57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,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rte</a:t>
            </a:r>
            <a:br>
              <a:rPr sz="1400"/>
            </a:b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s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66880" y="2622600"/>
            <a:ext cx="2743200" cy="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conduce por R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pero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corte.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conduce pero no saturado lo cual hace descender a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4070520"/>
            <a:ext cx="2362320" cy="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aumenta conducción.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se enciende (activa)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y hace bajar rápidamente a v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048120" y="5349960"/>
            <a:ext cx="2438280" cy="57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aumenta conducción.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se satura (activa)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y Q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 se cor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>
            <a:off x="2742840" y="3809880"/>
            <a:ext cx="60948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048120" y="3581280"/>
            <a:ext cx="19810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1400" spc="-1" strike="noStrike">
                <a:solidFill>
                  <a:srgbClr val="000000"/>
                </a:solidFill>
                <a:latin typeface="Times New Roman"/>
              </a:rPr>
              <a:t>Segundo Quiebr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TTL: Parámetros Famili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Voltaj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L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H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V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Corrient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Hmax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Hmax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I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962520" y="1785960"/>
            <a:ext cx="472428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Aplicaciones Digitales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Figuras de Mérito de los Invers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Inversores lógicos básicos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Times New Roman"/>
              </a:rPr>
              <a:t>NMOS, CMOS, TTL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Voltaj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carga: [0, 1mA] incrementos de 100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391520" y="2209680"/>
            <a:ext cx="13716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 3.6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467480" y="2590920"/>
            <a:ext cx="1295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0.2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543800" y="3854520"/>
            <a:ext cx="129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1.2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43800" y="4159080"/>
            <a:ext cx="12952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 = 0.6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76320" y="2286000"/>
            <a:ext cx="8610480" cy="4333320"/>
            <a:chOff x="76320" y="2286000"/>
            <a:chExt cx="8610480" cy="4333320"/>
          </a:xfrm>
        </p:grpSpPr>
        <p:sp>
          <p:nvSpPr>
            <p:cNvPr id="394" name=""/>
            <p:cNvSpPr/>
            <p:nvPr/>
          </p:nvSpPr>
          <p:spPr>
            <a:xfrm>
              <a:off x="7467480" y="2971800"/>
              <a:ext cx="1219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L 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= 0.8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43800" y="3429000"/>
              <a:ext cx="1143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H</a:t>
              </a: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 = 1.4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7696440" cy="422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" descr=""/>
            <p:cNvPicPr/>
            <p:nvPr/>
          </p:nvPicPr>
          <p:blipFill>
            <a:blip r:embed="rId2"/>
            <a:stretch/>
          </p:blipFill>
          <p:spPr>
            <a:xfrm>
              <a:off x="2819520" y="2362320"/>
              <a:ext cx="4213080" cy="35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 flipV="1">
              <a:off x="1752480" y="3580920"/>
              <a:ext cx="0" cy="2590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3520" y="3581280"/>
              <a:ext cx="121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320" y="3321000"/>
              <a:ext cx="5331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2280" y="5683320"/>
              <a:ext cx="609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71600" y="61405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57400" y="6248520"/>
              <a:ext cx="762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6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600" spc="-1" strike="noStrike" baseline="-25000">
                  <a:solidFill>
                    <a:srgbClr val="000000"/>
                  </a:solidFill>
                  <a:latin typeface="Times New Roman"/>
                </a:rPr>
                <a:t>I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2514600" y="6095520"/>
              <a:ext cx="7632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31800" y="5975280"/>
              <a:ext cx="190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33520" y="3429000"/>
              <a:ext cx="1218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 Corriente I</a:t>
            </a:r>
            <a:r>
              <a:rPr b="0" i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0" y="2168640"/>
            <a:ext cx="8077320" cy="43844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562720" y="306216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.4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19920" y="542448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.5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696080" y="5729400"/>
            <a:ext cx="12956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1.6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H="1">
            <a:off x="6476760" y="2057400"/>
            <a:ext cx="106668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334120" y="1828800"/>
            <a:ext cx="3581280" cy="7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ón de mayor exigenci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(justo al bord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4259520" cy="33102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533520" y="5105520"/>
            <a:ext cx="7467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467480" y="4921200"/>
            <a:ext cx="12956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ff3300"/>
                </a:solidFill>
                <a:latin typeface="Times New Roman"/>
              </a:rPr>
              <a:t>OL</a:t>
            </a: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 = 0.2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952880" y="4419360"/>
            <a:ext cx="1600200" cy="685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994200"/>
            <a:ext cx="2286000" cy="76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</a:rPr>
              <a:t>OLMAX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</a:rPr>
              <a:t> define el número de compuertas conectadas a la salida para el estado “low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 Corriente I</a:t>
            </a:r>
            <a:r>
              <a:rPr b="0" i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: Cuando la corriente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toma su máximo valor para voltajes de entrada “low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conjunto con I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LMAX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definen Fan Out Low: Número de “cargas” que puede alimentar el inversor en el estado low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an Out es el mínimo entre Fan Out low y high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886200" cy="380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23" name=""/>
              <p:cNvSpPr txBox="1"/>
              <p:nvPr/>
            </p:nvSpPr>
            <p:spPr>
              <a:xfrm>
                <a:off x="1143000" y="4038480"/>
                <a:ext cx="297180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an Out Low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MA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LMA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m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458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Parámetros Familia TTL: Corriente I</a:t>
            </a:r>
            <a:r>
              <a:rPr b="0" i="1" lang="es-ES_tradnl" sz="3600" spc="-1" strike="noStrike" baseline="-25000">
                <a:solidFill>
                  <a:srgbClr val="000000"/>
                </a:solidFill>
                <a:latin typeface="Times New Roman"/>
              </a:rPr>
              <a:t>OHMAX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0" y="2266920"/>
            <a:ext cx="7924680" cy="4302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685800" y="281952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4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685440" y="3124080"/>
            <a:ext cx="15228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19320" y="320040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5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1142640" y="3505320"/>
            <a:ext cx="76212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124080" y="5653080"/>
            <a:ext cx="22100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 0.8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H="1" flipV="1">
            <a:off x="2742840" y="5181480"/>
            <a:ext cx="762120" cy="533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480" y="5576760"/>
            <a:ext cx="129564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7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1371600" y="48006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286000" y="3747960"/>
            <a:ext cx="12952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=0.6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1905120" y="4114800"/>
            <a:ext cx="83808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" y="4984920"/>
            <a:ext cx="7467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3520" y="1828800"/>
            <a:ext cx="3581280" cy="7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dición de mayor exigencia: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nput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= V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467480" y="4800600"/>
            <a:ext cx="129564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ff3300"/>
                </a:solidFill>
                <a:latin typeface="Times New Roman"/>
              </a:rPr>
              <a:t>OH</a:t>
            </a:r>
            <a:r>
              <a:rPr b="0" i="1" lang="es-ES_tradnl" sz="1600" spc="-1" strike="noStrike">
                <a:solidFill>
                  <a:srgbClr val="ff3300"/>
                </a:solidFill>
                <a:latin typeface="Times New Roman"/>
              </a:rPr>
              <a:t> = 3.6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2"/>
          <a:stretch/>
        </p:blipFill>
        <p:spPr>
          <a:xfrm>
            <a:off x="4038480" y="1574640"/>
            <a:ext cx="373392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Cascada de inversore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0" y="2308320"/>
            <a:ext cx="7848720" cy="4260600"/>
          </a:xfrm>
          <a:prstGeom prst="rect">
            <a:avLst/>
          </a:prstGeom>
          <a:ln w="0">
            <a:noFill/>
          </a:ln>
        </p:spPr>
      </p:pic>
      <p:pic>
        <p:nvPicPr>
          <p:cNvPr id="444" name="" descr=""/>
          <p:cNvPicPr/>
          <p:nvPr/>
        </p:nvPicPr>
        <p:blipFill>
          <a:blip r:embed="rId2"/>
          <a:stretch/>
        </p:blipFill>
        <p:spPr>
          <a:xfrm>
            <a:off x="4500720" y="1484280"/>
            <a:ext cx="464328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Resumen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versores: Figuras de Mérito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versores: Familia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NMOS: alta integración (carga MOSFET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MOS: bajo consumo de potencia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TL (Alta velocidad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ransistor de entrada remueve portadores </a:t>
            </a:r>
            <a:br>
              <a:rPr sz="2000"/>
            </a:b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sde transistores saturados (como fuente de corriente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lida Tótem Pole: Pull up Activo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stante de tiempo pequeña en transición Low -&gt; High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onsumo mínimo en saturación debido que diodo y transistor de carga están cortados.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ango de Voltajes que corresponden al “1” y “0” lógicos (“High y Low”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región de “incerteza” (transición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argen de Ruido (Noise Margin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La velocidad de conmut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iempos de subida y bajad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de Propagació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isipación de potenci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tática y Dinámica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Efectos de carga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 la entrada (fan-in) y Salida (fan-out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05720" y="3124080"/>
            <a:ext cx="99036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4735440"/>
            <a:ext cx="990360" cy="68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120080" y="25909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6" idx="0"/>
            <a:endCxn id="98" idx="4"/>
          </p:cNvCxnSpPr>
          <p:nvPr/>
        </p:nvCxnSpPr>
        <p:spPr>
          <a:xfrm flipH="1" flipV="1">
            <a:off x="7195680" y="2742840"/>
            <a:ext cx="57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7120080" y="41911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96" idx="2"/>
            <a:endCxn id="100" idx="0"/>
          </p:cNvCxnSpPr>
          <p:nvPr/>
        </p:nvCxnSpPr>
        <p:spPr>
          <a:xfrm flipH="1">
            <a:off x="7195680" y="3809520"/>
            <a:ext cx="576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100" idx="4"/>
            <a:endCxn id="97" idx="0"/>
          </p:cNvCxnSpPr>
          <p:nvPr/>
        </p:nvCxnSpPr>
        <p:spPr>
          <a:xfrm>
            <a:off x="7196040" y="4343040"/>
            <a:ext cx="5760" cy="392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8153280" y="419112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0" idx="6"/>
            <a:endCxn id="103" idx="2"/>
          </p:cNvCxnSpPr>
          <p:nvPr/>
        </p:nvCxnSpPr>
        <p:spPr>
          <a:xfrm>
            <a:off x="7272000" y="4266720"/>
            <a:ext cx="881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105" name=""/>
          <p:cNvGrpSpPr/>
          <p:nvPr/>
        </p:nvGrpSpPr>
        <p:grpSpPr>
          <a:xfrm>
            <a:off x="7010280" y="5714640"/>
            <a:ext cx="380880" cy="305280"/>
            <a:chOff x="7010280" y="5714640"/>
            <a:chExt cx="380880" cy="305280"/>
          </a:xfrm>
        </p:grpSpPr>
        <p:sp>
          <p:nvSpPr>
            <p:cNvPr id="106" name=""/>
            <p:cNvSpPr/>
            <p:nvPr/>
          </p:nvSpPr>
          <p:spPr>
            <a:xfrm>
              <a:off x="7010280" y="5867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086600" y="5943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19720" y="60199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7203960" y="5714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10" name=""/>
          <p:cNvCxnSpPr>
            <a:stCxn id="109" idx="0"/>
            <a:endCxn id="97" idx="2"/>
          </p:cNvCxnSpPr>
          <p:nvPr/>
        </p:nvCxnSpPr>
        <p:spPr>
          <a:xfrm flipH="1" flipV="1">
            <a:off x="7200720" y="5420880"/>
            <a:ext cx="3600" cy="294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8229600" y="3962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38880" y="2452680"/>
            <a:ext cx="838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D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9920" y="50068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6"/>
            <a:endCxn id="97" idx="1"/>
          </p:cNvCxnSpPr>
          <p:nvPr/>
        </p:nvCxnSpPr>
        <p:spPr>
          <a:xfrm flipV="1">
            <a:off x="6172200" y="5077800"/>
            <a:ext cx="53424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5638680" y="466236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7848360" cy="430992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6553080" y="2160720"/>
            <a:ext cx="2590920" cy="2957040"/>
            <a:chOff x="6553080" y="2160720"/>
            <a:chExt cx="2590920" cy="2957040"/>
          </a:xfrm>
        </p:grpSpPr>
        <p:sp>
          <p:nvSpPr>
            <p:cNvPr id="119" name=""/>
            <p:cNvSpPr/>
            <p:nvPr/>
          </p:nvSpPr>
          <p:spPr>
            <a:xfrm>
              <a:off x="7359120" y="2717280"/>
              <a:ext cx="748080" cy="568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Carg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9120" y="4053240"/>
              <a:ext cx="748080" cy="568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Dri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72320" y="2275200"/>
              <a:ext cx="114840" cy="12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2" name=""/>
            <p:cNvCxnSpPr>
              <a:stCxn id="119" idx="0"/>
              <a:endCxn id="121" idx="4"/>
            </p:cNvCxnSpPr>
            <p:nvPr/>
          </p:nvCxnSpPr>
          <p:spPr>
            <a:xfrm flipH="1" flipV="1">
              <a:off x="7729560" y="2400840"/>
              <a:ext cx="3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3" name=""/>
            <p:cNvSpPr/>
            <p:nvPr/>
          </p:nvSpPr>
          <p:spPr>
            <a:xfrm>
              <a:off x="7672320" y="3601800"/>
              <a:ext cx="114840" cy="12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2"/>
              <a:endCxn id="123" idx="0"/>
            </p:cNvCxnSpPr>
            <p:nvPr/>
          </p:nvCxnSpPr>
          <p:spPr>
            <a:xfrm flipH="1">
              <a:off x="7729560" y="3285360"/>
              <a:ext cx="3960" cy="31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25" name=""/>
            <p:cNvCxnSpPr>
              <a:stCxn id="123" idx="4"/>
              <a:endCxn id="120" idx="0"/>
            </p:cNvCxnSpPr>
            <p:nvPr/>
          </p:nvCxnSpPr>
          <p:spPr>
            <a:xfrm>
              <a:off x="7729560" y="3728160"/>
              <a:ext cx="3960" cy="325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26" name=""/>
            <p:cNvSpPr/>
            <p:nvPr/>
          </p:nvSpPr>
          <p:spPr>
            <a:xfrm>
              <a:off x="8452800" y="3601800"/>
              <a:ext cx="115200" cy="126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7" name=""/>
            <p:cNvCxnSpPr>
              <a:stCxn id="123" idx="6"/>
              <a:endCxn id="126" idx="2"/>
            </p:cNvCxnSpPr>
            <p:nvPr/>
          </p:nvCxnSpPr>
          <p:spPr>
            <a:xfrm>
              <a:off x="7787160" y="3664440"/>
              <a:ext cx="665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128" name=""/>
            <p:cNvGrpSpPr/>
            <p:nvPr/>
          </p:nvGrpSpPr>
          <p:grpSpPr>
            <a:xfrm>
              <a:off x="7589160" y="4865040"/>
              <a:ext cx="288000" cy="252720"/>
              <a:chOff x="7589160" y="4865040"/>
              <a:chExt cx="288000" cy="252720"/>
            </a:xfrm>
          </p:grpSpPr>
          <p:sp>
            <p:nvSpPr>
              <p:cNvPr id="129" name=""/>
              <p:cNvSpPr/>
              <p:nvPr/>
            </p:nvSpPr>
            <p:spPr>
              <a:xfrm>
                <a:off x="7589160" y="4991040"/>
                <a:ext cx="28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646760" y="5054400"/>
                <a:ext cx="172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671600" y="5117760"/>
                <a:ext cx="115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7735320" y="4865040"/>
                <a:ext cx="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33" name=""/>
            <p:cNvCxnSpPr>
              <a:stCxn id="132" idx="0"/>
              <a:endCxn id="120" idx="2"/>
            </p:cNvCxnSpPr>
            <p:nvPr/>
          </p:nvCxnSpPr>
          <p:spPr>
            <a:xfrm flipH="1" flipV="1">
              <a:off x="7733160" y="4621320"/>
              <a:ext cx="2880" cy="24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4" name=""/>
            <p:cNvSpPr/>
            <p:nvPr/>
          </p:nvSpPr>
          <p:spPr>
            <a:xfrm>
              <a:off x="8510760" y="341064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763400" y="2160720"/>
              <a:ext cx="63324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200" spc="-1" strike="noStrike" baseline="-25000">
                  <a:solidFill>
                    <a:srgbClr val="000000"/>
                  </a:solidFill>
                  <a:latin typeface="Times New Roman"/>
                </a:rPr>
                <a:t>D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41080" y="4278240"/>
              <a:ext cx="114840" cy="12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7" name=""/>
            <p:cNvCxnSpPr>
              <a:stCxn id="136" idx="6"/>
              <a:endCxn id="120" idx="1"/>
            </p:cNvCxnSpPr>
            <p:nvPr/>
          </p:nvCxnSpPr>
          <p:spPr>
            <a:xfrm flipV="1">
              <a:off x="6955560" y="4337640"/>
              <a:ext cx="40356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" name=""/>
            <p:cNvSpPr/>
            <p:nvPr/>
          </p:nvSpPr>
          <p:spPr>
            <a:xfrm>
              <a:off x="6553080" y="3992400"/>
              <a:ext cx="63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581280" y="2355840"/>
            <a:ext cx="99072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03800" y="4892760"/>
            <a:ext cx="99072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4120" y="2693880"/>
            <a:ext cx="160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Pendiente = 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4114440" y="2617560"/>
            <a:ext cx="11430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715000" y="3151080"/>
            <a:ext cx="533520" cy="198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2639880"/>
            <a:ext cx="32767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5164200"/>
            <a:ext cx="487692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14800" y="2617920"/>
            <a:ext cx="0" cy="31240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15000" y="5208480"/>
            <a:ext cx="0" cy="53352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246528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90392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33920" y="5715000"/>
            <a:ext cx="761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81480" y="5715000"/>
            <a:ext cx="762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38480" y="1857240"/>
            <a:ext cx="18288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de Transición</a:t>
            </a:r>
            <a:br>
              <a:rPr sz="1600"/>
            </a:b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(“incertidumbre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14800" y="251460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1981080"/>
            <a:ext cx="1828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“High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43828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019920" y="59878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Zona “Low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15000" y="601992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752480" y="3276720"/>
                <a:ext cx="17528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endiente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u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put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3505320" y="365760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II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601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ango de voltajes asociados a High y Low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ientras la transición por la zona de saturación sea más rápida se tendrá un NM mejo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Interconexión de compuert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debe cumplir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g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&lt;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aso contrario: “Error Lógico”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uido Provoca Errores Lógico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Tolerancia a Error: Noise Margin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H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N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I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OL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952880" y="2590920"/>
            <a:ext cx="4191120" cy="3812400"/>
            <a:chOff x="4952880" y="2590920"/>
            <a:chExt cx="4191120" cy="3812400"/>
          </a:xfrm>
        </p:grpSpPr>
        <p:sp>
          <p:nvSpPr>
            <p:cNvPr id="163" name=""/>
            <p:cNvSpPr/>
            <p:nvPr/>
          </p:nvSpPr>
          <p:spPr>
            <a:xfrm flipV="1">
              <a:off x="5638680" y="274320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8381880" y="274320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63" idx="0"/>
              <a:endCxn id="164" idx="0"/>
            </p:cNvCxnSpPr>
            <p:nvPr/>
          </p:nvCxnSpPr>
          <p:spPr>
            <a:xfrm>
              <a:off x="5638680" y="5866920"/>
              <a:ext cx="2743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6" name=""/>
            <p:cNvSpPr/>
            <p:nvPr/>
          </p:nvSpPr>
          <p:spPr>
            <a:xfrm>
              <a:off x="5562720" y="3200400"/>
              <a:ext cx="152280" cy="4572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62720" y="5257800"/>
              <a:ext cx="152280" cy="30492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05920" y="3429000"/>
              <a:ext cx="152280" cy="685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05920" y="4648320"/>
              <a:ext cx="152280" cy="9144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952880" y="351936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52880" y="502920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05920" y="391464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05920" y="441972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15000" y="36576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781680" y="411480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781680" y="4648320"/>
              <a:ext cx="1524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15000" y="525780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48520" y="473868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M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34320" y="3733920"/>
              <a:ext cx="761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NM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858000" y="36576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7086600" y="464796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8680" y="259092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96080" y="2590920"/>
              <a:ext cx="762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52880" y="5881680"/>
              <a:ext cx="1447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Salida Compuerta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48720" y="588312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0000"/>
                  </a:solidFill>
                  <a:latin typeface="Times New Roman"/>
                </a:rPr>
                <a:t>Entrada Compuerta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Figuras de Mérito en Inversores (IV)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2475000"/>
            <a:ext cx="7543800" cy="40939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7391520" y="3429000"/>
            <a:ext cx="0" cy="2438280"/>
          </a:xfrm>
          <a:prstGeom prst="line">
            <a:avLst/>
          </a:prstGeom>
          <a:ln w="1908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7200" y="4648320"/>
            <a:ext cx="6934320" cy="0"/>
          </a:xfrm>
          <a:prstGeom prst="line">
            <a:avLst/>
          </a:prstGeom>
          <a:ln w="1908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848720" y="3429000"/>
            <a:ext cx="0" cy="26668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33520" y="4800600"/>
            <a:ext cx="7315200" cy="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48769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495288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4876920"/>
            <a:ext cx="91440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315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Retrasos de propag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trasos en transición High-Low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HL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 y Low-High (t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LH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e miden con respecto al 50% de las máximas excursiones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Inversores Lógicos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Diversas Posibilidad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ecnologías (BJT-TTL, CMOS, NMOS, BiCMOS, etc.)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(ventajas/desventajas) particulare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Deben considerarse según la aplicación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80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sumo, velocidad, integración, fan-out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Inversores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Comprensión temprana del comportamiento de los inversores permite entender con mayor facilidad las familias lógicas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NMOS como“Carga”: Idea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7010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¿Qué sucede si se cortocircuitan los terminales compuerta y drenaje en un transistor MOSFET enhancement?</a:t>
            </a:r>
            <a:endParaRPr b="0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45680" indent="-1713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Lugar geométrico representa una curva cuadrática:</a:t>
            </a:r>
            <a:endParaRPr b="0" i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0" y="2541600"/>
            <a:ext cx="7696080" cy="41641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400800" y="3048120"/>
            <a:ext cx="2438280" cy="22874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543800" y="5638680"/>
            <a:ext cx="10666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=3.0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2743200"/>
            <a:ext cx="98892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6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30440" y="345924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5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30440" y="429732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5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59040" y="490680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4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16240" y="5440320"/>
            <a:ext cx="98928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4.0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69080" y="5897520"/>
            <a:ext cx="988920" cy="30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GS </a:t>
            </a:r>
            <a:r>
              <a:rPr b="0" i="1" lang="es-ES_tradnl" sz="1200" spc="-1" strike="noStrike">
                <a:solidFill>
                  <a:srgbClr val="000000"/>
                </a:solidFill>
                <a:latin typeface="Times New Roman"/>
              </a:rPr>
              <a:t>= 3.5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400800" y="2068560"/>
                <a:ext cx="160020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S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9T15:02:40Z</dcterms:created>
  <dc:creator>Domingo Morales Lizama</dc:creator>
  <dc:description/>
  <dc:language>en-US</dc:language>
  <cp:lastModifiedBy>Leszek Szczecinski</cp:lastModifiedBy>
  <dcterms:modified xsi:type="dcterms:W3CDTF">2003-08-27T14:57:45Z</dcterms:modified>
  <cp:revision>560</cp:revision>
  <dc:subject>Inversores Lógicos</dc:subject>
  <dc:title>Clase 12</dc:title>
</cp:coreProperties>
</file>