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8157-F4E6-4570-A9EA-3FD88EFFB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BE1B2-AF7F-40E9-A2BB-A260FE24B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D8710-EE96-4CC3-B32E-4AD10F1FE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2AE4-B707-4A3A-A4B6-1E7C102AE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5DF-D2CC-4247-BD7C-36443D4029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E86-9743-45E5-B6C9-54766FB2F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479-93BB-4A38-BB64-5E1174C578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40F-9584-4EAF-983F-A6C8650F2A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6FA1-A111-430F-8EAD-D2D1585A32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D49-46D2-4813-8CEA-EB395F34D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F1E-4066-4F95-B5F9-91A353D94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E81C-FE53-41DF-BABD-6ABB98183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918-657D-42EC-BA00-170CCFC62A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2F2-CB5D-4052-A3F6-6AFBC4F8E7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ACD-700F-457F-854E-E1BFB50804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7A1-4F50-4702-838B-F65521B3DA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95C-C7B1-4742-A2D8-5217385406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96E8-3697-44BA-BD78-3C416A313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3B77-02AE-4D4C-B4ED-93D07B38B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E2AD-BFEB-4DF4-BE21-81879A6CC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E2C2-4926-4EEB-BD84-7143C5849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3F10-BB15-4DE4-8165-64C8479EE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89D5-6786-4667-ACC4-81B05204A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56ED-C1DA-4CC1-AB5B-085C74535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60D6-855E-45DD-AC12-02AB4D3B3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AC14-8854-4EA3-8011-E9A58D781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cuacion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neal o triod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66680" y="3895560"/>
                <a:ext cx="608976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S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P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0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uente Corriente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poco controlable (cambia de muestra a muestr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uto polarización fuente: hace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 = -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ayor estabilidad (Retroalimentación, aumenta impedancia salida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tricción impuesta por el voltaje de Pinch Off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3276720" cy="2692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3429000"/>
            <a:ext cx="2146320" cy="3116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429000"/>
            <a:ext cx="201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asum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fuera de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7200" y="350532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124080" y="3581280"/>
                <a:ext cx="23544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4267080"/>
                <a:ext cx="3748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533520" y="53341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que 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entonce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es poco estable entre mues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629400" y="1752480"/>
            <a:ext cx="2146320" cy="3116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8600" y="3124080"/>
                <a:ext cx="3747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18288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Cuál es la solución correc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ariables en juego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267080" y="3124080"/>
                <a:ext cx="1897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80880" y="43434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hequeo de Consistencia de las Hipó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mbas soluciones entregan un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 embargo sólo la segunda cumple la condición de no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álisis de curva de carga: Entrega gra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46000" y="5769000"/>
                <a:ext cx="2745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495680" y="5638680"/>
                <a:ext cx="3176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2176560"/>
            <a:ext cx="8077320" cy="4392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0" y="3352680"/>
            <a:ext cx="320040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a de 0 a 10 con incrementos de 1 (azu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629400" y="38862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14400" y="5334120"/>
                <a:ext cx="12794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rva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Fuente de Corriente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nálisis Gráfico: “Acercamient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2065320"/>
            <a:ext cx="8001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 de Transconducta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asume zona de saturación 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18mA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1.5V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09480" y="3098880"/>
                <a:ext cx="160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66880" y="2971800"/>
                <a:ext cx="20574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6320" y="365760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lar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Compuer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055520" y="4495680"/>
                <a:ext cx="23655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762120" y="4876920"/>
                <a:ext cx="3543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V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066680" y="5791320"/>
                <a:ext cx="212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365760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ipótesis son consisten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ariación en torno a la Polariz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006800" cy="40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5800" y="2209680"/>
                <a:ext cx="3392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4440" y="2743200"/>
                <a:ext cx="1550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04920" y="3352680"/>
                <a:ext cx="205740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S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666880" y="3276720"/>
                <a:ext cx="2028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S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09480" y="4343400"/>
                <a:ext cx="37465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838080" y="5638680"/>
                <a:ext cx="34639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nto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 flipH="1">
            <a:off x="2133720" y="3733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3429000"/>
            <a:ext cx="32767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8mA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.2V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-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4419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6095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 como Amplificador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: Ganancia es ~ 1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2108160"/>
            <a:ext cx="80773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J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&gt;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pendie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elocidad en la transi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jor N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ones: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esistencia (Triod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002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yor Carg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ransición por la zona de saturación se realiza a un voltaje de entrad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2101680"/>
            <a:ext cx="8229600" cy="44672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29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2920" y="3276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292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16292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62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1000" y="5715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ETs como Inversor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2036880"/>
            <a:ext cx="8001000" cy="4516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3048120" cy="2892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533520" y="24382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2529000"/>
            <a:ext cx="198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C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48520" y="48769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Tri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03848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39006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cuaciones JFETs análogas a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os dispositivos F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utilizarse como fuentes de corriente y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utilizan como Dispositivo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ueden conectarse de tal modo que simulan una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guras de Mérito de dispositivos lógic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mprender los mecanismos físicos del funcionamiento de los JFET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ones Analóg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Fuentes de Corriente, Amplificad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plicación Digit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Un vistazo a los Transistores F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ETs: Tres a cuatro term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s,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ermi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uert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uent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mi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enaj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: voltaje Com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edancia de entrada altísima (aisl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: corriente de compuerta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: 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uy Grande integración (VL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entos”: Aislant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apacidade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iC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binación CMOS-T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JFET: Características Bás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76560" y="2971800"/>
            <a:ext cx="6067080" cy="3377160"/>
            <a:chOff x="3076560" y="2971800"/>
            <a:chExt cx="6067080" cy="3377160"/>
          </a:xfrm>
        </p:grpSpPr>
        <p:grpSp>
          <p:nvGrpSpPr>
            <p:cNvPr id="99" name=""/>
            <p:cNvGrpSpPr/>
            <p:nvPr/>
          </p:nvGrpSpPr>
          <p:grpSpPr>
            <a:xfrm>
              <a:off x="3076560" y="2971800"/>
              <a:ext cx="6067080" cy="3377160"/>
              <a:chOff x="3076560" y="2971800"/>
              <a:chExt cx="6067080" cy="3377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4886640" y="5553360"/>
                <a:ext cx="566280" cy="523080"/>
                <a:chOff x="4886640" y="5553360"/>
                <a:chExt cx="566280" cy="523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190480" y="5553360"/>
                  <a:ext cx="102960" cy="52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78160" y="5730480"/>
                  <a:ext cx="44280" cy="2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5240520" y="576324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4886640" y="5833080"/>
                  <a:ext cx="212400" cy="4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 flipH="1">
                <a:off x="7843320" y="3428640"/>
                <a:ext cx="577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76560" y="548604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6" idx="0"/>
                <a:endCxn id="104" idx="0"/>
              </p:cNvCxnSpPr>
              <p:nvPr/>
            </p:nvCxnSpPr>
            <p:spPr>
              <a:xfrm flipV="1">
                <a:off x="3076560" y="5875920"/>
                <a:ext cx="1809360" cy="448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8421840" y="342864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3" idx="0"/>
              </p:cNvCxnSpPr>
              <p:nvPr/>
            </p:nvCxnSpPr>
            <p:spPr>
              <a:xfrm flipV="1">
                <a:off x="5451120" y="5409360"/>
                <a:ext cx="1309680" cy="349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lg" type="oval" w="lg"/>
              </a:ln>
            </p:spPr>
          </p:cxnSp>
          <p:sp>
            <p:nvSpPr>
              <p:cNvPr id="110" name=""/>
              <p:cNvSpPr/>
              <p:nvPr/>
            </p:nvSpPr>
            <p:spPr>
              <a:xfrm>
                <a:off x="50266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48880" y="548604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4680" y="5943240"/>
                <a:ext cx="72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32760" y="2971800"/>
                <a:ext cx="72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843680" y="3657240"/>
                <a:ext cx="129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Drenaj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5" name=""/>
              <p:cNvCxnSpPr>
                <a:endCxn id="108" idx="0"/>
              </p:cNvCxnSpPr>
              <p:nvPr/>
            </p:nvCxnSpPr>
            <p:spPr>
              <a:xfrm flipV="1">
                <a:off x="7265880" y="5028480"/>
                <a:ext cx="1156320" cy="22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6" name=""/>
            <p:cNvSpPr/>
            <p:nvPr/>
          </p:nvSpPr>
          <p:spPr>
            <a:xfrm flipV="1">
              <a:off x="6763320" y="4921560"/>
              <a:ext cx="2383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463720" y="3289320"/>
            <a:ext cx="2365560" cy="1746000"/>
            <a:chOff x="5463720" y="3289320"/>
            <a:chExt cx="2365560" cy="1746000"/>
          </a:xfrm>
        </p:grpSpPr>
        <p:sp>
          <p:nvSpPr>
            <p:cNvPr id="118" name=""/>
            <p:cNvSpPr/>
            <p:nvPr/>
          </p:nvSpPr>
          <p:spPr>
            <a:xfrm flipV="1" rot="19902000">
              <a:off x="5466960" y="397404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19600" y="3289320"/>
              <a:ext cx="2209680" cy="571320"/>
            </a:xfrm>
            <a:custGeom>
              <a:avLst/>
              <a:gdLst/>
              <a:ahLst/>
              <a:rect l="l" t="t" r="r" b="b"/>
              <a:pathLst>
                <a:path w="1392" h="360">
                  <a:moveTo>
                    <a:pt x="0" y="336"/>
                  </a:moveTo>
                  <a:cubicBezTo>
                    <a:pt x="96" y="348"/>
                    <a:pt x="192" y="360"/>
                    <a:pt x="384" y="336"/>
                  </a:cubicBezTo>
                  <a:cubicBezTo>
                    <a:pt x="576" y="312"/>
                    <a:pt x="984" y="248"/>
                    <a:pt x="1152" y="192"/>
                  </a:cubicBezTo>
                  <a:cubicBezTo>
                    <a:pt x="1320" y="136"/>
                    <a:pt x="1356" y="68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460480" y="3288600"/>
            <a:ext cx="2385720" cy="1684080"/>
            <a:chOff x="5460480" y="3288600"/>
            <a:chExt cx="2385720" cy="1684080"/>
          </a:xfrm>
        </p:grpSpPr>
        <p:sp>
          <p:nvSpPr>
            <p:cNvPr id="121" name=""/>
            <p:cNvSpPr/>
            <p:nvPr/>
          </p:nvSpPr>
          <p:spPr>
            <a:xfrm flipV="1" rot="20089200">
              <a:off x="5468400" y="3968640"/>
              <a:ext cx="227340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1459600">
              <a:off x="5626080" y="3333600"/>
              <a:ext cx="2209680" cy="546120"/>
            </a:xfrm>
            <a:custGeom>
              <a:avLst/>
              <a:gdLst/>
              <a:ahLst/>
              <a:rect l="l" t="t" r="r" b="b"/>
              <a:pathLst>
                <a:path w="1392" h="344">
                  <a:moveTo>
                    <a:pt x="0" y="288"/>
                  </a:moveTo>
                  <a:cubicBezTo>
                    <a:pt x="168" y="316"/>
                    <a:pt x="336" y="344"/>
                    <a:pt x="528" y="336"/>
                  </a:cubicBezTo>
                  <a:cubicBezTo>
                    <a:pt x="720" y="328"/>
                    <a:pt x="1016" y="272"/>
                    <a:pt x="1152" y="240"/>
                  </a:cubicBezTo>
                  <a:cubicBezTo>
                    <a:pt x="1288" y="208"/>
                    <a:pt x="1304" y="184"/>
                    <a:pt x="1344" y="144"/>
                  </a:cubicBezTo>
                  <a:cubicBezTo>
                    <a:pt x="1384" y="104"/>
                    <a:pt x="1388" y="52"/>
                    <a:pt x="1392" y="0"/>
                  </a:cubicBezTo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 rot="20746200">
            <a:off x="5538960" y="4217760"/>
            <a:ext cx="2178000" cy="6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785800">
            <a:off x="5635800" y="3557160"/>
            <a:ext cx="2176200" cy="60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722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7" idx="0"/>
            <a:endCxn id="128" idx="0"/>
          </p:cNvCxnSpPr>
          <p:nvPr/>
        </p:nvCxnSpPr>
        <p:spPr>
          <a:xfrm flipV="1">
            <a:off x="3911400" y="5169600"/>
            <a:ext cx="3402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9" name=""/>
          <p:cNvGrpSpPr/>
          <p:nvPr/>
        </p:nvGrpSpPr>
        <p:grpSpPr>
          <a:xfrm>
            <a:off x="4038480" y="2742840"/>
            <a:ext cx="2133720" cy="2797200"/>
            <a:chOff x="4038480" y="2742840"/>
            <a:chExt cx="2133720" cy="2797200"/>
          </a:xfrm>
        </p:grpSpPr>
        <p:sp>
          <p:nvSpPr>
            <p:cNvPr id="130" name=""/>
            <p:cNvSpPr/>
            <p:nvPr/>
          </p:nvSpPr>
          <p:spPr>
            <a:xfrm flipV="1">
              <a:off x="6172200" y="2742840"/>
              <a:ext cx="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251600" y="27432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251600" y="4701600"/>
              <a:ext cx="192024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1600" y="3213000"/>
              <a:ext cx="0" cy="19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478008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9400" y="5171760"/>
              <a:ext cx="128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Compuer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344120" y="2970360"/>
            <a:ext cx="3579480" cy="1600920"/>
            <a:chOff x="4344120" y="2970360"/>
            <a:chExt cx="3579480" cy="1600920"/>
          </a:xfrm>
        </p:grpSpPr>
        <p:sp>
          <p:nvSpPr>
            <p:cNvPr id="137" name=""/>
            <p:cNvSpPr/>
            <p:nvPr/>
          </p:nvSpPr>
          <p:spPr>
            <a:xfrm flipV="1">
              <a:off x="5590080" y="3263040"/>
              <a:ext cx="233352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344120" y="2970360"/>
              <a:ext cx="3411360" cy="1600920"/>
              <a:chOff x="4344120" y="2970360"/>
              <a:chExt cx="3411360" cy="1600920"/>
            </a:xfrm>
          </p:grpSpPr>
          <p:sp>
            <p:nvSpPr>
              <p:cNvPr id="139" name=""/>
              <p:cNvSpPr/>
              <p:nvPr/>
            </p:nvSpPr>
            <p:spPr>
              <a:xfrm rot="840000">
                <a:off x="4420080" y="3674520"/>
                <a:ext cx="1102680" cy="764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523040" y="2970360"/>
                <a:ext cx="2333160" cy="5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5422320" y="4001400"/>
                <a:ext cx="2333160" cy="56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" name=""/>
            <p:cNvCxnSpPr>
              <a:stCxn id="137" idx="0"/>
              <a:endCxn id="141" idx="0"/>
            </p:cNvCxnSpPr>
            <p:nvPr/>
          </p:nvCxnSpPr>
          <p:spPr>
            <a:xfrm flipH="1">
              <a:off x="7754040" y="3263400"/>
              <a:ext cx="168840" cy="738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143" name=""/>
            <p:cNvCxnSpPr>
              <a:stCxn id="140" idx="0"/>
              <a:endCxn id="137" idx="1"/>
            </p:cNvCxnSpPr>
            <p:nvPr/>
          </p:nvCxnSpPr>
          <p:spPr>
            <a:xfrm>
              <a:off x="6854760" y="2970720"/>
              <a:ext cx="1068120" cy="29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2133720" y="4038480"/>
            <a:ext cx="2742840" cy="1663560"/>
            <a:chOff x="2133720" y="4038480"/>
            <a:chExt cx="2742840" cy="1663560"/>
          </a:xfrm>
        </p:grpSpPr>
        <p:grpSp>
          <p:nvGrpSpPr>
            <p:cNvPr id="145" name=""/>
            <p:cNvGrpSpPr/>
            <p:nvPr/>
          </p:nvGrpSpPr>
          <p:grpSpPr>
            <a:xfrm>
              <a:off x="3070080" y="4038480"/>
              <a:ext cx="1806480" cy="1663560"/>
              <a:chOff x="3070080" y="4038480"/>
              <a:chExt cx="1806480" cy="16635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478320" y="5082480"/>
                <a:ext cx="433080" cy="448560"/>
                <a:chOff x="3478320" y="5082480"/>
                <a:chExt cx="433080" cy="448560"/>
              </a:xfrm>
            </p:grpSpPr>
            <p:sp>
              <p:nvSpPr>
                <p:cNvPr id="147" name=""/>
                <p:cNvSpPr/>
                <p:nvPr/>
              </p:nvSpPr>
              <p:spPr>
                <a:xfrm flipH="1" flipV="1">
                  <a:off x="3594960" y="5082480"/>
                  <a:ext cx="88560" cy="44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3728520" y="5189760"/>
                  <a:ext cx="37800" cy="191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3478320" y="5315040"/>
                  <a:ext cx="16272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3749040" y="5261760"/>
                  <a:ext cx="162360" cy="3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flipH="1">
                <a:off x="3070080" y="4038480"/>
                <a:ext cx="18064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70080" y="4495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" name=""/>
              <p:cNvCxnSpPr>
                <a:stCxn id="152" idx="0"/>
                <a:endCxn id="149" idx="0"/>
              </p:cNvCxnSpPr>
              <p:nvPr/>
            </p:nvCxnSpPr>
            <p:spPr>
              <a:xfrm flipV="1">
                <a:off x="3070080" y="5352120"/>
                <a:ext cx="408960" cy="13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54" name=""/>
              <p:cNvSpPr/>
              <p:nvPr/>
            </p:nvSpPr>
            <p:spPr>
              <a:xfrm>
                <a:off x="3136680" y="533376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05040" y="5181480"/>
                <a:ext cx="66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37200" y="4724280"/>
                <a:ext cx="668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668680" y="4114440"/>
              <a:ext cx="6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4495680"/>
              <a:ext cx="12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Fu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9588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080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p</a:t>
            </a:r>
            <a:r>
              <a:rPr b="0" i="1" lang="es-MX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Tip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312408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743200"/>
            <a:ext cx="1219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MX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6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10224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699600" y="4837680"/>
            <a:ext cx="541080" cy="566640"/>
            <a:chOff x="6699600" y="4837680"/>
            <a:chExt cx="541080" cy="566640"/>
          </a:xfrm>
        </p:grpSpPr>
        <p:sp>
          <p:nvSpPr>
            <p:cNvPr id="168" name=""/>
            <p:cNvSpPr/>
            <p:nvPr/>
          </p:nvSpPr>
          <p:spPr>
            <a:xfrm flipV="1">
              <a:off x="6779880" y="5262840"/>
              <a:ext cx="4608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90000">
              <a:off x="6810480" y="4843440"/>
              <a:ext cx="1522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Encendido Pinch-Off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187720"/>
            <a:ext cx="7696080" cy="4373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095880" y="28954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6386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05120" y="6095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62940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495680"/>
            <a:ext cx="22860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: Pinch Off = - 1.5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352680" y="4800600"/>
            <a:ext cx="6098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JFET: Gráfico Semi-Logarítmic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vario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ajo Pinch-Off el JFET se apa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7910640" cy="4332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562720" y="3238560"/>
            <a:ext cx="3429000" cy="2019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362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4267080"/>
            <a:ext cx="11430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0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4876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1.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251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010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429000"/>
            <a:ext cx="13716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7339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438280"/>
            <a:ext cx="34290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¿Qué pasa si v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&gt;0.5 V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untura compuerta fuente se polariza en directa y se pierde alta imped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181480"/>
            <a:ext cx="3429000" cy="78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JFET se comporta mejor como Fuente de Corriente para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y “pequeño” (pero no menor al Pinch-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Característica de Ent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arios valores de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7696080" cy="42102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1800" y="41911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4800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5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7320" y="32432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3016080"/>
            <a:ext cx="10670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30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746320" y="3930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02440" y="376704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DSS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(15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571640" y="45716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81952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JFET: Resistencia de Encendi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JFET: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Notar linealidad de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7772400" cy="442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63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62485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1.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6324480"/>
            <a:ext cx="76212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61722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4191120"/>
            <a:ext cx="3200400" cy="1842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4724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9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3505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5909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24382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14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.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7:23Z</dcterms:modified>
  <cp:revision>481</cp:revision>
  <dc:subject>Transistores JFET</dc:subject>
  <dc:title>Clase 11</dc:title>
</cp:coreProperties>
</file>