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1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4.wmf" ContentType="image/x-wmf"/>
  <Override PartName="/ppt/media/image3.png" ContentType="image/png"/>
  <Override PartName="/ppt/media/image5.wmf" ContentType="image/x-wmf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A658-407F-4A7E-A80B-B032A279E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9F1F-0020-4D7A-A620-F99FCD166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002AE-CEBA-4663-9FC1-3385F1E74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925C-9443-4BE7-AC98-7F567275C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8DF-5CDE-4752-99BE-BFBD9AFD16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E444-5207-4C0A-81F9-7580C04473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BE4B-1BEA-4D3A-993F-4F2880D35F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E5FE-808B-4F57-B9E9-9ED6776B88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F585-0455-4FDD-8886-E84D3FF547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0E3-59E6-49D9-BE68-136130F4FF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AE71-3432-4C6C-BD91-C6DC3D7A93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340C-8520-4443-B7B7-37EC1C46F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7968-1539-4B0A-8726-FB7CE4CF62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44D2-D3FD-4886-A040-744505EBF5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D444-007F-496D-9FC0-60ADC6A377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0D0-B439-4247-ADAE-A840ED85A4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4D7B-8406-4C50-98B2-7B054A3075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40DBA-B58D-4145-81E0-37302EFAC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AA9C1-6F33-4126-BDD3-666799C32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11713-A725-4CDF-9EDB-B66A0EE52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0A2C-009E-4406-BB93-8C9119D63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8718-DC9E-48ED-94D7-8391831FB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3B379-7956-4DFD-BBD2-A5DC2278B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3E840-C7C9-49BC-A54F-7021F82AB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2628-BF13-4FA5-8350-9C0F2A9C6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3104-E91B-46C6-8BBD-31D46811E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Ecuacion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neal o trio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066680" y="3895560"/>
                <a:ext cx="6089760" cy="236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S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&lt;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S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S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S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0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Fuente Corriente co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 poco controlable (cambia de muestra a muestr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to polarización fuente: hace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0 = -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ayor estabilidad (Retroalimentación, aumenta impedancia salid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tricción impuesta por el voltaje de Pinch Off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3276720" cy="2692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886200" y="3429000"/>
            <a:ext cx="2146320" cy="31161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172200" y="3429000"/>
            <a:ext cx="20178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6933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8mA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1.5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ipóte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sum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fuera de 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629400" y="1752480"/>
            <a:ext cx="2146320" cy="3116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57200" y="350532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124080" y="3581280"/>
                <a:ext cx="23544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80880" y="4267080"/>
                <a:ext cx="37483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533520" y="5334120"/>
            <a:ext cx="693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que si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entonces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es poco estable entre mues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629400" y="1752480"/>
            <a:ext cx="2146320" cy="3116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28600" y="3124080"/>
                <a:ext cx="37479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57200" y="18288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¿Cuál es la solución correc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ariables en juego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de curva de carga: Entrega gra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267080" y="3124080"/>
                <a:ext cx="1897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380880" y="43434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hequeo de Consistencia de las Hipót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bas soluciones entregan u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embargo sólo la segunda cumple la condición de no 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de curva de carga: Entrega gra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846000" y="5769000"/>
                <a:ext cx="27450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495680" y="5638680"/>
                <a:ext cx="31766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2176560"/>
            <a:ext cx="8077320" cy="43923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0" y="3352680"/>
            <a:ext cx="3200400" cy="7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a de 0 a 10 con incrementos de 1 (azu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629400" y="388620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914400" y="5334120"/>
                <a:ext cx="12794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3911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Gráfico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rva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o parámet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Gráfico: “Acercamient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2065320"/>
            <a:ext cx="80010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sume zona de saturación F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8mA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1.5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4006800" cy="408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09480" y="3098880"/>
                <a:ext cx="1600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666880" y="297180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76320" y="3657600"/>
            <a:ext cx="5029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Compuerta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055520" y="4495680"/>
                <a:ext cx="23655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762120" y="4876920"/>
                <a:ext cx="35431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066680" y="5791320"/>
                <a:ext cx="2125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365760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ipótesis son consisten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533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riación en torno a la Polariz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4006800" cy="408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85800" y="2209680"/>
                <a:ext cx="3392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14440" y="2743200"/>
                <a:ext cx="1550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04920" y="3352680"/>
                <a:ext cx="205740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666880" y="3276720"/>
                <a:ext cx="20289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09480" y="4343400"/>
                <a:ext cx="37465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V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838080" y="5638680"/>
                <a:ext cx="34639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 flipH="1">
            <a:off x="2133720" y="37339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52480" y="3429000"/>
            <a:ext cx="32767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8mA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.2V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-0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4419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6095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: Ganancia es ~ 16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2108160"/>
            <a:ext cx="807732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1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JFE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ETs como Inversore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&gt; carg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pendien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elocidad en la transi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ejor N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ones: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esistencia (Triod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1629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62920" y="3276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2920" y="41911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62920" y="4876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16292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01000" y="5715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ETs como Inversore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60020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yor Carg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ransición por la zona de saturación se realiza a un voltaje de entrad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en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1629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62920" y="3276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62920" y="41911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62920" y="4876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16292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001000" y="5715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ETs como Inversore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2036880"/>
            <a:ext cx="8001000" cy="45162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3048120" cy="28922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533520" y="2438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2529000"/>
            <a:ext cx="198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5880" y="5410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48520" y="487692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Tri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038480" y="2437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95480" y="390060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cuaciones JFETs análogas a MOSF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os dispositivos FE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eden utilizarse como fuentes de corriente y 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utilizan como Dispositivo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eden conectarse de tal modo que simulan una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iguras de Mérito de dispositivos lógic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mprender los mecanismos físicos del funcionamiento de los JFET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Analóg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larización de los FE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ones Analóg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uentes de Corriente, 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ón Digit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nvers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Un vistazo a los Transistores F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ETs: Tres a cuatro term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FETs,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ermin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uert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uent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m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renaj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trol: voltaje Compu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altísima (aisl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: corriente de compuerta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mutación: C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y Grande integración (VL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mínimo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entos”: Aislan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apacidades al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BiC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binación CMOS-T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FET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76560" y="2971800"/>
            <a:ext cx="6067080" cy="3377160"/>
            <a:chOff x="3076560" y="2971800"/>
            <a:chExt cx="6067080" cy="3377160"/>
          </a:xfrm>
        </p:grpSpPr>
        <p:grpSp>
          <p:nvGrpSpPr>
            <p:cNvPr id="99" name=""/>
            <p:cNvGrpSpPr/>
            <p:nvPr/>
          </p:nvGrpSpPr>
          <p:grpSpPr>
            <a:xfrm>
              <a:off x="3076560" y="2971800"/>
              <a:ext cx="6067080" cy="3377160"/>
              <a:chOff x="3076560" y="2971800"/>
              <a:chExt cx="6067080" cy="33771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4886640" y="5553360"/>
                <a:ext cx="566280" cy="523080"/>
                <a:chOff x="4886640" y="5553360"/>
                <a:chExt cx="566280" cy="5230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190480" y="5553360"/>
                  <a:ext cx="102960" cy="52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078160" y="5730480"/>
                  <a:ext cx="4428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5240520" y="5763240"/>
                  <a:ext cx="212400" cy="4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V="1">
                  <a:off x="4886640" y="5833080"/>
                  <a:ext cx="212400" cy="4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 flipH="1">
                <a:off x="7843320" y="3428640"/>
                <a:ext cx="5778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76560" y="548604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7" name=""/>
              <p:cNvCxnSpPr>
                <a:stCxn id="106" idx="0"/>
                <a:endCxn id="104" idx="0"/>
              </p:cNvCxnSpPr>
              <p:nvPr/>
            </p:nvCxnSpPr>
            <p:spPr>
              <a:xfrm flipV="1">
                <a:off x="3076560" y="5875920"/>
                <a:ext cx="1809360" cy="448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8" name=""/>
              <p:cNvSpPr/>
              <p:nvPr/>
            </p:nvSpPr>
            <p:spPr>
              <a:xfrm>
                <a:off x="8421840" y="3428640"/>
                <a:ext cx="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9" name=""/>
              <p:cNvCxnSpPr>
                <a:stCxn id="103" idx="0"/>
              </p:cNvCxnSpPr>
              <p:nvPr/>
            </p:nvCxnSpPr>
            <p:spPr>
              <a:xfrm flipV="1">
                <a:off x="5451120" y="5409360"/>
                <a:ext cx="1309680" cy="349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sp>
            <p:nvSpPr>
              <p:cNvPr id="110" name=""/>
              <p:cNvSpPr/>
              <p:nvPr/>
            </p:nvSpPr>
            <p:spPr>
              <a:xfrm>
                <a:off x="5026680" y="5486040"/>
                <a:ext cx="72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448880" y="5486040"/>
                <a:ext cx="72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54680" y="5943240"/>
                <a:ext cx="7218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D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132760" y="2971800"/>
                <a:ext cx="72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843680" y="3657240"/>
                <a:ext cx="1299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Drenaj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5" name=""/>
              <p:cNvCxnSpPr>
                <a:endCxn id="108" idx="0"/>
              </p:cNvCxnSpPr>
              <p:nvPr/>
            </p:nvCxnSpPr>
            <p:spPr>
              <a:xfrm flipV="1">
                <a:off x="7265880" y="5028480"/>
                <a:ext cx="11563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116" name=""/>
            <p:cNvSpPr/>
            <p:nvPr/>
          </p:nvSpPr>
          <p:spPr>
            <a:xfrm flipV="1">
              <a:off x="6763320" y="4921560"/>
              <a:ext cx="2383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463720" y="3289320"/>
            <a:ext cx="2365560" cy="1746000"/>
            <a:chOff x="5463720" y="3289320"/>
            <a:chExt cx="2365560" cy="1746000"/>
          </a:xfrm>
        </p:grpSpPr>
        <p:sp>
          <p:nvSpPr>
            <p:cNvPr id="118" name=""/>
            <p:cNvSpPr/>
            <p:nvPr/>
          </p:nvSpPr>
          <p:spPr>
            <a:xfrm flipV="1" rot="19902000">
              <a:off x="5466960" y="3974040"/>
              <a:ext cx="2209680" cy="571320"/>
            </a:xfrm>
            <a:custGeom>
              <a:avLst/>
              <a:gdLst/>
              <a:ahLst/>
              <a:rect l="l" t="t" r="r" b="b"/>
              <a:pathLst>
                <a:path w="1392" h="360">
                  <a:moveTo>
                    <a:pt x="0" y="336"/>
                  </a:moveTo>
                  <a:cubicBezTo>
                    <a:pt x="96" y="348"/>
                    <a:pt x="192" y="360"/>
                    <a:pt x="384" y="336"/>
                  </a:cubicBezTo>
                  <a:cubicBezTo>
                    <a:pt x="576" y="312"/>
                    <a:pt x="984" y="248"/>
                    <a:pt x="1152" y="192"/>
                  </a:cubicBezTo>
                  <a:cubicBezTo>
                    <a:pt x="1320" y="136"/>
                    <a:pt x="1356" y="68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19600" y="3289320"/>
              <a:ext cx="2209680" cy="571320"/>
            </a:xfrm>
            <a:custGeom>
              <a:avLst/>
              <a:gdLst/>
              <a:ahLst/>
              <a:rect l="l" t="t" r="r" b="b"/>
              <a:pathLst>
                <a:path w="1392" h="360">
                  <a:moveTo>
                    <a:pt x="0" y="336"/>
                  </a:moveTo>
                  <a:cubicBezTo>
                    <a:pt x="96" y="348"/>
                    <a:pt x="192" y="360"/>
                    <a:pt x="384" y="336"/>
                  </a:cubicBezTo>
                  <a:cubicBezTo>
                    <a:pt x="576" y="312"/>
                    <a:pt x="984" y="248"/>
                    <a:pt x="1152" y="192"/>
                  </a:cubicBezTo>
                  <a:cubicBezTo>
                    <a:pt x="1320" y="136"/>
                    <a:pt x="1356" y="68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460480" y="3288600"/>
            <a:ext cx="2385720" cy="1684080"/>
            <a:chOff x="5460480" y="3288600"/>
            <a:chExt cx="2385720" cy="1684080"/>
          </a:xfrm>
        </p:grpSpPr>
        <p:sp>
          <p:nvSpPr>
            <p:cNvPr id="121" name=""/>
            <p:cNvSpPr/>
            <p:nvPr/>
          </p:nvSpPr>
          <p:spPr>
            <a:xfrm flipV="1" rot="20089200">
              <a:off x="5468400" y="3968640"/>
              <a:ext cx="2273400" cy="546120"/>
            </a:xfrm>
            <a:custGeom>
              <a:avLst/>
              <a:gdLst/>
              <a:ahLst/>
              <a:rect l="l" t="t" r="r" b="b"/>
              <a:pathLst>
                <a:path w="1392" h="344">
                  <a:moveTo>
                    <a:pt x="0" y="288"/>
                  </a:moveTo>
                  <a:cubicBezTo>
                    <a:pt x="168" y="316"/>
                    <a:pt x="336" y="344"/>
                    <a:pt x="528" y="336"/>
                  </a:cubicBezTo>
                  <a:cubicBezTo>
                    <a:pt x="720" y="328"/>
                    <a:pt x="1016" y="272"/>
                    <a:pt x="1152" y="240"/>
                  </a:cubicBezTo>
                  <a:cubicBezTo>
                    <a:pt x="1288" y="208"/>
                    <a:pt x="1304" y="184"/>
                    <a:pt x="1344" y="144"/>
                  </a:cubicBezTo>
                  <a:cubicBezTo>
                    <a:pt x="1384" y="104"/>
                    <a:pt x="1388" y="52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1459600">
              <a:off x="5626080" y="3333600"/>
              <a:ext cx="2209680" cy="546120"/>
            </a:xfrm>
            <a:custGeom>
              <a:avLst/>
              <a:gdLst/>
              <a:ahLst/>
              <a:rect l="l" t="t" r="r" b="b"/>
              <a:pathLst>
                <a:path w="1392" h="344">
                  <a:moveTo>
                    <a:pt x="0" y="288"/>
                  </a:moveTo>
                  <a:cubicBezTo>
                    <a:pt x="168" y="316"/>
                    <a:pt x="336" y="344"/>
                    <a:pt x="528" y="336"/>
                  </a:cubicBezTo>
                  <a:cubicBezTo>
                    <a:pt x="720" y="328"/>
                    <a:pt x="1016" y="272"/>
                    <a:pt x="1152" y="240"/>
                  </a:cubicBezTo>
                  <a:cubicBezTo>
                    <a:pt x="1288" y="208"/>
                    <a:pt x="1304" y="184"/>
                    <a:pt x="1344" y="144"/>
                  </a:cubicBezTo>
                  <a:cubicBezTo>
                    <a:pt x="1384" y="104"/>
                    <a:pt x="1388" y="52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 rot="20746200">
            <a:off x="5538960" y="4217760"/>
            <a:ext cx="2178000" cy="6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0785800">
            <a:off x="5635800" y="3557160"/>
            <a:ext cx="2176200" cy="60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1722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7" idx="0"/>
            <a:endCxn id="128" idx="0"/>
          </p:cNvCxnSpPr>
          <p:nvPr/>
        </p:nvCxnSpPr>
        <p:spPr>
          <a:xfrm flipV="1">
            <a:off x="3911400" y="5169600"/>
            <a:ext cx="34020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9" name=""/>
          <p:cNvGrpSpPr/>
          <p:nvPr/>
        </p:nvGrpSpPr>
        <p:grpSpPr>
          <a:xfrm>
            <a:off x="4038480" y="2742840"/>
            <a:ext cx="2133720" cy="2797200"/>
            <a:chOff x="4038480" y="2742840"/>
            <a:chExt cx="2133720" cy="2797200"/>
          </a:xfrm>
        </p:grpSpPr>
        <p:sp>
          <p:nvSpPr>
            <p:cNvPr id="130" name=""/>
            <p:cNvSpPr/>
            <p:nvPr/>
          </p:nvSpPr>
          <p:spPr>
            <a:xfrm flipV="1">
              <a:off x="6172200" y="2742840"/>
              <a:ext cx="0" cy="62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251600" y="2743200"/>
              <a:ext cx="192024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4251600" y="4701600"/>
              <a:ext cx="192024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51600" y="3213000"/>
              <a:ext cx="0" cy="19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38480" y="4780080"/>
              <a:ext cx="71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09400" y="5171760"/>
              <a:ext cx="12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Compuer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344120" y="2970360"/>
            <a:ext cx="3579480" cy="1600920"/>
            <a:chOff x="4344120" y="2970360"/>
            <a:chExt cx="3579480" cy="1600920"/>
          </a:xfrm>
        </p:grpSpPr>
        <p:sp>
          <p:nvSpPr>
            <p:cNvPr id="137" name=""/>
            <p:cNvSpPr/>
            <p:nvPr/>
          </p:nvSpPr>
          <p:spPr>
            <a:xfrm flipV="1">
              <a:off x="5590080" y="3263040"/>
              <a:ext cx="2333520" cy="56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344120" y="2970360"/>
              <a:ext cx="3411360" cy="1600920"/>
              <a:chOff x="4344120" y="2970360"/>
              <a:chExt cx="3411360" cy="1600920"/>
            </a:xfrm>
          </p:grpSpPr>
          <p:sp>
            <p:nvSpPr>
              <p:cNvPr id="139" name=""/>
              <p:cNvSpPr/>
              <p:nvPr/>
            </p:nvSpPr>
            <p:spPr>
              <a:xfrm rot="840000">
                <a:off x="4420080" y="3674520"/>
                <a:ext cx="1102680" cy="764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4523040" y="2970360"/>
                <a:ext cx="2333160" cy="56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5422320" y="4001400"/>
                <a:ext cx="2333160" cy="56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2" name=""/>
            <p:cNvCxnSpPr>
              <a:stCxn id="137" idx="0"/>
              <a:endCxn id="141" idx="0"/>
            </p:cNvCxnSpPr>
            <p:nvPr/>
          </p:nvCxnSpPr>
          <p:spPr>
            <a:xfrm flipH="1">
              <a:off x="7754040" y="3263400"/>
              <a:ext cx="168840" cy="738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43" name=""/>
            <p:cNvCxnSpPr>
              <a:stCxn id="140" idx="0"/>
              <a:endCxn id="137" idx="1"/>
            </p:cNvCxnSpPr>
            <p:nvPr/>
          </p:nvCxnSpPr>
          <p:spPr>
            <a:xfrm>
              <a:off x="6854760" y="2970720"/>
              <a:ext cx="1068120" cy="2934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grpSp>
        <p:nvGrpSpPr>
          <p:cNvPr id="144" name=""/>
          <p:cNvGrpSpPr/>
          <p:nvPr/>
        </p:nvGrpSpPr>
        <p:grpSpPr>
          <a:xfrm>
            <a:off x="2133720" y="4038480"/>
            <a:ext cx="2742840" cy="1663560"/>
            <a:chOff x="2133720" y="4038480"/>
            <a:chExt cx="2742840" cy="1663560"/>
          </a:xfrm>
        </p:grpSpPr>
        <p:grpSp>
          <p:nvGrpSpPr>
            <p:cNvPr id="145" name=""/>
            <p:cNvGrpSpPr/>
            <p:nvPr/>
          </p:nvGrpSpPr>
          <p:grpSpPr>
            <a:xfrm>
              <a:off x="3070080" y="4038480"/>
              <a:ext cx="1806480" cy="1663560"/>
              <a:chOff x="3070080" y="4038480"/>
              <a:chExt cx="1806480" cy="16635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3478320" y="5082480"/>
                <a:ext cx="433080" cy="448560"/>
                <a:chOff x="3478320" y="5082480"/>
                <a:chExt cx="433080" cy="448560"/>
              </a:xfrm>
            </p:grpSpPr>
            <p:sp>
              <p:nvSpPr>
                <p:cNvPr id="147" name=""/>
                <p:cNvSpPr/>
                <p:nvPr/>
              </p:nvSpPr>
              <p:spPr>
                <a:xfrm flipH="1" flipV="1">
                  <a:off x="3594960" y="5082480"/>
                  <a:ext cx="88560" cy="44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>
                  <a:off x="3728520" y="5189760"/>
                  <a:ext cx="37800" cy="191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3478320" y="5315040"/>
                  <a:ext cx="16272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3749040" y="5261760"/>
                  <a:ext cx="16236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 flipH="1">
                <a:off x="3070080" y="4038480"/>
                <a:ext cx="18064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070080" y="44956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3" name=""/>
              <p:cNvCxnSpPr>
                <a:stCxn id="152" idx="0"/>
                <a:endCxn id="149" idx="0"/>
              </p:cNvCxnSpPr>
              <p:nvPr/>
            </p:nvCxnSpPr>
            <p:spPr>
              <a:xfrm flipV="1">
                <a:off x="3070080" y="5352120"/>
                <a:ext cx="408960" cy="134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54" name=""/>
              <p:cNvSpPr/>
              <p:nvPr/>
            </p:nvSpPr>
            <p:spPr>
              <a:xfrm>
                <a:off x="3136680" y="5333760"/>
                <a:ext cx="66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05040" y="5181480"/>
                <a:ext cx="66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37200" y="4724280"/>
                <a:ext cx="668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S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2668680" y="4114440"/>
              <a:ext cx="66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4495680"/>
              <a:ext cx="120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Fu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095880" y="3048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ipo p</a:t>
            </a:r>
            <a:r>
              <a:rPr b="0" i="1" lang="es-MX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00800" y="4191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ipo p</a:t>
            </a:r>
            <a:r>
              <a:rPr b="0" i="1" lang="es-MX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ip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3124080"/>
            <a:ext cx="121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86200"/>
            <a:ext cx="121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2743200"/>
            <a:ext cx="121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3657600" cy="1857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1022400" cy="196524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6699600" y="4837680"/>
            <a:ext cx="541080" cy="566640"/>
            <a:chOff x="6699600" y="4837680"/>
            <a:chExt cx="541080" cy="566640"/>
          </a:xfrm>
        </p:grpSpPr>
        <p:sp>
          <p:nvSpPr>
            <p:cNvPr id="168" name=""/>
            <p:cNvSpPr/>
            <p:nvPr/>
          </p:nvSpPr>
          <p:spPr>
            <a:xfrm flipV="1">
              <a:off x="6779880" y="5262840"/>
              <a:ext cx="4608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590000">
              <a:off x="6810480" y="4843440"/>
              <a:ext cx="1522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Encendido Pinch-Off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3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2187720"/>
            <a:ext cx="7696080" cy="4373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95880" y="2895480"/>
            <a:ext cx="10670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62485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6324480"/>
            <a:ext cx="76212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56386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905120" y="60955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629400" y="25146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4495680"/>
            <a:ext cx="22860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: Pinch Off = - 1.5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3200400" cy="1842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352680" y="4800600"/>
            <a:ext cx="60984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FET: Gráfico Semi-Logarítmico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vario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ajo Pinch-Off el JFET se apa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Característica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7910640" cy="4332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562720" y="3238560"/>
            <a:ext cx="3429000" cy="2019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90920" y="2362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3505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4267080"/>
            <a:ext cx="11430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0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4876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1.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320" y="2514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6324480"/>
            <a:ext cx="7617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010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FET: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arios valores de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3429000"/>
            <a:ext cx="13716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18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37339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2438280"/>
            <a:ext cx="3429000" cy="83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¿Qué pasa si v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&gt;0.5 V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Juntura compuerta fuente se polariza en directa y se pierde alta imped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62720" y="5181480"/>
            <a:ext cx="3429000" cy="78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JFET se comporta mejor como Fuente de Corriente para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 0 y “pequeño” (pero no menor al Pinch-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Característica de Entr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5943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FET: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arios valores de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2328840"/>
            <a:ext cx="7696080" cy="4210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3200400" cy="1842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1800" y="41911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91120" y="4800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6324480"/>
            <a:ext cx="76212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3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37320" y="32432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81480" y="3016080"/>
            <a:ext cx="10670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(30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746320" y="39304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02440" y="3767040"/>
            <a:ext cx="10666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(15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4495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4571640" y="45716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2819520" y="5409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Resistencia de Encendi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FET: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(on)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Notar linealidad de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124000"/>
            <a:ext cx="7772400" cy="4429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63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62485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6324480"/>
            <a:ext cx="76212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61722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3200400" cy="18428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343400" y="47242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9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3505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590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24382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14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.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05T22:07:23Z</dcterms:modified>
  <cp:revision>481</cp:revision>
  <dc:subject>Transistores JFET</dc:subject>
  <dc:title>Clase 11</dc:title>
</cp:coreProperties>
</file>