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4.wmf" ContentType="image/x-wmf"/>
  <Override PartName="/ppt/media/image3.png" ContentType="image/png"/>
  <Override PartName="/ppt/media/image5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7A96-11AE-496A-82FA-7C67FE6C5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7602-ABB2-43A0-9B91-110255BCB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293C-C797-4FF9-9A45-F26994FDE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A7B1-1821-4D9E-B505-3ECDCC7AA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29D-CADC-4A26-8906-9791DA9139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120-69AC-4F02-8987-AEC4E58556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D0E-5FEE-416E-BC2F-24CFD7A92C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91C-F024-440C-A2DE-89A126ACD5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041-2172-4513-9130-F8D4B93B32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7D0-7A5F-4DC5-82F9-DE84EF4BCD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838-163F-45FC-9D44-DD9C0814C8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44D8-2386-4277-9BA8-D42543BCA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ACB-6509-4EF9-B2FE-E16F19D400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C52-D891-4D96-97FC-EDF12477C1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144-A16E-4E9D-8BE2-2CA4C7EC2A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539-31D2-4E0C-8F40-B3813146CD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2C5-CCDC-4C50-AA80-FEE12057AF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6381-2DC8-471D-A9F0-93650D7E8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814F-BFD8-4787-B0B5-85C65164C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82CD-BD59-4EC9-B9ED-C43F0CEA7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753F-2C16-4729-8198-F96CDFA15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11D9-AB37-4FC0-92B8-452CD0CBA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047B-B371-4AB0-BA88-54E8D9428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9429-4A05-4AFD-88E0-24973D84F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CF53-0E3B-4B09-AC3B-562407F6C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689E-81A3-45D2-9393-20ED0FC6E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cu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 o tr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066680" y="3895560"/>
                <a:ext cx="608976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0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Corriente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poco controlable (cambia de muestra a muestr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to polarización fuente: hace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 = -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ayor estabilidad (Retroalimentación, aumenta impedancia salid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tricción impuesta por el voltaje de Pinch Off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3276720" cy="2692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886200" y="3429000"/>
            <a:ext cx="2146320" cy="3116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172200" y="3429000"/>
            <a:ext cx="2017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fuera de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7200" y="350532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24080" y="3581280"/>
                <a:ext cx="2354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80880" y="4267080"/>
                <a:ext cx="3748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533520" y="5334120"/>
            <a:ext cx="693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que 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entonce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es poco estable entre mues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8600" y="3124080"/>
                <a:ext cx="3747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18288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Cuál es la solución correc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bles en juego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267080" y="3124080"/>
                <a:ext cx="1897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380880" y="43434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o de Consistencia de las Hipó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as soluciones entregan u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embargo sólo la segunda cumple la condición de no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46000" y="5769000"/>
                <a:ext cx="2745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495680" y="5638680"/>
                <a:ext cx="31766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2176560"/>
            <a:ext cx="8077320" cy="4392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0" y="3352680"/>
            <a:ext cx="320040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a de 0 a 10 con incrementos de 1 (az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629400" y="38862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914400" y="5334120"/>
                <a:ext cx="1279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3911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“Acercamient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2065320"/>
            <a:ext cx="8001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sume zona de saturación 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09480" y="3098880"/>
                <a:ext cx="160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666880" y="29718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6320" y="3657600"/>
            <a:ext cx="502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Compuerta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055520" y="4495680"/>
                <a:ext cx="23655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762120" y="4876920"/>
                <a:ext cx="3543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066680" y="5791320"/>
                <a:ext cx="212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365760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pótesis son consisten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33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riación en torno a la 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2209680"/>
                <a:ext cx="3392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14440" y="2743200"/>
                <a:ext cx="1550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04920" y="3352680"/>
                <a:ext cx="20574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666880" y="3276720"/>
                <a:ext cx="20289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09480" y="4343400"/>
                <a:ext cx="37465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38080" y="5638680"/>
                <a:ext cx="34639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 flipH="1">
            <a:off x="2133720" y="37339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3429000"/>
            <a:ext cx="3276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.2V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-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4419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6095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: Ganancia es ~ 1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2108160"/>
            <a:ext cx="80773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1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J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&gt;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pendie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elocidad en la transi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jor N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ones: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esistencia (Triod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6002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ransición por la zona de saturación se realiza a un voltaje de entrad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2036880"/>
            <a:ext cx="8001000" cy="4516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3048120" cy="28922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533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2529000"/>
            <a:ext cx="19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5880" y="5410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48520" y="48769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Tri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038480" y="2437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390060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cuaciones JFETs análogas a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os dispositivos F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utilizarse como fuentes de corriente y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utilizan como Dispositivo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conectarse de tal modo que simulan una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guras de Mérito de dispositivos lógic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mprender los mecanismos físicos del funcionamiento de los JFET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s de Corriente,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Digit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Un vistazo a los Transistores F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s: Tres a cuatro ter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s,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ermi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uert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m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enaj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: voltaje Com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ltísima (aisl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orriente de compuerta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: 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y Grande integración (VL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entos”: Aisla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pacidades al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i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binación CMOS-T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FET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76560" y="2971800"/>
            <a:ext cx="6067080" cy="3377160"/>
            <a:chOff x="3076560" y="2971800"/>
            <a:chExt cx="6067080" cy="3377160"/>
          </a:xfrm>
        </p:grpSpPr>
        <p:grpSp>
          <p:nvGrpSpPr>
            <p:cNvPr id="99" name=""/>
            <p:cNvGrpSpPr/>
            <p:nvPr/>
          </p:nvGrpSpPr>
          <p:grpSpPr>
            <a:xfrm>
              <a:off x="3076560" y="2971800"/>
              <a:ext cx="6067080" cy="3377160"/>
              <a:chOff x="3076560" y="2971800"/>
              <a:chExt cx="6067080" cy="3377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4886640" y="5553360"/>
                <a:ext cx="566280" cy="523080"/>
                <a:chOff x="4886640" y="5553360"/>
                <a:chExt cx="566280" cy="5230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190480" y="5553360"/>
                  <a:ext cx="102960" cy="52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78160" y="5730480"/>
                  <a:ext cx="4428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5240520" y="576324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4886640" y="583308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 flipH="1">
                <a:off x="7843320" y="3428640"/>
                <a:ext cx="577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76560" y="548604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7" name=""/>
              <p:cNvCxnSpPr>
                <a:stCxn id="106" idx="0"/>
                <a:endCxn id="104" idx="0"/>
              </p:cNvCxnSpPr>
              <p:nvPr/>
            </p:nvCxnSpPr>
            <p:spPr>
              <a:xfrm flipV="1">
                <a:off x="3076560" y="5875920"/>
                <a:ext cx="1809360" cy="448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8421840" y="342864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3" idx="0"/>
              </p:cNvCxnSpPr>
              <p:nvPr/>
            </p:nvCxnSpPr>
            <p:spPr>
              <a:xfrm flipV="1">
                <a:off x="5451120" y="5409360"/>
                <a:ext cx="1309680" cy="349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sp>
            <p:nvSpPr>
              <p:cNvPr id="110" name=""/>
              <p:cNvSpPr/>
              <p:nvPr/>
            </p:nvSpPr>
            <p:spPr>
              <a:xfrm>
                <a:off x="50266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488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54680" y="5943240"/>
                <a:ext cx="721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32760" y="297180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843680" y="3657240"/>
                <a:ext cx="129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Drenaj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5" name=""/>
              <p:cNvCxnSpPr>
                <a:endCxn id="108" idx="0"/>
              </p:cNvCxnSpPr>
              <p:nvPr/>
            </p:nvCxnSpPr>
            <p:spPr>
              <a:xfrm flipV="1">
                <a:off x="7265880" y="5028480"/>
                <a:ext cx="11563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6" name=""/>
            <p:cNvSpPr/>
            <p:nvPr/>
          </p:nvSpPr>
          <p:spPr>
            <a:xfrm flipV="1">
              <a:off x="6763320" y="4921560"/>
              <a:ext cx="2383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463720" y="3289320"/>
            <a:ext cx="2365560" cy="1746000"/>
            <a:chOff x="5463720" y="3289320"/>
            <a:chExt cx="2365560" cy="1746000"/>
          </a:xfrm>
        </p:grpSpPr>
        <p:sp>
          <p:nvSpPr>
            <p:cNvPr id="118" name=""/>
            <p:cNvSpPr/>
            <p:nvPr/>
          </p:nvSpPr>
          <p:spPr>
            <a:xfrm flipV="1" rot="19902000">
              <a:off x="5466960" y="397404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19600" y="328932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460480" y="3288600"/>
            <a:ext cx="2385720" cy="1684080"/>
            <a:chOff x="5460480" y="3288600"/>
            <a:chExt cx="2385720" cy="1684080"/>
          </a:xfrm>
        </p:grpSpPr>
        <p:sp>
          <p:nvSpPr>
            <p:cNvPr id="121" name=""/>
            <p:cNvSpPr/>
            <p:nvPr/>
          </p:nvSpPr>
          <p:spPr>
            <a:xfrm flipV="1" rot="20089200">
              <a:off x="5468400" y="3968640"/>
              <a:ext cx="227340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1459600">
              <a:off x="5626080" y="3333600"/>
              <a:ext cx="220968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20746200">
            <a:off x="5538960" y="4217760"/>
            <a:ext cx="2178000" cy="6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785800">
            <a:off x="5635800" y="3557160"/>
            <a:ext cx="2176200" cy="60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722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7" idx="0"/>
            <a:endCxn id="128" idx="0"/>
          </p:cNvCxnSpPr>
          <p:nvPr/>
        </p:nvCxnSpPr>
        <p:spPr>
          <a:xfrm flipV="1">
            <a:off x="3911400" y="5169600"/>
            <a:ext cx="3402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9" name=""/>
          <p:cNvGrpSpPr/>
          <p:nvPr/>
        </p:nvGrpSpPr>
        <p:grpSpPr>
          <a:xfrm>
            <a:off x="4038480" y="2742840"/>
            <a:ext cx="2133720" cy="2797200"/>
            <a:chOff x="4038480" y="2742840"/>
            <a:chExt cx="2133720" cy="2797200"/>
          </a:xfrm>
        </p:grpSpPr>
        <p:sp>
          <p:nvSpPr>
            <p:cNvPr id="130" name=""/>
            <p:cNvSpPr/>
            <p:nvPr/>
          </p:nvSpPr>
          <p:spPr>
            <a:xfrm flipV="1">
              <a:off x="6172200" y="2742840"/>
              <a:ext cx="0" cy="6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251600" y="27432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251600" y="47016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1600" y="3213000"/>
              <a:ext cx="0" cy="19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8480" y="4780080"/>
              <a:ext cx="71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09400" y="5171760"/>
              <a:ext cx="12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ompue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44120" y="2970360"/>
            <a:ext cx="3579480" cy="1600920"/>
            <a:chOff x="4344120" y="2970360"/>
            <a:chExt cx="3579480" cy="1600920"/>
          </a:xfrm>
        </p:grpSpPr>
        <p:sp>
          <p:nvSpPr>
            <p:cNvPr id="137" name=""/>
            <p:cNvSpPr/>
            <p:nvPr/>
          </p:nvSpPr>
          <p:spPr>
            <a:xfrm flipV="1">
              <a:off x="5590080" y="3263040"/>
              <a:ext cx="2333520" cy="5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344120" y="2970360"/>
              <a:ext cx="3411360" cy="1600920"/>
              <a:chOff x="4344120" y="2970360"/>
              <a:chExt cx="3411360" cy="1600920"/>
            </a:xfrm>
          </p:grpSpPr>
          <p:sp>
            <p:nvSpPr>
              <p:cNvPr id="139" name=""/>
              <p:cNvSpPr/>
              <p:nvPr/>
            </p:nvSpPr>
            <p:spPr>
              <a:xfrm rot="840000">
                <a:off x="4420080" y="3674520"/>
                <a:ext cx="1102680" cy="764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523040" y="2970360"/>
                <a:ext cx="2333160" cy="56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422320" y="4001400"/>
                <a:ext cx="2333160" cy="56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2" name=""/>
            <p:cNvCxnSpPr>
              <a:stCxn id="137" idx="0"/>
              <a:endCxn id="141" idx="0"/>
            </p:cNvCxnSpPr>
            <p:nvPr/>
          </p:nvCxnSpPr>
          <p:spPr>
            <a:xfrm flipH="1">
              <a:off x="7754040" y="3263400"/>
              <a:ext cx="168840" cy="738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>
              <a:stCxn id="140" idx="0"/>
              <a:endCxn id="137" idx="1"/>
            </p:cNvCxnSpPr>
            <p:nvPr/>
          </p:nvCxnSpPr>
          <p:spPr>
            <a:xfrm>
              <a:off x="6854760" y="2970720"/>
              <a:ext cx="1068120" cy="293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2133720" y="4038480"/>
            <a:ext cx="2742840" cy="1663560"/>
            <a:chOff x="2133720" y="4038480"/>
            <a:chExt cx="2742840" cy="1663560"/>
          </a:xfrm>
        </p:grpSpPr>
        <p:grpSp>
          <p:nvGrpSpPr>
            <p:cNvPr id="145" name=""/>
            <p:cNvGrpSpPr/>
            <p:nvPr/>
          </p:nvGrpSpPr>
          <p:grpSpPr>
            <a:xfrm>
              <a:off x="3070080" y="4038480"/>
              <a:ext cx="1806480" cy="1663560"/>
              <a:chOff x="3070080" y="4038480"/>
              <a:chExt cx="1806480" cy="16635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478320" y="5082480"/>
                <a:ext cx="433080" cy="448560"/>
                <a:chOff x="3478320" y="5082480"/>
                <a:chExt cx="433080" cy="448560"/>
              </a:xfrm>
            </p:grpSpPr>
            <p:sp>
              <p:nvSpPr>
                <p:cNvPr id="147" name=""/>
                <p:cNvSpPr/>
                <p:nvPr/>
              </p:nvSpPr>
              <p:spPr>
                <a:xfrm flipH="1" flipV="1">
                  <a:off x="3594960" y="5082480"/>
                  <a:ext cx="88560" cy="44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728520" y="5189760"/>
                  <a:ext cx="37800" cy="19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3478320" y="5315040"/>
                  <a:ext cx="16272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3749040" y="5261760"/>
                  <a:ext cx="16236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H="1">
                <a:off x="3070080" y="4038480"/>
                <a:ext cx="1806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70080" y="4495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" name=""/>
              <p:cNvCxnSpPr>
                <a:stCxn id="152" idx="0"/>
                <a:endCxn id="149" idx="0"/>
              </p:cNvCxnSpPr>
              <p:nvPr/>
            </p:nvCxnSpPr>
            <p:spPr>
              <a:xfrm flipV="1">
                <a:off x="3070080" y="5352120"/>
                <a:ext cx="408960" cy="134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4" name=""/>
              <p:cNvSpPr/>
              <p:nvPr/>
            </p:nvSpPr>
            <p:spPr>
              <a:xfrm>
                <a:off x="3136680" y="533376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05040" y="518148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37200" y="4724280"/>
                <a:ext cx="668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S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668680" y="4114440"/>
              <a:ext cx="66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495680"/>
              <a:ext cx="12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9588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312408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8620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2743200"/>
            <a:ext cx="121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6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10224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6699600" y="4837680"/>
            <a:ext cx="541080" cy="566640"/>
            <a:chOff x="6699600" y="4837680"/>
            <a:chExt cx="541080" cy="566640"/>
          </a:xfrm>
        </p:grpSpPr>
        <p:sp>
          <p:nvSpPr>
            <p:cNvPr id="168" name=""/>
            <p:cNvSpPr/>
            <p:nvPr/>
          </p:nvSpPr>
          <p:spPr>
            <a:xfrm flipV="1">
              <a:off x="6779880" y="5262840"/>
              <a:ext cx="4608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590000">
              <a:off x="6810480" y="4843440"/>
              <a:ext cx="1522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ncendido Pinch-Off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2187720"/>
            <a:ext cx="7696080" cy="4373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5880" y="28954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6386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05120" y="6095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629400" y="2514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4495680"/>
            <a:ext cx="22860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: Pinch Off = - 1.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352680" y="4800600"/>
            <a:ext cx="60984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: Gráfico Semi-Logarítmic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vario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jo Pinch-Off el JFET se apa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7910640" cy="4332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562720" y="3238560"/>
            <a:ext cx="3429000" cy="2019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2362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4267080"/>
            <a:ext cx="11430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1.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251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010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3429000"/>
            <a:ext cx="1371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8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37339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2438280"/>
            <a:ext cx="3429000" cy="83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¿Qué pasa si 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&gt;0.5 V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untura compuerta fuente se polariza en directa y se pierde alta imped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5181480"/>
            <a:ext cx="3429000" cy="7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FET se comporta mejor como Fuente de Corriente par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y “pequeño” (pero no menor al Pinch-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328840"/>
            <a:ext cx="7696080" cy="421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180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4800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37320" y="32432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30160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30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746320" y="39304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02440" y="376704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15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495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571640" y="4571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819520" y="5409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Resistencia de Encendi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Notar linealidad de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124000"/>
            <a:ext cx="7772400" cy="442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62485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61722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343400" y="4724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9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590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2438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14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7:23Z</dcterms:modified>
  <cp:revision>481</cp:revision>
  <dc:subject>Transistores JFET</dc:subject>
  <dc:title>Clase 11</dc:title>
</cp:coreProperties>
</file>