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4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23.wmf" ContentType="image/x-wmf"/>
  <Override PartName="/ppt/media/image18.jpeg" ContentType="image/jpeg"/>
  <Override PartName="/ppt/media/image22.wmf" ContentType="image/x-wmf"/>
  <Override PartName="/ppt/media/image21.png" ContentType="image/png"/>
  <Override PartName="/ppt/media/image20.wmf" ContentType="image/x-wmf"/>
  <Override PartName="/ppt/media/image16.jpeg" ContentType="image/jpeg"/>
  <Override PartName="/ppt/media/image26.wmf" ContentType="image/x-wmf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3B795-A67F-493E-BCEB-CF54CDBCF5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A0BA1-A9C8-4BE2-9C94-338ACF129C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6317A-93CA-49BE-8484-29F101F382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F87F9-5EB5-473C-8AC2-3516D20A67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7CF5-6C02-468A-BBCD-08127955F5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F3BF-64FD-45EC-9558-9B9229D815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2831-5EBC-49DA-85A0-D398D8A3BC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1D6C-FE97-4810-8905-A41A56A61B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D5EA-E048-47C7-BB22-EB35BBC5E5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2348-E14C-4105-814F-DDE28525ED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E592-F58E-4556-9F70-383B0C6C0A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E6C87-D597-423A-A097-E7FD170A2D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5289-FCA8-4DC1-91DE-8F3619F628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ED0A-63CE-428E-B84E-ADB0F0A211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93EC-CC12-4544-B36E-DF8C809A31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73C0-2C58-417F-A10C-A48769D2B4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78A1-9FFE-4CC6-8CBA-96F0085916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01121-286B-4125-B02A-76AEE6C1D9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51FB3-B08D-4AE2-906F-3CC9ADE0D3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7A4CC-2372-4082-B987-5A738496E6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6E47B-3FCE-489A-A444-0455C5BF92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6972C-1802-4D21-86FD-AA102DB3C4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7E6CB-F0CF-43E3-9CAF-7A83E4A195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BFEEC-327A-4272-AAB5-DBAC1E19B1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6606-5B95-4E26-B628-EC5AD6CD0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AAB2-5A2D-4BD2-8B8E-EAB0A7618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Operació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81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 “abiert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se forma can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l aplicar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no circula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untura Drenaje-Cuerpo en invers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pa de agotamiento se extiende en juntura DC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 “cerrad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forma can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l aplicar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xiste paso de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voltajes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pequeños el comportamiento es resistiv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MOSFET%20Canal%20n%20vista%20Transversal%20con%20Vds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4953240" cy="221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6" name="MOSFET%20Canal%20n%20vista%20Transversal%20con%20Vds%20y%20Vgs" descr=""/>
          <p:cNvPicPr/>
          <p:nvPr/>
        </p:nvPicPr>
        <p:blipFill>
          <a:blip r:embed="rId2"/>
          <a:stretch/>
        </p:blipFill>
        <p:spPr>
          <a:xfrm>
            <a:off x="152280" y="4214880"/>
            <a:ext cx="4572000" cy="236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Operació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4190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puerta “cerrada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umento de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genera asimetría entre junturas Compuerta-Fuente y Compuerta-Drenaj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mpo Eléctrico disminuye hacia el drenaj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simetría en juntur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-Fu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en directa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inyectan portador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-Dren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directa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–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ampo eléctric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ortadores minoritarios en la capa de invers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iste “Pinch-Off”, o estrechamiento total del canal: Corriente no cambia ante cambios de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MOSFET%20Canal%20n%20vista%20Transversal%20con%20Vds%20grande%20y%20Vgs" descr=""/>
          <p:cNvPicPr/>
          <p:nvPr/>
        </p:nvPicPr>
        <p:blipFill>
          <a:blip r:embed="rId1"/>
          <a:stretch/>
        </p:blipFill>
        <p:spPr>
          <a:xfrm>
            <a:off x="0" y="3840120"/>
            <a:ext cx="535608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n Región Lineal: Análisis Cuantitativ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gión Line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 habilitada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existe canal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equeñ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nsidad de carga en la interfaz semiconductor-óxido: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91960" y="4191120"/>
                <a:ext cx="20098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34" name="MOSFET%20cuantitativo%20coordenadas" descr=""/>
          <p:cNvPicPr/>
          <p:nvPr/>
        </p:nvPicPr>
        <p:blipFill>
          <a:blip r:embed="rId1"/>
          <a:stretch/>
        </p:blipFill>
        <p:spPr>
          <a:xfrm>
            <a:off x="5257800" y="1973160"/>
            <a:ext cx="3581280" cy="4579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349360" y="4038480"/>
                <a:ext cx="285444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S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380880" y="4495680"/>
            <a:ext cx="4648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spejando la densidad superficial de portadores minoritarios n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39960" y="5638680"/>
                <a:ext cx="18288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n Región Lineal: Análisis Cuantitativ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rriente por el can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por el canal (debido a campo generado por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emplazando n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MOSFET%20cuantitativo%20coordenadas" descr=""/>
          <p:cNvPicPr/>
          <p:nvPr/>
        </p:nvPicPr>
        <p:blipFill>
          <a:blip r:embed="rId1"/>
          <a:stretch/>
        </p:blipFill>
        <p:spPr>
          <a:xfrm>
            <a:off x="5257800" y="1973160"/>
            <a:ext cx="3581280" cy="4579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80880" y="4191120"/>
            <a:ext cx="4648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914400" y="3276720"/>
                <a:ext cx="37497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b>
                    </m:sSub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914400" y="3809880"/>
                <a:ext cx="370512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W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80880" y="3886200"/>
            <a:ext cx="4648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gión lineal o triodo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equ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mpos eléctricos en aislante y canal son ~ unifor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 / 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157400" y="5629320"/>
                <a:ext cx="337032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n Región Lineal: Análisis Cuantitativ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4648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portamiento zona line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MOSFET%20cuantitativo%20coordenadas" descr=""/>
          <p:cNvPicPr/>
          <p:nvPr/>
        </p:nvPicPr>
        <p:blipFill>
          <a:blip r:embed="rId1"/>
          <a:stretch/>
        </p:blipFill>
        <p:spPr>
          <a:xfrm>
            <a:off x="5257800" y="1973160"/>
            <a:ext cx="3581280" cy="45799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80880" y="4191120"/>
            <a:ext cx="4648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976320" y="2276640"/>
                <a:ext cx="34164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380880" y="2743200"/>
            <a:ext cx="4648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debe ser 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defin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 Voltaje Umbral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ámetro 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Notar que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x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x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/ 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x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143000" y="4876920"/>
                <a:ext cx="305928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K</m:t>
                    </m:r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066680" y="5715000"/>
                <a:ext cx="31035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2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  <m:r>
                              <m:t xml:space="preserve">)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n Región Lineal: Análisis Cuantitativ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5410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portamiento zona line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-165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ebe ser mayor 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ara que se forme capa de inversión (canal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-165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istencia de encendido Drenaje-Fu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62760" indent="-132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finido por el voltaje de encendido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62760" indent="-132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stante K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MOSFET%20cuantitativo%20coordenadas" descr=""/>
          <p:cNvPicPr/>
          <p:nvPr/>
        </p:nvPicPr>
        <p:blipFill>
          <a:blip r:embed="rId1"/>
          <a:stretch/>
        </p:blipFill>
        <p:spPr>
          <a:xfrm>
            <a:off x="5724360" y="1973160"/>
            <a:ext cx="3343320" cy="4275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447920" y="5181480"/>
                <a:ext cx="30589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K</m:t>
                    </m:r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447920" y="4267080"/>
                <a:ext cx="31035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2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  <m:r>
                              <m:t xml:space="preserve">)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o General: Análisis Cuantitativ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153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in restricción provoca Potencial V(x) en el canal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Hipótesis de Campos Eléctricos Uniformes ya no es vá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mpo Eléctrico en el aislante: E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– V(x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)/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x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mpo Eléctrico en el canal: E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V(x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MOSFET%20cuantitativo%20general%20coordenadas" descr=""/>
          <p:cNvPicPr/>
          <p:nvPr/>
        </p:nvPicPr>
        <p:blipFill>
          <a:blip r:embed="rId1"/>
          <a:stretch/>
        </p:blipFill>
        <p:spPr>
          <a:xfrm>
            <a:off x="762120" y="4191120"/>
            <a:ext cx="5851440" cy="245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177920" y="3276720"/>
                <a:ext cx="613728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</m:e>
                    </m:d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o General: Análisis Cuantitativ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ero el canal es un “circuito serie”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(x)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MOSFET%20cuantitativo%20general%20coordenadas" descr=""/>
          <p:cNvPicPr/>
          <p:nvPr/>
        </p:nvPicPr>
        <p:blipFill>
          <a:blip r:embed="rId1"/>
          <a:stretch/>
        </p:blipFill>
        <p:spPr>
          <a:xfrm>
            <a:off x="1447920" y="4114800"/>
            <a:ext cx="5867280" cy="246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590920" y="2438280"/>
                <a:ext cx="38844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W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467000" y="3276720"/>
                <a:ext cx="56019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W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S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o General: Análisis Cuantitativ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r lo tanto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ara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 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iene dado por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923760" y="2362320"/>
                <a:ext cx="660744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380880" y="2895480"/>
            <a:ext cx="7620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Zona Lin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cuación predice un máximo en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ara 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200400" y="4191120"/>
                <a:ext cx="20098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380880" y="4343400"/>
            <a:ext cx="7620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la ecuación no es válida: el voltaje en la juntura drenaje-compuerta sería menor que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por lo que desaparece la zona de inversión en ese extr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o que sucede es que ocurre Pinch-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ienza la zona de “Saturación” MOSF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o General: Análisis Cuantitativ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inch Off ocurre par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–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240" indent="-108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l largo efectivo de l canal es L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ff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L -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240" indent="-108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os portadores al llegar a x=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on acelerados hacia el drenaje debido a la existencia de la capa de agotamient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MOSFET%20cuantitativo%20general%20pinchoff" descr=""/>
          <p:cNvPicPr/>
          <p:nvPr/>
        </p:nvPicPr>
        <p:blipFill>
          <a:blip r:embed="rId1"/>
          <a:stretch/>
        </p:blipFill>
        <p:spPr>
          <a:xfrm>
            <a:off x="1295280" y="4046400"/>
            <a:ext cx="5761080" cy="2583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814400" y="3124080"/>
                <a:ext cx="47991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L</m:t>
                            </m:r>
                            <m:r>
                              <m:t xml:space="preserve">−</m:t>
                            </m:r>
                            <m:r>
                              <m:t xml:space="preserve">δ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Dispositivos Electrónicos Bás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0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Dispositivos MOSFE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o General: Análisis Cuantitativo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5000"/>
          </a:bodyPr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incrementa más allá del Pinch Off (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–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 en zona de Saturación MOSFE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corriente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umentará levemente respecto a su valor en Pinch Off (Correcciones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/L &lt;&lt;1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milar al efecto Early en Transistores BJ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190600" y="3657600"/>
                <a:ext cx="36403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80880" y="4343400"/>
                <a:ext cx="363708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δ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983120" y="4191120"/>
                <a:ext cx="30355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</m:t>
                        </m:r>
                      </m:e>
                    </m:d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O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δ</m:t>
                                    </m:r>
                                  </m:num>
                                  <m:den>
                                    <m:r>
                                      <m:t xml:space="preserve">L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362320" y="5334120"/>
                <a:ext cx="50212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2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δ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S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cuaciones MOSFET de Canal 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28840" y="1828440"/>
            <a:ext cx="3962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ámetr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Threshold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[V]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OSFET Enhancement: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 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&gt; 0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OSFET Depletion: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 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&lt; 0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Zona Saturación K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K &gt; 0 (canal tipo n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52280" y="1828800"/>
            <a:ext cx="4724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Zon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te 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ineal o triode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y  0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&lt;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Zona “Intermedia”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y  0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Zona de Saturación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y 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Existe pendiente no nula por la modulación del largo del canal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5932440" y="3809880"/>
                <a:ext cx="26020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; </m:t>
                    </m:r>
                    <m:r>
                      <m:t xml:space="preserve">K</m:t>
                    </m:r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98280" y="4648320"/>
                <a:ext cx="5845320" cy="17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K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e>
                              </m:d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;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&lt;&lt;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K</m:t>
                              </m:r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GS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T</m:t>
                                          </m:r>
                                        </m:sub>
                                      </m:sSub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sSubSup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DS</m:t>
                                          </m:r>
                                        </m:sub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bSup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;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K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GS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T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  <m:r>
                                <m:t xml:space="preserve">≥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: Zona Lineal o Triode y Cor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5486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Transistor MOSFET de potenci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2309760"/>
            <a:ext cx="7848720" cy="4273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914400" y="3048120"/>
            <a:ext cx="3375000" cy="20541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486400" y="54864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26668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34320" y="36576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33920" y="6324480"/>
            <a:ext cx="76176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320" y="27432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4674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19920" y="57913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05720" y="2971800"/>
            <a:ext cx="3045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57400" y="5334120"/>
            <a:ext cx="10666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= 3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6815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5334120"/>
            <a:ext cx="10666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57200" y="5715000"/>
            <a:ext cx="5335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1978200"/>
            <a:ext cx="8458200" cy="45986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: Zona Lineal o Triode y Cor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54864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OSFET de potenci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/s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n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mo parámetr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914400" y="3048120"/>
            <a:ext cx="3375000" cy="20541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486400" y="54864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21337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&gt; 7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29600" y="228600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62520" y="6354720"/>
            <a:ext cx="76176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320" y="23623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8077320" y="2514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19920" y="57913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480" y="236232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54320" y="5257800"/>
            <a:ext cx="10666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= 3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787480" y="56055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5334120"/>
            <a:ext cx="10666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57200" y="5715000"/>
            <a:ext cx="5335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153280" y="312408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7696080" y="3276720"/>
            <a:ext cx="5335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153280" y="373392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772400" y="388620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077320" y="457200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7619760" y="4571640"/>
            <a:ext cx="53316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77320" y="541008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7619760" y="5257440"/>
            <a:ext cx="5331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: Curvas de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Zona Lineal o triodo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(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Zona Saturación (Fuente Corriente)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(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2435400"/>
            <a:ext cx="7620120" cy="41479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5715000" y="3889440"/>
            <a:ext cx="3375000" cy="20541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5257800" y="6248520"/>
            <a:ext cx="106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5638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50292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38862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8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7432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81280" y="6354720"/>
            <a:ext cx="76212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320" y="27432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81080" y="563868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1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143000" y="5867280"/>
            <a:ext cx="9907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666880" y="495288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3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514600" y="525780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8120" y="373392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09680" y="266688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7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505320" y="2666880"/>
            <a:ext cx="17524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3429000"/>
            <a:ext cx="1828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1.6 A/V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Depletion de Canal 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Zona Lineal o Triode y Cor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2017800"/>
            <a:ext cx="8153280" cy="45212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685800" y="2895480"/>
            <a:ext cx="3711600" cy="22021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74600" y="5257800"/>
            <a:ext cx="13716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= - 3.5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60400" y="56055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54864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172200" y="22860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1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7695720" y="2742840"/>
            <a:ext cx="38124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19920" y="57150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86600" y="243828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77320" y="327672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8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7619760" y="3124080"/>
            <a:ext cx="6094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077320" y="373392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7162560" y="388620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077320" y="457200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7315200" y="4419720"/>
            <a:ext cx="83808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077320" y="525780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7619760" y="5105520"/>
            <a:ext cx="53316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924680" y="2743200"/>
            <a:ext cx="106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924680" y="2286000"/>
            <a:ext cx="106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777204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657600" y="6354720"/>
            <a:ext cx="76212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320" y="25909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Depletion de Canal 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urvas de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2135160"/>
            <a:ext cx="7924680" cy="44038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019920" y="6172200"/>
            <a:ext cx="106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 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257800" y="50292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867280" y="457200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772400" y="2209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581280" y="6354720"/>
            <a:ext cx="76212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320" y="27432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81080" y="6248520"/>
            <a:ext cx="1371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3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1828800" y="579096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971800" y="502920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5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2514600" y="525780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91120" y="365760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9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3962520" y="38862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2743200"/>
            <a:ext cx="16002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11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9480" y="2666880"/>
            <a:ext cx="251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0.0111 mA/V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6400800" y="6095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001000" y="5791320"/>
            <a:ext cx="106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 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7695720" y="6019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924680" y="5486400"/>
            <a:ext cx="106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7543800" y="5638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943600" y="38098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772400" y="32004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8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723920" y="297180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Transistores MOSFET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lta impedancia en la compuer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trol de corriente mediante voltaje en la compuer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iste umbral de activación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Umbral positivo o negativo dependiendo de si el dispositivo es Enhancement/Depletion ó tipo n / tipo 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Zonas de Ope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studiar los modos de operación de los MOSFE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Características MOS (Metal-Oxido-Semiconductor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Incrementales (NMOS, PMO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Comprender los modelos y sus limitacion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Polarización de los FET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Definicion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ransistor MOSFE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uatro terminal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Usualmente Cuerpo (Body) conectado a Fuente (Sourc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MOSFET%20Canal%20n%20vista%20general" descr=""/>
          <p:cNvPicPr/>
          <p:nvPr/>
        </p:nvPicPr>
        <p:blipFill>
          <a:blip r:embed="rId1"/>
          <a:stretch/>
        </p:blipFill>
        <p:spPr>
          <a:xfrm>
            <a:off x="76320" y="2895480"/>
            <a:ext cx="6705360" cy="3065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105520" y="4495680"/>
            <a:ext cx="3962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br>
              <a:rPr sz="1600"/>
            </a:b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i el substrato es tipo p el MOSFET será de canal n y vice-versa.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- Existen de tipo “enhancement” (como el de la figura) y “depletion” (donde se ha dopado el semiconductor bajo la capa aislan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594360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osfet enhancement de Canal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Definicione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nal Bajo Compuer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ecesidad de sobrepasar voltaje umbral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ara formar el can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hancement o Increment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xistencia de canal sin voltaje en compuer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pletion o Decrement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iste un dopado adicional por debaj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opado del Substrat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ubstrato tipo p: MOSFET de canal n (mismo tipo que la fuente y el drenaj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ubstrato tipo n: MOSFET de canal p (mismo tipo que la fuente y el drenaj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4495680"/>
            <a:ext cx="3809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erminal del Substrato o “Cuerpo” (Bod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ectado a la Fu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Símbol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1828800"/>
          <a:ext cx="6095880" cy="430992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609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hanc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le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erpo lib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erpo conectado a Fu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erpo lib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erpo conectado a Fu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23880" y="3581280"/>
            <a:ext cx="1051200" cy="1089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819520" y="3581280"/>
            <a:ext cx="1006200" cy="1067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523880" y="4876920"/>
            <a:ext cx="1067040" cy="1050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2819520" y="4876920"/>
            <a:ext cx="1006200" cy="1006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3962520" y="3581280"/>
            <a:ext cx="1006200" cy="1006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5257800" y="3581280"/>
            <a:ext cx="952560" cy="1089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3962520" y="4952880"/>
            <a:ext cx="1104840" cy="1051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8"/>
          <a:stretch/>
        </p:blipFill>
        <p:spPr>
          <a:xfrm>
            <a:off x="5181480" y="4952880"/>
            <a:ext cx="968400" cy="1028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477120" y="2527200"/>
            <a:ext cx="2514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Nota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isten en la literatura otros símbolos para representar los dispositivos MOSFET indic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MOSFET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Se estudiarán los MOSFET de canal 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Tanto Enhacement como Depletio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Propuesto: Análisis y generalización para los MOSFET de canal p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Característica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320" y="1905120"/>
            <a:ext cx="40384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ructura 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etal-Oxide-Semiconduct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estructura existent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e la compuerta (Gate)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y el cuerpo (Body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 define conduc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en la compuerta respecto al cuerp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ienza a “atraer” portadores minoritarios (n) a la capa aisla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MOSFET%20Canal%20n%20vista%20Transversal" descr=""/>
          <p:cNvPicPr/>
          <p:nvPr/>
        </p:nvPicPr>
        <p:blipFill>
          <a:blip r:embed="rId1"/>
          <a:stretch/>
        </p:blipFill>
        <p:spPr>
          <a:xfrm>
            <a:off x="4114800" y="1905120"/>
            <a:ext cx="5029200" cy="3251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6320" y="4724280"/>
            <a:ext cx="8610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voltaje suficientemente alto se forma un canal de tipo n (Capa de Inversión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ición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“Voltaje Threshold”, no confundir con el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de BJ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voltajes de compuerta más grandes el canal será may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Característica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960" y="1904760"/>
            <a:ext cx="4343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pa de Óxido es Aisla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istencia (DC) Compuert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uy al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 (DC) Compuerta despreciab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trol del “encendido” del transistor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usualmente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porque vienen conectados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forma natural el Transistor MOSFET es un amplificador de Transconducta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xisten comportamientos capacitiv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 frecuencias “altas” la impedancia puede ser baj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s señales de alta frecuencia pueden “evitar” la alta resistencia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MOSFET%20Canal%20n%20vista%20Transversal" descr=""/>
          <p:cNvPicPr/>
          <p:nvPr/>
        </p:nvPicPr>
        <p:blipFill>
          <a:blip r:embed="rId1"/>
          <a:stretch/>
        </p:blipFill>
        <p:spPr>
          <a:xfrm>
            <a:off x="4343400" y="2052720"/>
            <a:ext cx="48006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9T15:02:40Z</dcterms:created>
  <dc:creator>Domingo Morales Lizama</dc:creator>
  <dc:description/>
  <dc:language>en-US</dc:language>
  <cp:lastModifiedBy>Leszek Szczecinski</cp:lastModifiedBy>
  <dcterms:modified xsi:type="dcterms:W3CDTF">2003-08-05T22:02:15Z</dcterms:modified>
  <cp:revision>439</cp:revision>
  <dc:subject>Dispositivos MOSFET</dc:subject>
  <dc:title>Clase 10</dc:title>
</cp:coreProperties>
</file>