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5.png" ContentType="image/png"/>
  <Override PartName="/ppt/media/image28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CFC0-383D-4928-87D6-188892B1A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2E27-33B3-40DC-8897-FB30138C6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F4B75-EE3A-4BBC-8D2C-067961D91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FDFC-877B-47B6-94FA-4C47869D1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8DE-A212-44E3-B7E6-8F8EBFB1F9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8F1-8527-45BD-8BB0-A1DD82F6C3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6F1-D895-41D3-B0E7-6007E98692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15B-B66F-47D2-BABC-1402844283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1E8-F5B2-4C93-9FE1-F5F25B6BFC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92F-FB5B-4677-9BDB-8D2BD6E0A2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AE7-B2A2-4B74-B136-B77187056D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F51F-8786-4C86-9F1F-695F89B3B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754-5BD7-448D-9187-8861B78927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987-E897-4C2A-8D11-F926ED9BA1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A82-0CF3-432C-8EAF-01EDCE419B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7F8-8754-48F0-911F-8F487CDABA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3CC-1885-4920-9799-B26559B33C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05EE-D802-4418-9917-0C8FF7CAA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53AF-ECBD-435B-BC82-19F1D0A9B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B352-2653-415D-8E07-778A84793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B51A-1FED-4B2B-8138-35CA46DCB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8B6D-8541-4628-B3F7-0C1D27BC1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85BB-D748-4D38-92A4-27750CC3F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DFFD-610A-47F6-8908-649F8B20B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99D9-6E8C-4AFF-BB33-894C1FC30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FCEC-E243-41F0-9ED7-34DBB7ED7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077920"/>
            <a:ext cx="7848720" cy="4467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735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interruptores en paral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ecta un inversor a la salida y se obtiene una compuerta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372280" cy="317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553080" y="2209680"/>
          <a:ext cx="2057400" cy="18255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477120" y="4495680"/>
            <a:ext cx="2149200" cy="1684440"/>
            <a:chOff x="6477120" y="4495680"/>
            <a:chExt cx="2149200" cy="1684440"/>
          </a:xfrm>
        </p:grpSpPr>
        <p:grpSp>
          <p:nvGrpSpPr>
            <p:cNvPr id="153" name=""/>
            <p:cNvGrpSpPr/>
            <p:nvPr/>
          </p:nvGrpSpPr>
          <p:grpSpPr>
            <a:xfrm>
              <a:off x="6477120" y="4495680"/>
              <a:ext cx="2149200" cy="1684440"/>
              <a:chOff x="6477120" y="4495680"/>
              <a:chExt cx="2149200" cy="168444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4495680"/>
                <a:ext cx="2149200" cy="168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6792840" y="4910040"/>
                <a:ext cx="1526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15160" y="5345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63080" y="5129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4771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542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5328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122560"/>
            <a:ext cx="7772400" cy="442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3741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(configuración inversor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so desde corte a saturación y vice-versa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pasa por zona activ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importantes en la conmuta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e colector “pull-up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que el voltaje “suba” al nivel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971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aso en la conmutación 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(tiempo de propag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High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Low (corte a saturación) rápida: deben removerse portadores minoritarios que son muy po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(saturación a corte) lenta: exceso de portadores en la base inyectados desde la juntura emisor y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trán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tadores inyectados tardan un tiempo finito en atravesar la base y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6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 : Característica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aso en la Conmu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aso(Direct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versa) &gt; Retraso(Invers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irect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retraso (delay): remover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subida (rise): Constante de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2681280"/>
            <a:ext cx="7010640" cy="3948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30520" y="551664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1936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4864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842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 de “tránsit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inyectados tardan tiempo finito en atravesar la base para alcanzar el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capaz de “seguir” variaciones “rápida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factor de transi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redu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mutación: Conviene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s: Dopado asimétrico en la base: Genera la existencia de un campo que acelera los portadores (por ejemplo dopado lineal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en exceso en la bas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ay que remover Gran cantidad de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a primer orde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orden 2 en x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 lineal en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477120" y="2712960"/>
                <a:ext cx="20001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57840" y="4568760"/>
                <a:ext cx="1819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496200" y="3632040"/>
                <a:ext cx="1900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t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ncias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retras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gue conduciendo por un tiempo 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urante el cual remueve la carga en exceso en la bas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uego de esto entra en acción la capacidad de difusión que intenta descargarse con constante de tiempo impuesta p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subida: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tura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si no existe retraso en la respuest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bajada menor por capacidad de transi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92880" y="2514600"/>
                <a:ext cx="3346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05320" y="4900680"/>
                <a:ext cx="3638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pa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ondensador Speed-U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mueve portadores en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(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86040" y="19810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Simp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4120" y="3154320"/>
            <a:ext cx="3489120" cy="3322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320" y="3160800"/>
            <a:ext cx="5105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9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Inversor Simp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ndensador Speed-Up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698480"/>
            <a:ext cx="8839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ensador Speed-U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yuda a remover rápidamente de la base los portadores en exce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utiliza en la actualidad por cuanto existen mejores alternativas (etapas de entrada TTL, las veremos más adelante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Schottky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juntura base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a al transistor “justo antes” de saturars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importancia radica en que la identificación de la causa de un problema genera la posibilidad de una solución prác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: Conectiv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uertas Lógicas se interconectan entre sí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 esta forma se pueden crear funciones booleanas, registros, memorias,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etapa siguiente presenta una capacidad equivalente a la salida de la etapa en cuest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voca retras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n-in y Fan-o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 restricciones al número de compuertas que pueden ser conectadas a la entrada y salida de un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pacitanci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tancia de Carga: Etapas sigui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roduce constante de tiempo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la 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 (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saturad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rata de pasar a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carga exponencialmente con constante de tiemp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dea: “achic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: Gran corriente cuando Q1 está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High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Low (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pasa de Corte 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descarga a corriente consta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uy Rápi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~ 10pF (“más parecido a capacidad de transición que capacidad dinámic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42900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15000" y="5105520"/>
                <a:ext cx="2971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54380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19320" y="2438280"/>
            <a:ext cx="4815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7048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27160" y="2514600"/>
            <a:ext cx="69501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933960" cy="398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315200" y="2133720"/>
            <a:ext cx="167652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ámetros del modelo “híbrido” del transistor para operación en zona activa a pequeña señ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4130640"/>
            <a:ext cx="1676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2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tro modelo es el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que además sirve para alta fr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912000" cy="1485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el comportamiento de un invers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ático: Transistor como switch o interrupt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compuertas lógicas bás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entarios sobre consumos/velocidad/fan-ou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námico: Transistor en la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ojas de datos Transist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como conmut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y corte defin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s a “baja resistencia” y “alta resiste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terpretación como interrup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físicos: tiempo de almacenamiento (crítico el de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debido al exceso de portadores en la base); tiempo de tráns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ones apuntan a extraer rápidamente los portadores en exceso. Ejemplo: Condensador Speed-U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ectividad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retrasos por condensador equivalente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mites al número de compuertas conectadas: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es como conmutadores ó switch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n 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bierto: alta resistencia (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errado: baja resistencia (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327024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0" y="3733920"/>
            <a:ext cx="213372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ceptualizar al transistor como un interruptor permite analizar fácilmente las configuraciones en </a:t>
            </a:r>
            <a:r>
              <a:rPr b="0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égimen perman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en otras palabras luego de la conmu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292880" y="1360440"/>
            <a:ext cx="1317600" cy="2296800"/>
            <a:chOff x="7292880" y="1360440"/>
            <a:chExt cx="1317600" cy="22968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292880" y="2743200"/>
                  <a:ext cx="2224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8055000" y="2210040"/>
                  <a:ext cx="55548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750080" y="1360440"/>
                  <a:ext cx="3715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7674120" y="1524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7640" y="2637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472520" y="3233520"/>
              <a:ext cx="380880" cy="423720"/>
              <a:chOff x="7472520" y="3233520"/>
              <a:chExt cx="380880" cy="423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472520" y="3435480"/>
                <a:ext cx="380880" cy="221760"/>
                <a:chOff x="7472520" y="3435480"/>
                <a:chExt cx="380880" cy="2217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7472520" y="3568680"/>
                  <a:ext cx="380880" cy="88560"/>
                  <a:chOff x="7472520" y="3568680"/>
                  <a:chExt cx="380880" cy="885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7472520" y="3568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548480" y="361296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624800" y="365724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flipV="1">
                  <a:off x="7666200" y="3435480"/>
                  <a:ext cx="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2" name=""/>
              <p:cNvCxnSpPr>
                <a:stCxn id="104" idx="0"/>
                <a:endCxn id="111" idx="0"/>
              </p:cNvCxnSpPr>
              <p:nvPr/>
            </p:nvCxnSpPr>
            <p:spPr>
              <a:xfrm flipH="1">
                <a:off x="7665840" y="3233520"/>
                <a:ext cx="2160" cy="20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3" name=""/>
            <p:cNvSpPr/>
            <p:nvPr/>
          </p:nvSpPr>
          <p:spPr>
            <a:xfrm>
              <a:off x="7674120" y="250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4400" y="2221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1480" y="1828800"/>
              <a:ext cx="30492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umo de Potencia Está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: mínimo, circulan corrientes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: alto, en el circuito base y en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uente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A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7,25mW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3317760"/>
            <a:ext cx="3505320" cy="3235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320" y="331956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934320" y="3367080"/>
            <a:ext cx="213336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ambién existe consumo de potencia dinámico, es decir cuando el transistor esta conmutando desde uno de los  estados (corte/saturación)  al ot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uede estar encendida. Tiene un pequeño potencial producto de la corriente de saturación que circula por la resistencia bas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stor se encuentra en corte o invers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n un divisor de tensión (juntura np en serie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voltaj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gana la resistencia equivalente de una juntura en inversa, quedando lo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juntura. Por lo tanto no circula corriente por el colector del transistor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debe presentar breakdown 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pues en caso contrario la juntura conducirá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3504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ctiva, transistor estará en zona activa o satur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estuviese en activa, suponiendo el peor caso con 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m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 se tendría en el colector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30*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mA. En la resistencia de colector caerían 150V, lo cual no es posible. Por lo tanto se encuentra en 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81280" y="3325680"/>
            <a:ext cx="3497400" cy="322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320" y="3313080"/>
            <a:ext cx="350496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62920" y="3351240"/>
            <a:ext cx="1828800" cy="27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istencia de Saturación R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mayor corriente de colector en saturación, men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voltaje colector-emisor (por el divisor de tensió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aturación se debe tener que la corriente de base es mayor a la corriente de base míni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 el Transistor no se encuentra saturad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hace muy pequeña entonces no será posible entregar la corriente de base mínima para saturar al transistor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sat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50m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.7mA, per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mA que no es sufic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5654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“pull-up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de voltaje para corte y saturación equivalentes a valores booleanos “0” y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ó valores lógicos V o F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170160"/>
            <a:ext cx="3276720" cy="33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858000" y="4495680"/>
          <a:ext cx="1447920" cy="10414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114800" y="5710320"/>
            <a:ext cx="1989000" cy="690120"/>
            <a:chOff x="4114800" y="5710320"/>
            <a:chExt cx="1989000" cy="690120"/>
          </a:xfrm>
        </p:grpSpPr>
        <p:sp>
          <p:nvSpPr>
            <p:cNvPr id="138" name=""/>
            <p:cNvSpPr/>
            <p:nvPr/>
          </p:nvSpPr>
          <p:spPr>
            <a:xfrm rot="5400000">
              <a:off x="4692600" y="5841720"/>
              <a:ext cx="620640" cy="496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1320" y="6021360"/>
              <a:ext cx="142920" cy="137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7560" y="608940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4240" y="6089400"/>
              <a:ext cx="42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4800" y="571032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1320" y="571032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Y = ~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4861080"/>
            <a:ext cx="2666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bstracción: no se mira la constitución 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6T13:40:35Z</dcterms:modified>
  <cp:revision>1121</cp:revision>
  <dc:subject>Transistores de Juntura Bipolar (BJT). Conmutación</dc:subject>
  <dc:title>Clase 9</dc:title>
</cp:coreProperties>
</file>