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5.png" ContentType="image/png"/>
  <Override PartName="/ppt/media/image28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E042-ACF2-4B91-B52E-617FB2499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D4CD-A49D-48A6-9547-9CBA420CD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0655-9D11-4F77-A855-9888D33FA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F156-10CE-43BE-A3D8-F8D281BB2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3AC-E634-4313-BA51-DB3A45D06A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D55-6788-44CE-AF27-DF267A99CE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3C9-8496-4D0D-8A1D-2245B611F6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BCD9-BC6E-4D36-BA45-56A14F95E9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1BF-7054-420F-8F13-3E8E3B5ABD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8E7-69DA-48ED-9E4C-894A36C74F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26A-ACBD-467F-BA71-ED80451B40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0414-DE41-4B75-A678-0651A3488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466-58C2-4675-80B2-48EF05AE41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7CE-4C2E-4929-BA87-83A8CD0A2F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90B2-AADD-4140-8202-57761E3E77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1F0-989C-4D1F-93FE-F5F0ED6A7C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315E-0F0A-4CF7-92E2-0CE049008F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3300-8640-4CA8-98BC-79B546E5E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CFFA-5944-4890-BC95-440BF3A46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A0D1F-566E-45E3-BCF2-95F3CF1E7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ED92-7D93-4246-8736-556E0B62F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FE9E-7ED7-42BF-85FD-5B244AF38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177C-37ED-44A3-9FDA-9299E9352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AF6B-FB42-475F-BC09-99A87B4EC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0DD0-DD79-4A0C-8338-750503C8E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CF8C-4C10-4F74-A9A9-0EC900325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Invers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2077920"/>
            <a:ext cx="7848720" cy="4467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2735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NOR Básic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os interruptores en parale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conecta un inversor a la salida y se obtiene una compuerta N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5372280" cy="317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6553080" y="2209680"/>
          <a:ext cx="2057400" cy="18255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6477120" y="4495680"/>
            <a:ext cx="2149200" cy="1684440"/>
            <a:chOff x="6477120" y="4495680"/>
            <a:chExt cx="2149200" cy="1684440"/>
          </a:xfrm>
        </p:grpSpPr>
        <p:grpSp>
          <p:nvGrpSpPr>
            <p:cNvPr id="153" name=""/>
            <p:cNvGrpSpPr/>
            <p:nvPr/>
          </p:nvGrpSpPr>
          <p:grpSpPr>
            <a:xfrm>
              <a:off x="6477120" y="4495680"/>
              <a:ext cx="2149200" cy="1684440"/>
              <a:chOff x="6477120" y="4495680"/>
              <a:chExt cx="2149200" cy="1684440"/>
            </a:xfrm>
          </p:grpSpPr>
          <p:pic>
            <p:nvPicPr>
              <p:cNvPr id="1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77120" y="4495680"/>
                <a:ext cx="2149200" cy="168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6792840" y="4910040"/>
                <a:ext cx="1526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15160" y="5345280"/>
                <a:ext cx="152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63080" y="5129280"/>
                <a:ext cx="152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64771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77120" y="5424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53280" y="5105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NOR Básic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2122560"/>
            <a:ext cx="7772400" cy="4422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57800" y="2438280"/>
            <a:ext cx="37418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 (configuración inversor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so desde corte a saturación y vice-versa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(pasa por zona activa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importantes en la conmutación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 po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e colector “pull-up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que el voltaje “suba” al nivel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la 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69712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aso en la conmutación 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(tiempo de propagación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de almacen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High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Low (corte a saturación) rápida: deben removerse portadores minoritarios que son muy poc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(saturación a corte) lenta: exceso de portadores en la base inyectados desde la juntura emisor y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de tránsi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tadores inyectados tardan un tiempo finito en atravesar la base y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26971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475000"/>
            <a:ext cx="7543800" cy="4093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391520" y="3429000"/>
            <a:ext cx="0" cy="243828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57200" y="4648320"/>
            <a:ext cx="6934320" cy="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3429000"/>
            <a:ext cx="0" cy="2666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33520" y="4800600"/>
            <a:ext cx="7315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4876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487692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en transición High-Low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y Low-High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miden con respecto al 50% de las máximas excurs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 : Características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aso en la Conmu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aso(Directa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versa) &gt; Retraso(Inversa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irect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retraso (delay): remover portadores en exces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subida (rise): Constante de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280" y="2681280"/>
            <a:ext cx="7010640" cy="3948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730520" y="551664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19360" y="586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548640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Times New Roman"/>
              </a:rPr>
              <a:t>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8428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Análisis Dinám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943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ones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 de “tránsito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tadores inyectados tardan tiempo finito en atravesar la base para alcanzar el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es capaz de “seguir” variaciones “rápidas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factor de transi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e redu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mutación: Conviene np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s: Dopado asimétrico en la base: Genera la existencia de un campo que acelera los portadores (por ejemplo dopado lineal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en exceso en la base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r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Hay que remover Gran cantidad de port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a primer orden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x) orden 2 en x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x)  lineal en x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477120" y="2712960"/>
                <a:ext cx="20001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657840" y="4568760"/>
                <a:ext cx="1819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t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496200" y="3632040"/>
                <a:ext cx="1900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t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Análisis Dinám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licancias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retraso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gue conduciendo por un tiempo t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urante el cual remueve la carga en exceso en la base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uego de esto entra en acción la capacidad de difusión que intenta descargarse con constante de tiempo impuesta po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subida: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ción Cor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turació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si no existe retraso en la respuest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bajada menor por capacidad de transició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492880" y="2514600"/>
                <a:ext cx="33462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T</m:t>
                                        </m:r>
                                      </m:e>
                                    </m:d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RTE</m:t>
                                        </m:r>
                                      </m:e>
                                    </m:d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305320" y="4900680"/>
                <a:ext cx="3638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RTE</m:t>
                                        </m:r>
                                      </m:e>
                                    </m:d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T</m:t>
                                        </m:r>
                                      </m:e>
                                    </m:d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mpar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724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condensador Speed-U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mueve portadores en transición Satur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rte (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86040" y="19810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Simp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34120" y="3154320"/>
            <a:ext cx="3489120" cy="3322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320" y="3160800"/>
            <a:ext cx="51051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9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de Juntura Bipolar (BJT)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Inversor Simp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991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ndensador Speed-Up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698480"/>
            <a:ext cx="88390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menta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densador Speed-Up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yuda a remover rápidamente de la base los portadores en exces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utiliza en la actualidad por cuanto existen mejores alternativas (etapas de entrada TTL, las veremos más adelante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 Schottky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la juntura base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a al transistor “justo antes” de saturars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importancia radica en que la identificación de la causa de un problema genera la posibilidad de una solución práct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: Conectiv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uertas Lógicas se interconectan entre sí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 esta forma se pueden crear funciones booleanas, registros, memorias, etc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etapa siguiente presenta una capacidad equivalente a la salida de la etapa en cuest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voca retras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an-in y Fan-o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 restricciones al número de compuertas que pueden ser conectadas a la entrada y salida de un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pacitanci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33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tancia de Carga: Etapas siguient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roduce constante de tiempo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la transición Low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igh (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igh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saturado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trata de pasar a cor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 se carga exponencialmente con constante de tiempo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dea: “achica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blema: Gran corriente cuando Q1 está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High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Low (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tur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pasa de Corte 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 se descarga a corriente constan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Muy Rápi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 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~ 10pF (“más parecido a capacidad de transición que capacidad dinámica”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3429000" cy="221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715000" y="5105520"/>
                <a:ext cx="29718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543800" y="22096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19320" y="2438280"/>
            <a:ext cx="48150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7048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27160" y="2514600"/>
            <a:ext cx="69501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6933960" cy="3986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315200" y="2133720"/>
            <a:ext cx="167652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 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arámetros del modelo “híbrido” del transistor para operación en zona activa a pequeña señ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4130640"/>
            <a:ext cx="16765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 2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tro modelo es el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que además sirve para alta frec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6912000" cy="1485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6781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el comportamiento de un inverso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ático: Transistor como switch o interrupt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compuertas lógicas bás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entarios sobre consumos/velocidad/fan-ou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námico: Transistor en la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Hojas de datos Transist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 como conmut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y corte definen dos estad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valentes a “baja resistencia” y “alta resistenci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terpretación como interrup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elocidad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físicos: tiempo de almacenamiento (crítico el de transición satur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rte debido al exceso de portadores en la base); tiempo de tráns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ones apuntan a extraer rápidamente los portadores en exceso. Ejemplo: Condensador Speed-U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ectividad de compuert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 retrasos por condensador equivalente en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ímites al número de compuertas conectadas: Fan-O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6324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es como conmutadores ó switch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eran en dos estad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bierto: alta resistencia (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errado: baja resistencia (satur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3429000" cy="3165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320" y="3270240"/>
            <a:ext cx="3352680" cy="3211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0" y="3733920"/>
            <a:ext cx="213372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ceptualizar al transistor como un interruptor permite analizar fácilmente las configuraciones en </a:t>
            </a:r>
            <a:r>
              <a:rPr b="0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régimen perman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, en otras palabras luego de la conmu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292880" y="1360440"/>
            <a:ext cx="1317600" cy="2296800"/>
            <a:chOff x="7292880" y="1360440"/>
            <a:chExt cx="1317600" cy="229680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7292880" y="2743200"/>
                  <a:ext cx="22248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8055000" y="2210040"/>
                  <a:ext cx="555480" cy="27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7750080" y="1360440"/>
                  <a:ext cx="37152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"/>
            <p:cNvSpPr/>
            <p:nvPr/>
          </p:nvSpPr>
          <p:spPr>
            <a:xfrm flipV="1">
              <a:off x="7674120" y="1524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67640" y="2637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472520" y="3233520"/>
              <a:ext cx="380880" cy="423720"/>
              <a:chOff x="7472520" y="3233520"/>
              <a:chExt cx="380880" cy="42372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7472520" y="3435480"/>
                <a:ext cx="380880" cy="221760"/>
                <a:chOff x="7472520" y="3435480"/>
                <a:chExt cx="380880" cy="2217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7472520" y="3568680"/>
                  <a:ext cx="380880" cy="88560"/>
                  <a:chOff x="7472520" y="3568680"/>
                  <a:chExt cx="380880" cy="885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7472520" y="35686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7548480" y="3612960"/>
                    <a:ext cx="228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624800" y="3657240"/>
                    <a:ext cx="75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"/>
                <p:cNvSpPr/>
                <p:nvPr/>
              </p:nvSpPr>
              <p:spPr>
                <a:xfrm flipV="1">
                  <a:off x="7666200" y="3435480"/>
                  <a:ext cx="0" cy="13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12" name=""/>
              <p:cNvCxnSpPr>
                <a:stCxn id="104" idx="0"/>
                <a:endCxn id="111" idx="0"/>
              </p:cNvCxnSpPr>
              <p:nvPr/>
            </p:nvCxnSpPr>
            <p:spPr>
              <a:xfrm flipH="1">
                <a:off x="7665840" y="3233520"/>
                <a:ext cx="2160" cy="202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113" name=""/>
            <p:cNvSpPr/>
            <p:nvPr/>
          </p:nvSpPr>
          <p:spPr>
            <a:xfrm>
              <a:off x="7674120" y="2508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64400" y="2221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1480" y="1828800"/>
              <a:ext cx="304920" cy="51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sumo de Potencia Estát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: mínimo, circulan corrientes de saturación invers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: alto, en el circuito base y en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uente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A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7,25mW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29000" y="3317760"/>
            <a:ext cx="3505320" cy="3235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320" y="3319560"/>
            <a:ext cx="3352680" cy="3211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934320" y="3367080"/>
            <a:ext cx="2133360" cy="24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ambién existe consumo de potencia dinámico, es decir cuando el transistor esta conmutando desde uno de los  estados (corte/saturación)  al otr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do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uede estar encendida. Tiene un pequeño potencial producto de la corriente de saturación que circula por la resistencia bas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stor se encuentra en corte o invers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n un divisor de tensión (juntura np en serie con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para voltaj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–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gana la resistencia equivalente de una juntura en inversa, quedando los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la juntura. Por lo tanto no circula corriente por el colector del transistor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debe presentar breakdown 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, pues en caso contrario la juntura conducirá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3504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Satur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96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do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ctiva, transistor estará en zona activa o satur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estuviese en activa, suponiendo el peor caso con h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Em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0 se tendría en el colector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30*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0mA. En la resistencia de colector caerían 150V, lo cual no es posible. Por lo tanto se encuentra en satu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581280" y="3325680"/>
            <a:ext cx="3497400" cy="3227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320" y="3313080"/>
            <a:ext cx="3504960" cy="3240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162920" y="3351240"/>
            <a:ext cx="1828800" cy="272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istencia de Saturación R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ES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r 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mayor corriente de colector en saturación, meno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E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voltaje colector-emisor (por el divisor de tensió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Satur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aturación se debe tener que la corriente de base es mayor a la corriente de base mínim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m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ejemplo el Transistor no se encuentra saturad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hace muy pequeña entonces no será posible entregar la corriente de base mínima para saturar al transistor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ejemplo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sat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50m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.7mA, pero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mA que no es sufic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356544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Invers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quitec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ri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“pull-up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iveles de voltaje para corte y saturación equivalentes a valores booleanos “0” y “1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ó valores lógicos V o F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3170160"/>
            <a:ext cx="3276720" cy="338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6858000" y="4495680"/>
          <a:ext cx="1447920" cy="104148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</a:tblGrid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114800" y="5710320"/>
            <a:ext cx="1989000" cy="690120"/>
            <a:chOff x="4114800" y="5710320"/>
            <a:chExt cx="1989000" cy="690120"/>
          </a:xfrm>
        </p:grpSpPr>
        <p:sp>
          <p:nvSpPr>
            <p:cNvPr id="138" name=""/>
            <p:cNvSpPr/>
            <p:nvPr/>
          </p:nvSpPr>
          <p:spPr>
            <a:xfrm rot="5400000">
              <a:off x="4692600" y="5841720"/>
              <a:ext cx="620640" cy="496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51320" y="6021360"/>
              <a:ext cx="142920" cy="137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7560" y="608940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94240" y="6089400"/>
              <a:ext cx="42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14800" y="5710320"/>
              <a:ext cx="4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51320" y="5710320"/>
              <a:ext cx="8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Y = ~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733920" y="4861080"/>
            <a:ext cx="26668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bstracción: no se mira la constitución 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6T13:40:35Z</dcterms:modified>
  <cp:revision>1121</cp:revision>
  <dc:subject>Transistores de Juntura Bipolar (BJT). Conmutación</dc:subject>
  <dc:title>Clase 9</dc:title>
</cp:coreProperties>
</file>