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8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66A1-5CCE-46CC-94DC-E927CC389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962EE-02B3-43AD-9532-8DA6E2CAB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087D-9445-44A3-B47E-6BD41D8CA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8D46-F695-486D-89DC-036B5DE41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4C4-ED66-4393-9886-6666DAC3E0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BAB7-367A-4C0A-8607-4C5DCEB4C9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1F79-E864-41AC-84AE-253BFE25CB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457-EB4C-45F6-8E40-08816B0B70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EB7-F93B-4813-9122-39166F9CD7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545-7C12-48E3-AAAD-47540CCC71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38F-C7DB-4FC5-9DFA-A534FFB4BB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2CAE-4D32-443B-A59A-D5E93C8CA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EB8-2544-405F-AC5E-A223866522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AFE-9C37-44DB-9436-B5989B81D3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7D8-64C1-45F9-BAD9-D236A4521A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17E-1081-4966-9867-4BFDF8558E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4C7B-96C9-46E9-B357-50CFE26EAF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A148-D26C-42AB-9E0F-ADE7E07DF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AA50-579D-478D-83DD-41EA865E3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D84F-69D4-442A-A3D1-B1CCD3DCF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3A816-CFBF-4C27-9FE1-213978D74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69E07-7F17-413B-BD4E-CFE6DF031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2CE03-E868-4527-AD5C-152694A4E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A4B9-93C9-4499-BCF1-DEEB0917A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8416-D8CB-4304-9201-E98CEC4DF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207E-1F4F-4BB6-9C33-ABA4319E2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553080" y="1752480"/>
            <a:ext cx="2438640" cy="2895840"/>
            <a:chOff x="6553080" y="1752480"/>
            <a:chExt cx="2438640" cy="289584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6553080" y="1752480"/>
              <a:ext cx="243864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081920" y="3223800"/>
              <a:ext cx="469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36800" y="3565440"/>
                <a:ext cx="52909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752480" y="2971800"/>
                <a:ext cx="33735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5627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deal como buffer de Voltaje: ¡¡¡La fuente puede alimentar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na carga con impedancia comparable a la propia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584600"/>
            <a:ext cx="41148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ar qu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(B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E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stá en paralelo con la resistencia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, pero esta última es, en un buen diseño, mucho mayor que la prime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14600" y="1905120"/>
                <a:ext cx="388620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720" y="4529160"/>
                <a:ext cx="41706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257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 a tierra (elimino AC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0.7 V;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r que el seguidor de emisor npn sólo puede ser “fuente” (no sumidero)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320" y="3124080"/>
            <a:ext cx="6172200" cy="34876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685440" y="4898880"/>
            <a:ext cx="4513680" cy="1229760"/>
            <a:chOff x="685440" y="4898880"/>
            <a:chExt cx="4513680" cy="1229760"/>
          </a:xfrm>
        </p:grpSpPr>
        <p:sp>
          <p:nvSpPr>
            <p:cNvPr id="148" name=""/>
            <p:cNvSpPr/>
            <p:nvPr/>
          </p:nvSpPr>
          <p:spPr>
            <a:xfrm>
              <a:off x="3048120" y="5791320"/>
              <a:ext cx="21510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oltaje Polariz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685440" y="4898880"/>
              <a:ext cx="3429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15000" y="1801800"/>
            <a:ext cx="3352680" cy="3254400"/>
            <a:chOff x="5715000" y="1801800"/>
            <a:chExt cx="3352680" cy="3254400"/>
          </a:xfrm>
        </p:grpSpPr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576108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55308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53416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5328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876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m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5334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Pola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320" y="2819520"/>
            <a:ext cx="6705360" cy="3639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 flipV="1">
            <a:off x="838080" y="4495320"/>
            <a:ext cx="5943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334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ciones de Po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1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) 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1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 mA) 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0.5 m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olariz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m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2.7 m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ici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centaje de la Potencia de Polarización que es entregada a la car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19%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dor consume potencia aún cuando no hay señal de entrada (Amplificador “Clase A”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715000" y="1801800"/>
            <a:ext cx="3352680" cy="3254400"/>
            <a:chOff x="5715000" y="1801800"/>
            <a:chExt cx="3352680" cy="325440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76108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655308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3416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5328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57200" y="5072040"/>
            <a:ext cx="838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lpable: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stor npn sólo puede “suplir” corriente es necesario “subir” la señal de entrada (Aplicar voltaje negativo e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para que en sus excursiones no corten al transis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5850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1.7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5545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4935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320" y="2421000"/>
            <a:ext cx="7619760" cy="428472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6858000" y="2743200"/>
            <a:ext cx="2209680" cy="2209680"/>
            <a:chOff x="6858000" y="2743200"/>
            <a:chExt cx="2209680" cy="220968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6886440" y="2743200"/>
              <a:ext cx="20559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91520" y="38494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34520" y="281916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9600" y="457164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0" y="2865240"/>
              <a:ext cx="1406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467480" y="52401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67524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495680" y="4284720"/>
            <a:ext cx="533520" cy="82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4952880"/>
            <a:ext cx="213372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218960" y="3123720"/>
            <a:ext cx="3276360" cy="167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">
            <a:off x="1828080" y="3580920"/>
            <a:ext cx="259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posi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">
            <a:off x="4876200" y="5119200"/>
            <a:ext cx="259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neg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6400800"/>
            <a:ext cx="5331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320" y="3429000"/>
            <a:ext cx="5331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001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áxima excursión señal de entrada sin distors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Polarización en el Centro” (Importante Polarización estable (Temperatura, reemplazo, vejez,... )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r que en la zona activa la amplificación es (para variaciones pequeñas de la señal) lineal (la separación entre las curvas parámetro se mantiene constante)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">
            <a:off x="2133000" y="4876560"/>
            <a:ext cx="259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eración “casi” lin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1066680" y="3580920"/>
            <a:ext cx="5029200" cy="2590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Consumo de Potencia sin señal de entrada (Pensar en una aplicación para satélites o remota ...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evitarlo habría que “correr” la polarización a un extremo (en el caso np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0) pero eso implicaría que sólo estarían permitidas excursiones positivas (las otras provocarían corte). Solución: Seguidor de Emisor Push-Pu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15240" y="59151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1.7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15240" y="56595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15240" y="51498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320" y="3048120"/>
            <a:ext cx="7049880" cy="3581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915240" y="54054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94280" y="4208400"/>
            <a:ext cx="1198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165200" y="4718160"/>
            <a:ext cx="352440" cy="55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35400" y="5213520"/>
            <a:ext cx="2044800" cy="955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991800" y="3747600"/>
            <a:ext cx="3173400" cy="1465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">
            <a:off x="1556640" y="4130640"/>
            <a:ext cx="2397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cursiones posi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">
            <a:off x="4376160" y="5416200"/>
            <a:ext cx="2396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cursiones nega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60680" y="6377040"/>
            <a:ext cx="49392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20" y="3890880"/>
            <a:ext cx="4935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">
            <a:off x="1978920" y="5100480"/>
            <a:ext cx="2397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peración “casi” lin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991800" y="4017600"/>
            <a:ext cx="4653000" cy="2165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629400" y="2971800"/>
            <a:ext cx="2209680" cy="2209680"/>
            <a:chOff x="6629400" y="2971800"/>
            <a:chExt cx="2209680" cy="220968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6657840" y="2971800"/>
              <a:ext cx="20559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162920" y="40780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05920" y="304776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1000" y="480024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29400" y="3093840"/>
              <a:ext cx="1406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76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ortancia: Si se sale de la región activa hay gran distorsión. Polarización Zona Activa define límites: -1V &lt;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1.5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64767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2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52722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4724280"/>
            <a:ext cx="106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52578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1055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029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rriente de base aumenta considerablemente. Polarización Zona Activa define límites: -1V &lt;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1.5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6320" y="3078000"/>
            <a:ext cx="6400800" cy="3475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579132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3048120"/>
            <a:ext cx="106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286000" y="35812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57913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uelve problema de consumo sin señ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y utilizado como etapa de 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np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ólo puede ser “fuente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e sólo en ciclos positiv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señal de entrada hay consumo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pn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ólo puede ser “reservori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e sólo en ciclos negativ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señal de entrada hay consumo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48320" y="2917800"/>
            <a:ext cx="2187360" cy="2492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967440" y="2917800"/>
            <a:ext cx="2024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: Seguidor de Emisor Push-Pu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spreciable sin señal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iclos positivos conduce Q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iclos negativos conduce Q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storsión Cross-O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ción ocurre después del encendido de las junturas base-emisor (~ 0.6V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5053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8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de Juntura Bipolar (BJT)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04920" y="2484360"/>
            <a:ext cx="7010280" cy="39639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238880" y="46483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 1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cc=1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43792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304812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orsión Cross-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019920" y="2065320"/>
            <a:ext cx="29113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rrie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7543800" cy="4095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29113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 Cross-Ov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R1 entrega corriente de activación a los diodos y juntura base-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s ayudan al encendido de las junturas base-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estable ante cambios de tempera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s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703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V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mbio 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er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 Q1 y Q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or de los cas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odos D1, D2 y D3 no sufren cambi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s “toman” el aument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R2=R3=1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30ºC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70 m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n Resistencias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 Resistencias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ón es un compromis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s grande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mayor estabilidad pero también mayor consumo sin señ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444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ush-Pull (V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 Optim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Emisor Común (Q3) con fuente de corriente como “Carga Ac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ente de corriente Q5 presenta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u colector una alta 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ejora Ganancia del emisor comú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es necesario tener resistencia R1 baja (ejemplo anterior) minimizando el consumo y maximizando la gan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018040" y="457200"/>
            <a:ext cx="4125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Emisor Comú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: Base; Salida: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: Voltaje y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: alta (idéntica a la del seguidor de emisor, amplifica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p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: altísima (“mirando” por el colector hay fuente de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ta impedancia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32480" y="1752480"/>
            <a:ext cx="3611520" cy="3391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85800" y="4114800"/>
                <a:ext cx="19810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0880" y="5638680"/>
                <a:ext cx="3079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976560" y="5638680"/>
                <a:ext cx="15382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5791320" y="569916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990880" y="4114800"/>
                <a:ext cx="2190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048040" y="4800600"/>
                <a:ext cx="17618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Base Comú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783400" y="1676520"/>
            <a:ext cx="3284280" cy="3352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790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: Emisor; Salida: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: Voltaje y “Seguidor”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: Baja (divid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p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: altísima (“mirando” por el colector hay fuente de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“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255680" y="4105440"/>
                <a:ext cx="16398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84120" y="5629320"/>
                <a:ext cx="45687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</m:t>
                                </m:r>
                              </m:e>
                            </m:d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257800" y="5653080"/>
                <a:ext cx="22096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5791320" y="5181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124080" y="3962520"/>
                <a:ext cx="1548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</m:t>
                                </m:r>
                              </m:e>
                            </m:d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685800" y="4648320"/>
                <a:ext cx="3268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Base Comú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783400" y="1676520"/>
            <a:ext cx="3284280" cy="3352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960" y="1752480"/>
            <a:ext cx="5562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“mirando” por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ser grande pues es una fuente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imación de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(C )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 considerar 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visor de tensión: Cambi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parece casi íntegramente com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doptan los cambios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47920" y="4422600"/>
                <a:ext cx="29858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33520" y="5410080"/>
                <a:ext cx="3181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886200" y="5261040"/>
                <a:ext cx="15415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019920" y="5257800"/>
                <a:ext cx="2203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Adi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arlingt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yor gan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ción de los encendidos y 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Sziklai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ocido como Darlington Complementario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2346480" cy="24004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5715000" y="4114800"/>
            <a:ext cx="24163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ón Darlingt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arlington 2N6059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05m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7238880" cy="39816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238880" y="25588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0.25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3124080"/>
            <a:ext cx="1600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aturación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8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el comportamiento de un Transistor Bipolar como amplificad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nálisis de pequeña señ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onfiguraciones estánd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Zona Activa amplifica pote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 para pequeñas variaciones en torno a punto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mayores son amplificadas con distors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-Común (seguidor de emiso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de voltaje unitaria; amplifica corrien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alta; impedancia de salida baj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Útil como etapa de salida, “Buffer de Voltaje”. Mejora: Push-Pul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misor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 voltaje y corriente. Cambio de fase en voltaj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alta;impedancia de salida altísi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ase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 voltaje; ganancia en corriente unitar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baja;impedancia de salida altísi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Útil como “Buffer de Corriente”. Aplicación más famosa: Cascod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figuraciones Especiales: Darlington, Sziklai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1960" y="2057400"/>
            <a:ext cx="5342040" cy="3444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Emisor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istencias +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efinen Punto de Ope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densadores de bloqueo: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islan polarización del transistor de las etapas de entrada y salid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finen filtro pasaaltos para señal pequeñ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nálisis en continu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ción de la señ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fecto Condensadores de bloqueo (circuito de señal pequeña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mplificación (Divisores de tensió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Notar que a frecuencias de operación (no bloquedas) la resistencia de carga es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/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quivalente de Thèveni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uen diseño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&lt;(1+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en Zona Activ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in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áxima Excursión de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amplitudes máximas para permanecer en Zona Ac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álido para Entrada/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54320" y="1676520"/>
            <a:ext cx="2171880" cy="3520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683400" y="1676520"/>
            <a:ext cx="2460600" cy="326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495680" y="5334120"/>
                <a:ext cx="19051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781680" y="5410080"/>
                <a:ext cx="1140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099120" y="3124080"/>
                <a:ext cx="6606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11400" y="3962520"/>
            <a:ext cx="5432400" cy="2590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de los condensadores en variaciones de la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 útil notar que variación en torno a punto de oper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liminar fuentes continu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ircuito de señal pequeña: fácil “visión” de constantes de tiemp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es de bloqueo implican filtros pasaalt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Buen diseño: Frecuencias de operación &gt;&gt; frecuencia de corte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es son “corto-circuitos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olvidar que el colector de un transistor en activa es una fuente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cedimiento” de Análisi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erminar 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rificar cáracter de “buen diseño”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rificar zona activa y máxima excursión de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erminar frecuencias de cor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hequear “buen diseño” (Trade-Off con buen diseño del punto de operació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ulta práctico pensar en “eliminar fuentes continua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s e 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: Análisis de “transmisión de variacione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s: Divisor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5562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:“Sigue a la fuente de entrad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sume f &gt;&gt;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no hay atenu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 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so contrario el transistor está en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hay corriente en el emis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er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ortante la polarización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Definen la zona de cor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1752480"/>
            <a:ext cx="3162240" cy="3299040"/>
            <a:chOff x="5791320" y="1752480"/>
            <a:chExt cx="3162240" cy="32990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1752480"/>
              <a:ext cx="3162240" cy="32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477120" y="34290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216160" y="3949560"/>
                <a:ext cx="13651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523880" y="4398840"/>
                <a:ext cx="29718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666960" y="4917960"/>
                <a:ext cx="15145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371600" y="4937040"/>
                <a:ext cx="16765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920" y="5410080"/>
            <a:ext cx="6248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de señal pequeñ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larización define punto de opera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ariaciones de señal pequeña en torno a la pola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5029200"/>
            <a:ext cx="266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bs: Se ha omitido por simplicidad la polarización de la base. Siempre debe haber un retorno a tierra para contin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5562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e Voltaje y Corriente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19920" y="1752480"/>
            <a:ext cx="2933640" cy="3048120"/>
            <a:chOff x="6019920" y="1752480"/>
            <a:chExt cx="2933640" cy="30481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6019920" y="1752480"/>
              <a:ext cx="293364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656040" y="3301200"/>
              <a:ext cx="565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55560" y="3720960"/>
                <a:ext cx="30812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56120" y="3589200"/>
                <a:ext cx="16588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85800" y="4211640"/>
                <a:ext cx="388620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835200" y="5170320"/>
                <a:ext cx="39351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828800" y="2514600"/>
                <a:ext cx="14414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838080" y="3048120"/>
                <a:ext cx="4103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823000" y="5181480"/>
                <a:ext cx="20257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276720" y="6095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5T21:13:09Z</dcterms:modified>
  <cp:revision>1078</cp:revision>
  <dc:subject>Transistores de Juntura Bipolar (BJT). Amplificación</dc:subject>
  <dc:title>Clase 8</dc:title>
</cp:coreProperties>
</file>