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27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28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F1116-10E9-4BB6-B56D-0E9EDC74A3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3304E-08E9-4650-A4F4-6114872D61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552A6-FD9F-49DC-B095-30025DB2DF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D8831-588C-4546-811D-AEB11E941C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BFFF-689E-4D90-91E4-D936DE5C53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A9F5-1D5E-4FFC-BD01-D9826DAF734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F354-B5EA-4A8C-A437-C7D31C31E3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0E06-CB52-4CFF-A29F-FAADAB75CA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193E-C0E8-44C2-B248-C0AE6C55CA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E8DC-24CA-4852-AE6E-7F42A41263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AA7C-E6DA-45C5-B249-005F87CDAD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E606E-A862-446D-8E9B-62984D347B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3C7E-D159-4727-9AF4-E769574813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78EA-B6C4-4E04-AF11-3B36494B64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16D3-31AE-4808-8604-71161F8FE5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AC75-754F-4EFF-BBA0-28603032A6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3B8B-DD84-43B5-B2DA-21F8AF0D89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C2250-B516-4B57-8803-618C9F559F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64886-30A4-4EFA-8C53-94B4CA874C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E32F2-40D6-49C5-9EDB-D42EC8ACBD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3BC26-F357-4AE0-ADD2-CB6E104F91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D0ABC-B566-41C8-A128-3B894E4D61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038A6-9D0B-497D-808A-CDF141733E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78F98-DEBF-4ADA-B017-7425319AF5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E0C8-4F77-4DA4-8478-B308CF57F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85C9-6D29-4F78-B9C7-3A6721B2A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como Amplificador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556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553080" y="1752480"/>
            <a:ext cx="2438640" cy="2895840"/>
            <a:chOff x="6553080" y="1752480"/>
            <a:chExt cx="2438640" cy="289584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6553080" y="1752480"/>
              <a:ext cx="2438640" cy="28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7081920" y="3223800"/>
              <a:ext cx="469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036800" y="3565440"/>
                <a:ext cx="529092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752480" y="2971800"/>
                <a:ext cx="33735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sub>
                    </m:sSub>
                    <m:r>
                      <m:t xml:space="preserve">≈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&gt;&gt;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304920" y="55627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deal como buffer de Voltaje: ¡¡¡La fuente puede alimentar 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una carga con impedancia comparable a la propia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4584600"/>
            <a:ext cx="411480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tar que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ut(B)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n(E)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está en paralelo con la resistencia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, pero esta última es, en un buen diseño, mucho mayor que la primer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514600" y="1905120"/>
                <a:ext cx="388620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58720" y="4529160"/>
                <a:ext cx="417060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r>
                      <m:t xml:space="preserve">‖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rPr>
                        <m:lit/>
                        <m:nor/>
                      </m:rPr>
                      <m:t xml:space="preserve">&lt;&lt;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5257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unto de Operación: Zona Ac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uente a tierra (elimino AC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0.7 V;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m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tar que el seguidor de emisor npn sólo puede ser “fuente” (no sumidero) de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6320" y="3124080"/>
            <a:ext cx="6172200" cy="348768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685440" y="4898880"/>
            <a:ext cx="4513680" cy="1229760"/>
            <a:chOff x="685440" y="4898880"/>
            <a:chExt cx="4513680" cy="1229760"/>
          </a:xfrm>
        </p:grpSpPr>
        <p:sp>
          <p:nvSpPr>
            <p:cNvPr id="148" name=""/>
            <p:cNvSpPr/>
            <p:nvPr/>
          </p:nvSpPr>
          <p:spPr>
            <a:xfrm>
              <a:off x="3048120" y="5791320"/>
              <a:ext cx="21510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oltaje Polariz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685440" y="4898880"/>
              <a:ext cx="34290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715000" y="1801800"/>
            <a:ext cx="3352680" cy="3254400"/>
            <a:chOff x="5715000" y="1801800"/>
            <a:chExt cx="3352680" cy="3254400"/>
          </a:xfrm>
        </p:grpSpPr>
        <p:pic>
          <p:nvPicPr>
            <p:cNvPr id="151" name="" descr=""/>
            <p:cNvPicPr/>
            <p:nvPr/>
          </p:nvPicPr>
          <p:blipFill>
            <a:blip r:embed="rId2"/>
            <a:stretch/>
          </p:blipFill>
          <p:spPr>
            <a:xfrm>
              <a:off x="5761080" y="1801800"/>
              <a:ext cx="32302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6553080" y="342900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534160" y="19810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53280" y="45720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15000" y="1981080"/>
              <a:ext cx="2209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Amplitud 1 V, f=1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4876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unto de Operación: Zona Ac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1mA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/ 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+1)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6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0" y="53341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 Pola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6320" y="2819520"/>
            <a:ext cx="6705360" cy="363996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5562720" y="1801800"/>
            <a:ext cx="3352680" cy="3254400"/>
            <a:chOff x="5562720" y="1801800"/>
            <a:chExt cx="3352680" cy="3254400"/>
          </a:xfrm>
        </p:grpSpPr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5608800" y="1801800"/>
              <a:ext cx="32302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00800" y="342900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381880" y="19810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001000" y="45720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62720" y="1981080"/>
              <a:ext cx="2209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Amplitud 1 V, f=1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 flipH="1" flipV="1">
            <a:off x="838080" y="4495320"/>
            <a:ext cx="59436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53341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laciones de Pote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/2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1V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6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) /2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3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/2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1V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 mA) /2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0.5 mW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olariz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m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2.7 mW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icie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orcentaje de la Potencia de Polarización que es entregada a la carg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19%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blem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mplificador consume potencia aún cuando no hay señal de entrada (Amplificador “Clase A”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5715000" y="1801800"/>
            <a:ext cx="3352680" cy="3254400"/>
            <a:chOff x="5715000" y="1801800"/>
            <a:chExt cx="3352680" cy="3254400"/>
          </a:xfrm>
        </p:grpSpPr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5761080" y="1801800"/>
              <a:ext cx="32302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6553080" y="342900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534160" y="19810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53280" y="45720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15000" y="1981080"/>
              <a:ext cx="2209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Amplitud 1 V, f=1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457200" y="5072040"/>
            <a:ext cx="8381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ulpable: Pola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ransistor npn sólo puede “suplir” corriente es necesario “subir” la señal de entrada (Aplicar voltaje negativo en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para que en sus excursiones no corten al transis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67480" y="5850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1.7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467480" y="55450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3.4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67480" y="49356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6.8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6320" y="2421000"/>
            <a:ext cx="7619760" cy="4284720"/>
          </a:xfrm>
          <a:prstGeom prst="rect">
            <a:avLst/>
          </a:prstGeom>
          <a:ln w="0">
            <a:noFill/>
          </a:ln>
        </p:spPr>
      </p:pic>
      <p:grpSp>
        <p:nvGrpSpPr>
          <p:cNvPr id="181" name=""/>
          <p:cNvGrpSpPr/>
          <p:nvPr/>
        </p:nvGrpSpPr>
        <p:grpSpPr>
          <a:xfrm>
            <a:off x="6858000" y="2743200"/>
            <a:ext cx="2209680" cy="2209680"/>
            <a:chOff x="6858000" y="2743200"/>
            <a:chExt cx="2209680" cy="2209680"/>
          </a:xfrm>
        </p:grpSpPr>
        <p:pic>
          <p:nvPicPr>
            <p:cNvPr id="182" name="" descr=""/>
            <p:cNvPicPr/>
            <p:nvPr/>
          </p:nvPicPr>
          <p:blipFill>
            <a:blip r:embed="rId2"/>
            <a:stretch/>
          </p:blipFill>
          <p:spPr>
            <a:xfrm>
              <a:off x="6886440" y="2743200"/>
              <a:ext cx="205596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7391520" y="384948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534520" y="281916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229600" y="4571640"/>
              <a:ext cx="73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58000" y="2865240"/>
              <a:ext cx="14065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Amplitud 1 V, f=1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7467480" y="524016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3675240"/>
            <a:ext cx="1295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unto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495680" y="4284720"/>
            <a:ext cx="533520" cy="820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724280" y="4952880"/>
            <a:ext cx="2133720" cy="1143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1218960" y="3123720"/>
            <a:ext cx="3276360" cy="1676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1620000">
            <a:off x="1828080" y="3580920"/>
            <a:ext cx="2590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cursiones posi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620000">
            <a:off x="4876200" y="5119200"/>
            <a:ext cx="2590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cursiones nega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6400800"/>
            <a:ext cx="53316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320" y="3429000"/>
            <a:ext cx="53316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0010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áxima excursión señal de entrada sin distors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“Polarización en el Centro” (Importante Polarización estable (Temperatura, reemplazo, vejez,... )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tar que en la zona activa la amplificación es (para variaciones pequeñas de la señal) lineal (la separación entre las curvas parámetro se mantiene constante)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1620000">
            <a:off x="2133000" y="4876560"/>
            <a:ext cx="2590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peración “casi” lin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1066680" y="3580920"/>
            <a:ext cx="5029200" cy="2590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3818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blema: Consumo de Potencia sin señal de entrada (Pensar en una aplicación para satélites o remota ...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evitarlo habría que “correr” la polarización a un extremo (en el caso npn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0) pero eso implicaría que sólo estarían permitidas excursiones positivas (las otras provocarían corte). Solución: Seguidor de Emisor Push-Pul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915240" y="591516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1.7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915240" y="565956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3.4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915240" y="514980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6.8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6320" y="3048120"/>
            <a:ext cx="7049880" cy="35812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915240" y="540540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94280" y="4208400"/>
            <a:ext cx="11984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Punto de Ope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165200" y="4718160"/>
            <a:ext cx="352440" cy="55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235400" y="5213520"/>
            <a:ext cx="2044800" cy="955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991800" y="3747600"/>
            <a:ext cx="3173400" cy="1465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1620000">
            <a:off x="1556640" y="4130640"/>
            <a:ext cx="2397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xcursiones positiv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1620000">
            <a:off x="4376160" y="5416200"/>
            <a:ext cx="2396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xcursiones negativ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60680" y="6377040"/>
            <a:ext cx="49392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320" y="3890880"/>
            <a:ext cx="49356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620000">
            <a:off x="1978920" y="5100480"/>
            <a:ext cx="2397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Operación “casi” line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991800" y="4017600"/>
            <a:ext cx="4653000" cy="2165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6629400" y="2971800"/>
            <a:ext cx="2209680" cy="2209680"/>
            <a:chOff x="6629400" y="2971800"/>
            <a:chExt cx="2209680" cy="2209680"/>
          </a:xfrm>
        </p:grpSpPr>
        <p:pic>
          <p:nvPicPr>
            <p:cNvPr id="217" name="" descr=""/>
            <p:cNvPicPr/>
            <p:nvPr/>
          </p:nvPicPr>
          <p:blipFill>
            <a:blip r:embed="rId2"/>
            <a:stretch/>
          </p:blipFill>
          <p:spPr>
            <a:xfrm>
              <a:off x="6657840" y="2971800"/>
              <a:ext cx="205596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7162920" y="407808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305920" y="304776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001000" y="4800240"/>
              <a:ext cx="73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29400" y="3093840"/>
              <a:ext cx="14065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Amplitud 1 V, f=1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V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876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unto de Operación: Zona Ac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ortancia: Si se sale de la región activa hay gran distorsión. Polarización Zona Activa define límites: -1V &lt;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1.5 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6320" y="2895480"/>
            <a:ext cx="6476760" cy="3657600"/>
          </a:xfrm>
          <a:prstGeom prst="rect">
            <a:avLst/>
          </a:prstGeom>
          <a:ln w="0">
            <a:noFill/>
          </a:ln>
        </p:spPr>
      </p:pic>
      <p:grpSp>
        <p:nvGrpSpPr>
          <p:cNvPr id="225" name=""/>
          <p:cNvGrpSpPr/>
          <p:nvPr/>
        </p:nvGrpSpPr>
        <p:grpSpPr>
          <a:xfrm>
            <a:off x="5562720" y="1801800"/>
            <a:ext cx="3352680" cy="3254400"/>
            <a:chOff x="5562720" y="1801800"/>
            <a:chExt cx="3352680" cy="3254400"/>
          </a:xfrm>
        </p:grpSpPr>
        <p:pic>
          <p:nvPicPr>
            <p:cNvPr id="226" name="" descr=""/>
            <p:cNvPicPr/>
            <p:nvPr/>
          </p:nvPicPr>
          <p:blipFill>
            <a:blip r:embed="rId2"/>
            <a:stretch/>
          </p:blipFill>
          <p:spPr>
            <a:xfrm>
              <a:off x="5608800" y="1801800"/>
              <a:ext cx="32302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6400800" y="342900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381880" y="19810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001000" y="45720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62720" y="1981080"/>
              <a:ext cx="2209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Amplitud 2 V, f=1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685800" y="5272200"/>
            <a:ext cx="129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09680" y="4724280"/>
            <a:ext cx="1067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0" y="525780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510552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V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5029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unto de Operación: Zona Ac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corriente de base aumenta considerablemente. Polarización Zona Activa define límites: -1V &lt;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1.5 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76320" y="3078000"/>
            <a:ext cx="6400800" cy="34750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85800" y="5791320"/>
            <a:ext cx="137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09680" y="3048120"/>
            <a:ext cx="1067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5562720" y="1801800"/>
            <a:ext cx="3352680" cy="3254400"/>
            <a:chOff x="5562720" y="1801800"/>
            <a:chExt cx="3352680" cy="3254400"/>
          </a:xfrm>
        </p:grpSpPr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5608800" y="1801800"/>
              <a:ext cx="32302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6400800" y="342900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381880" y="19810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001000" y="45720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562720" y="1981080"/>
              <a:ext cx="2209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Amplitud 1 V, f=1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2286000" y="358128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579132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Push-Pull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guidor de Emisor Push-Pul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uelve problema de consumo sin señ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uy utilizado como etapa de sali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guidor de Emisor np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ólo puede ser “fuente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uce sólo en ciclos positivo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n señal de entrada hay consumo despreciab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guidor de Emisor pnp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ólo puede ser “reservorio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uce sólo en ciclos negativo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n señal de entrada hay consumo despreciab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648320" y="2917800"/>
            <a:ext cx="2187360" cy="24922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967440" y="2917800"/>
            <a:ext cx="20242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Push-Pull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olución: Seguidor de Emisor Push-Pul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 despreciable sin señal de entr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ciclos positivos conduce Q1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ciclos negativos conduce Q2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storsión Cross-Ove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ucción ocurre después del encendido de las junturas base-emisor (~ 0.6V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5257800" y="2438280"/>
            <a:ext cx="350532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Dispositivos Electrónicos Bás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8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Transistores de Juntura Bipolar (BJT)</a:t>
            </a:r>
            <a:br>
              <a:rPr sz="3200"/>
            </a:b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Amplificació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Push-Pull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Voltaj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04920" y="2484360"/>
            <a:ext cx="7010280" cy="39639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238880" y="46483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rga 10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cc=10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437920" y="365760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0" y="3048120"/>
            <a:ext cx="1295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storsión Cross-O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6019920" y="2065320"/>
            <a:ext cx="291132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Push-Pull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rrient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76320" y="2438280"/>
            <a:ext cx="7543800" cy="40957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6019920" y="1752480"/>
            <a:ext cx="291132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Push-Pull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olución Cross-Ov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istencia R1 entrega corriente de activación a los diodos y juntura base-emi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odos ayudan al encendido de las junturas base-emi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estable ante cambios de temperatur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istencias Emi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105520" y="1600200"/>
            <a:ext cx="3703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Push-Pull (V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mbio Temperatu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lter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e Q1 y Q2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or de los cas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odos D1, D2 y D3 no sufren cambi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istencias “toman” el aument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jemplo: R2=R3=1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30ºC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70 m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in Resistencias: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n Resistencias: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olución es un compromis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istencias grande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mayor estabilidad pero también mayor consumo sin señ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4448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ush-Pull (V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olución Optim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Emisor Común (Q3) con fuente de corriente como “Carga Activ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uente de corriente Q5 presenta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su colector una alta imped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ejora Ganancia del emisor comú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 es necesario tener resistencia R1 baja (ejemplo anterior) minimizando el consumo y maximizando la gan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5018040" y="457200"/>
            <a:ext cx="41259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Emisor Comú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5410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: Base; Salida: Colect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: Voltaje y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: alta (idéntica a la del seguidor de emisor, amplifica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por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salida: altísima (“mirando” por el colector hay fuente de corrien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lta impedancia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“Gana”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ue está en paralel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532480" y="1752480"/>
            <a:ext cx="3611520" cy="3391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685800" y="4114800"/>
                <a:ext cx="198108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80880" y="5638680"/>
                <a:ext cx="307980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3976560" y="5638680"/>
                <a:ext cx="153828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5791320" y="569916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¡¡¡Ganancia en Potencia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2990880" y="4114800"/>
                <a:ext cx="21906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048040" y="4800600"/>
                <a:ext cx="17618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Base Comú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5783400" y="1676520"/>
            <a:ext cx="3284280" cy="335268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5790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: Emisor; Salida: Colect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: Voltaje y “Seguidor” de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: Baja (divide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por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salida: altísima (“mirando” por el colector hay fuente de corrien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lta impedanci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“Gana”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ue está en paralel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255680" y="4105440"/>
                <a:ext cx="16398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384120" y="5629320"/>
                <a:ext cx="45687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E</m:t>
                                </m:r>
                              </m:e>
                            </m:d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5257800" y="5653080"/>
                <a:ext cx="22096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" name=""/>
          <p:cNvSpPr/>
          <p:nvPr/>
        </p:nvSpPr>
        <p:spPr>
          <a:xfrm>
            <a:off x="5791320" y="51814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¡¡¡Ganancia en Potencia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3124080" y="3962520"/>
                <a:ext cx="15480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E</m:t>
                                </m:r>
                              </m:e>
                            </m:d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685800" y="4648320"/>
                <a:ext cx="32688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r>
                      <m:t xml:space="preserve">‖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Base Comú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5783400" y="1676520"/>
            <a:ext cx="3284280" cy="33526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5960" y="1752480"/>
            <a:ext cx="55623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“mirando” por el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be ser grande pues es una fuente de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”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ue está en paralel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imación de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(C )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n considerar a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visor de tensión: Cambi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parece casi íntegramente com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doptan los cambios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1447920" y="4422600"/>
                <a:ext cx="298584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533520" y="5410080"/>
                <a:ext cx="31813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3886200" y="5261040"/>
                <a:ext cx="154152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6019920" y="5257800"/>
                <a:ext cx="22032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figuraciones Adicional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arlingto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ayor gana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lteración de los encendidos y satu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Sziklai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ocido como Darlington Complementario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715000" y="1752480"/>
            <a:ext cx="2346480" cy="24004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5715000" y="4114800"/>
            <a:ext cx="241632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figuración Darlingto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62485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arlington 2N6059,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0.05m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7238880" cy="39816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7238880" y="25588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0.25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91520" y="3124080"/>
            <a:ext cx="16002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Saturación: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0.8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Estudiar el comportamiento de un Transistor Bipolar como amplificador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Análisis de pequeña señ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Configuraciones estánda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Seguidor de Emisor Push-Pul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stor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Zona Activa amplifica pote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ineal para pequeñas variaciones en torno a punto de ope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cursiones mayores son amplificadas con distors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lector-Común (seguidor de emisor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anancia de voltaje unitaria; amplifica corrient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mpedancia de entrada alta; impedancia de salida baj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Útil como etapa de salida, “Buffer de Voltaje”. Mejora: Push-Pull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misor Comú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mplifica voltaje y corriente. Cambio de fase en voltaj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mpedancia de entrada alta;impedancia de salida altísim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Base Comú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mplifica voltaje; ganancia en corriente unitari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mpedancia de entrada baja;impedancia de salida altísim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Útil como “Buffer de Corriente”. Aplicación más famosa: Cascod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figuraciones Especiales: Darlington, Sziklai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 como Amplificador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801960" y="2057400"/>
            <a:ext cx="5342040" cy="34448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960" y="19047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 Emisor Comú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sistencias +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+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definen Punto de Operació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ndensadores de bloqueo: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Aislan polarización del transistor de las etapas de entrada y salida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Definen filtro pasaaltos para señal pequeña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nálisi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unto de operació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Análisis en continua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ariación de la señal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fecto Condensadores de bloqueo (circuito de señal pequeña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Amplificación (Divisores de tensión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Notar que a frecuencias de operación (no bloquedas) la resistencia de carga es R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// R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arga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 como Amplificador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unto de Ope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quivalente de Thèveni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Buen diseño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&lt;&lt;(1+h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F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stor en Zona Activa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mplificad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n direc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n invers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áxima Excursión de señ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fine amplitudes máximas para permanecer en Zona Activa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álido para Entrada/Sali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054320" y="1676520"/>
            <a:ext cx="2171880" cy="3520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683400" y="1676520"/>
            <a:ext cx="2460600" cy="3260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495680" y="5334120"/>
                <a:ext cx="19051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781680" y="5410080"/>
                <a:ext cx="11401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‖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6099120" y="3124080"/>
                <a:ext cx="6606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 como Amplificador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111400" y="3962520"/>
            <a:ext cx="5432400" cy="25905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ecto de los condensadores en variaciones de la señ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s útil notar que variación en torno a punto de operación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liminar fuentes continu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ircuito de señal pequeña: fácil “visión” de constantes de tiempo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ensadores de bloqueo implican filtros pasaalto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Buen diseño: Frecuencias de operación &gt;&gt; frecuencia de corte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ndensadores son “corto-circuitos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olvidar que el colector de un transistor en activa es una fuente de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 como Amplificador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rocedimiento” de Análisi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terminar punto de ope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rificar cáracter de “buen diseño”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rificar zona activa y máxima excursión de señ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terminar frecuencias de cor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hequear “buen diseño” (Trade-Off con buen diseño del punto de operación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ulta práctico pensar en “eliminar fuentes continuas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anancias e impedanci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s: Análisis de “transmisión de variaciones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s: Divisor de volt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Características Bás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5562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guidor:“Sigue a la fuente de entrad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asume f &gt;&gt; f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no hay atenuación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n directa 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n direc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so contrario el transistor está en cor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No hay corriente en el emisor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cer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ortante la polarización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Definen la zona de cor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791320" y="1752480"/>
            <a:ext cx="3162240" cy="3299040"/>
            <a:chOff x="5791320" y="1752480"/>
            <a:chExt cx="3162240" cy="329904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5791320" y="1752480"/>
              <a:ext cx="3162240" cy="329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477120" y="342900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216160" y="3949560"/>
                <a:ext cx="13651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523880" y="4398840"/>
                <a:ext cx="297180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666960" y="4917960"/>
                <a:ext cx="151452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371600" y="4937040"/>
                <a:ext cx="167652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920" y="5410080"/>
            <a:ext cx="6248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álisis de señal pequeñ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olarización define punto de operación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0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ariaciones de señal pequeña en torno a la pola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5029200"/>
            <a:ext cx="26668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Obs: Se ha omitido por simplicidad la polarización de la base. Siempre debe haber un retorno a tierra para continu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como Amplificador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55623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de Voltaje y Corriente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019920" y="1752480"/>
            <a:ext cx="2933640" cy="3048120"/>
            <a:chOff x="6019920" y="1752480"/>
            <a:chExt cx="2933640" cy="304812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6019920" y="1752480"/>
              <a:ext cx="293364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656040" y="3301200"/>
              <a:ext cx="565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55560" y="3720960"/>
                <a:ext cx="308124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056120" y="3589200"/>
                <a:ext cx="165888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85800" y="4211640"/>
                <a:ext cx="388620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835200" y="5170320"/>
                <a:ext cx="393516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828800" y="2514600"/>
                <a:ext cx="14414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838080" y="3048120"/>
                <a:ext cx="41036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5823000" y="5181480"/>
                <a:ext cx="202572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3276720" y="60958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¡¡¡Ganancia en Potencia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Leszek Szczecinski</cp:lastModifiedBy>
  <dcterms:modified xsi:type="dcterms:W3CDTF">2003-08-05T21:13:09Z</dcterms:modified>
  <cp:revision>1078</cp:revision>
  <dc:subject>Transistores de Juntura Bipolar (BJT). Amplificación</dc:subject>
  <dc:title>Clase 8</dc:title>
</cp:coreProperties>
</file>