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28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C6AA9-1DD7-427E-82F4-90C237EA8D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05692-4315-41B5-A138-5348F90E5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FA696-A55E-4874-A6D4-A45E8C6110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419AC-BF63-4829-9F72-52FE9438F3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6E13-F474-4C4E-A73E-0D918F2BCA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42A6-1964-482C-AC58-3D5931C744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512F-8B56-4061-A31E-4D9B26BF98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71C9-5055-4D83-88C7-27903123C9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4A31-574F-4943-8499-2678C92171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A4B0-E3E1-4299-9450-683C7DC42B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2888-6E7B-4158-868D-3E2A8A6F3F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805AC-DE85-41F7-BA0B-F839026067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1CC8-5CD6-457D-A86D-8C904E9C9C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14AB-DAF7-4921-A9A1-C5727EF55B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4F96-C11D-4066-A44C-0E3913CB95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663F-560E-4B0A-9FB0-56EF0E6DD3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5296-27DE-4257-BD08-DE234D7FAF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F5C76-DAAD-41E6-B6E3-18CDA68C98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75EDA-BB63-4033-99C1-349C3A4E7F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A5314-C4CE-4335-8CAB-AB900DB7D5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0FFD1-8578-4CEC-BFD9-D3E0B6AE9B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25E2B-50E4-49FD-B19B-F5E07E979C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1558D-5961-403C-870C-B4950F9EA4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2823C-B0B7-4A85-97E6-01FF6A7739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50B1-2557-4761-B6DB-12DBC1D4A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E4FC-DA79-4FC5-84FB-16DC7FD1B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como Amplificad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556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553080" y="1752480"/>
            <a:ext cx="2438640" cy="2895840"/>
            <a:chOff x="6553080" y="1752480"/>
            <a:chExt cx="2438640" cy="289584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6553080" y="1752480"/>
              <a:ext cx="243864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7081920" y="3223800"/>
              <a:ext cx="469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36800" y="3565440"/>
                <a:ext cx="529092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752480" y="2971800"/>
                <a:ext cx="33735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04920" y="55627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deal como buffer de Voltaje: ¡¡¡La fuente puede alimentar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una carga con impedancia comparable a la propia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4584600"/>
            <a:ext cx="411480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tar que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ut(B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(E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stá en paralelo con la resistencia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, pero esta última es, en un buen diseño, mucho mayor que la prime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514600" y="1905120"/>
                <a:ext cx="388620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58720" y="4529160"/>
                <a:ext cx="41706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‖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5257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 de Operación: Zona Ac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uente a tierra (elimino AC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0.7 V;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m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tar que el seguidor de emisor npn sólo puede ser “fuente” (no sumidero)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6320" y="3124080"/>
            <a:ext cx="6172200" cy="348768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685440" y="4898880"/>
            <a:ext cx="4513680" cy="1229760"/>
            <a:chOff x="685440" y="4898880"/>
            <a:chExt cx="4513680" cy="1229760"/>
          </a:xfrm>
        </p:grpSpPr>
        <p:sp>
          <p:nvSpPr>
            <p:cNvPr id="148" name=""/>
            <p:cNvSpPr/>
            <p:nvPr/>
          </p:nvSpPr>
          <p:spPr>
            <a:xfrm>
              <a:off x="3048120" y="5791320"/>
              <a:ext cx="21510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oltaje Polariz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685440" y="4898880"/>
              <a:ext cx="34290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15000" y="1801800"/>
            <a:ext cx="3352680" cy="3254400"/>
            <a:chOff x="5715000" y="1801800"/>
            <a:chExt cx="3352680" cy="3254400"/>
          </a:xfrm>
        </p:grpSpPr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576108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55308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53416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5328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1500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876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nto de Operación: Zona Ac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1m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/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+1)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6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0" y="5334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Pola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320" y="2819520"/>
            <a:ext cx="6705360" cy="363996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5562720" y="1801800"/>
            <a:ext cx="3352680" cy="3254400"/>
            <a:chOff x="5562720" y="1801800"/>
            <a:chExt cx="3352680" cy="325440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560880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0080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38188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0100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6272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H="1" flipV="1">
            <a:off x="838080" y="4495320"/>
            <a:ext cx="5943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5334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laciones de Pot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/2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1V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6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) /2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/2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1V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 mA) /2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0.5 mW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olariz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m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2.7 mW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ici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rcentaje de la Potencia de Polarización que es entregada a la carg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19%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blem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plificador consume potencia aún cuando no hay señal de entrada (Amplificador “Clase A”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715000" y="1801800"/>
            <a:ext cx="3352680" cy="3254400"/>
            <a:chOff x="5715000" y="1801800"/>
            <a:chExt cx="3352680" cy="325440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576108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655308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3416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5328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500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57200" y="5072040"/>
            <a:ext cx="838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lpable: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stor npn sólo puede “suplir” corriente es necesario “subir” la señal de entrada (Aplicar voltaje negativo en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para que en sus excursiones no corten al transis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5850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1.7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5545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67480" y="4935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6.8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6320" y="2421000"/>
            <a:ext cx="7619760" cy="428472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6858000" y="2743200"/>
            <a:ext cx="2209680" cy="2209680"/>
            <a:chOff x="6858000" y="2743200"/>
            <a:chExt cx="2209680" cy="2209680"/>
          </a:xfrm>
        </p:grpSpPr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6886440" y="2743200"/>
              <a:ext cx="205596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391520" y="384948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534520" y="281916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29600" y="4571640"/>
              <a:ext cx="73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58000" y="2865240"/>
              <a:ext cx="1406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7467480" y="524016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367524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495680" y="4284720"/>
            <a:ext cx="533520" cy="820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24280" y="4952880"/>
            <a:ext cx="2133720" cy="1143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1218960" y="3123720"/>
            <a:ext cx="3276360" cy="1676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620000">
            <a:off x="1828080" y="3580920"/>
            <a:ext cx="2590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cursiones posi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620000">
            <a:off x="4876200" y="5119200"/>
            <a:ext cx="2590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cursiones neg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6400800"/>
            <a:ext cx="53316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320" y="3429000"/>
            <a:ext cx="53316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001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áxima excursión señal de entrada sin distors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“Polarización en el Centro” (Importante Polarización estable (Temperatura, reemplazo, vejez,... )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tar que en la zona activa la amplificación es (para variaciones pequeñas de la señal) lineal (la separación entre las curvas parámetro se mantiene constante)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620000">
            <a:off x="2133000" y="4876560"/>
            <a:ext cx="2590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peración “casi” lin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1066680" y="3580920"/>
            <a:ext cx="5029200" cy="2590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818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: Consumo de Potencia sin señal de entrada (Pensar en una aplicación para satélites o remota ...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evitarlo habría que “correr” la polarización a un extremo (en el caso npn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0) pero eso implicaría que sólo estarían permitidas excursiones positivas (las otras provocarían corte). Solución: Seguidor de Emisor Push-Pul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15240" y="591516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1.7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15240" y="565956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915240" y="514980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6.8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6320" y="3048120"/>
            <a:ext cx="7049880" cy="3581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915240" y="540540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94280" y="4208400"/>
            <a:ext cx="11984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165200" y="4718160"/>
            <a:ext cx="352440" cy="55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35400" y="5213520"/>
            <a:ext cx="2044800" cy="955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991800" y="3747600"/>
            <a:ext cx="3173400" cy="1465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620000">
            <a:off x="1556640" y="4130640"/>
            <a:ext cx="2397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xcursiones positi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620000">
            <a:off x="4376160" y="5416200"/>
            <a:ext cx="2396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xcursiones negati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60680" y="6377040"/>
            <a:ext cx="49392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320" y="3890880"/>
            <a:ext cx="49356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">
            <a:off x="1978920" y="5100480"/>
            <a:ext cx="2397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Operación “casi” lin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991800" y="4017600"/>
            <a:ext cx="4653000" cy="2165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629400" y="2971800"/>
            <a:ext cx="2209680" cy="2209680"/>
            <a:chOff x="6629400" y="2971800"/>
            <a:chExt cx="2209680" cy="2209680"/>
          </a:xfrm>
        </p:grpSpPr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6657840" y="2971800"/>
              <a:ext cx="205596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7162920" y="407808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05920" y="304776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001000" y="4800240"/>
              <a:ext cx="73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29400" y="3093840"/>
              <a:ext cx="1406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V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876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 de Operación: Zona Ac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ortancia: Si se sale de la región activa hay gran distorsión. Polarización Zona Activa define límites: -1V &lt;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1.5 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6320" y="2895480"/>
            <a:ext cx="6476760" cy="3657600"/>
          </a:xfrm>
          <a:prstGeom prst="rect">
            <a:avLst/>
          </a:prstGeom>
          <a:ln w="0">
            <a:noFill/>
          </a:ln>
        </p:spPr>
      </p:pic>
      <p:grpSp>
        <p:nvGrpSpPr>
          <p:cNvPr id="225" name=""/>
          <p:cNvGrpSpPr/>
          <p:nvPr/>
        </p:nvGrpSpPr>
        <p:grpSpPr>
          <a:xfrm>
            <a:off x="5562720" y="1801800"/>
            <a:ext cx="3352680" cy="3254400"/>
            <a:chOff x="5562720" y="1801800"/>
            <a:chExt cx="3352680" cy="3254400"/>
          </a:xfrm>
        </p:grpSpPr>
        <p:pic>
          <p:nvPicPr>
            <p:cNvPr id="226" name="" descr=""/>
            <p:cNvPicPr/>
            <p:nvPr/>
          </p:nvPicPr>
          <p:blipFill>
            <a:blip r:embed="rId2"/>
            <a:stretch/>
          </p:blipFill>
          <p:spPr>
            <a:xfrm>
              <a:off x="560880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640080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8188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00100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6272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2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85800" y="527220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09680" y="4724280"/>
            <a:ext cx="1067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0" y="525780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51055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V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5029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nto de Operación: Zona Ac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corriente de base aumenta considerablemente. Polarización Zona Activa define límites: -1V &lt;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1.5 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76320" y="3078000"/>
            <a:ext cx="6400800" cy="34750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85800" y="579132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3048120"/>
            <a:ext cx="1067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562720" y="1801800"/>
            <a:ext cx="3352680" cy="3254400"/>
            <a:chOff x="5562720" y="1801800"/>
            <a:chExt cx="3352680" cy="3254400"/>
          </a:xfrm>
        </p:grpSpPr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560880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40080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8188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0100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6272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2286000" y="358128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57913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guidor de Emisor Push-Pul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uelve problema de consumo sin señ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y utilizado como etapa de sali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guidor de Emisor np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ólo puede ser “fuente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uce sólo en ciclos positiv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 señal de entrada hay consumo despreci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guidor de Emisor pn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ólo puede ser “reservori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uce sólo en ciclos negativ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 señal de entrada hay consumo despreci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648320" y="2917800"/>
            <a:ext cx="2187360" cy="24922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967440" y="2917800"/>
            <a:ext cx="20242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: Seguidor de Emisor Push-Pul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despreciable sin señal de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ciclos positivos conduce Q1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ciclos negativos conduce Q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storsión Cross-Ove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ucción ocurre después del encendido de las junturas base-emisor (~ 0.6V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257800" y="2438280"/>
            <a:ext cx="35053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8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Transistores de Juntura Bipolar (BJT)</a:t>
            </a:r>
            <a:br>
              <a:rPr sz="3200"/>
            </a:b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mplificació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oltaj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04920" y="2484360"/>
            <a:ext cx="7010280" cy="39639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238880" y="46483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rga 1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cc=10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437920" y="36576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0" y="304812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torsión Cross-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019920" y="2065320"/>
            <a:ext cx="29113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rrient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6320" y="2438280"/>
            <a:ext cx="7543800" cy="40957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019920" y="1752480"/>
            <a:ext cx="29113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 Cross-Ov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R1 entrega corriente de activación a los diodos y juntura base-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odos ayudan al encendido de las junturas base-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estable ante cambios de temperatur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s 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703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V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mbio Tempera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ter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 Q1 y Q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or de los cas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odos D1, D2 y D3 no sufren cambi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s “toman” el aument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: R2=R3=1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30ºC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70 m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n Resistencias: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 Resistencias: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olución es un compromis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s grande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mayor estabilidad pero también mayor consumo sin señ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444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ush-Pull (V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 Optim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Emisor Común (Q3) con fuente de corriente como “Carga Activ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uente de corriente Q5 presenta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su colector una alta imped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ejora Ganancia del emisor comú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es necesario tener resistencia R1 baja (ejemplo anterior) minimizando el consumo y maximizando la gan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018040" y="457200"/>
            <a:ext cx="41259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Emisor Comú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541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: Base; Salida: Colec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: Voltaje y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: alta (idéntica a la del seguidor de emisor, amplifica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por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: altísima (“mirando” por el colector hay fuente de corri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lta impedancia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“Gana”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ue está en paralel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532480" y="1752480"/>
            <a:ext cx="3611520" cy="3391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685800" y="4114800"/>
                <a:ext cx="198108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80880" y="5638680"/>
                <a:ext cx="30798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976560" y="5638680"/>
                <a:ext cx="153828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5791320" y="569916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Ganancia en Potencia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990880" y="4114800"/>
                <a:ext cx="2190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048040" y="4800600"/>
                <a:ext cx="17618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Base Comú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5783400" y="1676520"/>
            <a:ext cx="3284280" cy="3352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5790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: Emisor; Salida: Colec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: Voltaje y “Seguidor”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: Baja (divide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por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: altísima (“mirando” por el colector hay fuente de corri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lta impeda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“Gana”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ue está en paralel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255680" y="4105440"/>
                <a:ext cx="16398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84120" y="5629320"/>
                <a:ext cx="45687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E</m:t>
                                </m:r>
                              </m:e>
                            </m:d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257800" y="5653080"/>
                <a:ext cx="22096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5791320" y="5181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Ganancia en Potencia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3124080" y="3962520"/>
                <a:ext cx="1548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E</m:t>
                                </m:r>
                              </m:e>
                            </m:d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685800" y="4648320"/>
                <a:ext cx="32688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‖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Base Comú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5783400" y="1676520"/>
            <a:ext cx="3284280" cy="33526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5960" y="1752480"/>
            <a:ext cx="55623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“mirando” por el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be ser grande pues es una fuente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”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ue está en paralel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imación de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(C )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n considerar a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visor de tensión: Cambi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parece casi íntegramente com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doptan los cambios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447920" y="4422600"/>
                <a:ext cx="298584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533520" y="5410080"/>
                <a:ext cx="31813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886200" y="5261040"/>
                <a:ext cx="15415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019920" y="5257800"/>
                <a:ext cx="22032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figuraciones Adicion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arlingt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yor gana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eración de los encendidos y satu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Sziklai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ocido como Darlington Complementario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2346480" cy="24004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5715000" y="4114800"/>
            <a:ext cx="241632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figuración Darlingto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2485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arlington 2N6059,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0.05m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7238880" cy="39816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238880" y="25588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0.25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91520" y="3124080"/>
            <a:ext cx="1600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Saturación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.8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el comportamiento de un Transistor Bipolar como amplificador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nálisis de pequeña señ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onfiguraciones estánda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Seguidor de Emisor Push-Pul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Zona Activa amplifica pote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 para pequeñas variaciones en torno a punto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cursiones mayores son amplificadas con distors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lector-Común (seguidor de emisor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de voltaje unitaria; amplifica corrient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mpedancia de entrada alta; impedancia de salida baj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Útil como etapa de salida, “Buffer de Voltaje”. Mejora: Push-Pul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misor Comú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mplifica voltaje y corriente. Cambio de fase en voltaj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mpedancia de entrada alta;impedancia de salida altísim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ase Comú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mplifica voltaje; ganancia en corriente unitari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mpedancia de entrada baja;impedancia de salida altísim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Útil como “Buffer de Corriente”. Aplicación más famosa: Cascod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figuraciones Especiales: Darlington, Sziklai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 como Amplificad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1960" y="2057400"/>
            <a:ext cx="5342040" cy="34448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960" y="19047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Emisor Comú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sistencias +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definen Punto de Oper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densadores de bloqueo: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islan polarización del transistor de las etapas de entrada y salid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Definen filtro pasaaltos para señal pequeñ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nálisis en continu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ariación de la seña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fecto Condensadores de bloqueo (circuito de señal pequeña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mplificación (Divisores de tensión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Notar que a frecuencias de operación (no bloquedas) la resistencia de carga es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//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arga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 como Amplificad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quivalente de Thèveni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uen diseño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&lt;&lt;(1+h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en Zona Activ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mplificad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direc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invers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áxima Excursión de señ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e amplitudes máximas para permanecer en Zona Activ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álido para Entrada/Sali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054320" y="1676520"/>
            <a:ext cx="2171880" cy="3520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683400" y="1676520"/>
            <a:ext cx="2460600" cy="3260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495680" y="5334120"/>
                <a:ext cx="19051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781680" y="5410080"/>
                <a:ext cx="11401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‖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099120" y="3124080"/>
                <a:ext cx="6606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 como Amplificador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11400" y="3962520"/>
            <a:ext cx="5432400" cy="25905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de los condensadores en variaciones de la señ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 útil notar que variación en torno a punto de operación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liminar fuentes continu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ircuito de señal pequeña: fácil “visión” de constantes de tiempo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ensadores de bloqueo implican filtros pasaalt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Buen diseño: Frecuencias de operación &gt;&gt; frecuencia de corte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ndensadores son “corto-circuitos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olvidar que el colector de un transistor en activa es una fuente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 como Amplificador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ocedimiento” de Análisi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terminar punto de ope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rificar cáracter de “buen diseño”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rificar zona activa y máxima excursión de señ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terminar frecuencias de cor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hequear “buen diseño” (Trade-Off con buen diseño del punto de operación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ulta práctico pensar en “eliminar fuentes continuas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anancias e impeda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s: Análisis de “transmisión de variaciones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s: Divisor de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Características Bás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5562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guidor:“Sigue a la fuente de entrad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asume f &gt;&gt; 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no hay atenu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directa 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direc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so contrario el transistor está en cor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hay corriente en el emisor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cer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ortante la polarización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Definen la zona de cor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791320" y="1752480"/>
            <a:ext cx="3162240" cy="3299040"/>
            <a:chOff x="5791320" y="1752480"/>
            <a:chExt cx="3162240" cy="329904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791320" y="1752480"/>
              <a:ext cx="3162240" cy="329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477120" y="342900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216160" y="3949560"/>
                <a:ext cx="13651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523880" y="4398840"/>
                <a:ext cx="29718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666960" y="4917960"/>
                <a:ext cx="15145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371600" y="4937040"/>
                <a:ext cx="167652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920" y="5410080"/>
            <a:ext cx="6248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de señal pequeñ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larización define punto de operación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ariaciones de señal pequeña en torno a la pola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5029200"/>
            <a:ext cx="26668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Obs: Se ha omitido por simplicidad la polarización de la base. Siempre debe haber un retorno a tierra para continu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como Amplificad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55623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e Voltaje y Corriente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019920" y="1752480"/>
            <a:ext cx="2933640" cy="3048120"/>
            <a:chOff x="6019920" y="1752480"/>
            <a:chExt cx="2933640" cy="304812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6019920" y="1752480"/>
              <a:ext cx="293364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656040" y="3301200"/>
              <a:ext cx="565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55560" y="3720960"/>
                <a:ext cx="30812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056120" y="3589200"/>
                <a:ext cx="165888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85800" y="4211640"/>
                <a:ext cx="388620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835200" y="5170320"/>
                <a:ext cx="39351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828800" y="2514600"/>
                <a:ext cx="14414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838080" y="3048120"/>
                <a:ext cx="41036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823000" y="5181480"/>
                <a:ext cx="202572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3276720" y="6095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Ganancia en Potencia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8-05T21:13:09Z</dcterms:modified>
  <cp:revision>1078</cp:revision>
  <dc:subject>Transistores de Juntura Bipolar (BJT). Amplificación</dc:subject>
  <dc:title>Clase 8</dc:title>
</cp:coreProperties>
</file>