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356D-B411-4729-90C2-6AB996562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05F2-BB5C-464F-A18F-B41477A34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E8E1-6D91-4E98-9FB4-B3BAEC228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A889-C685-41B6-8C22-3475C53FE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AB8-BAEF-4497-B65C-60A5A412A1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22D-6A19-4F97-AC7C-2ABD8300EB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0DE-7810-43F7-B49C-DCD52FDC62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1C7-83E4-4F31-995B-2F4A83C1B5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CDF-9C67-427F-B912-405897C52D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AEA-2D7A-4EEB-BC1E-35189FB5ED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BF1-3576-4BD8-AC7B-CA16D39BA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2400-F099-4393-AE8B-FF031585B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635-D484-446B-8820-A0DC0AD32B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BBC-1497-42C8-94A6-C0FCD0F918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46D-4366-41C7-BA36-EED9674ED8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EA7-86C8-4E45-9857-D9F4EB37FD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0DA-D277-45B3-8383-9DBE8B9952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2534-8D50-4EEF-9913-B3A5433A5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F842-5EF6-4087-BBA5-3CDCD25B4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EF37-704F-4E72-8EC3-0260801F2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4AEC-54EC-4A7C-92C6-7F3B7E5C3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0A7C-0BE0-4544-A28E-71A242A0E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FD56-3EB1-476A-8A0D-C27856982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811E-7F13-42ED-B735-EF2220B81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1CC8-4A69-4AE9-A9EC-B7C797834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997C-5B9C-4192-9918-D85411ABB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553080" y="1752480"/>
            <a:ext cx="2438640" cy="2895840"/>
            <a:chOff x="6553080" y="1752480"/>
            <a:chExt cx="2438640" cy="28958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553080" y="1752480"/>
              <a:ext cx="2438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81920" y="322380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36800" y="3565440"/>
                <a:ext cx="5290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52480" y="2971800"/>
                <a:ext cx="3373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562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deal como buffer de Voltaje: ¡¡¡La fuente puede alimentar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na carga con impedancia comparable a la propi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584600"/>
            <a:ext cx="4114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(B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E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tá en paralelo con la resistencia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pero esta última es, en un buen diseño, mucho mayor que la prim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1905120"/>
                <a:ext cx="38862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720" y="4529160"/>
                <a:ext cx="417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 a tierra (elimino A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0.7 V;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l seguidor de emisor npn sólo puede ser “fuente” (no sumidero)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6172200" cy="34876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5440" y="4898880"/>
            <a:ext cx="4513680" cy="1229760"/>
            <a:chOff x="685440" y="4898880"/>
            <a:chExt cx="4513680" cy="1229760"/>
          </a:xfrm>
        </p:grpSpPr>
        <p:sp>
          <p:nvSpPr>
            <p:cNvPr id="148" name=""/>
            <p:cNvSpPr/>
            <p:nvPr/>
          </p:nvSpPr>
          <p:spPr>
            <a:xfrm>
              <a:off x="3048120" y="5791320"/>
              <a:ext cx="215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Polar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85440" y="4898880"/>
              <a:ext cx="3429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20" y="2819520"/>
            <a:ext cx="6705360" cy="3639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flipV="1">
            <a:off x="838080" y="4495320"/>
            <a:ext cx="5943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ciones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 m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5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2.7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centaje de la Potencia de Polarización que es entregada a la 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9%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consume potencia aún cuando no hay señal de entrada (Amplificador “Clase 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200" y="507204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lpable: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 npn sólo puede “suplir” corriente es necesario “subir” la señal de entrada (Aplicar voltaje negativo e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que en sus excursiones no corten al tran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850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545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935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2421000"/>
            <a:ext cx="7619760" cy="4284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858000" y="2743200"/>
            <a:ext cx="2209680" cy="2209680"/>
            <a:chOff x="6858000" y="2743200"/>
            <a:chExt cx="2209680" cy="22096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886440" y="27432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91520" y="38494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34520" y="28191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9600" y="45716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8652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67480" y="5240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75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680" y="4284720"/>
            <a:ext cx="533520" cy="82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952880"/>
            <a:ext cx="2133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218960" y="3123720"/>
            <a:ext cx="327636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">
            <a:off x="1828080" y="3580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">
            <a:off x="4876200" y="511920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4008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4290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áxima excursión señal de entrada sin disto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olarización en el Centro” (Importante Polarización estable (Temperatura, reemplazo, vejez,... )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n la zona activa la amplificación es (para variaciones pequeñas de la señal) lineal (la separación entre las curvas parámetro se mantiene constante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">
            <a:off x="2133000" y="487656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066680" y="3580920"/>
            <a:ext cx="5029200" cy="2590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Consumo de Potencia sin señal de entrada (Pensar en una aplicación para satélites o remota ..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evitarlo habría que “correr” la polarización a un extremo (en el caso np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0) pero eso implicaría que sólo estarían permitidas excursiones positivas (las otras provocarían corte). Solución: 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5240" y="5915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15240" y="56595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240" y="5149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7049880" cy="3581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15240" y="5405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4280" y="4208400"/>
            <a:ext cx="1198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165200" y="4718160"/>
            <a:ext cx="35244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5400" y="5213520"/>
            <a:ext cx="2044800" cy="955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991800" y="3747600"/>
            <a:ext cx="3173400" cy="146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">
            <a:off x="1556640" y="413064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">
            <a:off x="4376160" y="5416200"/>
            <a:ext cx="239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0680" y="6377040"/>
            <a:ext cx="49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3890880"/>
            <a:ext cx="4935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">
            <a:off x="1978920" y="510048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991800" y="4017600"/>
            <a:ext cx="4653000" cy="216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629400" y="2971800"/>
            <a:ext cx="2209680" cy="2209680"/>
            <a:chOff x="6629400" y="2971800"/>
            <a:chExt cx="2209680" cy="220968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657840" y="29718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62920" y="40780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5920" y="30477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8002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29400" y="30938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cia: Si se sale de la región activa hay gran distorsión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476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2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52722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7242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rriente de base aumenta considerablemente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5791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304812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0" y="35812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5791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utilizado como etap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np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fuent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posi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n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reservori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nega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8320" y="2917800"/>
            <a:ext cx="218736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67440" y="2917800"/>
            <a:ext cx="2024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 Seguidor de Emis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spreciable sin señal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positivos conduce Q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negativos conduce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ción ocurre después del encendido de las junturas base-emisor (~ 0.6V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5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8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2484360"/>
            <a:ext cx="7010280" cy="3963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2388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cc=1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048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9920" y="206532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7543800" cy="4095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Cross-O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R1 entrega corriente de activación a los diodos y juntura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s ayudan al encendido de las junturas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estable ante cambios de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s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 Q1 y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or de los cas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odos D1, D2 y D3 no sufren cambi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“toman” el aum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R2=R3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30ºC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0 m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 es un compromi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grande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mayor estabilidad pero también mayor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444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ush-Pull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Opti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misor Común (Q3) con fuente de corriente como “Carga Ac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Q5 present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u colector una alt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jora Ganancia del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necesario tener resistencia R1 baja (ejemplo anterior) minimizando el consumo y maximizando l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18040" y="457200"/>
            <a:ext cx="4125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Emisor Comú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Base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alta (idéntica a la del seguidor de emisor, amplif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32480" y="1752480"/>
            <a:ext cx="3611520" cy="339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4114800"/>
                <a:ext cx="1981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0880" y="5638680"/>
                <a:ext cx="3079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76560" y="5638680"/>
                <a:ext cx="1538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5791320" y="56991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90880" y="4114800"/>
                <a:ext cx="2190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048040" y="4800600"/>
                <a:ext cx="1761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790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Emisor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“Seguidor”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Baja (divid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5680" y="4105440"/>
                <a:ext cx="1639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4120" y="5629320"/>
                <a:ext cx="4568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257800" y="5653080"/>
                <a:ext cx="2209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91320" y="5181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3962520"/>
                <a:ext cx="15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85800" y="4648320"/>
                <a:ext cx="326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5562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“mirando”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grande pues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imación d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(C )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 considerar 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: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parece casi íntegramente com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doptan los cambio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4422600"/>
                <a:ext cx="298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3520" y="5410080"/>
                <a:ext cx="3181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886200" y="5261040"/>
                <a:ext cx="15415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19920" y="5257800"/>
                <a:ext cx="2203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Adi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arlingt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yor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ción de los encendidos y 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zikla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ocido como Darlington Complementari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3464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416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ón Darlingt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arlington 2N6059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05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238880" y="2558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0.25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31240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aturación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comportamiento de un Transistor Bipolar como amplificad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nálisis de pequeña señ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nfiguraciones estánd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 amplifica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para pequeñas variaciones en torno a 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mayores son amplificadas con distors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-Común (seguidor de emiso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de voltaje unitaria; amplific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 impedancia de salida baj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etapa de salida, “Buffer de Voltaje”. Mejora: Push-Pu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 y corriente. Cambio de fase en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se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; ganancia en corriente unitar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baj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“Buffer de Corriente”. Aplicación más famosa: Casc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figuraciones Especiales: Darlington, Szikla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1960" y="2057400"/>
            <a:ext cx="53420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istencias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finen 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densadores de bloqueo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islan polarización del transistor de las etapas de entrada y sali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en filtro pasaaltos para señal pequeñ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continu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e la señ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Condensadores de bloqueo (circuito de señal pequeña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mplificación (Divisores de tens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tar que a frecuencias de operación (no bloquedas) la resistencia de carga es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de Thèveni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uen diseñ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&lt;(1+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en Zona Activ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amplitudes máximas para permanecer en Zona Ac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álido para Entrada/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54320" y="1676520"/>
            <a:ext cx="2171880" cy="35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83400" y="1676520"/>
            <a:ext cx="2460600" cy="32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5334120"/>
                <a:ext cx="1905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81680" y="5410080"/>
                <a:ext cx="1140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99120" y="3124080"/>
                <a:ext cx="660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1400" y="3962520"/>
            <a:ext cx="5432400" cy="259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os condensadores en variaciones de la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 útil notar que variación en torno a punto de oper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liminar fuentes continu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ircuito de señal pequeña: fácil “visión” de constantes de tiemp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es de bloqueo implican filtros pasaal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Buen diseño: Frecuencias de operación &gt;&gt; frecuencia de cort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es son “corto-circuito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olvidar que el colector de un transistor en activa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cedimiento” de Análisi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cáracter de “buen diseño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zona activa y 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frecuencias de 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ar “buen diseño” (Trade-Off con buen diseño del punto de oper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ulta práctico pensar en “eliminar fuentes continua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s e 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: Análisis de “transmisión de variacion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: Diviso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:“Sigue a la fuente de ent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f &gt;&gt;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no hay atenu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so contrario el transistor está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hay corriente en el emis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er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te la polarización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Definen la zona de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1752480"/>
            <a:ext cx="3162240" cy="3299040"/>
            <a:chOff x="5791320" y="1752480"/>
            <a:chExt cx="3162240" cy="32990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1752480"/>
              <a:ext cx="316224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77120" y="34290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6160" y="3949560"/>
                <a:ext cx="1365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3880" y="439884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6960" y="491796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4937040"/>
                <a:ext cx="1676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5410080"/>
            <a:ext cx="624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de señ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efine punto de ope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ciones de señal pequeña en torno a la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5029200"/>
            <a:ext cx="266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bs: Se ha omitido por simplicidad la polarización de la base. Siempre debe haber un retorno a tierra para contin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Voltaje y Corriente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752480"/>
            <a:ext cx="2933640" cy="3048120"/>
            <a:chOff x="6019920" y="1752480"/>
            <a:chExt cx="2933640" cy="30481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019920" y="1752480"/>
              <a:ext cx="29336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6040" y="3301200"/>
              <a:ext cx="56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560" y="3720960"/>
                <a:ext cx="3081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56120" y="3589200"/>
                <a:ext cx="16588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5800" y="4211640"/>
                <a:ext cx="38862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5200" y="5170320"/>
                <a:ext cx="39351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514600"/>
                <a:ext cx="1441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38080" y="3048120"/>
                <a:ext cx="410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823000" y="5181480"/>
                <a:ext cx="2025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276720" y="60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1:13:09Z</dcterms:modified>
  <cp:revision>1078</cp:revision>
  <dc:subject>Transistores de Juntura Bipolar (BJT). Amplificación</dc:subject>
  <dc:title>Clase 8</dc:title>
</cp:coreProperties>
</file>