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B22A-33EC-48FA-8491-58C3205B3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019A-8361-42D4-81F5-347B2D693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F535-A4AA-4F40-85A1-3ED630D9D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CDF4-AAF4-4E3F-9305-396D01EE2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08F-E81D-4CE7-ACFE-B84AF583AD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462-8651-4883-9D4A-90AD75937E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B7B-E208-4A7D-8824-C31FBF89F4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146-7FEE-4473-822B-106C9E4F8B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CC1-F97F-4D25-9C39-795F83CE6F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731-3BF2-487A-BC77-32F2D9257B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2FB-1062-4CF5-A339-5559F9C0FD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16D3-B59B-41DE-ACC0-63C21B767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A16-32FE-4590-8520-56BFAAD26A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0D8-B10F-418D-86E3-19190CAEF0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9F1-9120-4AFA-80B2-A54A51CE5F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0E3-21D4-456D-A010-8A80AB8236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64E-6536-48C2-B569-215005B871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AD24-1F67-431F-99D7-56F10669D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7136-552F-4A15-912E-094BE610D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5158-82A9-4A05-BE1B-3BC67D074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5976-6F4C-4672-8178-323E74010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F819-B169-4736-866E-6F325FEF1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8438-DFBE-4DCE-AAE0-63F934594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8F62-D838-44F5-B9E1-EC9843451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A674-DB49-4FD0-AC8A-38E61BF9D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8341-9B4B-4FED-B67C-BB3FCDFC5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553080" y="1752480"/>
            <a:ext cx="2438640" cy="2895840"/>
            <a:chOff x="6553080" y="1752480"/>
            <a:chExt cx="2438640" cy="28958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553080" y="1752480"/>
              <a:ext cx="2438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81920" y="322380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36800" y="3565440"/>
                <a:ext cx="5290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52480" y="2971800"/>
                <a:ext cx="3373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562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deal como buffer de Voltaje: ¡¡¡La fuente puede alimentar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na carga con impedancia comparable a la propi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584600"/>
            <a:ext cx="4114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(B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E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tá en paralelo con la resistencia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pero esta última es, en un buen diseño, mucho mayor que la prim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1905120"/>
                <a:ext cx="38862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720" y="4529160"/>
                <a:ext cx="417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 a tierra (elimino A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0.7 V;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l seguidor de emisor npn sólo puede ser “fuente” (no sumidero)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6172200" cy="34876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5440" y="4898880"/>
            <a:ext cx="4513680" cy="1229760"/>
            <a:chOff x="685440" y="4898880"/>
            <a:chExt cx="4513680" cy="1229760"/>
          </a:xfrm>
        </p:grpSpPr>
        <p:sp>
          <p:nvSpPr>
            <p:cNvPr id="148" name=""/>
            <p:cNvSpPr/>
            <p:nvPr/>
          </p:nvSpPr>
          <p:spPr>
            <a:xfrm>
              <a:off x="3048120" y="5791320"/>
              <a:ext cx="215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Polar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85440" y="4898880"/>
              <a:ext cx="3429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20" y="2819520"/>
            <a:ext cx="6705360" cy="3639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flipV="1">
            <a:off x="838080" y="4495320"/>
            <a:ext cx="5943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ciones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 m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5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2.7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centaje de la Potencia de Polarización que es entregada a la 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9%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consume potencia aún cuando no hay señal de entrada (Amplificador “Clase 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200" y="507204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lpable: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 npn sólo puede “suplir” corriente es necesario “subir” la señal de entrada (Aplicar voltaje negativo e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que en sus excursiones no corten al tran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850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545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935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2421000"/>
            <a:ext cx="7619760" cy="4284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858000" y="2743200"/>
            <a:ext cx="2209680" cy="2209680"/>
            <a:chOff x="6858000" y="2743200"/>
            <a:chExt cx="2209680" cy="22096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886440" y="27432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91520" y="38494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34520" y="28191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9600" y="45716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8652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67480" y="5240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75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680" y="4284720"/>
            <a:ext cx="533520" cy="82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952880"/>
            <a:ext cx="2133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218960" y="3123720"/>
            <a:ext cx="327636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">
            <a:off x="1828080" y="3580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">
            <a:off x="4876200" y="511920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4008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4290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áxima excursión señal de entrada sin disto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olarización en el Centro” (Importante Polarización estable (Temperatura, reemplazo, vejez,... )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n la zona activa la amplificación es (para variaciones pequeñas de la señal) lineal (la separación entre las curvas parámetro se mantiene constante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">
            <a:off x="2133000" y="487656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066680" y="3580920"/>
            <a:ext cx="5029200" cy="2590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Consumo de Potencia sin señal de entrada (Pensar en una aplicación para satélites o remota ..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evitarlo habría que “correr” la polarización a un extremo (en el caso np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0) pero eso implicaría que sólo estarían permitidas excursiones positivas (las otras provocarían corte). Solución: 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5240" y="5915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15240" y="56595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240" y="5149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7049880" cy="3581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15240" y="5405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4280" y="4208400"/>
            <a:ext cx="1198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165200" y="4718160"/>
            <a:ext cx="35244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5400" y="5213520"/>
            <a:ext cx="2044800" cy="955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991800" y="3747600"/>
            <a:ext cx="3173400" cy="146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">
            <a:off x="1556640" y="413064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">
            <a:off x="4376160" y="5416200"/>
            <a:ext cx="239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0680" y="6377040"/>
            <a:ext cx="49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3890880"/>
            <a:ext cx="4935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">
            <a:off x="1978920" y="510048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991800" y="4017600"/>
            <a:ext cx="4653000" cy="216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629400" y="2971800"/>
            <a:ext cx="2209680" cy="2209680"/>
            <a:chOff x="6629400" y="2971800"/>
            <a:chExt cx="2209680" cy="220968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657840" y="29718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62920" y="40780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5920" y="30477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8002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29400" y="30938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cia: Si se sale de la región activa hay gran distorsión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476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2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52722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7242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rriente de base aumenta considerablemente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5791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304812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0" y="35812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5791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utilizado como etap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np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fuent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posi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n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reservori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nega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8320" y="2917800"/>
            <a:ext cx="218736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67440" y="2917800"/>
            <a:ext cx="2024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 Seguidor de Emis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spreciable sin señal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positivos conduce Q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negativos conduce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ción ocurre después del encendido de las junturas base-emisor (~ 0.6V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5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8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2484360"/>
            <a:ext cx="7010280" cy="3963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2388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cc=1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048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9920" y="206532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7543800" cy="4095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Cross-O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R1 entrega corriente de activación a los diodos y juntura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s ayudan al encendido de las junturas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estable ante cambios de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s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 Q1 y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or de los cas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odos D1, D2 y D3 no sufren cambi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“toman” el aum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R2=R3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30ºC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0 m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 es un compromi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grande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mayor estabilidad pero también mayor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444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ush-Pull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Opti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misor Común (Q3) con fuente de corriente como “Carga Ac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Q5 present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u colector una alt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jora Ganancia del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necesario tener resistencia R1 baja (ejemplo anterior) minimizando el consumo y maximizando l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18040" y="457200"/>
            <a:ext cx="4125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Emisor Comú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Base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alta (idéntica a la del seguidor de emisor, amplif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32480" y="1752480"/>
            <a:ext cx="3611520" cy="339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4114800"/>
                <a:ext cx="1981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0880" y="5638680"/>
                <a:ext cx="3079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76560" y="5638680"/>
                <a:ext cx="1538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5791320" y="56991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90880" y="4114800"/>
                <a:ext cx="2190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048040" y="4800600"/>
                <a:ext cx="1761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790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Emisor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“Seguidor”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Baja (divid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5680" y="4105440"/>
                <a:ext cx="1639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4120" y="5629320"/>
                <a:ext cx="4568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257800" y="5653080"/>
                <a:ext cx="2209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91320" y="5181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3962520"/>
                <a:ext cx="15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85800" y="4648320"/>
                <a:ext cx="326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5562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“mirando”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grande pues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imación d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(C )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 considerar 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: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parece casi íntegramente com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doptan los cambio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4422600"/>
                <a:ext cx="298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3520" y="5410080"/>
                <a:ext cx="3181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886200" y="5261040"/>
                <a:ext cx="15415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19920" y="5257800"/>
                <a:ext cx="2203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Adi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arlingt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yor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ción de los encendidos y 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zikla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ocido como Darlington Complementari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3464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416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ón Darlingt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arlington 2N6059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05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238880" y="2558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0.25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31240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aturación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comportamiento de un Transistor Bipolar como amplificad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nálisis de pequeña señ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nfiguraciones estánd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 amplifica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para pequeñas variaciones en torno a 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mayores son amplificadas con distors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-Común (seguidor de emiso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de voltaje unitaria; amplific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 impedancia de salida baj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etapa de salida, “Buffer de Voltaje”. Mejora: Push-Pu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 y corriente. Cambio de fase en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se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; ganancia en corriente unitar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baj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“Buffer de Corriente”. Aplicación más famosa: Casc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figuraciones Especiales: Darlington, Szikla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1960" y="2057400"/>
            <a:ext cx="53420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istencias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finen 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densadores de bloqueo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islan polarización del transistor de las etapas de entrada y sali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en filtro pasaaltos para señal pequeñ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continu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e la señ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Condensadores de bloqueo (circuito de señal pequeña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mplificación (Divisores de tens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tar que a frecuencias de operación (no bloquedas) la resistencia de carga es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de Thèveni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uen diseñ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&lt;(1+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en Zona Activ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amplitudes máximas para permanecer en Zona Ac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álido para Entrada/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54320" y="1676520"/>
            <a:ext cx="2171880" cy="35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83400" y="1676520"/>
            <a:ext cx="2460600" cy="32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5334120"/>
                <a:ext cx="1905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81680" y="5410080"/>
                <a:ext cx="1140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99120" y="3124080"/>
                <a:ext cx="660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1400" y="3962520"/>
            <a:ext cx="5432400" cy="259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os condensadores en variaciones de la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 útil notar que variación en torno a punto de oper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liminar fuentes continu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ircuito de señal pequeña: fácil “visión” de constantes de tiemp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es de bloqueo implican filtros pasaal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Buen diseño: Frecuencias de operación &gt;&gt; frecuencia de cort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es son “corto-circuito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olvidar que el colector de un transistor en activa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cedimiento” de Análisi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cáracter de “buen diseño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zona activa y 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frecuencias de 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ar “buen diseño” (Trade-Off con buen diseño del punto de oper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ulta práctico pensar en “eliminar fuentes continua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s e 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: Análisis de “transmisión de variacion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: Diviso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:“Sigue a la fuente de ent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f &gt;&gt;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no hay atenu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so contrario el transistor está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hay corriente en el emis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er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te la polarización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Definen la zona de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1752480"/>
            <a:ext cx="3162240" cy="3299040"/>
            <a:chOff x="5791320" y="1752480"/>
            <a:chExt cx="3162240" cy="32990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1752480"/>
              <a:ext cx="316224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77120" y="34290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6160" y="3949560"/>
                <a:ext cx="1365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3880" y="439884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6960" y="491796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4937040"/>
                <a:ext cx="1676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5410080"/>
            <a:ext cx="624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de señ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efine punto de ope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ciones de señal pequeña en torno a la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5029200"/>
            <a:ext cx="266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bs: Se ha omitido por simplicidad la polarización de la base. Siempre debe haber un retorno a tierra para contin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Voltaje y Corriente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752480"/>
            <a:ext cx="2933640" cy="3048120"/>
            <a:chOff x="6019920" y="1752480"/>
            <a:chExt cx="2933640" cy="30481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019920" y="1752480"/>
              <a:ext cx="29336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6040" y="3301200"/>
              <a:ext cx="56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560" y="3720960"/>
                <a:ext cx="3081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56120" y="3589200"/>
                <a:ext cx="16588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5800" y="4211640"/>
                <a:ext cx="38862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5200" y="5170320"/>
                <a:ext cx="39351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514600"/>
                <a:ext cx="1441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38080" y="3048120"/>
                <a:ext cx="410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823000" y="5181480"/>
                <a:ext cx="2025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276720" y="60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1:13:09Z</dcterms:modified>
  <cp:revision>1078</cp:revision>
  <dc:subject>Transistores de Juntura Bipolar (BJT). Amplificación</dc:subject>
  <dc:title>Clase 8</dc:title>
</cp:coreProperties>
</file>