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EEBD-A028-43C8-B057-46DD1F2C3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EAE5-F5F0-49C0-852F-05D4ED59C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B576-18B2-4326-AA95-C5DE91E46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933C-3CB6-470B-B7BB-248256D42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C24-9871-4F8D-84E4-819B836855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D37-101D-463E-BA93-EFBE8D30B9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4E4-DF52-4CDF-8C6F-21792B1763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912-4F63-4648-8141-B7D2B4BFF3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0B4-6984-4BEC-A21C-663EADC4AB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603-A916-4338-8FD9-BEB3F9AC00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6D0-C217-4117-AD28-FF3D88DF8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90E3-C64D-491B-8CD8-515E6EDE3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3DB-8A06-4C60-94C6-FFB3FFDE79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AB3-D0EA-4F03-B860-0D98E72A3A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5BC-980D-4EC6-822F-31FB86B488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2B0-B7DF-42FF-A63A-28ECA5F887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ECE-70B5-4860-A173-AA5202CE71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69BB-139D-4E05-BB2C-4CFBE4432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CB03-BF15-41DF-AF12-F2A41EBAC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7E31-6AD7-455C-95D2-CA00A5007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3DF7-7B39-43FB-BE87-93B41569B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0648-77F7-4C82-95A2-A8116244A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453B-8FF1-4191-8F88-564F1A5CF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A392-55E1-4EDC-9FD4-B99CC45B8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7FAE-8F5A-4AB8-B867-CED0A566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E857-3CB1-42C4-BF6C-31D3944A1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7696080" cy="434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uestra el comportamiento de la corriente en el circu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2209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rtadores inyectados por difusión (en exceso) deben “volver”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86200" y="3352680"/>
                <a:ext cx="731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02920" y="5759280"/>
            <a:ext cx="242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791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7520" y="4419720"/>
            <a:ext cx="2900160" cy="113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ortamiento RC: predomin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n serie con R=1k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ns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41972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26120" y="1928880"/>
            <a:ext cx="294156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irecta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irecta en régimen permanente t&lt;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 se conmuta la fuente de potencial quedando ahora el diodo en re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eso de carga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alcanzar en forma inmediata la situación de “corte” (Corriente de Saturación Invers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almacenamiento”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 la transi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ransitorio-diodo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4132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 análisis de huecos en región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rgo del diodo” 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ancia dónde se alcanza nivel de equilibri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nul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cripción de un diodo por Control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que describe la corriente en un diodo en función de la carga almacen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76920" y="2160720"/>
                <a:ext cx="3733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019400" y="2895480"/>
                <a:ext cx="4940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65640" y="3733920"/>
                <a:ext cx="2644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q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43560" y="4457880"/>
                <a:ext cx="3889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1480" y="5334120"/>
                <a:ext cx="17874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i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lt;0 : 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condición inicial para t &gt;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gt; 0 : régimen transito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almacenada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ermite alcanzar el corte inmediat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tiempo de almacenamient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obtiene d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=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91240" y="2209680"/>
                <a:ext cx="2001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16520" y="3048120"/>
                <a:ext cx="1963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86280" y="3657600"/>
                <a:ext cx="3808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10080" y="4724280"/>
                <a:ext cx="276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81640" y="5302080"/>
                <a:ext cx="28195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umbral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 rompen enlaces covalent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 por avalancha: mediante choques con la estructura cristali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uptura Zener: mediante el campo eléctrico exist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50080" y="4375080"/>
                <a:ext cx="2273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50080" y="5213520"/>
                <a:ext cx="2401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5791320"/>
                <a:ext cx="3335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87360" y="4054320"/>
            <a:ext cx="6705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implica campo eléctrico en la ju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4527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juntura pn abrupta (tarea 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360" y="4892760"/>
            <a:ext cx="594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rup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257800"/>
            <a:ext cx="5943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juntura abrupt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52736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Gráfica Obtenida con función “DC Sweep”, para fuente de corriente en el rango [-30, 30]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1768320"/>
            <a:ext cx="3733920" cy="22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2920" y="4076640"/>
            <a:ext cx="167616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abric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reakdown 1N7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.7 V y 20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3762360"/>
            <a:ext cx="6919920" cy="2943360"/>
            <a:chOff x="76320" y="3762360"/>
            <a:chExt cx="6919920" cy="294336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6320" y="3762360"/>
              <a:ext cx="69199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5486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Activ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4343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Ruptur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fere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 se mantiene para un amplio rango de corrien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ricción dada por la disipación de potencia o máxim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mpcos positivos y negativos (coeficiente de temperatura, como cambia la referencia cuando cambia la temperatur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s de referencia típicos entre 3 y 100 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57150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abrupt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ruptur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ruptur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3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8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]~ Cte.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 la ruptura viene dado por el dopado del lado menos dopado 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dopados lineales se obtienen resultados simila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9880" y="1752480"/>
                <a:ext cx="3375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238880" y="1752480"/>
                <a:ext cx="15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ε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Campo_Ruptura_Diodos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90760" cy="2803320"/>
          </a:xfrm>
          <a:prstGeom prst="rect">
            <a:avLst/>
          </a:prstGeom>
          <a:ln w="0">
            <a:noFill/>
          </a:ln>
        </p:spPr>
      </p:pic>
      <p:pic>
        <p:nvPicPr>
          <p:cNvPr id="203" name="Voltaje_Ruptura_Diodos" descr=""/>
          <p:cNvPicPr/>
          <p:nvPr/>
        </p:nvPicPr>
        <p:blipFill>
          <a:blip r:embed="rId2"/>
          <a:stretch/>
        </p:blipFill>
        <p:spPr>
          <a:xfrm>
            <a:off x="4743360" y="3470400"/>
            <a:ext cx="3867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Generales de Disposi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riaciones con Tempera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penden de punto de operación (polariz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mentos pas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ecisión en sus valores” (Resistencias con 1%,5%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es discreto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ma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ímites de potencia, voltaje y corrientes máxim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lementos no Line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hevèn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t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rv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estát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 (Curva) de transfer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visor de tens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R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: Constantes de tiemp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: Tipo de filtro y frecuencias de 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de señal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álido en torno a 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calculan los valores de los parámetr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orpo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seri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ontact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dinám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en la juntura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ramente el dispositivo presentará comportamiento de filtr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Diagramadiodo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62160" cy="1676160"/>
          </a:xfrm>
          <a:prstGeom prst="rect">
            <a:avLst/>
          </a:prstGeom>
          <a:ln w="0">
            <a:noFill/>
          </a:ln>
        </p:spPr>
      </p:pic>
      <p:pic>
        <p:nvPicPr>
          <p:cNvPr id="211" name="Equivalentediodo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0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Dinámicas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: Modelo PSP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odo 1N400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edita el mod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Equivalentediodo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30516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715000" y="1828800"/>
            <a:ext cx="3124080" cy="211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*** Power Diod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.MODEL D1N4002-X 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S=14.11E-9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=1.984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S=33.89E-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KF=94.8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XTI=3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G=1.1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JO=51.17E-1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=.276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J=.3905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C=.5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SR=100.0E-1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R=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V=100.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BV=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T=4.761E-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8456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ortamiento “pasabaj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ircuito abier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rrelevant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al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orto circui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bra importa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álculo de los 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SPICE también entrega los parámetros de señal pequeñ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Equivalentediodo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5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Simplific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naliza según 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inámica en serie con fuente (Voltaje cut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e alto valor (saturación) (~ 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ircuito abierto” siempre que no existan resistencias del orden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3726000"/>
            <a:ext cx="2103480" cy="26748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410080" y="1644480"/>
            <a:ext cx="3657600" cy="2123280"/>
            <a:chOff x="5410080" y="1644480"/>
            <a:chExt cx="3657600" cy="2123280"/>
          </a:xfrm>
        </p:grpSpPr>
        <p:sp>
          <p:nvSpPr>
            <p:cNvPr id="224" name=""/>
            <p:cNvSpPr/>
            <p:nvPr/>
          </p:nvSpPr>
          <p:spPr>
            <a:xfrm>
              <a:off x="7010280" y="16444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0080" y="332064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9760" y="324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619760" y="179640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62360" y="332064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160" y="3320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4160" y="33206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9040" y="1720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76960" y="2177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339696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5800" y="19810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puede simplificar 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limina conden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elo lineal a tra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utlineDiodo" descr=""/>
          <p:cNvPicPr/>
          <p:nvPr/>
        </p:nvPicPr>
        <p:blipFill>
          <a:blip r:embed="rId1"/>
          <a:stretch/>
        </p:blipFill>
        <p:spPr>
          <a:xfrm>
            <a:off x="6183360" y="1600200"/>
            <a:ext cx="2884320" cy="1154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2870280"/>
            <a:ext cx="27432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tros Fabricantes (Phill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Recurrent Peak Forward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S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Peak Forward Su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aximum-Thermal" descr=""/>
          <p:cNvPicPr/>
          <p:nvPr/>
        </p:nvPicPr>
        <p:blipFill>
          <a:blip r:embed="rId2"/>
          <a:stretch/>
        </p:blipFill>
        <p:spPr>
          <a:xfrm>
            <a:off x="76320" y="2460600"/>
            <a:ext cx="6019560" cy="40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ower%20Derating" descr=""/>
          <p:cNvPicPr/>
          <p:nvPr/>
        </p:nvPicPr>
        <p:blipFill>
          <a:blip r:embed="rId3"/>
          <a:stretch/>
        </p:blipFill>
        <p:spPr>
          <a:xfrm>
            <a:off x="6213600" y="3916440"/>
            <a:ext cx="285408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ectrical" descr=""/>
          <p:cNvPicPr/>
          <p:nvPr/>
        </p:nvPicPr>
        <p:blipFill>
          <a:blip r:embed="rId1"/>
          <a:stretch/>
        </p:blipFill>
        <p:spPr>
          <a:xfrm>
            <a:off x="1211400" y="2819520"/>
            <a:ext cx="6637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lores Máximos Absolu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Datasheet%20Zener%20Absolute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5833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Eléctr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atasheet%20Zener%20Electrical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4640" y="220968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Típ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Datasheet%20Zener%20Typical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19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Capacitivos afecta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eados por inyección de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ptura y avalancha en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enera fuentes de tensión “con capacidad de regul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 la temperatur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mportamiento del diodo también (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uti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C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ispositivos son “variabl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lores discretos, precisión,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bricante (Datasheets), conmutación (efectos capacitiv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fectos capacitivos en tiempos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los diodos de ruptura (Zen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pasar técnicas de análisis de circu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ducir y analizar modelos simplificados para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visar parámetros de las hojas de 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racterísticas Gener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ambio en la cantidad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 importante en labores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es función del tipo de dopad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3429000"/>
                <a:ext cx="1979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51055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29718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320" y="333684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xtrae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o agotamiento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320" y="5013360"/>
            <a:ext cx="586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recomb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70480" y="4267080"/>
                <a:ext cx="1565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62720" y="2209680"/>
                <a:ext cx="20318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7200" y="274968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13056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plicando la defin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19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tarea 1.1 recordam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95680" y="2971800"/>
                <a:ext cx="42465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6920" y="4281480"/>
                <a:ext cx="4076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47920" y="5160960"/>
                <a:ext cx="1981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33920" y="5175360"/>
                <a:ext cx="37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A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22840"/>
                <a:ext cx="2384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57200" y="38098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en una de las “placas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y voltaje juntur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directa V &g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inversa V &l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órmula “ideal” para model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638680" y="3124080"/>
                <a:ext cx="243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90920" y="4979880"/>
                <a:ext cx="471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o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nde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sub>
                    </m:sSub>
                    <m:r>
                      <m:t xml:space="preserve">≡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Difus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yecta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24160" y="2133720"/>
                <a:ext cx="4737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895480"/>
                <a:ext cx="340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05520" y="3809880"/>
                <a:ext cx="21668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16360" y="4648320"/>
                <a:ext cx="5208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11760" y="5589720"/>
                <a:ext cx="3713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80880" y="3352680"/>
            <a:ext cx="38102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vid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condensadores en paral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n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p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total: s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4120"/>
            <a:ext cx="38102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amente proporcional a la resistenci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Capacit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ponsables de tiempos de respues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te e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s en defecto (exceso) no permiten una rápida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00800" y="40384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24480" y="4952880"/>
                <a:ext cx="20574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4114800"/>
            <a:ext cx="5410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revers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: No es tan importante (poca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52880"/>
            <a:ext cx="5410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direct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versa: Importante (“gran” cantidad de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s de entrada, diodo y resis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320" y="3057480"/>
                <a:ext cx="12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04920" y="2362320"/>
            <a:ext cx="7315200" cy="4133880"/>
            <a:chOff x="304920" y="2362320"/>
            <a:chExt cx="7315200" cy="41338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73152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flipH="1">
              <a:off x="28195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55888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12408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13372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4197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13372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18040" y="3086280"/>
                <a:ext cx="135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54720" y="1905120"/>
            <a:ext cx="2789280" cy="21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19720" y="5486400"/>
            <a:ext cx="2057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ráfic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 proporcional a la d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15:17:42Z</dcterms:modified>
  <cp:revision>896</cp:revision>
  <dc:subject>Características Dinámicas de los Diodos de Juntura</dc:subject>
  <dc:title>Clase 3</dc:title>
</cp:coreProperties>
</file>