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4509-A29B-4279-BF70-E7098754E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476C-8B27-492A-B249-2058C3D7A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42C2-92B0-4103-93F3-4D4FDA23D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9D00-B577-4530-B5F1-18F8F456D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BC6-CC4A-45F6-A698-91C3C50F65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2AA-ECB9-4CD4-A044-78A53D40D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02A-A70C-4C11-BF2F-F87495C41A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084-E23A-4E6B-B964-F083DDB332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6FE-A08B-4AEA-838C-01CD850E49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089-A7B1-4AC9-83F7-9EC5760D8A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D0B-666A-4B4C-8617-F8740882D6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3828-55D7-414F-8B63-1D112428D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87C-F633-4A15-B4ED-CF735F18CE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D57-7E6E-4A24-B004-DF707E399A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583-74A2-40F2-8825-9B6523261F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A37-DFB7-4487-A7E2-7E723F632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B60-3C76-4D4A-952F-CE15B40A9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F598-97BF-4B96-B345-48680B38F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0E4E-A355-40F8-80C0-F37E92EDF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CB6F-CE61-470C-99E7-F84A28301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00A0-AF60-4442-A5F2-21FDF62A2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9300-AAFB-4CC0-B5DD-27FE63CB6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8166-399A-4F31-96D2-E2F8FFAD4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6A57-3582-4656-BB9D-BAF05FC59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9078-6CA2-4B8F-8D25-AA7C10375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4B60-2E85-4D48-96C5-6F184BFC5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300400"/>
            <a:ext cx="7696080" cy="434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uestra el comportamiento de la corriente en el circu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895480"/>
            <a:ext cx="2209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rtadores inyectados por difusión (en exceso) deben “volver”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86200" y="3352680"/>
                <a:ext cx="731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02920" y="5759280"/>
            <a:ext cx="242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791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7520" y="4419720"/>
            <a:ext cx="2900160" cy="113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ortamiento RC: predomin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en serie con R=1k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ns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3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41972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26120" y="1928880"/>
            <a:ext cx="294156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irecta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irecta en régimen permanente t&lt;0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t=0 se conmuta la fuente de potencial quedando ahora el diodo en re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eso de carga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alcanzar en forma inmediata la situación de “corte” (Corriente de Saturación Invers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almacenamiento”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 la transi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ransitorio-diodo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4132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 análisis de huecos en región 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rgo del diodo” 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ancia dónde se alcanza nivel de equilibri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nul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cripción de un diodo por Control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que describe la corriente en un diodo en función de la carga almacen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76920" y="2160720"/>
                <a:ext cx="3733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019400" y="2895480"/>
                <a:ext cx="4940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65640" y="3733920"/>
                <a:ext cx="2644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qA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43560" y="4457880"/>
                <a:ext cx="3889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1480" y="5334120"/>
                <a:ext cx="17874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Conmutación: Juntur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i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lt;0 : 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condición inicial para t &gt;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&gt; 0 : régimen transito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almacenada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ermite alcanzar el corte inmediat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tiempo de almacenamiento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obtiene d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= 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91240" y="2209680"/>
                <a:ext cx="2001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16520" y="3048120"/>
                <a:ext cx="1963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86280" y="3657600"/>
                <a:ext cx="3808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410080" y="4724280"/>
                <a:ext cx="276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81640" y="5302080"/>
                <a:ext cx="28195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umbral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 rompen enlaces covalent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 por avalancha: mediante choques con la estructura cristali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uptura Zener: mediante el campo eléctrico exist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50080" y="4375080"/>
                <a:ext cx="2273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950080" y="5213520"/>
                <a:ext cx="24019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5791320"/>
                <a:ext cx="33354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87360" y="4054320"/>
            <a:ext cx="6705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oltaje implica campo eléctrico en la jun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4527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juntura pn abrupta (tarea 1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360" y="4892760"/>
            <a:ext cx="594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rup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257800"/>
            <a:ext cx="5943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juntura abrupta p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Características General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527364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Gráfica Obtenida con función “DC Sweep”, para fuente de corriente en el rango [-30, 30]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10080" y="1768320"/>
            <a:ext cx="3733920" cy="224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162920" y="4076640"/>
            <a:ext cx="167616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abric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Breakdown 1N7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.7 V y 20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320" y="3762360"/>
            <a:ext cx="6919920" cy="2943360"/>
            <a:chOff x="76320" y="3762360"/>
            <a:chExt cx="6919920" cy="294336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76320" y="3762360"/>
              <a:ext cx="69199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5486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Activ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4343400"/>
              <a:ext cx="19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Zona Ruptura Di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ferencia de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 se mantiene para un amplio rango de corrient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ricción dada por la disipación de potencia o máxim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mpcos positivos y negativos (coeficiente de temperatura, como cambia la referencia cuando cambia la temperatur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s de referencia típicos entre 3 y 100 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14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5715000"/>
            <a:ext cx="1371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uptura y Avalancha en Diodo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abrupta p</a:t>
            </a:r>
            <a:r>
              <a:rPr b="0" i="1" lang="es-ES_tradnl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ruptur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ruptur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3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8x10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]~ Cte.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 la ruptura viene dado por el dopado del lado menos dopado 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dopados lineales se obtienen resultados simila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9880" y="1752480"/>
                <a:ext cx="3375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238880" y="1752480"/>
                <a:ext cx="15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ε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uptur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Campo_Ruptura_Diodos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4190760" cy="2803320"/>
          </a:xfrm>
          <a:prstGeom prst="rect">
            <a:avLst/>
          </a:prstGeom>
          <a:ln w="0">
            <a:noFill/>
          </a:ln>
        </p:spPr>
      </p:pic>
      <p:pic>
        <p:nvPicPr>
          <p:cNvPr id="203" name="Voltaje_Ruptura_Diodos" descr=""/>
          <p:cNvPicPr/>
          <p:nvPr/>
        </p:nvPicPr>
        <p:blipFill>
          <a:blip r:embed="rId2"/>
          <a:stretch/>
        </p:blipFill>
        <p:spPr>
          <a:xfrm>
            <a:off x="4743360" y="3470400"/>
            <a:ext cx="3867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s Generales de Disposi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riaciones con Tempera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penden de punto de operación (polariz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mentos pas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ecisión en sus valores” (Resistencias con 1%,5%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lores discreto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ma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ímites de potencia, voltaje y corrientes máxim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 Elementos no Line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hevèn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rto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rv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estát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 (Curva) de transfer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visor de tens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ircuitos R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: Constantes de tiemp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: Tipo de filtro y frecuencias de 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de señal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álido en torno a 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calculan los valores de los parámetr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orpo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seri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ontact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dinám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en la juntura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ramente el dispositivo presentará comportamiento de filtr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Diagramadiodo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162160" cy="1676160"/>
          </a:xfrm>
          <a:prstGeom prst="rect">
            <a:avLst/>
          </a:prstGeom>
          <a:ln w="0">
            <a:noFill/>
          </a:ln>
        </p:spPr>
      </p:pic>
      <p:pic>
        <p:nvPicPr>
          <p:cNvPr id="211" name="Equivalentediodo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0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Dinámicas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emplo: Modelo PSP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odo 1N400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edita el mod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Equivalentediodo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30516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715000" y="1828800"/>
            <a:ext cx="3124080" cy="211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*** Power Diod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.MODEL D1N4002-X D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IS=14.11E-9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=1.984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S=33.89E-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KF=94.8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XTI=3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G=1.1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JO=51.17E-1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=.276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J=.3905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C=.5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SR=100.0E-12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R=2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V=100.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BV=10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T=4.761E-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318456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ortamiento “pasabaj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ircuito abier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rrelevant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frecuencias “al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es “corto circui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bra importa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álculo de los 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SPICE también entrega los parámetros de señal pequeñ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Equivalentediodo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5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 de Juntura pn: Modelo Simplific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naliza según 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inámica en serie con fuente (Voltaje cut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Resistencia de alto valor (saturación) (~ M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ircuito abierto” siempre que no existan resistencias del orden d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10080" y="3726000"/>
            <a:ext cx="2103480" cy="26748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410080" y="1644480"/>
            <a:ext cx="3657600" cy="2123280"/>
            <a:chOff x="5410080" y="1644480"/>
            <a:chExt cx="3657600" cy="2123280"/>
          </a:xfrm>
        </p:grpSpPr>
        <p:sp>
          <p:nvSpPr>
            <p:cNvPr id="224" name=""/>
            <p:cNvSpPr/>
            <p:nvPr/>
          </p:nvSpPr>
          <p:spPr>
            <a:xfrm>
              <a:off x="7010280" y="16444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0080" y="332064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9760" y="324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619760" y="179640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562360" y="3320640"/>
              <a:ext cx="2057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1160" y="3320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34160" y="33206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9040" y="1720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76960" y="21776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339696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5800" y="19810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frecuencias “baj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puede simplificar 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limina conden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elo lineal a tram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utlineDiodo" descr=""/>
          <p:cNvPicPr/>
          <p:nvPr/>
        </p:nvPicPr>
        <p:blipFill>
          <a:blip r:embed="rId1"/>
          <a:stretch/>
        </p:blipFill>
        <p:spPr>
          <a:xfrm>
            <a:off x="6183360" y="1600200"/>
            <a:ext cx="2884320" cy="1154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2870280"/>
            <a:ext cx="2743200" cy="91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tros Fabricantes (Philli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R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Recurrent Peak Forward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FSM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Peak Forward Su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Maximum-Thermal" descr=""/>
          <p:cNvPicPr/>
          <p:nvPr/>
        </p:nvPicPr>
        <p:blipFill>
          <a:blip r:embed="rId2"/>
          <a:stretch/>
        </p:blipFill>
        <p:spPr>
          <a:xfrm>
            <a:off x="76320" y="2460600"/>
            <a:ext cx="6019560" cy="40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ower%20Derating" descr=""/>
          <p:cNvPicPr/>
          <p:nvPr/>
        </p:nvPicPr>
        <p:blipFill>
          <a:blip r:embed="rId3"/>
          <a:stretch/>
        </p:blipFill>
        <p:spPr>
          <a:xfrm>
            <a:off x="6213600" y="3916440"/>
            <a:ext cx="2854080" cy="226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airchild Datasheet High-Speed Diode 4148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ectrical" descr=""/>
          <p:cNvPicPr/>
          <p:nvPr/>
        </p:nvPicPr>
        <p:blipFill>
          <a:blip r:embed="rId1"/>
          <a:stretch/>
        </p:blipFill>
        <p:spPr>
          <a:xfrm>
            <a:off x="1211400" y="2819520"/>
            <a:ext cx="6637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alores Máximos Absolu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Datasheet%20Zener%20Absolute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65833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Eléctr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atasheet%20Zener%20Electrical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iodos de Juntura: Datasheets Zener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4640" y="220968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Típ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Datasheet%20Zener%20Typical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19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Capacitivos afecta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eados por inyección de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ptura y avalancha en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enera fuentes de tensión “con capacidad de regul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 la temperatur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mportamiento del diodo también (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uti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C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ispositivos son “variabl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lores discretos, precisión,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bricante (Datasheets), conmutación (efectos capacitivo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fectos capacitivos en tiempos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los diodos de ruptura (Zene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pasar técnicas de análisis de circu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ducir y analizar modelos simplificados para diod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visar parámetros de las hojas de 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racterísticas Gener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ambio en la cantidad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 importante en labores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es función del tipo de dopad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3429000"/>
                <a:ext cx="1979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51055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85800" y="297180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5867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9320" y="333684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extrae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Transición o agotamiento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320" y="5013360"/>
            <a:ext cx="586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a la recomb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de difusión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70480" y="4267080"/>
                <a:ext cx="1565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∝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62720" y="2209680"/>
                <a:ext cx="20318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7200" y="274968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13056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plicando la defin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419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tarea 1.1 recordamo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95680" y="2971800"/>
                <a:ext cx="42465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6920" y="4281480"/>
                <a:ext cx="40766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47920" y="5160960"/>
                <a:ext cx="1981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33920" y="5175360"/>
                <a:ext cx="3733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εA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52880" y="3822840"/>
                <a:ext cx="2384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57200" y="3809880"/>
            <a:ext cx="4419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arga en una de las “placas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Transi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pacidad de transición C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y voltaje juntur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directa V &g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inversa V &lt;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órmula “ideal” para model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638680" y="3124080"/>
                <a:ext cx="243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90920" y="4979880"/>
                <a:ext cx="471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o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nde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sub>
                    </m:sSub>
                    <m:r>
                      <m:t xml:space="preserve">≡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ε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ortamiento Capacitiv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untura pn: Capacidad de Difus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810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yecta port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24160" y="2133720"/>
                <a:ext cx="47372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191120" y="2895480"/>
                <a:ext cx="34099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105520" y="3809880"/>
                <a:ext cx="21668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16360" y="4648320"/>
                <a:ext cx="5208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n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11760" y="5589720"/>
                <a:ext cx="3713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380880" y="3352680"/>
            <a:ext cx="381024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vida med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condensadores en paral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n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yección lado p: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cidad total: s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334120"/>
            <a:ext cx="381024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amente proporcional a la resistenci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Capacitiv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ponsables de tiempos de respues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te en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s en defecto (exceso) no permiten una rápida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00800" y="40384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24480" y="4952880"/>
                <a:ext cx="20574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4114800"/>
            <a:ext cx="5410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revers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: No es tan importante (poca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52880"/>
            <a:ext cx="5410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 en cambio direct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versa: Importante (“gran” cantidad de car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iempos de Conmutación Diod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e Juntura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s de entrada, diodo y resis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320" y="3057480"/>
                <a:ext cx="1218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304920" y="2362320"/>
            <a:ext cx="7315200" cy="4133880"/>
            <a:chOff x="304920" y="2362320"/>
            <a:chExt cx="7315200" cy="41338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73152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flipH="1">
              <a:off x="2819520" y="266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558880"/>
              <a:ext cx="1600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12408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133720" y="2819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44197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 en 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13372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18040" y="3086280"/>
                <a:ext cx="135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usa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54720" y="1905120"/>
            <a:ext cx="2789280" cy="21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19720" y="5486400"/>
            <a:ext cx="205740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ráfic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 proporcional a la d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11430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15:17:42Z</dcterms:modified>
  <cp:revision>896</cp:revision>
  <dc:subject>Características Dinámicas de los Diodos de Juntura</dc:subject>
  <dc:title>Clase 3</dc:title>
</cp:coreProperties>
</file>