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5440" cy="6858000"/>
            <a:chOff x="0" y="0"/>
            <a:chExt cx="9145440" cy="685800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2560" cy="5197320"/>
            </a:xfrm>
            <a:custGeom>
              <a:avLst/>
              <a:gdLst/>
              <a:ahLst/>
              <a:rect l="l" t="t" r="r" b="b"/>
              <a:pathLst>
                <a:path w="5759" h="3274">
                  <a:moveTo>
                    <a:pt x="320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47" y="1978"/>
                  </a:lnTo>
                  <a:lnTo>
                    <a:pt x="5758" y="3273"/>
                  </a:lnTo>
                  <a:lnTo>
                    <a:pt x="5758" y="3267"/>
                  </a:lnTo>
                  <a:lnTo>
                    <a:pt x="3203" y="1816"/>
                  </a:lnTo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6040" cy="5149800"/>
            </a:xfrm>
            <a:custGeom>
              <a:avLst/>
              <a:gdLst/>
              <a:ahLst/>
              <a:rect l="l" t="t" r="r" b="b"/>
              <a:pathLst>
                <a:path w="5610" h="3244">
                  <a:moveTo>
                    <a:pt x="3173" y="1714"/>
                  </a:moveTo>
                  <a:lnTo>
                    <a:pt x="432" y="0"/>
                  </a:lnTo>
                  <a:lnTo>
                    <a:pt x="0" y="0"/>
                  </a:lnTo>
                  <a:lnTo>
                    <a:pt x="3096" y="1786"/>
                  </a:lnTo>
                  <a:lnTo>
                    <a:pt x="5609" y="3243"/>
                  </a:lnTo>
                  <a:lnTo>
                    <a:pt x="5609" y="3237"/>
                  </a:lnTo>
                  <a:lnTo>
                    <a:pt x="3173" y="1714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1960" cy="304560"/>
            </a:xfrm>
            <a:custGeom>
              <a:avLst/>
              <a:gdLst/>
              <a:ahLst/>
              <a:rect l="l" t="t" r="r" b="b"/>
              <a:pathLst>
                <a:path w="4039" h="192">
                  <a:moveTo>
                    <a:pt x="0" y="155"/>
                  </a:moveTo>
                  <a:lnTo>
                    <a:pt x="4038" y="191"/>
                  </a:lnTo>
                  <a:lnTo>
                    <a:pt x="4038" y="143"/>
                  </a:lnTo>
                  <a:lnTo>
                    <a:pt x="0" y="0"/>
                  </a:lnTo>
                  <a:lnTo>
                    <a:pt x="0" y="155"/>
                  </a:lnTo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2400" cy="104760"/>
            </a:xfrm>
            <a:custGeom>
              <a:avLst/>
              <a:gdLst/>
              <a:ahLst/>
              <a:rect l="l" t="t" r="r" b="b"/>
              <a:pathLst>
                <a:path w="1721" h="66">
                  <a:moveTo>
                    <a:pt x="1720" y="65"/>
                  </a:moveTo>
                  <a:lnTo>
                    <a:pt x="1720" y="59"/>
                  </a:lnTo>
                  <a:lnTo>
                    <a:pt x="0" y="0"/>
                  </a:lnTo>
                  <a:lnTo>
                    <a:pt x="0" y="47"/>
                  </a:lnTo>
                  <a:lnTo>
                    <a:pt x="1720" y="65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6360" cy="523800"/>
            </a:xfrm>
            <a:custGeom>
              <a:avLst/>
              <a:gdLst/>
              <a:ahLst/>
              <a:rect l="l" t="t" r="r" b="b"/>
              <a:pathLst>
                <a:path w="4785" h="330">
                  <a:moveTo>
                    <a:pt x="0" y="329"/>
                  </a:moveTo>
                  <a:lnTo>
                    <a:pt x="4784" y="77"/>
                  </a:lnTo>
                  <a:lnTo>
                    <a:pt x="4784" y="0"/>
                  </a:lnTo>
                  <a:lnTo>
                    <a:pt x="0" y="107"/>
                  </a:lnTo>
                  <a:lnTo>
                    <a:pt x="0" y="329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8000" cy="162000"/>
            </a:xfrm>
            <a:custGeom>
              <a:avLst/>
              <a:gdLst/>
              <a:ahLst/>
              <a:rect l="l" t="t" r="r" b="b"/>
              <a:pathLst>
                <a:path w="975" h="102">
                  <a:moveTo>
                    <a:pt x="974" y="48"/>
                  </a:moveTo>
                  <a:lnTo>
                    <a:pt x="974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4" y="48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7320" cy="316080"/>
            </a:xfrm>
            <a:custGeom>
              <a:avLst/>
              <a:gdLst/>
              <a:ahLst/>
              <a:rect l="l" t="t" r="r" b="b"/>
              <a:pathLst>
                <a:path w="2140" h="199">
                  <a:moveTo>
                    <a:pt x="2139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39" y="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6680" cy="554040"/>
            </a:xfrm>
            <a:custGeom>
              <a:avLst/>
              <a:gdLst/>
              <a:ahLst/>
              <a:rect l="l" t="t" r="r" b="b"/>
              <a:pathLst>
                <a:path w="3620" h="349">
                  <a:moveTo>
                    <a:pt x="0" y="348"/>
                  </a:moveTo>
                  <a:lnTo>
                    <a:pt x="311" y="348"/>
                  </a:lnTo>
                  <a:lnTo>
                    <a:pt x="3619" y="42"/>
                  </a:lnTo>
                  <a:lnTo>
                    <a:pt x="3619" y="0"/>
                  </a:lnTo>
                  <a:lnTo>
                    <a:pt x="0" y="264"/>
                  </a:lnTo>
                  <a:lnTo>
                    <a:pt x="0" y="348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2760" cy="439560"/>
            </a:xfrm>
            <a:custGeom>
              <a:avLst/>
              <a:gdLst/>
              <a:ahLst/>
              <a:rect l="l" t="t" r="r" b="b"/>
              <a:pathLst>
                <a:path w="2515" h="277">
                  <a:moveTo>
                    <a:pt x="2179" y="276"/>
                  </a:moveTo>
                  <a:lnTo>
                    <a:pt x="2514" y="204"/>
                  </a:lnTo>
                  <a:lnTo>
                    <a:pt x="2257" y="0"/>
                  </a:lnTo>
                  <a:lnTo>
                    <a:pt x="0" y="276"/>
                  </a:lnTo>
                  <a:lnTo>
                    <a:pt x="2179" y="27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30560" cy="601920"/>
            </a:xfrm>
            <a:custGeom>
              <a:avLst/>
              <a:gdLst/>
              <a:ahLst/>
              <a:rect l="l" t="t" r="r" b="b"/>
              <a:pathLst>
                <a:path w="1405" h="379">
                  <a:moveTo>
                    <a:pt x="1404" y="126"/>
                  </a:moveTo>
                  <a:lnTo>
                    <a:pt x="1404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4" y="126"/>
                  </a:lnTo>
                </a:path>
              </a:pathLst>
            </a:custGeom>
            <a:gradFill rotWithShape="0">
              <a:gsLst>
                <a:gs pos="0">
                  <a:srgbClr val="000098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7400" cy="382680"/>
            </a:xfrm>
            <a:custGeom>
              <a:avLst/>
              <a:gdLst/>
              <a:ahLst/>
              <a:rect l="l" t="t" r="r" b="b"/>
              <a:pathLst>
                <a:path w="729" h="241">
                  <a:moveTo>
                    <a:pt x="728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8" y="24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6600" cy="2654280"/>
            </a:xfrm>
            <a:custGeom>
              <a:avLst/>
              <a:gdLst/>
              <a:ahLst/>
              <a:rect l="l" t="t" r="r" b="b"/>
              <a:pathLst>
                <a:path w="5031" h="1672">
                  <a:moveTo>
                    <a:pt x="0" y="72"/>
                  </a:moveTo>
                  <a:lnTo>
                    <a:pt x="5030" y="1671"/>
                  </a:lnTo>
                  <a:lnTo>
                    <a:pt x="5030" y="1665"/>
                  </a:lnTo>
                  <a:lnTo>
                    <a:pt x="0" y="0"/>
                  </a:lnTo>
                  <a:lnTo>
                    <a:pt x="0" y="72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7400" cy="506520"/>
            </a:xfrm>
            <a:custGeom>
              <a:avLst/>
              <a:gdLst/>
              <a:ahLst/>
              <a:rect l="l" t="t" r="r" b="b"/>
              <a:pathLst>
                <a:path w="729" h="319">
                  <a:moveTo>
                    <a:pt x="728" y="318"/>
                  </a:moveTo>
                  <a:lnTo>
                    <a:pt x="728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8" y="318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6600" cy="3473640"/>
            </a:xfrm>
            <a:custGeom>
              <a:avLst/>
              <a:gdLst/>
              <a:ahLst/>
              <a:rect l="l" t="t" r="r" b="b"/>
              <a:pathLst>
                <a:path w="5031" h="2188">
                  <a:moveTo>
                    <a:pt x="0" y="396"/>
                  </a:moveTo>
                  <a:lnTo>
                    <a:pt x="5030" y="2187"/>
                  </a:lnTo>
                  <a:lnTo>
                    <a:pt x="5030" y="2133"/>
                  </a:lnTo>
                  <a:lnTo>
                    <a:pt x="0" y="0"/>
                  </a:lnTo>
                  <a:lnTo>
                    <a:pt x="0" y="396"/>
                  </a:lnTo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6600" cy="4327560"/>
            </a:xfrm>
            <a:custGeom>
              <a:avLst/>
              <a:gdLst/>
              <a:ahLst/>
              <a:rect l="l" t="t" r="r" b="b"/>
              <a:pathLst>
                <a:path w="3160" h="2726">
                  <a:moveTo>
                    <a:pt x="0" y="0"/>
                  </a:moveTo>
                  <a:lnTo>
                    <a:pt x="3141" y="2725"/>
                  </a:lnTo>
                  <a:lnTo>
                    <a:pt x="3159" y="2702"/>
                  </a:lnTo>
                  <a:lnTo>
                    <a:pt x="102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4440" cy="476280"/>
            </a:xfrm>
            <a:custGeom>
              <a:avLst/>
              <a:gdLst/>
              <a:ahLst/>
              <a:rect l="l" t="t" r="r" b="b"/>
              <a:pathLst>
                <a:path w="324" h="300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</a:path>
              </a:pathLst>
            </a:custGeom>
            <a:gradFill rotWithShape="0">
              <a:gsLst>
                <a:gs pos="0">
                  <a:srgbClr val="00009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7840" cy="533520"/>
            </a:xfrm>
            <a:custGeom>
              <a:avLst/>
              <a:gdLst/>
              <a:ahLst/>
              <a:rect l="l" t="t" r="r" b="b"/>
              <a:pathLst>
                <a:path w="282" h="336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3240" cy="4253040"/>
            </a:xfrm>
            <a:custGeom>
              <a:avLst/>
              <a:gdLst/>
              <a:ahLst/>
              <a:rect l="l" t="t" r="r" b="b"/>
              <a:pathLst>
                <a:path w="3120" h="2679">
                  <a:moveTo>
                    <a:pt x="0" y="0"/>
                  </a:moveTo>
                  <a:lnTo>
                    <a:pt x="3023" y="2678"/>
                  </a:lnTo>
                  <a:lnTo>
                    <a:pt x="3119" y="2588"/>
                  </a:lnTo>
                  <a:lnTo>
                    <a:pt x="3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11320" cy="21132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2760" cy="4024440"/>
            </a:xfrm>
            <a:custGeom>
              <a:avLst/>
              <a:gdLst/>
              <a:ahLst/>
              <a:rect l="l" t="t" r="r" b="b"/>
              <a:pathLst>
                <a:path w="2515" h="2535">
                  <a:moveTo>
                    <a:pt x="0" y="0"/>
                  </a:moveTo>
                  <a:lnTo>
                    <a:pt x="2514" y="2534"/>
                  </a:lnTo>
                  <a:lnTo>
                    <a:pt x="66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90920" cy="3938760"/>
            </a:xfrm>
            <a:custGeom>
              <a:avLst/>
              <a:gdLst/>
              <a:ahLst/>
              <a:rect l="l" t="t" r="r" b="b"/>
              <a:pathLst>
                <a:path w="2199" h="2481">
                  <a:moveTo>
                    <a:pt x="0" y="0"/>
                  </a:moveTo>
                  <a:lnTo>
                    <a:pt x="2186" y="2480"/>
                  </a:lnTo>
                  <a:lnTo>
                    <a:pt x="2198" y="2474"/>
                  </a:lnTo>
                  <a:lnTo>
                    <a:pt x="317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5000" cy="15372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</a:path>
              </a:pathLst>
            </a:custGeom>
            <a:gradFill rotWithShape="0">
              <a:gsLst>
                <a:gs pos="0">
                  <a:srgbClr val="00009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7680" cy="820800"/>
            </a:xfrm>
            <a:custGeom>
              <a:avLst/>
              <a:gdLst/>
              <a:ahLst/>
              <a:rect l="l" t="t" r="r" b="b"/>
              <a:pathLst>
                <a:path w="156" h="517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11520" cy="165564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6" y="1042"/>
                  </a:lnTo>
                  <a:lnTo>
                    <a:pt x="573" y="850"/>
                  </a:lnTo>
                  <a:lnTo>
                    <a:pt x="251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2880" cy="1265400"/>
            </a:xfrm>
            <a:custGeom>
              <a:avLst/>
              <a:gdLst/>
              <a:ahLst/>
              <a:rect l="l" t="t" r="r" b="b"/>
              <a:pathLst>
                <a:path w="342" h="797">
                  <a:moveTo>
                    <a:pt x="144" y="0"/>
                  </a:moveTo>
                  <a:lnTo>
                    <a:pt x="0" y="0"/>
                  </a:lnTo>
                  <a:lnTo>
                    <a:pt x="287" y="796"/>
                  </a:lnTo>
                  <a:lnTo>
                    <a:pt x="341" y="652"/>
                  </a:lnTo>
                  <a:lnTo>
                    <a:pt x="144" y="0"/>
                  </a:lnTo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6840" cy="495000"/>
            </a:xfrm>
            <a:custGeom>
              <a:avLst/>
              <a:gdLst/>
              <a:ahLst/>
              <a:rect l="l" t="t" r="r" b="b"/>
              <a:pathLst>
                <a:path w="61" h="312">
                  <a:moveTo>
                    <a:pt x="0" y="144"/>
                  </a:moveTo>
                  <a:lnTo>
                    <a:pt x="60" y="311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2840" cy="2960640"/>
            </a:xfrm>
            <a:custGeom>
              <a:avLst/>
              <a:gdLst/>
              <a:ahLst/>
              <a:rect l="l" t="t" r="r" b="b"/>
              <a:pathLst>
                <a:path w="5753" h="1865">
                  <a:moveTo>
                    <a:pt x="0" y="371"/>
                  </a:moveTo>
                  <a:lnTo>
                    <a:pt x="5752" y="1864"/>
                  </a:lnTo>
                  <a:lnTo>
                    <a:pt x="5752" y="1834"/>
                  </a:lnTo>
                  <a:lnTo>
                    <a:pt x="0" y="0"/>
                  </a:lnTo>
                  <a:lnTo>
                    <a:pt x="0" y="371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2840" cy="2124000"/>
            </a:xfrm>
            <a:custGeom>
              <a:avLst/>
              <a:gdLst/>
              <a:ahLst/>
              <a:rect l="l" t="t" r="r" b="b"/>
              <a:pathLst>
                <a:path w="5753" h="1338">
                  <a:moveTo>
                    <a:pt x="0" y="366"/>
                  </a:moveTo>
                  <a:lnTo>
                    <a:pt x="5752" y="1337"/>
                  </a:lnTo>
                  <a:lnTo>
                    <a:pt x="5752" y="1331"/>
                  </a:lnTo>
                  <a:lnTo>
                    <a:pt x="0" y="0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2840" cy="658800"/>
            </a:xfrm>
            <a:custGeom>
              <a:avLst/>
              <a:gdLst/>
              <a:ahLst/>
              <a:rect l="l" t="t" r="r" b="b"/>
              <a:pathLst>
                <a:path w="5753" h="415">
                  <a:moveTo>
                    <a:pt x="0" y="48"/>
                  </a:moveTo>
                  <a:lnTo>
                    <a:pt x="5752" y="414"/>
                  </a:lnTo>
                  <a:lnTo>
                    <a:pt x="5752" y="402"/>
                  </a:lnTo>
                  <a:lnTo>
                    <a:pt x="0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7240" cy="5045040"/>
            </a:xfrm>
            <a:custGeom>
              <a:avLst/>
              <a:gdLst/>
              <a:ahLst/>
              <a:rect l="l" t="t" r="r" b="b"/>
              <a:pathLst>
                <a:path w="4458" h="3178">
                  <a:moveTo>
                    <a:pt x="0" y="0"/>
                  </a:moveTo>
                  <a:lnTo>
                    <a:pt x="4457" y="3177"/>
                  </a:lnTo>
                  <a:lnTo>
                    <a:pt x="4457" y="3153"/>
                  </a:lnTo>
                  <a:lnTo>
                    <a:pt x="125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3880" cy="4151160"/>
            </a:xfrm>
            <a:custGeom>
              <a:avLst/>
              <a:gdLst/>
              <a:ahLst/>
              <a:rect l="l" t="t" r="r" b="b"/>
              <a:pathLst>
                <a:path w="2434" h="2615">
                  <a:moveTo>
                    <a:pt x="0" y="0"/>
                  </a:moveTo>
                  <a:lnTo>
                    <a:pt x="2433" y="2614"/>
                  </a:lnTo>
                  <a:lnTo>
                    <a:pt x="2433" y="2608"/>
                  </a:lnTo>
                  <a:lnTo>
                    <a:pt x="66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5600" cy="3913200"/>
            </a:xfrm>
            <a:custGeom>
              <a:avLst/>
              <a:gdLst/>
              <a:ahLst/>
              <a:rect l="l" t="t" r="r" b="b"/>
              <a:pathLst>
                <a:path w="1805" h="2465">
                  <a:moveTo>
                    <a:pt x="486" y="0"/>
                  </a:moveTo>
                  <a:lnTo>
                    <a:pt x="0" y="0"/>
                  </a:lnTo>
                  <a:lnTo>
                    <a:pt x="1804" y="2464"/>
                  </a:lnTo>
                  <a:lnTo>
                    <a:pt x="1804" y="2248"/>
                  </a:lnTo>
                  <a:lnTo>
                    <a:pt x="1798" y="2248"/>
                  </a:lnTo>
                  <a:lnTo>
                    <a:pt x="486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2000" cy="3294000"/>
            </a:xfrm>
            <a:custGeom>
              <a:avLst/>
              <a:gdLst/>
              <a:ahLst/>
              <a:rect l="l" t="t" r="r" b="b"/>
              <a:pathLst>
                <a:path w="1236" h="2075">
                  <a:moveTo>
                    <a:pt x="0" y="0"/>
                  </a:moveTo>
                  <a:lnTo>
                    <a:pt x="1235" y="2074"/>
                  </a:lnTo>
                  <a:lnTo>
                    <a:pt x="1235" y="2038"/>
                  </a:lnTo>
                  <a:lnTo>
                    <a:pt x="42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4440" cy="3075120"/>
            </a:xfrm>
            <a:custGeom>
              <a:avLst/>
              <a:gdLst/>
              <a:ahLst/>
              <a:rect l="l" t="t" r="r" b="b"/>
              <a:pathLst>
                <a:path w="1061" h="1937">
                  <a:moveTo>
                    <a:pt x="0" y="0"/>
                  </a:moveTo>
                  <a:lnTo>
                    <a:pt x="1060" y="1936"/>
                  </a:lnTo>
                  <a:lnTo>
                    <a:pt x="1060" y="1930"/>
                  </a:lnTo>
                  <a:lnTo>
                    <a:pt x="54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8680" cy="2362320"/>
            </a:xfrm>
            <a:custGeom>
              <a:avLst/>
              <a:gdLst/>
              <a:ahLst/>
              <a:rect l="l" t="t" r="r" b="b"/>
              <a:pathLst>
                <a:path w="774" h="1488">
                  <a:moveTo>
                    <a:pt x="773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3" y="1487"/>
                  </a:lnTo>
                  <a:lnTo>
                    <a:pt x="773" y="1433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2560" cy="2950920"/>
              <a:chOff x="0" y="2590920"/>
              <a:chExt cx="9142560" cy="295092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7680" cy="2085840"/>
              </a:xfrm>
              <a:custGeom>
                <a:avLst/>
                <a:gdLst/>
                <a:ahLst/>
                <a:rect l="l" t="t" r="r" b="b"/>
                <a:pathLst>
                  <a:path w="3671" h="1314">
                    <a:moveTo>
                      <a:pt x="0" y="0"/>
                    </a:moveTo>
                    <a:lnTo>
                      <a:pt x="0" y="366"/>
                    </a:lnTo>
                    <a:lnTo>
                      <a:pt x="3646" y="1313"/>
                    </a:lnTo>
                    <a:lnTo>
                      <a:pt x="3658" y="1235"/>
                    </a:lnTo>
                    <a:lnTo>
                      <a:pt x="3670" y="116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7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4480" cy="1104840"/>
              </a:xfrm>
              <a:custGeom>
                <a:avLst/>
                <a:gdLst/>
                <a:ahLst/>
                <a:rect l="l" t="t" r="r" b="b"/>
                <a:pathLst>
                  <a:path w="2113" h="696">
                    <a:moveTo>
                      <a:pt x="2112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12" y="695"/>
                    </a:lnTo>
                    <a:lnTo>
                      <a:pt x="2112" y="665"/>
                    </a:lnTo>
                  </a:path>
                </a:pathLst>
              </a:custGeom>
              <a:gradFill rotWithShape="0">
                <a:gsLst>
                  <a:gs pos="0">
                    <a:srgbClr val="000098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oratorio Telecomunicacion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oratorio Telecomunicacion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9145440" cy="6858000"/>
            <a:chOff x="0" y="0"/>
            <a:chExt cx="9145440" cy="6858000"/>
          </a:xfrm>
        </p:grpSpPr>
        <p:sp>
          <p:nvSpPr>
            <p:cNvPr id="85" name=""/>
            <p:cNvSpPr/>
            <p:nvPr/>
          </p:nvSpPr>
          <p:spPr>
            <a:xfrm>
              <a:off x="0" y="19080"/>
              <a:ext cx="9142560" cy="5197320"/>
            </a:xfrm>
            <a:custGeom>
              <a:avLst/>
              <a:gdLst/>
              <a:ahLst/>
              <a:rect l="l" t="t" r="r" b="b"/>
              <a:pathLst>
                <a:path w="5759" h="3274">
                  <a:moveTo>
                    <a:pt x="320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47" y="1978"/>
                  </a:lnTo>
                  <a:lnTo>
                    <a:pt x="5758" y="3273"/>
                  </a:lnTo>
                  <a:lnTo>
                    <a:pt x="5758" y="3267"/>
                  </a:lnTo>
                  <a:lnTo>
                    <a:pt x="3203" y="1816"/>
                  </a:lnTo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36520" y="0"/>
              <a:ext cx="8906040" cy="5149800"/>
            </a:xfrm>
            <a:custGeom>
              <a:avLst/>
              <a:gdLst/>
              <a:ahLst/>
              <a:rect l="l" t="t" r="r" b="b"/>
              <a:pathLst>
                <a:path w="5610" h="3244">
                  <a:moveTo>
                    <a:pt x="3173" y="1714"/>
                  </a:moveTo>
                  <a:lnTo>
                    <a:pt x="432" y="0"/>
                  </a:lnTo>
                  <a:lnTo>
                    <a:pt x="0" y="0"/>
                  </a:lnTo>
                  <a:lnTo>
                    <a:pt x="3096" y="1786"/>
                  </a:lnTo>
                  <a:lnTo>
                    <a:pt x="5609" y="3243"/>
                  </a:lnTo>
                  <a:lnTo>
                    <a:pt x="5609" y="3237"/>
                  </a:lnTo>
                  <a:lnTo>
                    <a:pt x="3173" y="1714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5450040"/>
              <a:ext cx="6411960" cy="304560"/>
            </a:xfrm>
            <a:custGeom>
              <a:avLst/>
              <a:gdLst/>
              <a:ahLst/>
              <a:rect l="l" t="t" r="r" b="b"/>
              <a:pathLst>
                <a:path w="4039" h="192">
                  <a:moveTo>
                    <a:pt x="0" y="155"/>
                  </a:moveTo>
                  <a:lnTo>
                    <a:pt x="4038" y="191"/>
                  </a:lnTo>
                  <a:lnTo>
                    <a:pt x="4038" y="143"/>
                  </a:lnTo>
                  <a:lnTo>
                    <a:pt x="0" y="0"/>
                  </a:lnTo>
                  <a:lnTo>
                    <a:pt x="0" y="155"/>
                  </a:lnTo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410160" y="5678640"/>
              <a:ext cx="2732400" cy="104760"/>
            </a:xfrm>
            <a:custGeom>
              <a:avLst/>
              <a:gdLst/>
              <a:ahLst/>
              <a:rect l="l" t="t" r="r" b="b"/>
              <a:pathLst>
                <a:path w="1721" h="66">
                  <a:moveTo>
                    <a:pt x="1720" y="65"/>
                  </a:moveTo>
                  <a:lnTo>
                    <a:pt x="1720" y="59"/>
                  </a:lnTo>
                  <a:lnTo>
                    <a:pt x="0" y="0"/>
                  </a:lnTo>
                  <a:lnTo>
                    <a:pt x="0" y="47"/>
                  </a:lnTo>
                  <a:lnTo>
                    <a:pt x="1720" y="65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5915160"/>
              <a:ext cx="7596360" cy="523800"/>
            </a:xfrm>
            <a:custGeom>
              <a:avLst/>
              <a:gdLst/>
              <a:ahLst/>
              <a:rect l="l" t="t" r="r" b="b"/>
              <a:pathLst>
                <a:path w="4785" h="330">
                  <a:moveTo>
                    <a:pt x="0" y="329"/>
                  </a:moveTo>
                  <a:lnTo>
                    <a:pt x="4784" y="77"/>
                  </a:lnTo>
                  <a:lnTo>
                    <a:pt x="4784" y="0"/>
                  </a:lnTo>
                  <a:lnTo>
                    <a:pt x="0" y="107"/>
                  </a:lnTo>
                  <a:lnTo>
                    <a:pt x="0" y="329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594560" y="5877000"/>
              <a:ext cx="1548000" cy="162000"/>
            </a:xfrm>
            <a:custGeom>
              <a:avLst/>
              <a:gdLst/>
              <a:ahLst/>
              <a:rect l="l" t="t" r="r" b="b"/>
              <a:pathLst>
                <a:path w="975" h="102">
                  <a:moveTo>
                    <a:pt x="974" y="48"/>
                  </a:moveTo>
                  <a:lnTo>
                    <a:pt x="974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4" y="48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5240" y="6056280"/>
              <a:ext cx="3397320" cy="316080"/>
            </a:xfrm>
            <a:custGeom>
              <a:avLst/>
              <a:gdLst/>
              <a:ahLst/>
              <a:rect l="l" t="t" r="r" b="b"/>
              <a:pathLst>
                <a:path w="2140" h="199">
                  <a:moveTo>
                    <a:pt x="2139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39" y="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6303960"/>
              <a:ext cx="5746680" cy="554040"/>
            </a:xfrm>
            <a:custGeom>
              <a:avLst/>
              <a:gdLst/>
              <a:ahLst/>
              <a:rect l="l" t="t" r="r" b="b"/>
              <a:pathLst>
                <a:path w="3620" h="349">
                  <a:moveTo>
                    <a:pt x="0" y="348"/>
                  </a:moveTo>
                  <a:lnTo>
                    <a:pt x="311" y="348"/>
                  </a:lnTo>
                  <a:lnTo>
                    <a:pt x="3619" y="42"/>
                  </a:lnTo>
                  <a:lnTo>
                    <a:pt x="3619" y="0"/>
                  </a:lnTo>
                  <a:lnTo>
                    <a:pt x="0" y="264"/>
                  </a:lnTo>
                  <a:lnTo>
                    <a:pt x="0" y="348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328920" y="6418440"/>
              <a:ext cx="3992760" cy="439560"/>
            </a:xfrm>
            <a:custGeom>
              <a:avLst/>
              <a:gdLst/>
              <a:ahLst/>
              <a:rect l="l" t="t" r="r" b="b"/>
              <a:pathLst>
                <a:path w="2515" h="277">
                  <a:moveTo>
                    <a:pt x="2179" y="276"/>
                  </a:moveTo>
                  <a:lnTo>
                    <a:pt x="2514" y="204"/>
                  </a:lnTo>
                  <a:lnTo>
                    <a:pt x="2257" y="0"/>
                  </a:lnTo>
                  <a:lnTo>
                    <a:pt x="0" y="276"/>
                  </a:lnTo>
                  <a:lnTo>
                    <a:pt x="2179" y="276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12000" y="6141960"/>
              <a:ext cx="2230560" cy="601920"/>
            </a:xfrm>
            <a:custGeom>
              <a:avLst/>
              <a:gdLst/>
              <a:ahLst/>
              <a:rect l="l" t="t" r="r" b="b"/>
              <a:pathLst>
                <a:path w="1405" h="379">
                  <a:moveTo>
                    <a:pt x="1404" y="126"/>
                  </a:moveTo>
                  <a:lnTo>
                    <a:pt x="1404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4" y="126"/>
                  </a:lnTo>
                </a:path>
              </a:pathLst>
            </a:custGeom>
            <a:gradFill rotWithShape="0">
              <a:gsLst>
                <a:gs pos="0">
                  <a:srgbClr val="000098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85160" y="5002200"/>
              <a:ext cx="1157400" cy="382680"/>
            </a:xfrm>
            <a:custGeom>
              <a:avLst/>
              <a:gdLst/>
              <a:ahLst/>
              <a:rect l="l" t="t" r="r" b="b"/>
              <a:pathLst>
                <a:path w="729" h="241">
                  <a:moveTo>
                    <a:pt x="728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8" y="240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2359080"/>
              <a:ext cx="7986600" cy="2654280"/>
            </a:xfrm>
            <a:custGeom>
              <a:avLst/>
              <a:gdLst/>
              <a:ahLst/>
              <a:rect l="l" t="t" r="r" b="b"/>
              <a:pathLst>
                <a:path w="5031" h="1672">
                  <a:moveTo>
                    <a:pt x="0" y="72"/>
                  </a:moveTo>
                  <a:lnTo>
                    <a:pt x="5030" y="1671"/>
                  </a:lnTo>
                  <a:lnTo>
                    <a:pt x="5030" y="1665"/>
                  </a:lnTo>
                  <a:lnTo>
                    <a:pt x="0" y="0"/>
                  </a:lnTo>
                  <a:lnTo>
                    <a:pt x="0" y="72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85160" y="4840200"/>
              <a:ext cx="1157400" cy="506520"/>
            </a:xfrm>
            <a:custGeom>
              <a:avLst/>
              <a:gdLst/>
              <a:ahLst/>
              <a:rect l="l" t="t" r="r" b="b"/>
              <a:pathLst>
                <a:path w="729" h="319">
                  <a:moveTo>
                    <a:pt x="728" y="318"/>
                  </a:moveTo>
                  <a:lnTo>
                    <a:pt x="728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8" y="318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1454040"/>
              <a:ext cx="7986600" cy="3473640"/>
            </a:xfrm>
            <a:custGeom>
              <a:avLst/>
              <a:gdLst/>
              <a:ahLst/>
              <a:rect l="l" t="t" r="r" b="b"/>
              <a:pathLst>
                <a:path w="5031" h="2188">
                  <a:moveTo>
                    <a:pt x="0" y="396"/>
                  </a:moveTo>
                  <a:lnTo>
                    <a:pt x="5030" y="2187"/>
                  </a:lnTo>
                  <a:lnTo>
                    <a:pt x="5030" y="2133"/>
                  </a:lnTo>
                  <a:lnTo>
                    <a:pt x="0" y="0"/>
                  </a:lnTo>
                  <a:lnTo>
                    <a:pt x="0" y="396"/>
                  </a:lnTo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641760" y="0"/>
              <a:ext cx="5016600" cy="4327560"/>
            </a:xfrm>
            <a:custGeom>
              <a:avLst/>
              <a:gdLst/>
              <a:ahLst/>
              <a:rect l="l" t="t" r="r" b="b"/>
              <a:pathLst>
                <a:path w="3160" h="2726">
                  <a:moveTo>
                    <a:pt x="0" y="0"/>
                  </a:moveTo>
                  <a:lnTo>
                    <a:pt x="3141" y="2725"/>
                  </a:lnTo>
                  <a:lnTo>
                    <a:pt x="3159" y="2702"/>
                  </a:lnTo>
                  <a:lnTo>
                    <a:pt x="102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8120" y="4289400"/>
              <a:ext cx="514440" cy="476280"/>
            </a:xfrm>
            <a:custGeom>
              <a:avLst/>
              <a:gdLst/>
              <a:ahLst/>
              <a:rect l="l" t="t" r="r" b="b"/>
              <a:pathLst>
                <a:path w="324" h="300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</a:path>
              </a:pathLst>
            </a:custGeom>
            <a:gradFill rotWithShape="0">
              <a:gsLst>
                <a:gs pos="0">
                  <a:srgbClr val="00009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694720" y="4108320"/>
              <a:ext cx="447840" cy="533520"/>
            </a:xfrm>
            <a:custGeom>
              <a:avLst/>
              <a:gdLst/>
              <a:ahLst/>
              <a:rect l="l" t="t" r="r" b="b"/>
              <a:pathLst>
                <a:path w="282" h="336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95560" y="0"/>
              <a:ext cx="4953240" cy="4253040"/>
            </a:xfrm>
            <a:custGeom>
              <a:avLst/>
              <a:gdLst/>
              <a:ahLst/>
              <a:rect l="l" t="t" r="r" b="b"/>
              <a:pathLst>
                <a:path w="3120" h="2679">
                  <a:moveTo>
                    <a:pt x="0" y="0"/>
                  </a:moveTo>
                  <a:lnTo>
                    <a:pt x="3023" y="2678"/>
                  </a:lnTo>
                  <a:lnTo>
                    <a:pt x="3119" y="2588"/>
                  </a:lnTo>
                  <a:lnTo>
                    <a:pt x="3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931240" y="4022640"/>
              <a:ext cx="211320" cy="211320"/>
            </a:xfrm>
            <a:custGeom>
              <a:avLst/>
              <a:gdLst/>
              <a:ahLst/>
              <a:rect l="l" t="t" r="r" b="b"/>
              <a:pathLst>
                <a:path w="133" h="133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40280" y="0"/>
              <a:ext cx="3992760" cy="4024440"/>
            </a:xfrm>
            <a:custGeom>
              <a:avLst/>
              <a:gdLst/>
              <a:ahLst/>
              <a:rect l="l" t="t" r="r" b="b"/>
              <a:pathLst>
                <a:path w="2515" h="2535">
                  <a:moveTo>
                    <a:pt x="0" y="0"/>
                  </a:moveTo>
                  <a:lnTo>
                    <a:pt x="2514" y="2534"/>
                  </a:lnTo>
                  <a:lnTo>
                    <a:pt x="66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537160" y="0"/>
              <a:ext cx="3490920" cy="3938760"/>
            </a:xfrm>
            <a:custGeom>
              <a:avLst/>
              <a:gdLst/>
              <a:ahLst/>
              <a:rect l="l" t="t" r="r" b="b"/>
              <a:pathLst>
                <a:path w="2199" h="2481">
                  <a:moveTo>
                    <a:pt x="0" y="0"/>
                  </a:moveTo>
                  <a:lnTo>
                    <a:pt x="2186" y="2480"/>
                  </a:lnTo>
                  <a:lnTo>
                    <a:pt x="2198" y="2474"/>
                  </a:lnTo>
                  <a:lnTo>
                    <a:pt x="317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007560" y="3927600"/>
              <a:ext cx="135000" cy="153720"/>
            </a:xfrm>
            <a:custGeom>
              <a:avLst/>
              <a:gdLst/>
              <a:ahLst/>
              <a:rect l="l" t="t" r="r" b="b"/>
              <a:pathLst>
                <a:path w="85" h="97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</a:path>
              </a:pathLst>
            </a:custGeom>
            <a:gradFill rotWithShape="0">
              <a:gsLst>
                <a:gs pos="0">
                  <a:srgbClr val="000098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894880" y="1349280"/>
              <a:ext cx="247680" cy="820800"/>
            </a:xfrm>
            <a:custGeom>
              <a:avLst/>
              <a:gdLst/>
              <a:ahLst/>
              <a:rect l="l" t="t" r="r" b="b"/>
              <a:pathLst>
                <a:path w="156" h="517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07200" y="0"/>
              <a:ext cx="911520" cy="165564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6" y="1042"/>
                  </a:lnTo>
                  <a:lnTo>
                    <a:pt x="573" y="850"/>
                  </a:lnTo>
                  <a:lnTo>
                    <a:pt x="251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589960" y="0"/>
              <a:ext cx="542880" cy="1265400"/>
            </a:xfrm>
            <a:custGeom>
              <a:avLst/>
              <a:gdLst/>
              <a:ahLst/>
              <a:rect l="l" t="t" r="r" b="b"/>
              <a:pathLst>
                <a:path w="342" h="797">
                  <a:moveTo>
                    <a:pt x="144" y="0"/>
                  </a:moveTo>
                  <a:lnTo>
                    <a:pt x="0" y="0"/>
                  </a:lnTo>
                  <a:lnTo>
                    <a:pt x="287" y="796"/>
                  </a:lnTo>
                  <a:lnTo>
                    <a:pt x="341" y="652"/>
                  </a:lnTo>
                  <a:lnTo>
                    <a:pt x="144" y="0"/>
                  </a:lnTo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045720" y="1036800"/>
              <a:ext cx="96840" cy="495000"/>
            </a:xfrm>
            <a:custGeom>
              <a:avLst/>
              <a:gdLst/>
              <a:ahLst/>
              <a:rect l="l" t="t" r="r" b="b"/>
              <a:pathLst>
                <a:path w="61" h="312">
                  <a:moveTo>
                    <a:pt x="0" y="144"/>
                  </a:moveTo>
                  <a:lnTo>
                    <a:pt x="60" y="311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2541600"/>
              <a:ext cx="9132840" cy="2960640"/>
            </a:xfrm>
            <a:custGeom>
              <a:avLst/>
              <a:gdLst/>
              <a:ahLst/>
              <a:rect l="l" t="t" r="r" b="b"/>
              <a:pathLst>
                <a:path w="5753" h="1865">
                  <a:moveTo>
                    <a:pt x="0" y="371"/>
                  </a:moveTo>
                  <a:lnTo>
                    <a:pt x="5752" y="1864"/>
                  </a:lnTo>
                  <a:lnTo>
                    <a:pt x="5752" y="1834"/>
                  </a:lnTo>
                  <a:lnTo>
                    <a:pt x="0" y="0"/>
                  </a:lnTo>
                  <a:lnTo>
                    <a:pt x="0" y="371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134640" y="5529240"/>
              <a:ext cx="1080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240" y="3416400"/>
              <a:ext cx="9132840" cy="2124000"/>
            </a:xfrm>
            <a:custGeom>
              <a:avLst/>
              <a:gdLst/>
              <a:ahLst/>
              <a:rect l="l" t="t" r="r" b="b"/>
              <a:pathLst>
                <a:path w="5753" h="1338">
                  <a:moveTo>
                    <a:pt x="0" y="366"/>
                  </a:moveTo>
                  <a:lnTo>
                    <a:pt x="5752" y="1337"/>
                  </a:lnTo>
                  <a:lnTo>
                    <a:pt x="5752" y="1331"/>
                  </a:lnTo>
                  <a:lnTo>
                    <a:pt x="0" y="0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240" y="5043600"/>
              <a:ext cx="9132840" cy="658800"/>
            </a:xfrm>
            <a:custGeom>
              <a:avLst/>
              <a:gdLst/>
              <a:ahLst/>
              <a:rect l="l" t="t" r="r" b="b"/>
              <a:pathLst>
                <a:path w="5753" h="415">
                  <a:moveTo>
                    <a:pt x="0" y="48"/>
                  </a:moveTo>
                  <a:lnTo>
                    <a:pt x="5752" y="414"/>
                  </a:lnTo>
                  <a:lnTo>
                    <a:pt x="5752" y="402"/>
                  </a:lnTo>
                  <a:lnTo>
                    <a:pt x="0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58840" y="0"/>
              <a:ext cx="7077240" cy="5045040"/>
            </a:xfrm>
            <a:custGeom>
              <a:avLst/>
              <a:gdLst/>
              <a:ahLst/>
              <a:rect l="l" t="t" r="r" b="b"/>
              <a:pathLst>
                <a:path w="4458" h="3178">
                  <a:moveTo>
                    <a:pt x="0" y="0"/>
                  </a:moveTo>
                  <a:lnTo>
                    <a:pt x="4457" y="3177"/>
                  </a:lnTo>
                  <a:lnTo>
                    <a:pt x="4457" y="3153"/>
                  </a:lnTo>
                  <a:lnTo>
                    <a:pt x="125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272200" y="0"/>
              <a:ext cx="3863880" cy="4151160"/>
            </a:xfrm>
            <a:custGeom>
              <a:avLst/>
              <a:gdLst/>
              <a:ahLst/>
              <a:rect l="l" t="t" r="r" b="b"/>
              <a:pathLst>
                <a:path w="2434" h="2615">
                  <a:moveTo>
                    <a:pt x="0" y="0"/>
                  </a:moveTo>
                  <a:lnTo>
                    <a:pt x="2433" y="2614"/>
                  </a:lnTo>
                  <a:lnTo>
                    <a:pt x="2433" y="2608"/>
                  </a:lnTo>
                  <a:lnTo>
                    <a:pt x="66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0480" y="0"/>
              <a:ext cx="2865600" cy="3913200"/>
            </a:xfrm>
            <a:custGeom>
              <a:avLst/>
              <a:gdLst/>
              <a:ahLst/>
              <a:rect l="l" t="t" r="r" b="b"/>
              <a:pathLst>
                <a:path w="1805" h="2465">
                  <a:moveTo>
                    <a:pt x="486" y="0"/>
                  </a:moveTo>
                  <a:lnTo>
                    <a:pt x="0" y="0"/>
                  </a:lnTo>
                  <a:lnTo>
                    <a:pt x="1804" y="2464"/>
                  </a:lnTo>
                  <a:lnTo>
                    <a:pt x="1804" y="2248"/>
                  </a:lnTo>
                  <a:lnTo>
                    <a:pt x="1798" y="2248"/>
                  </a:lnTo>
                  <a:lnTo>
                    <a:pt x="486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74080" y="0"/>
              <a:ext cx="1962000" cy="3294000"/>
            </a:xfrm>
            <a:custGeom>
              <a:avLst/>
              <a:gdLst/>
              <a:ahLst/>
              <a:rect l="l" t="t" r="r" b="b"/>
              <a:pathLst>
                <a:path w="1236" h="2075">
                  <a:moveTo>
                    <a:pt x="0" y="0"/>
                  </a:moveTo>
                  <a:lnTo>
                    <a:pt x="1235" y="2074"/>
                  </a:lnTo>
                  <a:lnTo>
                    <a:pt x="1235" y="2038"/>
                  </a:lnTo>
                  <a:lnTo>
                    <a:pt x="42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451640" y="0"/>
              <a:ext cx="1684440" cy="3075120"/>
            </a:xfrm>
            <a:custGeom>
              <a:avLst/>
              <a:gdLst/>
              <a:ahLst/>
              <a:rect l="l" t="t" r="r" b="b"/>
              <a:pathLst>
                <a:path w="1061" h="1937">
                  <a:moveTo>
                    <a:pt x="0" y="0"/>
                  </a:moveTo>
                  <a:lnTo>
                    <a:pt x="1060" y="1936"/>
                  </a:lnTo>
                  <a:lnTo>
                    <a:pt x="1060" y="1930"/>
                  </a:lnTo>
                  <a:lnTo>
                    <a:pt x="54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07400" y="0"/>
              <a:ext cx="1228680" cy="2362320"/>
            </a:xfrm>
            <a:custGeom>
              <a:avLst/>
              <a:gdLst/>
              <a:ahLst/>
              <a:rect l="l" t="t" r="r" b="b"/>
              <a:pathLst>
                <a:path w="774" h="1488">
                  <a:moveTo>
                    <a:pt x="773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3" y="1487"/>
                  </a:lnTo>
                  <a:lnTo>
                    <a:pt x="773" y="1433"/>
                  </a:lnTo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0" y="2590920"/>
              <a:ext cx="9142560" cy="2950920"/>
              <a:chOff x="0" y="2590920"/>
              <a:chExt cx="9142560" cy="2950920"/>
            </a:xfrm>
          </p:grpSpPr>
          <p:sp>
            <p:nvSpPr>
              <p:cNvPr id="122" name=""/>
              <p:cNvSpPr/>
              <p:nvPr/>
            </p:nvSpPr>
            <p:spPr>
              <a:xfrm>
                <a:off x="0" y="2590920"/>
                <a:ext cx="5827680" cy="2085840"/>
              </a:xfrm>
              <a:custGeom>
                <a:avLst/>
                <a:gdLst/>
                <a:ahLst/>
                <a:rect l="l" t="t" r="r" b="b"/>
                <a:pathLst>
                  <a:path w="3671" h="1314">
                    <a:moveTo>
                      <a:pt x="0" y="0"/>
                    </a:moveTo>
                    <a:lnTo>
                      <a:pt x="0" y="366"/>
                    </a:lnTo>
                    <a:lnTo>
                      <a:pt x="3646" y="1313"/>
                    </a:lnTo>
                    <a:lnTo>
                      <a:pt x="3658" y="1235"/>
                    </a:lnTo>
                    <a:lnTo>
                      <a:pt x="3670" y="116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7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788080" y="4437000"/>
                <a:ext cx="3354480" cy="1104840"/>
              </a:xfrm>
              <a:custGeom>
                <a:avLst/>
                <a:gdLst/>
                <a:ahLst/>
                <a:rect l="l" t="t" r="r" b="b"/>
                <a:pathLst>
                  <a:path w="2113" h="696">
                    <a:moveTo>
                      <a:pt x="2112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12" y="695"/>
                    </a:lnTo>
                    <a:lnTo>
                      <a:pt x="2112" y="665"/>
                    </a:lnTo>
                  </a:path>
                </a:pathLst>
              </a:custGeom>
              <a:gradFill rotWithShape="0">
                <a:gsLst>
                  <a:gs pos="0">
                    <a:srgbClr val="000098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SP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523880" y="3580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86d1ec"/>
                </a:solidFill>
                <a:latin typeface="Arial Unicode MS"/>
                <a:ea typeface="Arial Unicode MS"/>
              </a:rPr>
              <a:t>Procesamiento Digital de Se</a:t>
            </a:r>
            <a:r>
              <a:rPr b="0" lang="es-MX" sz="3600" spc="-1" strike="noStrike">
                <a:solidFill>
                  <a:srgbClr val="86d1ec"/>
                </a:solidFill>
                <a:latin typeface="Arial Unicode MS"/>
                <a:ea typeface="Arial Unicode MS"/>
              </a:rPr>
              <a:t>ña</a:t>
            </a:r>
            <a:r>
              <a:rPr b="0" lang="es-ES" sz="3600" spc="-1" strike="noStrike">
                <a:solidFill>
                  <a:srgbClr val="86d1ec"/>
                </a:solidFill>
                <a:latin typeface="Arial Unicode MS"/>
                <a:ea typeface="Arial Unicode MS"/>
              </a:rPr>
              <a:t>l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26920" y="620640"/>
            <a:ext cx="854280" cy="13971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1750680" y="1177920"/>
            <a:ext cx="371880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acultad de Ciencias Físicas y Matemática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partamento Ingeniería Eléctric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4680" y="5945040"/>
            <a:ext cx="3800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6d1ec"/>
                </a:solidFill>
                <a:latin typeface="Arial"/>
              </a:rPr>
              <a:t>Oscar Jiménez A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oratorio Telecomunicacion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6d1ec"/>
                </a:solidFill>
                <a:latin typeface="Arial Unicode MS"/>
                <a:ea typeface="Arial Unicode MS"/>
              </a:rPr>
              <a:t>Desventajas de su us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• </a:t>
            </a:r>
            <a:r>
              <a:rPr b="0" lang="es-MX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xistencia de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distorsión que nos impide la reconstrucción de</a:t>
            </a:r>
            <a:r>
              <a:rPr b="0" lang="es-MX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 señal original</a:t>
            </a:r>
            <a:r>
              <a:rPr b="0" lang="es-MX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• 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xisten efectos debidos a la precisión finita que deben ser considerados en el procesado</a:t>
            </a:r>
            <a:r>
              <a:rPr b="0" lang="es-MX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igital de las muestras cuantific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• </a:t>
            </a:r>
            <a:r>
              <a:rPr b="0" lang="es-MX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roblemas con el ancho de ban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6d1ec"/>
                </a:solidFill>
                <a:latin typeface="Arial"/>
              </a:rPr>
              <a:t>Fabricantes de DS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Texas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e9860"/>
                </a:solidFill>
                <a:latin typeface="TimesNewRoman"/>
              </a:rPr>
              <a:t>http://dspvillage.ti.com/docs/dspproducthome.j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Motoro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e9860"/>
                </a:solidFill>
                <a:latin typeface="TimesNewRoman"/>
              </a:rPr>
              <a:t>http://www.motorola.com/semicondu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Arial"/>
              </a:rPr>
              <a:t>Analog De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e9860"/>
                </a:solidFill>
                <a:latin typeface="TimesNewRoman"/>
              </a:rPr>
              <a:t>http://www.analog.com/technology/dsp/index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86d1ec"/>
                </a:solidFill>
                <a:latin typeface="Arial"/>
              </a:rPr>
              <a:t>Fuen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http://www.elo.utfsm.cl/~elo385/Documentos/Intro-DSP.pd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6d1ec"/>
                </a:solidFill>
                <a:latin typeface="Arial Unicode MS"/>
                <a:ea typeface="Arial Unicode MS"/>
              </a:rPr>
              <a:t>Procesamiento Digital de Se</a:t>
            </a:r>
            <a:r>
              <a:rPr b="0" lang="es-MX" sz="4000" spc="-1" strike="noStrike">
                <a:solidFill>
                  <a:srgbClr val="86d1ec"/>
                </a:solidFill>
                <a:latin typeface="Arial Unicode MS"/>
                <a:ea typeface="Arial Unicode MS"/>
              </a:rPr>
              <a:t>ña</a:t>
            </a:r>
            <a:r>
              <a:rPr b="0" lang="es-ES" sz="4000" spc="-1" strike="noStrike">
                <a:solidFill>
                  <a:srgbClr val="86d1ec"/>
                </a:solidFill>
                <a:latin typeface="Arial Unicode MS"/>
                <a:ea typeface="Arial Unicode MS"/>
              </a:rPr>
              <a:t>le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  </a:t>
            </a:r>
            <a:r>
              <a:rPr b="0" lang="es-MX" sz="32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s una operación o transformanción de una señal  en un hardware digital según reglas bien definidas las cuales son introducidas al hardware a través de un software especifico que puede o no manejar lenguajes tanto alto como de bajo nive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6d1ec"/>
                </a:solidFill>
                <a:latin typeface="Arial Unicode MS"/>
              </a:rPr>
              <a:t>Diagrama en Bloqu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600200"/>
            <a:ext cx="8242200" cy="4543560"/>
            <a:chOff x="457200" y="1600200"/>
            <a:chExt cx="8242200" cy="45435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600200"/>
              <a:ext cx="8242200" cy="45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547560" y="1644480"/>
              <a:ext cx="8048880" cy="444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6d1ec"/>
                </a:solidFill>
                <a:latin typeface="Arial Unicode MS"/>
              </a:rPr>
              <a:t>Arquitecturas </a:t>
            </a:r>
            <a:r>
              <a:rPr b="1" lang="es-MX" sz="4400" spc="-1" strike="noStrike">
                <a:solidFill>
                  <a:srgbClr val="86d1ec"/>
                </a:solidFill>
                <a:latin typeface="Arial Unicode MS"/>
              </a:rPr>
              <a:t>Es</a:t>
            </a:r>
            <a:r>
              <a:rPr b="1" lang="es-ES" sz="4400" spc="-1" strike="noStrike">
                <a:solidFill>
                  <a:srgbClr val="86d1ec"/>
                </a:solidFill>
                <a:latin typeface="Arial Unicode MS"/>
              </a:rPr>
              <a:t>t</a:t>
            </a:r>
            <a:r>
              <a:rPr b="1" lang="es-MX" sz="4400" spc="-1" strike="noStrike">
                <a:solidFill>
                  <a:srgbClr val="86d1ec"/>
                </a:solidFill>
                <a:latin typeface="Arial Unicode MS"/>
              </a:rPr>
              <a:t>an</a:t>
            </a:r>
            <a:r>
              <a:rPr b="1" lang="es-ES" sz="4400" spc="-1" strike="noStrike">
                <a:solidFill>
                  <a:srgbClr val="86d1ec"/>
                </a:solidFill>
                <a:latin typeface="Arial Unicode MS"/>
              </a:rPr>
              <a:t>dar en DS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Una unidad funcional </a:t>
            </a:r>
            <a:r>
              <a:rPr b="0" lang="es-MX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áp</a:t>
            </a:r>
            <a:r>
              <a:rPr b="0" lang="es-E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da que puede multiplicar y acumular en un ciclo de </a:t>
            </a:r>
            <a:r>
              <a:rPr b="0" lang="es-MX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strucción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arias unidades funcionales que realizan operaciones en paralelo, incluyendo accesos a memoria y </a:t>
            </a:r>
            <a:r>
              <a:rPr b="0" lang="es-MX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álculo </a:t>
            </a:r>
            <a:r>
              <a:rPr b="0" lang="es-E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de direccione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arias unidades de memoria </a:t>
            </a:r>
            <a:r>
              <a:rPr b="0" lang="es-MX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n-chip</a:t>
            </a:r>
            <a:r>
              <a:rPr b="0" lang="es-E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(generalmente 2 </a:t>
            </a:r>
            <a:r>
              <a:rPr b="0" lang="es-MX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ó </a:t>
            </a:r>
            <a:r>
              <a:rPr b="0" lang="es-E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3) usadas para almacenar instrucciones, datos o tabla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Varios buses para incrementar las tasas de transferencia hacia y desde memoria y evitar conflictos de direccione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86d1ec"/>
                </a:solidFill>
                <a:latin typeface="Arial Unicode MS"/>
              </a:rPr>
              <a:t>Arquitecturas </a:t>
            </a:r>
            <a:r>
              <a:rPr b="1" lang="es-MX" sz="4400" spc="-1" strike="noStrike">
                <a:solidFill>
                  <a:srgbClr val="86d1ec"/>
                </a:solidFill>
                <a:latin typeface="Arial Unicode MS"/>
              </a:rPr>
              <a:t>Estandar</a:t>
            </a:r>
            <a:r>
              <a:rPr b="1" lang="es-ES" sz="4400" spc="-1" strike="noStrike">
                <a:solidFill>
                  <a:srgbClr val="86d1ec"/>
                </a:solidFill>
                <a:latin typeface="Arial Unicode MS"/>
              </a:rPr>
              <a:t> en DS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dulo y </a:t>
            </a:r>
            <a:r>
              <a:rPr b="0" lang="es-MX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bit-reverse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, requerido en el </a:t>
            </a:r>
            <a:r>
              <a:rPr b="0" lang="es-MX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álculo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de la FF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oporte para manejo de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6d1ec"/>
                </a:solidFill>
                <a:latin typeface="Arial"/>
              </a:rPr>
              <a:t>Filtrado de seña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447920" y="1523880"/>
            <a:ext cx="6565680" cy="4543560"/>
            <a:chOff x="1447920" y="1523880"/>
            <a:chExt cx="6565680" cy="4543560"/>
          </a:xfrm>
        </p:grpSpPr>
        <p:pic>
          <p:nvPicPr>
            <p:cNvPr id="141" name="" descr=""/>
            <p:cNvPicPr/>
            <p:nvPr/>
          </p:nvPicPr>
          <p:blipFill>
            <a:blip r:embed="rId1"/>
            <a:stretch/>
          </p:blipFill>
          <p:spPr>
            <a:xfrm>
              <a:off x="1447920" y="1523880"/>
              <a:ext cx="6565680" cy="454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1538280" y="1568520"/>
              <a:ext cx="6372360" cy="444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86d1ec"/>
                </a:solidFill>
                <a:latin typeface="Arial Unicode MS"/>
              </a:rPr>
              <a:t>Campos de usos DS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Wireless 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conocimiento de Vo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nejo de </a:t>
            </a:r>
            <a:r>
              <a:rPr b="0" lang="es-MX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mág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es digi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eproductores digitales de au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</a:t>
            </a:r>
            <a:r>
              <a:rPr b="0" lang="es-MX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éfonos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cel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odems </a:t>
            </a:r>
            <a:r>
              <a:rPr b="0" lang="es-MX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alámbric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r>
              <a:rPr b="0" lang="es-MX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ám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ras digi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ontrol de moto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anejo de bombas, ventiladores, HV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nversores industri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MX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utomatización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de </a:t>
            </a:r>
            <a:r>
              <a:rPr b="0" lang="es-MX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fáb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ic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ranspor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6d1ec"/>
                </a:solidFill>
                <a:latin typeface="Arial"/>
              </a:rPr>
              <a:t>Interesantes aplicaciones DS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liminar el eco en las l</a:t>
            </a:r>
            <a:r>
              <a:rPr b="0" lang="es-MX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íne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s de comunicac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ograr hacer m</a:t>
            </a:r>
            <a:r>
              <a:rPr b="0" lang="es-MX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ás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claras i</a:t>
            </a:r>
            <a:r>
              <a:rPr b="0" lang="es-MX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ág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enes de </a:t>
            </a:r>
            <a:r>
              <a:rPr b="0" lang="es-MX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órg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nos internos en los equipos de d</a:t>
            </a:r>
            <a:r>
              <a:rPr b="0" lang="es-MX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iagnós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ico m</a:t>
            </a:r>
            <a:r>
              <a:rPr b="0" lang="es-MX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édico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ifrar conversaciones en </a:t>
            </a:r>
            <a:r>
              <a:rPr b="0" lang="es-MX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teléfonos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celulares para mantener privac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nalizar datos s</a:t>
            </a:r>
            <a:r>
              <a:rPr b="0" lang="es-MX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ís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icos para encontrar nuevas reservas de </a:t>
            </a:r>
            <a:r>
              <a:rPr b="0" lang="es-MX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et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r</a:t>
            </a:r>
            <a:r>
              <a:rPr b="0" lang="es-MX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óle</a:t>
            </a:r>
            <a:r>
              <a:rPr b="0" lang="es-ES" sz="24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boratorio Telecomunicacion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86d1ec"/>
                </a:solidFill>
                <a:latin typeface="Arial Unicode MS"/>
                <a:ea typeface="Arial Unicode MS"/>
              </a:rPr>
              <a:t>Ventajas de su uso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C</a:t>
            </a:r>
            <a:r>
              <a:rPr b="0" lang="es-E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r>
              <a:rPr b="0" lang="es-MX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acidad </a:t>
            </a:r>
            <a:r>
              <a:rPr b="0" lang="es-E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para ejecutar procesamiento en tiempo real de muchas de las</a:t>
            </a:r>
            <a:r>
              <a:rPr b="0" lang="es-MX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eñales</a:t>
            </a:r>
            <a:r>
              <a:rPr b="0" lang="es-MX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</a:t>
            </a:r>
            <a:r>
              <a:rPr b="0" lang="es-E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MX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</a:t>
            </a:r>
            <a:r>
              <a:rPr b="0" lang="es-E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ás confiables</a:t>
            </a:r>
            <a:r>
              <a:rPr b="0" lang="es-MX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, brindaje al ruid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</a:t>
            </a:r>
            <a:r>
              <a:rPr b="0" lang="es-E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yor flexibilidad Reconfiguraci</a:t>
            </a:r>
            <a:r>
              <a:rPr b="0" lang="es-MX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ón</a:t>
            </a:r>
            <a:r>
              <a:rPr b="0" lang="es-E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M</a:t>
            </a:r>
            <a:r>
              <a:rPr b="0" lang="es-E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a</a:t>
            </a:r>
            <a:r>
              <a:rPr b="0" lang="es-MX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yor</a:t>
            </a:r>
            <a:r>
              <a:rPr b="0" lang="es-E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precisión y mayor exactitu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86d1ec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 </a:t>
            </a:r>
            <a:r>
              <a:rPr b="0" lang="es-ES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as señales digitales pueden ser almacenadas en  disco</a:t>
            </a:r>
            <a:r>
              <a:rPr b="0" lang="es-MX" sz="26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6T02:01:31Z</dcterms:created>
  <dc:creator>Cesar Luis Lazcano Castro</dc:creator>
  <dc:description/>
  <dc:language>en-US</dc:language>
  <cp:lastModifiedBy>ojimenez</cp:lastModifiedBy>
  <dcterms:modified xsi:type="dcterms:W3CDTF">2004-10-05T18:48:09Z</dcterms:modified>
  <cp:revision>9</cp:revision>
  <dc:subject/>
  <dc:title>Diapositiva 1</dc:title>
</cp:coreProperties>
</file>