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756B-E814-4EDE-858D-C962CF14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C230-7F75-49DC-9C4E-C828127BC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9BF1-D78C-4293-AAB6-173B7FF05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8A1D-B193-453D-AC91-A8F83DD19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502F-DFFD-413A-9ADE-4378F9F4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8F15-BB7A-4911-964B-DE376F9C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E784-C3AF-446F-93F7-137DEF91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A820-DF63-477A-A878-071C4F0B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AEEC-201F-437D-AFE7-D2CD8E7B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945B-8FF3-4A66-9CF3-6C8E809A8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D30F-014F-4352-BFC6-A4D9EB013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1E72-846D-4AF4-8469-88CAAD90A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682F177-3D6C-4233-A17A-D673582442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F26E-C0D4-4E68-9EC5-460B2C80954A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oblemente aco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7870-FC4C-4806-965D-7C816D8DC42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Formulación Genre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368960" y="3301920"/>
                <a:ext cx="404640" cy="2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362320" y="2514600"/>
                <a:ext cx="4343400" cy="28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sub>
                        </m:sSub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h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∀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957600" y="5653080"/>
            <a:ext cx="773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Qué se está maximizand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¿Cuál es el factor de dispersión, o la desviación estándar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8E9-D674-4ABA-98D5-69147FDBF86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955880" y="1981080"/>
                <a:ext cx="5153040" cy="141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  <m:e>
                            <m:r>
                              <m:t xml:space="preserve">θ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B</m:t>
                                </m:r>
                              </m:e>
                            </m:ba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158920" y="3733920"/>
                <a:ext cx="44974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490760" y="5275440"/>
                <a:ext cx="62276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  <m:sup/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θ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B5E-D7FE-4F4F-AD7B-558EA5ADCB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71520" y="1523880"/>
                <a:ext cx="6348600" cy="404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1CDE-00DC-49D4-AAE7-EFA07B6C085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ol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938760" y="1133640"/>
                <a:ext cx="3985920" cy="20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,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B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→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362320" y="2971800"/>
            <a:ext cx="0" cy="3276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6248520"/>
            <a:ext cx="5410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62320" y="3429000"/>
            <a:ext cx="3352680" cy="2819520"/>
          </a:xfrm>
          <a:prstGeom prst="line">
            <a:avLst/>
          </a:prstGeom>
          <a:ln w="381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61400" y="281844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f(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4880" y="609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143000" y="3886200"/>
            <a:ext cx="4419720" cy="2209680"/>
            <a:chOff x="1143000" y="3886200"/>
            <a:chExt cx="4419720" cy="2209680"/>
          </a:xfrm>
        </p:grpSpPr>
        <p:sp>
          <p:nvSpPr>
            <p:cNvPr id="139" name=""/>
            <p:cNvSpPr/>
            <p:nvPr/>
          </p:nvSpPr>
          <p:spPr>
            <a:xfrm>
              <a:off x="1143000" y="556272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81280" y="388620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381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857680" y="58672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129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x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762120" y="3581280"/>
            <a:ext cx="4419000" cy="2209680"/>
            <a:chOff x="762120" y="3581280"/>
            <a:chExt cx="4419000" cy="2209680"/>
          </a:xfrm>
        </p:grpSpPr>
        <p:sp>
          <p:nvSpPr>
            <p:cNvPr id="144" name=""/>
            <p:cNvSpPr/>
            <p:nvPr/>
          </p:nvSpPr>
          <p:spPr>
            <a:xfrm>
              <a:off x="762120" y="5257800"/>
              <a:ext cx="243792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00040" y="3581280"/>
              <a:ext cx="198108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600200" y="3962520"/>
            <a:ext cx="4419720" cy="2209680"/>
            <a:chOff x="1600200" y="3962520"/>
            <a:chExt cx="4419720" cy="2209680"/>
          </a:xfrm>
        </p:grpSpPr>
        <p:sp>
          <p:nvSpPr>
            <p:cNvPr id="147" name=""/>
            <p:cNvSpPr/>
            <p:nvPr/>
          </p:nvSpPr>
          <p:spPr>
            <a:xfrm>
              <a:off x="1600200" y="5639040"/>
              <a:ext cx="2438280" cy="53316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16" y="328"/>
                    <a:pt x="432" y="320"/>
                    <a:pt x="624" y="288"/>
                  </a:cubicBezTo>
                  <a:cubicBezTo>
                    <a:pt x="816" y="256"/>
                    <a:pt x="1000" y="192"/>
                    <a:pt x="1152" y="144"/>
                  </a:cubicBezTo>
                  <a:cubicBezTo>
                    <a:pt x="1304" y="96"/>
                    <a:pt x="1472" y="24"/>
                    <a:pt x="1536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38480" y="3962520"/>
              <a:ext cx="1981440" cy="1676520"/>
            </a:xfrm>
            <a:custGeom>
              <a:avLst/>
              <a:gdLst/>
              <a:ahLst/>
              <a:rect l="l" t="t" r="r" b="b"/>
              <a:pathLst>
                <a:path w="1248" h="1056">
                  <a:moveTo>
                    <a:pt x="0" y="1056"/>
                  </a:moveTo>
                  <a:cubicBezTo>
                    <a:pt x="88" y="1000"/>
                    <a:pt x="176" y="944"/>
                    <a:pt x="384" y="768"/>
                  </a:cubicBezTo>
                  <a:cubicBezTo>
                    <a:pt x="592" y="592"/>
                    <a:pt x="1104" y="128"/>
                    <a:pt x="1248" y="0"/>
                  </a:cubicBez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A6A4-4436-43A5-825F-BCAC967F31B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Probabilidades de localoza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84320" y="1720800"/>
                <a:ext cx="6265800" cy="418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den>
                        </m:f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i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H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i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</m:sub>
                                </m:sSub>
                              </m:e>
                            </m:nary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S</m:t>
                                    </m:r>
                                  </m:e>
                                </m:ba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θ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7513560" y="3351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B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54880" y="479952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h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965F-02A7-448C-A1B7-570093C3874C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Interpretación de multiplicadore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566720" y="1701720"/>
                <a:ext cx="4757760" cy="31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H</m:t>
                                </m:r>
                              </m:e>
                            </m:ba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S</m:t>
                                </m:r>
                              </m:e>
                            </m:ba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θ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/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i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'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sSub>
                                  <m:e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</m:ba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θB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  <m:r>
                                      <m:t xml:space="preserve">'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349640" y="5637600"/>
            <a:ext cx="45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Corregir por factor de disper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6324480" y="5243400"/>
                <a:ext cx="112572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α</m:t>
                                </m:r>
                              </m:e>
                            </m:acc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α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  <m:e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β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μβ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θ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μθ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5BD6-E7E3-4C8A-A1B8-1FC6404FEE5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9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1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5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166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790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791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796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0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801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806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808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811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891E-9798-44E4-8702-0A6F4B36CF2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WRY 196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AFA5-48DE-40A7-BAF5-654F9901A9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85800" y="76320"/>
                <a:ext cx="5689440" cy="655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U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/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</m:num>
                          <m:den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</m:sSubSup>
                              </m:e>
                            </m:nary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t xml:space="preserve">∗</m:t>
                            </m:r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=</m:t>
                            </m:r>
                            <m:r>
                              <m:t xml:space="preserve">P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*/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  <m:r>
                                  <m:rPr>
                                    <m:lit/>
                                    <m:nor/>
                                  </m:rPr>
                                  <m:t xml:space="preserve">exp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μ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nary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≤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H</m:t>
                            </m:r>
                          </m:sup>
                        </m:sSubSup>
                      </m:e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S</m:t>
                            </m:r>
                            <m:r>
                              <m:t xml:space="preserve">∗</m:t>
                            </m:r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P</m:t>
                                </m:r>
                              </m:e>
                              <m:sup/>
                            </m:sSup>
                          </m:sup>
                        </m:sSup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β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S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</m:e>
                        </m:nary>
                      </m:e>
                      <m:e>
                        <m:sSubSup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E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S</m:t>
                            </m:r>
                          </m:sup>
                        </m:sSubSup>
                      </m:e>
                      <m:e>
                        <m:r>
                          <m:t xml:space="preserve">P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xógeno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fE</m:t>
                                </m:r>
                              </m:e>
                              <m:sup>
                                <m:r>
                                  <m:t xml:space="preserve">B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7100640" y="15120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4000" y="608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31360" y="182772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ist. Pobl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7600" y="3656520"/>
            <a:ext cx="242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mple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64240" y="5333040"/>
            <a:ext cx="265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Uso suelo Servici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7EBF-1EFE-4C57-B1B5-EFD6792F03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9492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MODELOS DE INTERACCIÓN ESPACIAL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WIL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Modelo de localización con Entropí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D10D-0B31-4647-B5C6-A05B8E25E83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Localización Residenci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89080" y="3567240"/>
                <a:ext cx="87976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838080" y="1675080"/>
            <a:ext cx="77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ación de la entropía: modelo doblemente acotado a población y empleo, que maximiza las post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5640" y="3047040"/>
            <a:ext cx="25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odelo propue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43280" y="4785480"/>
            <a:ext cx="6197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H :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 hog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emple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k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vivie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w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tipo de hogar (salario 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q </a:t>
            </a: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: proporción de salario destinado a viviend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02F-07F6-4703-959E-15CE7274632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12680" y="5657760"/>
                <a:ext cx="853920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06600" y="1584360"/>
            <a:ext cx="79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Máximizción de la entropía: modelo doblemente acotado a población y empleo, que maximiza las posturas (absoluta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380960" y="2749680"/>
                <a:ext cx="6234120" cy="253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w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sSup>
                              <m:e>
                                <m:r>
                                  <m:t xml:space="preserve">]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w</m:t>
                                </m:r>
                              </m:sub>
                              <m:sup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p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p>
                                        <m:r>
                                          <m:t xml:space="preserve">w</m:t>
                                        </m:r>
                                      </m:sup>
                                    </m:sSup>
                                  </m:den>
                                </m:f>
                              </m:e>
                            </m:nary>
                          </m:e>
                        </m:nary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6B5C-912A-4900-8470-62DEBDDA083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Wilson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93560" y="1371600"/>
                <a:ext cx="85392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713520" y="2284920"/>
            <a:ext cx="55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xtensión a otras funciones de  at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600200" y="2895480"/>
                <a:ext cx="4849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 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W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90720" y="4191120"/>
                <a:ext cx="739116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W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∏"/>
                            <m:supHide m:val="1"/>
                          </m:naryPr>
                          <m:sub>
                            <m:r>
                              <m:t xml:space="preserve">n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</m:e>
                        </m:nary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sup>
                        </m:sSup>
                      </m:e>
                    </m:d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d>
                      </m:e>
                      <m:sup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k</m:t>
                            </m:r>
                          </m:sup>
                        </m:sSup>
                      </m:sup>
                    </m:s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μ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[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w</m:t>
                        </m:r>
                      </m:sup>
                    </m:sSup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  <m:sSup>
                      <m:e>
                        <m:r>
                          <m:t xml:space="preserve">]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0C0A-38FE-4526-A6F7-34A5230256D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ilson tipo Alonso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95280" y="4191120"/>
                <a:ext cx="5791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w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μ</m:t>
                    </m:r>
                    <m:r>
                      <m:t xml:space="preserve">[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−</m:t>
                    </m:r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w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295280" y="1676520"/>
                <a:ext cx="579132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736800" y="5257800"/>
                <a:ext cx="38181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μ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β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sSubSup>
                          <m:e>
                            <m:r>
                              <m:t xml:space="preserve">μ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w</m:t>
                            </m:r>
                          </m:sup>
                        </m:sSubSup>
                        <m:r>
                          <m:t xml:space="preserve">=</m:t>
                        </m:r>
                        <m:r>
                          <m:t xml:space="preserve">k</m:t>
                        </m:r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[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(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w</m:t>
                            </m:r>
                          </m:sup>
                        </m:sSup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1155600" y="5455080"/>
            <a:ext cx="234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Equivalencia con modelo ant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BA1F-5C15-4B04-9CB5-26E9472B740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Residencial..... </a:t>
            </a:r>
            <a:br>
              <a:rPr sz="3200"/>
            </a:b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omparación con Herbet &amp; Steven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49200" y="1751040"/>
                <a:ext cx="3384720" cy="21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</m:e>
                        </m:nary>
                        <m:r>
                          <m:t xml:space="preserve"> 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  <m:r>
                          <m:t xml:space="preserve">)</m:t>
                        </m:r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U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4038480" y="1828800"/>
                <a:ext cx="4937400" cy="19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</m:lim>
                        </m:limLow>
                        <m:r>
                          <m:t xml:space="preserve"> 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k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w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k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r>
                          <m:t xml:space="preserve">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kw</m:t>
                                </m:r>
                              </m:sup>
                            </m:sSubSup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 </m:t>
                            </m:r>
                            <m:r>
                              <m:t xml:space="preserve">(</m:t>
                            </m:r>
                            <m:sSubSup>
                              <m:e>
                                <m:r>
                                  <m:t xml:space="preserve">λ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  <m:r>
                                  <m:t xml:space="preserve">w</m:t>
                                </m:r>
                              </m:sup>
                            </m:sSubSup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89640" y="3961440"/>
            <a:ext cx="209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Determiní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75560" y="388512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Estocás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4606920"/>
                <a:ext cx="2440080" cy="20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k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sub>
                            <m:r>
                              <m:t xml:space="preserve">μ</m:t>
                            </m:r>
                            <m:r>
                              <m:t xml:space="preserve">→</m:t>
                            </m:r>
                            <m:r>
                              <m:t xml:space="preserve">∞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λ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  <m:r>
                                      <m:t xml:space="preserve">w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μ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w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4500720" y="5150160"/>
            <a:ext cx="410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Times New Roman"/>
              </a:rPr>
              <a:t>Los multiplicadores representan la ren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040-F61D-4BAA-B5CA-3EEC15B2C4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30T16:09:35Z</dcterms:modified>
  <cp:revision>124</cp:revision>
  <dc:subject/>
  <dc:title>General</dc:title>
</cp:coreProperties>
</file>